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6.jpeg" ContentType="image/jpeg"/>
  <Override PartName="/ppt/media/image27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74B-7479-47B6-9E3B-78AF3DB9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EA7-C855-4E4D-BCEA-3B294C39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9CB-A8E2-4494-A2F0-B7F284B3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D9E5-B270-4BC6-B70B-D29B63F3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4831-3509-44B1-B436-7DC95614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85B0-1088-484B-9EF7-B8762D9D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D135-405E-4E0B-98C2-41A43572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67FE-E8F8-41D2-895E-263F3569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2987-B666-4B67-95B9-25EBD9B7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C1A9-1F04-47DE-BE21-0FFD025B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B090-7175-41C5-B00B-58CFF3C2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17E-F94C-441A-B038-AF609B20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92BD-F2C0-49FF-94F5-4EC3A721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B3B3-A302-4FE8-8318-218526D5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0BC8-E985-41E7-AA72-15175D05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F73C-8679-43FC-B695-73824663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9DB3-31B7-46ED-95D8-2815C6D0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D3B-F06F-43BE-B0B6-B5E260C3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973-1910-49CC-AF18-29BF7918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F88F-7F7B-4052-B3AE-EA01288F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9E0D-5DA0-4ED5-B5AE-31BBB453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AB4-B630-42C3-BFCE-363BA5B4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6D4-782F-4600-AC06-A1700C72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AA22-76A5-43B1-9A4B-73B80078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52E8-B8BF-4557-84F5-D7DDDDBFFA6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C723-4578-4E84-AA14-26B6CC789E3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BC4D-5FD3-4BC1-9E15-8FD952131BF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Открытый урок в 7 класс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: «Свойства степени с натуральным показател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Попова Ольг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9D26-5B39-42C7-92A4-E7264CB19F6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апомнит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826920" y="2492280"/>
            <a:ext cx="8066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умножении степеней с одинаковыми основаниями показатели складыв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делении степеней с одинаковыми основаниями показатели вычит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3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возведении степени в степ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казатели перемножаются, а основание остается неизменным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8336-CC90-435D-9B8C-951AF751B9A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войства степеней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4"/>
          <p:cNvGrpSpPr/>
          <p:nvPr/>
        </p:nvGrpSpPr>
        <p:grpSpPr>
          <a:xfrm>
            <a:off x="971640" y="2422440"/>
            <a:ext cx="5113080" cy="4175280"/>
            <a:chOff x="971640" y="2422440"/>
            <a:chExt cx="5113080" cy="4175280"/>
          </a:xfrm>
        </p:grpSpPr>
        <p:sp>
          <p:nvSpPr>
            <p:cNvPr id="168" name="AutoShape 7"/>
            <p:cNvSpPr/>
            <p:nvPr/>
          </p:nvSpPr>
          <p:spPr>
            <a:xfrm>
              <a:off x="971640" y="2422440"/>
              <a:ext cx="5113080" cy="4175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12"/>
                <p:cNvSpPr txBox="1"/>
                <p:nvPr/>
              </p:nvSpPr>
              <p:spPr>
                <a:xfrm>
                  <a:off x="1160280" y="2422440"/>
                  <a:ext cx="4878000" cy="404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: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sSup>
                            <m:e/>
                            <m:sup/>
                          </m:sSup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n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>
                                        <m:t xml:space="preserve">b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limUpp>
                            <m:e/>
                            <m:lim/>
                          </m:limUpp>
                          <m:r>
                            <m:t xml:space="preserve">b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48E5-E9D6-45BC-A1F9-17C45BE68B9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Высказывания Козьмы Прутков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2"/>
              <p:cNvSpPr txBox="1"/>
              <p:nvPr/>
            </p:nvSpPr>
            <p:spPr>
              <a:xfrm>
                <a:off x="2414520" y="2970360"/>
                <a:ext cx="8701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4"/>
              <p:cNvSpPr txBox="1"/>
              <p:nvPr/>
            </p:nvSpPr>
            <p:spPr>
              <a:xfrm>
                <a:off x="2338560" y="4602240"/>
                <a:ext cx="9126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6"/>
              <p:cNvSpPr txBox="1"/>
              <p:nvPr/>
            </p:nvSpPr>
            <p:spPr>
              <a:xfrm>
                <a:off x="2338560" y="3794040"/>
                <a:ext cx="12254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2560" y="220500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преобразования. Используя найденные ответы, запишите в таблицах два высказывания Козьмы Прутков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902520" y="2986200"/>
            <a:ext cx="11455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у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ч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8"/>
              <p:cNvSpPr txBox="1"/>
              <p:nvPr/>
            </p:nvSpPr>
            <p:spPr>
              <a:xfrm>
                <a:off x="2343240" y="3416400"/>
                <a:ext cx="8604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8"/>
              <p:cNvSpPr txBox="1"/>
              <p:nvPr/>
            </p:nvSpPr>
            <p:spPr>
              <a:xfrm>
                <a:off x="2340000" y="4959360"/>
                <a:ext cx="865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0"/>
              <p:cNvSpPr txBox="1"/>
              <p:nvPr/>
            </p:nvSpPr>
            <p:spPr>
              <a:xfrm>
                <a:off x="2338560" y="4168800"/>
                <a:ext cx="11523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 Box 31"/>
          <p:cNvSpPr/>
          <p:nvPr/>
        </p:nvSpPr>
        <p:spPr>
          <a:xfrm>
            <a:off x="4029120" y="2986200"/>
            <a:ext cx="1748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ерявш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ран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частлив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2"/>
              <p:cNvSpPr txBox="1"/>
              <p:nvPr/>
            </p:nvSpPr>
            <p:spPr>
              <a:xfrm>
                <a:off x="2340000" y="5394240"/>
                <a:ext cx="8953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3"/>
              <p:cNvSpPr txBox="1"/>
              <p:nvPr/>
            </p:nvSpPr>
            <p:spPr>
              <a:xfrm>
                <a:off x="2340000" y="5897520"/>
                <a:ext cx="839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34"/>
              <p:cNvSpPr txBox="1"/>
              <p:nvPr/>
            </p:nvSpPr>
            <p:spPr>
              <a:xfrm>
                <a:off x="6051600" y="2924280"/>
                <a:ext cx="1616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35"/>
              <p:cNvSpPr txBox="1"/>
              <p:nvPr/>
            </p:nvSpPr>
            <p:spPr>
              <a:xfrm>
                <a:off x="6049800" y="3362400"/>
                <a:ext cx="16909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3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36"/>
              <p:cNvSpPr txBox="1"/>
              <p:nvPr/>
            </p:nvSpPr>
            <p:spPr>
              <a:xfrm>
                <a:off x="6046920" y="3851280"/>
                <a:ext cx="865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Picture 38" descr=""/>
          <p:cNvPicPr/>
          <p:nvPr/>
        </p:nvPicPr>
        <p:blipFill>
          <a:blip r:embed="rId1"/>
          <a:stretch/>
        </p:blipFill>
        <p:spPr>
          <a:xfrm>
            <a:off x="3987720" y="5105520"/>
            <a:ext cx="5048280" cy="771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9" descr=""/>
          <p:cNvPicPr/>
          <p:nvPr/>
        </p:nvPicPr>
        <p:blipFill>
          <a:blip r:embed="rId2"/>
          <a:stretch/>
        </p:blipFill>
        <p:spPr>
          <a:xfrm>
            <a:off x="3997440" y="5877000"/>
            <a:ext cx="503856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B380-BDD0-404A-AF76-501D60CF0A8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13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826920" y="2492280"/>
            <a:ext cx="8209080" cy="1253880"/>
            <a:chOff x="826920" y="2492280"/>
            <a:chExt cx="8209080" cy="1253880"/>
          </a:xfrm>
        </p:grpSpPr>
        <p:pic>
          <p:nvPicPr>
            <p:cNvPr id="201" name="Picture 27" descr=""/>
            <p:cNvPicPr/>
            <p:nvPr/>
          </p:nvPicPr>
          <p:blipFill>
            <a:blip r:embed="rId1"/>
            <a:stretch/>
          </p:blipFill>
          <p:spPr>
            <a:xfrm>
              <a:off x="826920" y="2492280"/>
              <a:ext cx="8209080" cy="12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33"/>
            <p:cNvSpPr/>
            <p:nvPr/>
          </p:nvSpPr>
          <p:spPr>
            <a:xfrm>
              <a:off x="971640" y="3213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что       имеем        не       храним       потерявши      плаче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38"/>
          <p:cNvSpPr/>
          <p:nvPr/>
        </p:nvSpPr>
        <p:spPr>
          <a:xfrm>
            <a:off x="883800" y="3860640"/>
            <a:ext cx="569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имеем не храним, потерявши плач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4"/>
          <p:cNvGrpSpPr/>
          <p:nvPr/>
        </p:nvGrpSpPr>
        <p:grpSpPr>
          <a:xfrm>
            <a:off x="826920" y="4656240"/>
            <a:ext cx="8209080" cy="1271520"/>
            <a:chOff x="826920" y="4656240"/>
            <a:chExt cx="8209080" cy="1271520"/>
          </a:xfrm>
        </p:grpSpPr>
        <p:pic>
          <p:nvPicPr>
            <p:cNvPr id="205" name="Picture 28" descr=""/>
            <p:cNvPicPr/>
            <p:nvPr/>
          </p:nvPicPr>
          <p:blipFill>
            <a:blip r:embed="rId2"/>
            <a:stretch/>
          </p:blipFill>
          <p:spPr>
            <a:xfrm>
              <a:off x="826920" y="4656240"/>
              <a:ext cx="8209080" cy="12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42"/>
            <p:cNvSpPr/>
            <p:nvPr/>
          </p:nvSpPr>
          <p:spPr>
            <a:xfrm>
              <a:off x="971640" y="5310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   </a:t>
              </a: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хочешь            быть          счастливым          будь         и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43"/>
          <p:cNvSpPr/>
          <p:nvPr/>
        </p:nvSpPr>
        <p:spPr>
          <a:xfrm>
            <a:off x="900000" y="60976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 быть счастливым - будь 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3814-472A-4784-8CC0-F1822F12BB9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Магический квадрат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2"/>
          <p:cNvGrpSpPr/>
          <p:nvPr/>
        </p:nvGrpSpPr>
        <p:grpSpPr>
          <a:xfrm>
            <a:off x="755640" y="2476440"/>
            <a:ext cx="8280360" cy="1099440"/>
            <a:chOff x="755640" y="2476440"/>
            <a:chExt cx="8280360" cy="1099440"/>
          </a:xfrm>
        </p:grpSpPr>
        <p:sp>
          <p:nvSpPr>
            <p:cNvPr id="216" name="Text Box 16"/>
            <p:cNvSpPr/>
            <p:nvPr/>
          </p:nvSpPr>
          <p:spPr>
            <a:xfrm>
              <a:off x="755640" y="2476440"/>
              <a:ext cx="828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Заполните свободные клетки квадрата так, чтобы произведение выражений каждого столбца, каждой строки и диагонали равнялос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21"/>
                <p:cNvSpPr txBox="1"/>
                <p:nvPr/>
              </p:nvSpPr>
              <p:spPr>
                <a:xfrm>
                  <a:off x="3708360" y="3114720"/>
                  <a:ext cx="45576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8" name="Picture 23" descr=""/>
          <p:cNvPicPr/>
          <p:nvPr/>
        </p:nvPicPr>
        <p:blipFill>
          <a:blip r:embed="rId1"/>
          <a:stretch/>
        </p:blipFill>
        <p:spPr>
          <a:xfrm>
            <a:off x="3706920" y="3691080"/>
            <a:ext cx="1944720" cy="18986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5"/>
          <p:cNvSpPr/>
          <p:nvPr/>
        </p:nvSpPr>
        <p:spPr>
          <a:xfrm>
            <a:off x="755640" y="58104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ой квадрат называется </a:t>
            </a:r>
            <a:r>
              <a:rPr b="1" lang="ru-RU" sz="2200" spc="-1" strike="noStrike">
                <a:solidFill>
                  <a:srgbClr val="cc0099"/>
                </a:solidFill>
                <a:latin typeface="Arial"/>
              </a:rPr>
              <a:t>магическ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184A-5DE7-4CE6-BFB1-C379ED99FE8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начения числовых выражений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755640" y="2698920"/>
            <a:ext cx="345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йдите в круж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ения числов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анных в овал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едините их лини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9" descr=""/>
          <p:cNvPicPr/>
          <p:nvPr/>
        </p:nvPicPr>
        <p:blipFill>
          <a:blip r:embed="rId1"/>
          <a:stretch/>
        </p:blipFill>
        <p:spPr>
          <a:xfrm>
            <a:off x="4368960" y="2347920"/>
            <a:ext cx="43066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9CF4-10A2-44E3-9409-8C9053A461B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2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28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Rectangle 36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Rectangle 44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5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307040" cy="4176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49"/>
          <p:cNvSpPr/>
          <p:nvPr/>
        </p:nvSpPr>
        <p:spPr>
          <a:xfrm rot="3721800">
            <a:off x="4739760" y="3806640"/>
            <a:ext cx="2441520" cy="154332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3"/>
          <p:cNvSpPr/>
          <p:nvPr/>
        </p:nvSpPr>
        <p:spPr>
          <a:xfrm flipH="1" rot="14641800">
            <a:off x="3242160" y="4307400"/>
            <a:ext cx="2016360" cy="184320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4"/>
          <p:cNvSpPr/>
          <p:nvPr/>
        </p:nvSpPr>
        <p:spPr>
          <a:xfrm flipH="1" rot="7732800">
            <a:off x="4515480" y="3511440"/>
            <a:ext cx="2376720" cy="1655640"/>
          </a:xfrm>
          <a:prstGeom prst="pi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5"/>
          <p:cNvSpPr/>
          <p:nvPr/>
        </p:nvSpPr>
        <p:spPr>
          <a:xfrm flipH="1" flipV="1" rot="6475800">
            <a:off x="4102560" y="2526840"/>
            <a:ext cx="1512720" cy="230508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0609-DA5A-4AE6-ACA2-6266CA8BB26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орный консп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7,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66(в, г), №579, №5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ежающее задание: составить тематический сборник ( по желан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52BF-C38B-41B6-935F-8842BD0AA34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Дострой прямоугольник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штрихованный квадрат изображает записанное в нем число. Дочертите прямоугольник, который будет изображать указанное под ним числ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3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ectangle 6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76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Rectangle 88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100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04" descr=""/>
          <p:cNvPicPr/>
          <p:nvPr/>
        </p:nvPicPr>
        <p:blipFill>
          <a:blip r:embed="rId1"/>
          <a:stretch/>
        </p:blipFill>
        <p:spPr>
          <a:xfrm>
            <a:off x="5049720" y="3541680"/>
            <a:ext cx="3267360" cy="1255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3" descr=""/>
          <p:cNvPicPr/>
          <p:nvPr/>
        </p:nvPicPr>
        <p:blipFill>
          <a:blip r:embed="rId2"/>
          <a:stretch/>
        </p:blipFill>
        <p:spPr>
          <a:xfrm>
            <a:off x="1116000" y="3645000"/>
            <a:ext cx="3317760" cy="1187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2" descr=""/>
          <p:cNvPicPr/>
          <p:nvPr/>
        </p:nvPicPr>
        <p:blipFill>
          <a:blip r:embed="rId3"/>
          <a:stretch/>
        </p:blipFill>
        <p:spPr>
          <a:xfrm>
            <a:off x="1116000" y="5013360"/>
            <a:ext cx="3297240" cy="1255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1" descr=""/>
          <p:cNvPicPr/>
          <p:nvPr/>
        </p:nvPicPr>
        <p:blipFill>
          <a:blip r:embed="rId4"/>
          <a:stretch/>
        </p:blipFill>
        <p:spPr>
          <a:xfrm>
            <a:off x="5076720" y="5013360"/>
            <a:ext cx="3238560" cy="12272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0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11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128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2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Rectangle 140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1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Rectangle 152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2C04-C354-416D-BBD8-CCC4C842BF2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Какое число изображает круг?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найте, какое число изображает круг, если заштрихованная часть изображает указанное число. Ответ запишите в виде степ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2" descr=""/>
          <p:cNvPicPr/>
          <p:nvPr/>
        </p:nvPicPr>
        <p:blipFill>
          <a:blip r:embed="rId1"/>
          <a:stretch/>
        </p:blipFill>
        <p:spPr>
          <a:xfrm>
            <a:off x="4859280" y="387684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1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1712880" cy="1694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0" descr=""/>
          <p:cNvPicPr/>
          <p:nvPr/>
        </p:nvPicPr>
        <p:blipFill>
          <a:blip r:embed="rId3"/>
          <a:stretch/>
        </p:blipFill>
        <p:spPr>
          <a:xfrm>
            <a:off x="755640" y="3968640"/>
            <a:ext cx="1735200" cy="1621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9" descr=""/>
          <p:cNvPicPr/>
          <p:nvPr/>
        </p:nvPicPr>
        <p:blipFill>
          <a:blip r:embed="rId4"/>
          <a:stretch/>
        </p:blipFill>
        <p:spPr>
          <a:xfrm>
            <a:off x="2843280" y="3933720"/>
            <a:ext cx="1662120" cy="16430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Rectangle 3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Rectangle 46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Rectangle 58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Rectangle 70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6DFE-C57D-42E7-B3A1-771F45557F9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5640" y="1035720"/>
            <a:ext cx="781524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Тема урока: «Свойства степени </a:t>
            </a:r>
            <a:br>
              <a:rPr sz="3400"/>
            </a:b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 натуральным показателем»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Text Box 51"/>
          <p:cNvSpPr/>
          <p:nvPr/>
        </p:nvSpPr>
        <p:spPr>
          <a:xfrm>
            <a:off x="755640" y="2349360"/>
            <a:ext cx="8012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cc"/>
                </a:solidFill>
                <a:latin typeface="Arial"/>
              </a:rPr>
              <a:t>Цели уро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Образов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свойств степени с натуральным показателем; совершенствование  вычислительных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Развивающи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атематического и общег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озора, мышления и речи, внимания и памяти; формирование  умений применять приемы наблюдения, сравнения, анали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Воспит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оспитание интереса к математике и ее приложениям, активности, обще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162B-C35E-4EC0-AA66-AD72B9A5379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История создания современной теории степеней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3" name="Picture 6" descr="img001"/>
          <p:cNvPicPr/>
          <p:nvPr/>
        </p:nvPicPr>
        <p:blipFill>
          <a:blip r:embed="rId1"/>
          <a:stretch/>
        </p:blipFill>
        <p:spPr>
          <a:xfrm>
            <a:off x="826920" y="3462480"/>
            <a:ext cx="1368720" cy="28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g001"/>
          <p:cNvPicPr/>
          <p:nvPr/>
        </p:nvPicPr>
        <p:blipFill>
          <a:blip r:embed="rId2"/>
          <a:stretch/>
        </p:blipFill>
        <p:spPr>
          <a:xfrm>
            <a:off x="2050920" y="3429000"/>
            <a:ext cx="1173240" cy="290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img001"/>
          <p:cNvPicPr/>
          <p:nvPr/>
        </p:nvPicPr>
        <p:blipFill>
          <a:blip r:embed="rId3"/>
          <a:stretch/>
        </p:blipFill>
        <p:spPr>
          <a:xfrm>
            <a:off x="3203640" y="3573360"/>
            <a:ext cx="2171520" cy="115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img001"/>
          <p:cNvPicPr/>
          <p:nvPr/>
        </p:nvPicPr>
        <p:blipFill>
          <a:blip r:embed="rId4"/>
          <a:stretch/>
        </p:blipFill>
        <p:spPr>
          <a:xfrm>
            <a:off x="5435640" y="3645000"/>
            <a:ext cx="3097080" cy="122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img001"/>
          <p:cNvPicPr/>
          <p:nvPr/>
        </p:nvPicPr>
        <p:blipFill>
          <a:blip r:embed="rId5"/>
          <a:stretch/>
        </p:blipFill>
        <p:spPr>
          <a:xfrm>
            <a:off x="3203640" y="5013360"/>
            <a:ext cx="2089080" cy="1368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вычисления. Заполните таблицы буквами, учитывая найденные отве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img001"/>
          <p:cNvPicPr/>
          <p:nvPr/>
        </p:nvPicPr>
        <p:blipFill>
          <a:blip r:embed="rId6"/>
          <a:stretch/>
        </p:blipFill>
        <p:spPr>
          <a:xfrm>
            <a:off x="5508720" y="5013360"/>
            <a:ext cx="2950920" cy="13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CD3B-5ACE-4F97-A7C3-476444D0226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7640" y="837000"/>
            <a:ext cx="778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имон Стевин и Рене Декарт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2" name="Picture 3" descr="декарт 2"/>
          <p:cNvPicPr/>
          <p:nvPr/>
        </p:nvPicPr>
        <p:blipFill>
          <a:blip r:embed="rId1"/>
          <a:stretch/>
        </p:blipFill>
        <p:spPr>
          <a:xfrm>
            <a:off x="5003640" y="2781360"/>
            <a:ext cx="2521080" cy="316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стевин"/>
          <p:cNvPicPr/>
          <p:nvPr/>
        </p:nvPicPr>
        <p:blipFill>
          <a:blip r:embed="rId2"/>
          <a:stretch/>
        </p:blipFill>
        <p:spPr>
          <a:xfrm>
            <a:off x="1547640" y="2781360"/>
            <a:ext cx="23209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2FFD-3375-4DFB-B82B-E1DEC4C180B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равнение выражений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6" name="Picture 7" descr="img002"/>
          <p:cNvPicPr/>
          <p:nvPr/>
        </p:nvPicPr>
        <p:blipFill>
          <a:blip r:embed="rId1"/>
          <a:stretch/>
        </p:blipFill>
        <p:spPr>
          <a:xfrm>
            <a:off x="5003640" y="3357720"/>
            <a:ext cx="3019680" cy="2303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е, не выполняя вычис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верные неравенства. Из соответствующих им букв составьте фамилию архитектора, по проекту которого в 1825 году было построено здание Большого театра в Моск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Arial"/>
              </a:rPr>
              <a:t>Бов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оектам этого известного архитектора также были построены здания Манежа и Триумфальные ворота, создан проект Александров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img002"/>
          <p:cNvPicPr/>
          <p:nvPr/>
        </p:nvPicPr>
        <p:blipFill>
          <a:blip r:embed="rId2"/>
          <a:stretch/>
        </p:blipFill>
        <p:spPr>
          <a:xfrm>
            <a:off x="826920" y="3500280"/>
            <a:ext cx="1800360" cy="144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3"/>
          <a:stretch/>
        </p:blipFill>
        <p:spPr>
          <a:xfrm>
            <a:off x="2411280" y="3525840"/>
            <a:ext cx="205740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БТ 2"/>
          <p:cNvPicPr/>
          <p:nvPr/>
        </p:nvPicPr>
        <p:blipFill>
          <a:blip r:embed="rId4"/>
          <a:stretch/>
        </p:blipFill>
        <p:spPr>
          <a:xfrm>
            <a:off x="4714920" y="3357720"/>
            <a:ext cx="3240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48DF-F98A-4071-A688-6A6F0677762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3680" y="853200"/>
            <a:ext cx="7751520" cy="119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Большая часть математических утверждений проходит в своем становлении три этапа. </a:t>
            </a:r>
            <a:endParaRPr b="1" lang="en-US" sz="3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755640" y="2421000"/>
            <a:ext cx="79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перв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еловек в ряде конкретных случаев подмечает одну и ту же закономер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втор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сформулировать подмеченную закономерность в общем виде, т.е. предполагает, что эта закономерность действует не только в рассмотренных случаях, но и во всех других аналогичных случа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третье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доказать, что закономерность, сформулированная в общем виде, на самом деле вер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3EFC-D35F-4E75-A0DD-66F1331658A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перв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3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6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7589880" cy="344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2633-06D0-4955-A3EB-3D709DCE595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втор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15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"/>
          <p:cNvPicPr/>
          <p:nvPr/>
        </p:nvPicPr>
        <p:blipFill>
          <a:blip r:embed="rId1"/>
          <a:stretch/>
        </p:blipFill>
        <p:spPr>
          <a:xfrm>
            <a:off x="784080" y="2727360"/>
            <a:ext cx="819792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93D2-460A-427E-8ED9-8B6B51345E4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треть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1258920" y="2924280"/>
            <a:ext cx="6985080" cy="2071440"/>
            <a:chOff x="1258920" y="2924280"/>
            <a:chExt cx="6985080" cy="2071440"/>
          </a:xfrm>
        </p:grpSpPr>
        <p:grpSp>
          <p:nvGrpSpPr>
            <p:cNvPr id="148" name="Group 18"/>
            <p:cNvGrpSpPr/>
            <p:nvPr/>
          </p:nvGrpSpPr>
          <p:grpSpPr>
            <a:xfrm>
              <a:off x="1258920" y="2924280"/>
              <a:ext cx="6985080" cy="2071440"/>
              <a:chOff x="1258920" y="2924280"/>
              <a:chExt cx="6985080" cy="2071440"/>
            </a:xfrm>
          </p:grpSpPr>
          <p:pic>
            <p:nvPicPr>
              <p:cNvPr id="149" name="Picture 14" descr=""/>
              <p:cNvPicPr/>
              <p:nvPr/>
            </p:nvPicPr>
            <p:blipFill>
              <a:blip r:embed="rId1"/>
              <a:srcRect l="0" t="0" r="0" b="18553"/>
              <a:stretch/>
            </p:blipFill>
            <p:spPr>
              <a:xfrm>
                <a:off x="1258920" y="2924280"/>
                <a:ext cx="6939000" cy="203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5"/>
              <p:cNvSpPr/>
              <p:nvPr/>
            </p:nvSpPr>
            <p:spPr>
              <a:xfrm>
                <a:off x="6804360" y="376560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6"/>
              <p:cNvSpPr/>
              <p:nvPr/>
            </p:nvSpPr>
            <p:spPr>
              <a:xfrm>
                <a:off x="6948720" y="462924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7"/>
              <p:cNvSpPr/>
              <p:nvPr/>
            </p:nvSpPr>
            <p:spPr>
              <a:xfrm>
                <a:off x="1690920" y="419112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Text Box 19"/>
            <p:cNvSpPr/>
            <p:nvPr/>
          </p:nvSpPr>
          <p:spPr>
            <a:xfrm>
              <a:off x="1258920" y="4221000"/>
              <a:ext cx="12952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0" descr=""/>
            <p:cNvPicPr/>
            <p:nvPr/>
          </p:nvPicPr>
          <p:blipFill>
            <a:blip r:embed="rId2"/>
            <a:srcRect l="0" t="0" r="16863" b="0"/>
            <a:stretch/>
          </p:blipFill>
          <p:spPr>
            <a:xfrm>
              <a:off x="1908000" y="4600440"/>
              <a:ext cx="385920" cy="37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3:37:33Z</dcterms:created>
  <dc:creator>Попова Екатерина</dc:creator>
  <dc:description/>
  <dc:language>en-US</dc:language>
  <cp:lastModifiedBy>ITcenterPC2</cp:lastModifiedBy>
  <dcterms:modified xsi:type="dcterms:W3CDTF">2009-09-29T11:17:07Z</dcterms:modified>
  <cp:revision>67</cp:revision>
  <dc:subject/>
  <dc:title>Слайд 1</dc:title>
</cp:coreProperties>
</file>