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649-D54D-40F8-92D0-1BDE8A2B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C55-0BE0-495B-B8A8-7B793EEC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3A2-8764-462B-90A7-7785D7DC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E8B-1DCF-4885-8C78-B32D74AF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3C2-8365-4B42-9FE7-BD458302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9A3-2037-493C-9604-784420E2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381-56AF-421D-8D5A-34973EA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E5E9-F9CD-4C15-A69B-73BFE0E1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91C4-80F4-4E1B-B52F-C4374167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442-C3BC-46D8-84FB-44372F2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B6A-2635-4CB4-B33D-011C8014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E1B-75D6-47E0-967A-7E1593A5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04A8-9E16-4E1D-9E83-3AD2198CE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Формулы сокращенного умнож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Автор: учитель математики МОУ СОШ № 57 г.Астрах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Курило М.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3" descr="ANTN027"/>
          <p:cNvPicPr/>
          <p:nvPr/>
        </p:nvPicPr>
        <p:blipFill>
          <a:blip r:embed="rId2"/>
          <a:stretch/>
        </p:blipFill>
        <p:spPr>
          <a:xfrm>
            <a:off x="6673680" y="4508640"/>
            <a:ext cx="2470320" cy="2349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анимации мои\442.gif"/>
          <p:cNvPicPr/>
          <p:nvPr/>
        </p:nvPicPr>
        <p:blipFill>
          <a:blip r:embed="rId3"/>
          <a:stretch/>
        </p:blipFill>
        <p:spPr>
          <a:xfrm>
            <a:off x="3924360" y="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Monotype Corsiva"/>
              </a:rPr>
              <a:t>МОЛОДЦЫ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C:\Users\Анастасия\Desktop\анимашки\163163568.jpg"/>
          <p:cNvPicPr/>
          <p:nvPr/>
        </p:nvPicPr>
        <p:blipFill>
          <a:blip r:embed="rId2"/>
          <a:stretch/>
        </p:blipFill>
        <p:spPr>
          <a:xfrm>
            <a:off x="7723080" y="189000"/>
            <a:ext cx="1420920" cy="1009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C:\Users\Анастасия\Desktop\5_3md_wht.gif"/>
          <p:cNvPicPr/>
          <p:nvPr/>
        </p:nvPicPr>
        <p:blipFill>
          <a:blip r:embed="rId3"/>
          <a:stretch/>
        </p:blipFill>
        <p:spPr>
          <a:xfrm>
            <a:off x="2916360" y="2276640"/>
            <a:ext cx="1077840" cy="1438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Анастасия\Desktop\5_3md_wht.gif"/>
          <p:cNvPicPr/>
          <p:nvPr/>
        </p:nvPicPr>
        <p:blipFill>
          <a:blip r:embed="rId4"/>
          <a:stretch/>
        </p:blipFill>
        <p:spPr>
          <a:xfrm rot="19104000">
            <a:off x="1241280" y="4266720"/>
            <a:ext cx="1059120" cy="1411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Анастасия\Desktop\5_3md_wht.gif"/>
          <p:cNvPicPr/>
          <p:nvPr/>
        </p:nvPicPr>
        <p:blipFill>
          <a:blip r:embed="rId5"/>
          <a:stretch/>
        </p:blipFill>
        <p:spPr>
          <a:xfrm>
            <a:off x="4859280" y="3789360"/>
            <a:ext cx="1185840" cy="15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C:\Users\Анастасия\Desktop\5_3md_wht.gif"/>
          <p:cNvPicPr/>
          <p:nvPr/>
        </p:nvPicPr>
        <p:blipFill>
          <a:blip r:embed="rId6"/>
          <a:stretch/>
        </p:blipFill>
        <p:spPr>
          <a:xfrm rot="2141400">
            <a:off x="7303680" y="4237200"/>
            <a:ext cx="960480" cy="1280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C:\Users\Анастасия\Desktop\5_1md_wht.gif"/>
          <p:cNvPicPr/>
          <p:nvPr/>
        </p:nvPicPr>
        <p:blipFill>
          <a:blip r:embed="rId7"/>
          <a:stretch/>
        </p:blipFill>
        <p:spPr>
          <a:xfrm rot="2437800">
            <a:off x="7065720" y="1815840"/>
            <a:ext cx="1317600" cy="1647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Анастасия\Desktop\5_1md_wht.gif"/>
          <p:cNvPicPr/>
          <p:nvPr/>
        </p:nvPicPr>
        <p:blipFill>
          <a:blip r:embed="rId8"/>
          <a:stretch/>
        </p:blipFill>
        <p:spPr>
          <a:xfrm rot="18729600">
            <a:off x="600840" y="1962720"/>
            <a:ext cx="130644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9640" y="184464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50920" y="1125360"/>
            <a:ext cx="87138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050920" y="458136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54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54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0" y="299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6-конечная звезда 14"/>
          <p:cNvSpPr/>
          <p:nvPr/>
        </p:nvSpPr>
        <p:spPr>
          <a:xfrm>
            <a:off x="658800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6-конечная звезда 15"/>
          <p:cNvSpPr/>
          <p:nvPr/>
        </p:nvSpPr>
        <p:spPr>
          <a:xfrm>
            <a:off x="543564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-конечная звезда 13"/>
          <p:cNvSpPr/>
          <p:nvPr/>
        </p:nvSpPr>
        <p:spPr>
          <a:xfrm>
            <a:off x="2411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-конечная звезда 12"/>
          <p:cNvSpPr/>
          <p:nvPr/>
        </p:nvSpPr>
        <p:spPr>
          <a:xfrm>
            <a:off x="464328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-конечная звезда 11"/>
          <p:cNvSpPr/>
          <p:nvPr/>
        </p:nvSpPr>
        <p:spPr>
          <a:xfrm>
            <a:off x="2916360" y="400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6-конечная звезда 10"/>
          <p:cNvSpPr/>
          <p:nvPr/>
        </p:nvSpPr>
        <p:spPr>
          <a:xfrm>
            <a:off x="1619280" y="32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6-конечная звезда 6"/>
          <p:cNvSpPr/>
          <p:nvPr/>
        </p:nvSpPr>
        <p:spPr>
          <a:xfrm>
            <a:off x="5292720" y="220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6-конечная звезда 5"/>
          <p:cNvSpPr/>
          <p:nvPr/>
        </p:nvSpPr>
        <p:spPr>
          <a:xfrm>
            <a:off x="2268360" y="14842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-конечная звезда 4"/>
          <p:cNvSpPr/>
          <p:nvPr/>
        </p:nvSpPr>
        <p:spPr>
          <a:xfrm>
            <a:off x="4211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6-конечная звезда 7"/>
          <p:cNvSpPr/>
          <p:nvPr/>
        </p:nvSpPr>
        <p:spPr>
          <a:xfrm>
            <a:off x="341964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-конечная звезда 8"/>
          <p:cNvSpPr/>
          <p:nvPr/>
        </p:nvSpPr>
        <p:spPr>
          <a:xfrm>
            <a:off x="1692360" y="2133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6-конечная звезда 9"/>
          <p:cNvSpPr/>
          <p:nvPr/>
        </p:nvSpPr>
        <p:spPr>
          <a:xfrm>
            <a:off x="1403280" y="1413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вадрат суммы (разности) двух выражений: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±2ab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+b</a:t>
            </a:r>
            <a:r>
              <a:rPr b="1" lang="en-US" sz="3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  <a:ea typeface="Arial"/>
              </a:rPr>
              <a:t>+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  <a:ea typeface="Arial"/>
              </a:rPr>
              <a:t>4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e46c0a"/>
                </a:solidFill>
                <a:latin typeface="Calibri"/>
              </a:rPr>
              <a:t>+</a:t>
            </a: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c00000"/>
                </a:solidFill>
                <a:latin typeface="Calibri"/>
              </a:rPr>
              <a:t>3a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 +(</a:t>
            </a:r>
            <a:r>
              <a:rPr b="0" lang="en-US" sz="4500" spc="-1" strike="noStrike">
                <a:solidFill>
                  <a:srgbClr val="7030a0"/>
                </a:solidFill>
                <a:latin typeface="Calibri"/>
              </a:rPr>
              <a:t>4b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5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500" spc="-1" strike="noStrike" baseline="30000">
                <a:solidFill>
                  <a:srgbClr val="000000"/>
                </a:solidFill>
                <a:latin typeface="Calibri"/>
              </a:rPr>
              <a:t>  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  <a:ea typeface="Arial"/>
              </a:rPr>
              <a:t>-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  <a:ea typeface="Arial"/>
              </a:rPr>
              <a:t>3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900" spc="-1" strike="noStrike">
                <a:solidFill>
                  <a:srgbClr val="e46c0a"/>
                </a:solidFill>
                <a:latin typeface="Calibri"/>
              </a:rPr>
              <a:t>-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c00000"/>
                </a:solidFill>
                <a:latin typeface="Calibri"/>
              </a:rPr>
              <a:t>5d</a:t>
            </a:r>
            <a:r>
              <a:rPr b="0" lang="en-US" sz="49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 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en-US" sz="4900" spc="-1" strike="noStrike">
                <a:solidFill>
                  <a:srgbClr val="7030a0"/>
                </a:solidFill>
                <a:latin typeface="Calibri"/>
              </a:rPr>
              <a:t>3c</a:t>
            </a: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                      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H:\анимации мои\442.gif"/>
          <p:cNvPicPr/>
          <p:nvPr/>
        </p:nvPicPr>
        <p:blipFill>
          <a:blip r:embed="rId2"/>
          <a:stretch/>
        </p:blipFill>
        <p:spPr>
          <a:xfrm>
            <a:off x="324000" y="4941720"/>
            <a:ext cx="103824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69" name="6-конечная звезда 8"/>
          <p:cNvSpPr/>
          <p:nvPr/>
        </p:nvSpPr>
        <p:spPr>
          <a:xfrm>
            <a:off x="4284720" y="4653000"/>
            <a:ext cx="841320" cy="863640"/>
          </a:xfrm>
          <a:custGeom>
            <a:avLst/>
            <a:gdLst/>
            <a:ahLst/>
            <a:rect l="l" t="t" r="r" b="b"/>
            <a:pathLst>
              <a:path w="842392" h="864096">
                <a:moveTo>
                  <a:pt x="0" y="216024"/>
                </a:moveTo>
                <a:lnTo>
                  <a:pt x="280795" y="216020"/>
                </a:lnTo>
                <a:lnTo>
                  <a:pt x="421196" y="0"/>
                </a:lnTo>
                <a:lnTo>
                  <a:pt x="561597" y="216020"/>
                </a:lnTo>
                <a:lnTo>
                  <a:pt x="842392" y="216024"/>
                </a:lnTo>
                <a:lnTo>
                  <a:pt x="701998" y="432048"/>
                </a:lnTo>
                <a:lnTo>
                  <a:pt x="842392" y="648072"/>
                </a:lnTo>
                <a:lnTo>
                  <a:pt x="561597" y="648076"/>
                </a:lnTo>
                <a:lnTo>
                  <a:pt x="421196" y="864096"/>
                </a:lnTo>
                <a:lnTo>
                  <a:pt x="280795" y="648076"/>
                </a:lnTo>
                <a:lnTo>
                  <a:pt x="0" y="648072"/>
                </a:lnTo>
                <a:lnTo>
                  <a:pt x="140394" y="432048"/>
                </a:lnTo>
                <a:lnTo>
                  <a:pt x="0" y="216024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6-конечная звезда 15"/>
          <p:cNvSpPr/>
          <p:nvPr/>
        </p:nvSpPr>
        <p:spPr>
          <a:xfrm>
            <a:off x="673272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-конечная звезда 9"/>
          <p:cNvSpPr/>
          <p:nvPr/>
        </p:nvSpPr>
        <p:spPr>
          <a:xfrm>
            <a:off x="579600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6-конечная звезда 14"/>
          <p:cNvSpPr/>
          <p:nvPr/>
        </p:nvSpPr>
        <p:spPr>
          <a:xfrm>
            <a:off x="4211640" y="765000"/>
            <a:ext cx="792000" cy="71928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6-конечная звезда 10"/>
          <p:cNvSpPr/>
          <p:nvPr/>
        </p:nvSpPr>
        <p:spPr>
          <a:xfrm>
            <a:off x="3492360" y="4724280"/>
            <a:ext cx="792360" cy="720720"/>
          </a:xfrm>
          <a:custGeom>
            <a:avLst/>
            <a:gdLst/>
            <a:ahLst/>
            <a:rect l="l" t="t" r="r" b="b"/>
            <a:pathLst>
              <a:path w="792088" h="720080">
                <a:moveTo>
                  <a:pt x="0" y="180020"/>
                </a:moveTo>
                <a:lnTo>
                  <a:pt x="264027" y="180017"/>
                </a:lnTo>
                <a:lnTo>
                  <a:pt x="396044" y="0"/>
                </a:lnTo>
                <a:lnTo>
                  <a:pt x="528061" y="180017"/>
                </a:lnTo>
                <a:lnTo>
                  <a:pt x="792088" y="180020"/>
                </a:lnTo>
                <a:lnTo>
                  <a:pt x="660078" y="360040"/>
                </a:lnTo>
                <a:lnTo>
                  <a:pt x="792088" y="540060"/>
                </a:lnTo>
                <a:lnTo>
                  <a:pt x="528061" y="540063"/>
                </a:lnTo>
                <a:lnTo>
                  <a:pt x="396044" y="720080"/>
                </a:lnTo>
                <a:lnTo>
                  <a:pt x="264027" y="540063"/>
                </a:lnTo>
                <a:lnTo>
                  <a:pt x="0" y="540060"/>
                </a:lnTo>
                <a:lnTo>
                  <a:pt x="132010" y="360040"/>
                </a:lnTo>
                <a:lnTo>
                  <a:pt x="0" y="18002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6-конечная звезда 11"/>
          <p:cNvSpPr/>
          <p:nvPr/>
        </p:nvSpPr>
        <p:spPr>
          <a:xfrm>
            <a:off x="500364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6-конечная звезда 12"/>
          <p:cNvSpPr/>
          <p:nvPr/>
        </p:nvSpPr>
        <p:spPr>
          <a:xfrm>
            <a:off x="2411280" y="765000"/>
            <a:ext cx="698760" cy="792360"/>
          </a:xfrm>
          <a:custGeom>
            <a:avLst/>
            <a:gdLst/>
            <a:ahLst/>
            <a:rect l="l" t="t" r="r" b="b"/>
            <a:pathLst>
              <a:path w="698376" h="792088">
                <a:moveTo>
                  <a:pt x="0" y="198022"/>
                </a:moveTo>
                <a:lnTo>
                  <a:pt x="232790" y="198019"/>
                </a:lnTo>
                <a:lnTo>
                  <a:pt x="349188" y="0"/>
                </a:lnTo>
                <a:lnTo>
                  <a:pt x="465586" y="198019"/>
                </a:lnTo>
                <a:lnTo>
                  <a:pt x="698376" y="198022"/>
                </a:lnTo>
                <a:lnTo>
                  <a:pt x="581984" y="396044"/>
                </a:lnTo>
                <a:lnTo>
                  <a:pt x="698376" y="594066"/>
                </a:lnTo>
                <a:lnTo>
                  <a:pt x="465586" y="594069"/>
                </a:lnTo>
                <a:lnTo>
                  <a:pt x="349188" y="792088"/>
                </a:lnTo>
                <a:lnTo>
                  <a:pt x="232790" y="594069"/>
                </a:lnTo>
                <a:lnTo>
                  <a:pt x="0" y="594066"/>
                </a:lnTo>
                <a:lnTo>
                  <a:pt x="116392" y="396044"/>
                </a:lnTo>
                <a:lnTo>
                  <a:pt x="0" y="19802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6-конечная звезда 13"/>
          <p:cNvSpPr/>
          <p:nvPr/>
        </p:nvSpPr>
        <p:spPr>
          <a:xfrm>
            <a:off x="3492360" y="306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b+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=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±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)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5f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20f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z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+(</a:t>
            </a: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z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5f</a:t>
            </a: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7030a0"/>
                </a:solidFill>
                <a:latin typeface="Calibri"/>
              </a:rPr>
              <a:t>2z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ANTN027"/>
          <p:cNvPicPr/>
          <p:nvPr/>
        </p:nvPicPr>
        <p:blipFill>
          <a:blip r:embed="rId2"/>
          <a:stretch/>
        </p:blipFill>
        <p:spPr>
          <a:xfrm>
            <a:off x="468360" y="4508640"/>
            <a:ext cx="22892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81" name="6-конечная звезда 15"/>
          <p:cNvSpPr/>
          <p:nvPr/>
        </p:nvSpPr>
        <p:spPr>
          <a:xfrm>
            <a:off x="3203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6-конечная звезда 13"/>
          <p:cNvSpPr/>
          <p:nvPr/>
        </p:nvSpPr>
        <p:spPr>
          <a:xfrm>
            <a:off x="7093080" y="4437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6-конечная звезда 10"/>
          <p:cNvSpPr/>
          <p:nvPr/>
        </p:nvSpPr>
        <p:spPr>
          <a:xfrm>
            <a:off x="521964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6-конечная звезда 9"/>
          <p:cNvSpPr/>
          <p:nvPr/>
        </p:nvSpPr>
        <p:spPr>
          <a:xfrm>
            <a:off x="3924360" y="3789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6-конечная звезда 14"/>
          <p:cNvSpPr/>
          <p:nvPr/>
        </p:nvSpPr>
        <p:spPr>
          <a:xfrm>
            <a:off x="586728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6-конечная звезда 11"/>
          <p:cNvSpPr/>
          <p:nvPr/>
        </p:nvSpPr>
        <p:spPr>
          <a:xfrm>
            <a:off x="4284720" y="4508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6-конечная звезда 12"/>
          <p:cNvSpPr/>
          <p:nvPr/>
        </p:nvSpPr>
        <p:spPr>
          <a:xfrm>
            <a:off x="2627280" y="3860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6-конечная звезда 4"/>
          <p:cNvSpPr/>
          <p:nvPr/>
        </p:nvSpPr>
        <p:spPr>
          <a:xfrm>
            <a:off x="507672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6-конечная звезда 3"/>
          <p:cNvSpPr/>
          <p:nvPr/>
        </p:nvSpPr>
        <p:spPr>
          <a:xfrm>
            <a:off x="161928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6-конечная звезда 8"/>
          <p:cNvSpPr/>
          <p:nvPr/>
        </p:nvSpPr>
        <p:spPr>
          <a:xfrm>
            <a:off x="234000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6-конечная звезда 7"/>
          <p:cNvSpPr/>
          <p:nvPr/>
        </p:nvSpPr>
        <p:spPr>
          <a:xfrm>
            <a:off x="3924360" y="256536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6-конечная звезда 6"/>
          <p:cNvSpPr/>
          <p:nvPr/>
        </p:nvSpPr>
        <p:spPr>
          <a:xfrm>
            <a:off x="755640" y="18446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228600"/>
                </a:moveTo>
                <a:lnTo>
                  <a:pt x="304798" y="228596"/>
                </a:lnTo>
                <a:lnTo>
                  <a:pt x="457200" y="0"/>
                </a:lnTo>
                <a:lnTo>
                  <a:pt x="609602" y="228596"/>
                </a:lnTo>
                <a:lnTo>
                  <a:pt x="914400" y="228600"/>
                </a:lnTo>
                <a:lnTo>
                  <a:pt x="762005" y="457200"/>
                </a:lnTo>
                <a:lnTo>
                  <a:pt x="914400" y="685800"/>
                </a:lnTo>
                <a:lnTo>
                  <a:pt x="609602" y="685804"/>
                </a:lnTo>
                <a:lnTo>
                  <a:pt x="457200" y="914400"/>
                </a:lnTo>
                <a:lnTo>
                  <a:pt x="304798" y="685804"/>
                </a:lnTo>
                <a:lnTo>
                  <a:pt x="0" y="685800"/>
                </a:lnTo>
                <a:lnTo>
                  <a:pt x="152395" y="457200"/>
                </a:lnTo>
                <a:lnTo>
                  <a:pt x="0" y="2286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Разность квадратов двух выражений: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-b</a:t>
            </a:r>
            <a:r>
              <a:rPr b="1" lang="en-US" sz="40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4000" spc="-1" strike="noStrike" baseline="30000">
                <a:solidFill>
                  <a:srgbClr val="002060"/>
                </a:solidFill>
                <a:latin typeface="Calibri"/>
              </a:rPr>
              <a:t>=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(а+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b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2x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4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)=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16y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9k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-(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m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3k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H:\анимации мои\442.gif"/>
          <p:cNvPicPr/>
          <p:nvPr/>
        </p:nvPicPr>
        <p:blipFill>
          <a:blip r:embed="rId2"/>
          <a:stretch/>
        </p:blipFill>
        <p:spPr>
          <a:xfrm>
            <a:off x="684360" y="5013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ая соединительная линия 20"/>
          <p:cNvSpPr/>
          <p:nvPr/>
        </p:nvSpPr>
        <p:spPr>
          <a:xfrm>
            <a:off x="4859280" y="3068640"/>
            <a:ext cx="28908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98" name="Овал 3"/>
          <p:cNvSpPr/>
          <p:nvPr/>
        </p:nvSpPr>
        <p:spPr>
          <a:xfrm>
            <a:off x="4140360" y="3716280"/>
            <a:ext cx="57600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)(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1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)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6a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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0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(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= 0,36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</a:t>
            </a:r>
            <a:r>
              <a:rPr b="1" lang="ru-RU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1,2а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,01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b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) 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+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(7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) =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у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(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7х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 )=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x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49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y</a:t>
            </a:r>
            <a:r>
              <a:rPr b="1" lang="en-US" sz="3200" spc="-1" strike="noStrike" baseline="30000">
                <a:solidFill>
                  <a:srgbClr val="4f6228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3851280" y="3141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Выгнутая влево стрелка 15"/>
          <p:cNvSpPr/>
          <p:nvPr/>
        </p:nvSpPr>
        <p:spPr>
          <a:xfrm rot="16200000">
            <a:off x="4240080" y="503964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ыгнутая влево стрелка 16"/>
          <p:cNvSpPr/>
          <p:nvPr/>
        </p:nvSpPr>
        <p:spPr>
          <a:xfrm rot="5400000">
            <a:off x="4224240" y="4135320"/>
            <a:ext cx="469800" cy="1216080"/>
          </a:xfrm>
          <a:custGeom>
            <a:avLst/>
            <a:gdLst>
              <a:gd name="textAreaLeft" fmla="*/ 62640 w 469800"/>
              <a:gd name="textAreaRight" fmla="*/ 407160 w 469800"/>
              <a:gd name="textAreaTop" fmla="*/ 259920 h 1216080"/>
              <a:gd name="textAreaBottom" fmla="*/ 89748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0" stAng="-5400000" swAng="-5400000"/>
                <a:lnTo>
                  <a:pt x="0" y="11321"/>
                </a:lnTo>
                <a:arcTo wR="21600" hR="9240" stAng="10800000" swAng="-3533053"/>
                <a:lnTo>
                  <a:pt x="16200" y="21307"/>
                </a:lnTo>
                <a:lnTo>
                  <a:pt x="21600" y="19520"/>
                </a:lnTo>
                <a:lnTo>
                  <a:pt x="16200" y="17146"/>
                </a:lnTo>
                <a:lnTo>
                  <a:pt x="16200" y="18186"/>
                </a:lnTo>
                <a:arcTo wR="21600" hR="9240" stAng="7266947" swAng="3366522"/>
                <a:lnTo>
                  <a:pt x="137" y="10280"/>
                </a:lnTo>
                <a:arcTo wR="21600" hR="9240" stAng="-10633469" swAng="5233469"/>
                <a:close/>
              </a:path>
              <a:path fill="darkenLess" w="21600" h="21600">
                <a:moveTo>
                  <a:pt x="21600" y="0"/>
                </a:moveTo>
                <a:arcTo wR="21600" hR="9240" stAng="-5400000" swAng="-5400000"/>
                <a:lnTo>
                  <a:pt x="0" y="9240"/>
                </a:lnTo>
                <a:arcTo wR="21600" hR="9240" stAng="10800000" swAng="-166531"/>
                <a:lnTo>
                  <a:pt x="137" y="10280"/>
                </a:lnTo>
                <a:arcTo wR="21600" hR="9240" stAng="-10633469" swAng="523346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18"/>
          <p:cNvSpPr/>
          <p:nvPr/>
        </p:nvSpPr>
        <p:spPr>
          <a:xfrm>
            <a:off x="5796000" y="4724280"/>
            <a:ext cx="1224000" cy="865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20"/>
          <p:cNvSpPr/>
          <p:nvPr/>
        </p:nvSpPr>
        <p:spPr>
          <a:xfrm flipV="1">
            <a:off x="5867280" y="4653000"/>
            <a:ext cx="1297080" cy="10080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7236000" y="4861080"/>
                <a:ext cx="16570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7" name="Picture 5" descr="C:\Users\Анастасия\Desktop\МАМА\анимашки\Картинки и анимашки на школьную тему\teacher.jpg"/>
          <p:cNvPicPr/>
          <p:nvPr/>
        </p:nvPicPr>
        <p:blipFill>
          <a:blip r:embed="rId2"/>
          <a:stretch/>
        </p:blipFill>
        <p:spPr>
          <a:xfrm>
            <a:off x="539640" y="1484280"/>
            <a:ext cx="13683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пишите в виде выраж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суммы двух выражени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y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х  разност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изведение разности двух выражений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3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Calibri"/>
              </a:rPr>
              <a:t>5b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и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мм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суммы двух выражений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7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ность квадратов двух выражений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5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3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вадрат разности двух выражений 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6b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ffc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ая выноска 4"/>
          <p:cNvSpPr/>
          <p:nvPr/>
        </p:nvSpPr>
        <p:spPr>
          <a:xfrm>
            <a:off x="5076720" y="1557360"/>
            <a:ext cx="295128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2х+у)(2х-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ая выноска 5"/>
          <p:cNvSpPr/>
          <p:nvPr/>
        </p:nvSpPr>
        <p:spPr>
          <a:xfrm>
            <a:off x="5219640" y="2637000"/>
            <a:ext cx="2952720" cy="576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3а-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ая выноска 6"/>
          <p:cNvSpPr/>
          <p:nvPr/>
        </p:nvSpPr>
        <p:spPr>
          <a:xfrm>
            <a:off x="5148360" y="3716280"/>
            <a:ext cx="2952720" cy="6494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5651640" y="3645000"/>
                <a:ext cx="19810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5" name="Прямоугольная выноска 8"/>
          <p:cNvSpPr/>
          <p:nvPr/>
        </p:nvSpPr>
        <p:spPr>
          <a:xfrm>
            <a:off x="5219640" y="4869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5316480" y="4849920"/>
                <a:ext cx="2727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ая выноска 10"/>
          <p:cNvSpPr/>
          <p:nvPr/>
        </p:nvSpPr>
        <p:spPr>
          <a:xfrm>
            <a:off x="5219640" y="5877000"/>
            <a:ext cx="2952720" cy="64764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5570640" y="5877000"/>
                <a:ext cx="22892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айдите тождественно равные выраже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Куб 8"/>
          <p:cNvSpPr/>
          <p:nvPr/>
        </p:nvSpPr>
        <p:spPr>
          <a:xfrm rot="20269800">
            <a:off x="676080" y="2198160"/>
            <a:ext cx="2174760" cy="1524240"/>
          </a:xfrm>
          <a:prstGeom prst="cube">
            <a:avLst>
              <a:gd name="adj" fmla="val 25000"/>
            </a:avLst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558972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Куб 11"/>
          <p:cNvSpPr/>
          <p:nvPr/>
        </p:nvSpPr>
        <p:spPr>
          <a:xfrm rot="2866200">
            <a:off x="6574320" y="1907280"/>
            <a:ext cx="1936800" cy="1792080"/>
          </a:xfrm>
          <a:prstGeom prst="cube">
            <a:avLst>
              <a:gd name="adj" fmla="val 25000"/>
            </a:avLst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Куб 12"/>
          <p:cNvSpPr/>
          <p:nvPr/>
        </p:nvSpPr>
        <p:spPr>
          <a:xfrm rot="4304400">
            <a:off x="6037920" y="4150440"/>
            <a:ext cx="1819080" cy="1674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Куб 13"/>
          <p:cNvSpPr/>
          <p:nvPr/>
        </p:nvSpPr>
        <p:spPr>
          <a:xfrm rot="4411800">
            <a:off x="635400" y="4418280"/>
            <a:ext cx="1622520" cy="1621080"/>
          </a:xfrm>
          <a:prstGeom prst="cube">
            <a:avLst>
              <a:gd name="adj" fmla="val 250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Куб 14"/>
          <p:cNvSpPr/>
          <p:nvPr/>
        </p:nvSpPr>
        <p:spPr>
          <a:xfrm rot="19308000">
            <a:off x="3219120" y="4055760"/>
            <a:ext cx="1727280" cy="18144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Куб 15"/>
          <p:cNvSpPr/>
          <p:nvPr/>
        </p:nvSpPr>
        <p:spPr>
          <a:xfrm rot="3345000">
            <a:off x="4084560" y="1687320"/>
            <a:ext cx="1709640" cy="1643040"/>
          </a:xfrm>
          <a:prstGeom prst="cube">
            <a:avLst>
              <a:gd name="adj" fmla="val 25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4211640" y="2205000"/>
                <a:ext cx="93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6254640" y="4822920"/>
                <a:ext cx="944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684360" y="2852640"/>
                <a:ext cx="18716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059280" y="4724280"/>
                <a:ext cx="2143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6670800" y="2600280"/>
                <a:ext cx="1060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826920" y="4869000"/>
                <a:ext cx="10605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а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Выгнутая вверх стрелка 22"/>
          <p:cNvSpPr/>
          <p:nvPr/>
        </p:nvSpPr>
        <p:spPr>
          <a:xfrm>
            <a:off x="1835280" y="1341360"/>
            <a:ext cx="5113080" cy="1235160"/>
          </a:xfrm>
          <a:custGeom>
            <a:avLst/>
            <a:gdLst>
              <a:gd name="textAreaLeft" fmla="*/ 1162440 w 5113080"/>
              <a:gd name="textAreaRight" fmla="*/ 3796560 w 5113080"/>
              <a:gd name="textAreaTop" fmla="*/ 165240 h 1235160"/>
              <a:gd name="textAreaBottom" fmla="*/ 1069920 h 123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21" hR="21600" stAng="10800000" swAng="5400000"/>
                <a:lnTo>
                  <a:pt x="11127" y="0"/>
                </a:lnTo>
                <a:arcTo wR="9821" hR="21600" stAng="-5400000" swAng="3624532"/>
                <a:lnTo>
                  <a:pt x="21288" y="16200"/>
                </a:lnTo>
                <a:lnTo>
                  <a:pt x="20295" y="21600"/>
                </a:lnTo>
                <a:lnTo>
                  <a:pt x="18678" y="16200"/>
                </a:lnTo>
                <a:lnTo>
                  <a:pt x="19330" y="16200"/>
                </a:lnTo>
                <a:arcTo wR="9821" hR="21600" stAng="-1775468" swAng="-3520405"/>
                <a:lnTo>
                  <a:pt x="10474" y="48"/>
                </a:lnTo>
                <a:arcTo wR="9821" hR="21600" stAng="-5504127" swAng="-5295873"/>
                <a:close/>
              </a:path>
              <a:path fill="darkenLess" w="21600" h="21600">
                <a:moveTo>
                  <a:pt x="0" y="21600"/>
                </a:moveTo>
                <a:arcTo wR="9821" hR="21600" stAng="10800000" swAng="5400000"/>
                <a:lnTo>
                  <a:pt x="9821" y="0"/>
                </a:lnTo>
                <a:arcTo wR="9821" hR="21600" stAng="-5400000" swAng="104127"/>
                <a:lnTo>
                  <a:pt x="10474" y="48"/>
                </a:lnTo>
                <a:arcTo wR="9821" hR="21600" stAng="-5504127" swAng="-5295873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Выгнутая влево стрелка 23"/>
          <p:cNvSpPr/>
          <p:nvPr/>
        </p:nvSpPr>
        <p:spPr>
          <a:xfrm>
            <a:off x="0" y="2565360"/>
            <a:ext cx="971640" cy="2664000"/>
          </a:xfrm>
          <a:custGeom>
            <a:avLst/>
            <a:gdLst>
              <a:gd name="textAreaLeft" fmla="*/ 129960 w 971640"/>
              <a:gd name="textAreaRight" fmla="*/ 841680 w 971640"/>
              <a:gd name="textAreaTop" fmla="*/ 574920 h 2664000"/>
              <a:gd name="textAreaBottom" fmla="*/ 196776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23" stAng="-5400000" swAng="-5400000"/>
                <a:lnTo>
                  <a:pt x="0" y="11293"/>
                </a:lnTo>
                <a:arcTo wR="21600" hR="9323" stAng="10800000" swAng="-3546707"/>
                <a:lnTo>
                  <a:pt x="16200" y="21304"/>
                </a:lnTo>
                <a:lnTo>
                  <a:pt x="21600" y="19631"/>
                </a:lnTo>
                <a:lnTo>
                  <a:pt x="16200" y="17366"/>
                </a:lnTo>
                <a:lnTo>
                  <a:pt x="16200" y="18350"/>
                </a:lnTo>
                <a:arcTo wR="21600" hR="9323" stAng="7253293" swAng="3389168"/>
                <a:lnTo>
                  <a:pt x="121" y="10308"/>
                </a:lnTo>
                <a:arcTo wR="21600" hR="9323" stAng="-10642460" swAng="5242460"/>
                <a:close/>
              </a:path>
              <a:path fill="darkenLess" w="21600" h="21600">
                <a:moveTo>
                  <a:pt x="21600" y="0"/>
                </a:moveTo>
                <a:arcTo wR="21600" hR="9323" stAng="-5400000" swAng="-5400000"/>
                <a:lnTo>
                  <a:pt x="0" y="9323"/>
                </a:lnTo>
                <a:arcTo wR="21600" hR="9323" stAng="10800000" swAng="-157540"/>
                <a:lnTo>
                  <a:pt x="121" y="10308"/>
                </a:lnTo>
                <a:arcTo wR="21600" hR="9323" stAng="-10642460" swAng="524246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гнутая вправо стрелка 24"/>
          <p:cNvSpPr/>
          <p:nvPr/>
        </p:nvSpPr>
        <p:spPr>
          <a:xfrm>
            <a:off x="4500720" y="3068640"/>
            <a:ext cx="1295280" cy="194472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364680 h 1944720"/>
              <a:gd name="textAreaBottom" fmla="*/ 141804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1" descr="H:\анимации мои\442.gif"/>
          <p:cNvPicPr/>
          <p:nvPr/>
        </p:nvPicPr>
        <p:blipFill>
          <a:blip r:embed="rId2"/>
          <a:stretch/>
        </p:blipFill>
        <p:spPr>
          <a:xfrm>
            <a:off x="179280" y="-243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C:\Users\Анастасия\Desktop\ШАБЛОНЫ для презентаций\фоны школьные\60a.jp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имените соответствующую формул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9700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=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 (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3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>
                <a:solidFill>
                  <a:srgbClr val="953735"/>
                </a:solidFill>
                <a:latin typeface="Symbol"/>
                <a:ea typeface="Symbol"/>
              </a:rPr>
              <a:t>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(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)</a:t>
            </a:r>
            <a:r>
              <a:rPr b="1" lang="ru-RU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=9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2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4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xy</a:t>
            </a:r>
            <a:r>
              <a:rPr b="1" lang="ru-RU" sz="3300" spc="-1" strike="noStrike">
                <a:solidFill>
                  <a:srgbClr val="953735"/>
                </a:solidFill>
                <a:latin typeface="Calibri"/>
              </a:rPr>
              <a:t>+16</a:t>
            </a:r>
            <a:r>
              <a:rPr b="1" lang="en-US" sz="33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1" lang="en-US" sz="3300" spc="-1" strike="noStrike" baseline="30000">
                <a:solidFill>
                  <a:srgbClr val="953735"/>
                </a:solidFill>
                <a:latin typeface="Calibri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-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(7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)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=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-2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8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dk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+49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k</a:t>
            </a:r>
            <a:r>
              <a:rPr b="1" lang="en-US" sz="3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(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-k)(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+k)=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(8d)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=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6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d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-k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2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+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5b-0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2a)=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=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25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-0,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04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1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9-144y</a:t>
            </a:r>
            <a:r>
              <a:rPr b="1" lang="ru-RU" sz="40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 = 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</a:t>
            </a:r>
            <a:r>
              <a:rPr b="1" lang="ru-RU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(12у)</a:t>
            </a:r>
            <a:r>
              <a:rPr b="1" lang="en-US" sz="4200" spc="-1" strike="noStrike" baseline="30000">
                <a:solidFill>
                  <a:srgbClr val="7030a0"/>
                </a:solidFill>
                <a:latin typeface="Calibri"/>
              </a:rPr>
              <a:t>2</a:t>
            </a:r>
            <a:r>
              <a:rPr b="1" lang="en-US" sz="3700" spc="-1" strike="noStrike">
                <a:solidFill>
                  <a:srgbClr val="7030a0"/>
                </a:solidFill>
                <a:latin typeface="Calibri"/>
              </a:rPr>
              <a:t> =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 (3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(</a:t>
            </a: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3+12у</a:t>
            </a:r>
            <a:r>
              <a:rPr b="1" lang="en-US" sz="4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4k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-(2k)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= 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+2k)(5m</a:t>
            </a:r>
            <a:r>
              <a:rPr b="1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2k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Горизонтальный свиток 10"/>
          <p:cNvSpPr/>
          <p:nvPr/>
        </p:nvSpPr>
        <p:spPr>
          <a:xfrm>
            <a:off x="2700360" y="105264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Горизонтальный свиток 11"/>
          <p:cNvSpPr/>
          <p:nvPr/>
        </p:nvSpPr>
        <p:spPr>
          <a:xfrm>
            <a:off x="2556000" y="1916280"/>
            <a:ext cx="6192720" cy="865080"/>
          </a:xfrm>
          <a:prstGeom prst="horizontalScroll">
            <a:avLst>
              <a:gd name="adj" fmla="val 125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Горизонтальный свиток 12"/>
          <p:cNvSpPr/>
          <p:nvPr/>
        </p:nvSpPr>
        <p:spPr>
          <a:xfrm>
            <a:off x="2987640" y="5084640"/>
            <a:ext cx="5977080" cy="865440"/>
          </a:xfrm>
          <a:prstGeom prst="horizontalScroll">
            <a:avLst>
              <a:gd name="adj" fmla="val 12500"/>
            </a:avLst>
          </a:prstGeom>
          <a:solidFill>
            <a:srgbClr val="fdea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Горизонтальный свиток 13"/>
          <p:cNvSpPr/>
          <p:nvPr/>
        </p:nvSpPr>
        <p:spPr>
          <a:xfrm>
            <a:off x="2951280" y="4437000"/>
            <a:ext cx="6192720" cy="863640"/>
          </a:xfrm>
          <a:prstGeom prst="horizontalScroll">
            <a:avLst>
              <a:gd name="adj" fmla="val 1250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Горизонтальный свиток 14"/>
          <p:cNvSpPr/>
          <p:nvPr/>
        </p:nvSpPr>
        <p:spPr>
          <a:xfrm>
            <a:off x="3492360" y="2637000"/>
            <a:ext cx="3959280" cy="86328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Горизонтальный свиток 15"/>
          <p:cNvSpPr/>
          <p:nvPr/>
        </p:nvSpPr>
        <p:spPr>
          <a:xfrm>
            <a:off x="5292720" y="3357720"/>
            <a:ext cx="3311640" cy="863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Горизонтальный свиток 16"/>
          <p:cNvSpPr/>
          <p:nvPr/>
        </p:nvSpPr>
        <p:spPr>
          <a:xfrm>
            <a:off x="1116000" y="3933720"/>
            <a:ext cx="3311640" cy="719280"/>
          </a:xfrm>
          <a:prstGeom prst="horizontalScroll">
            <a:avLst>
              <a:gd name="adj" fmla="val 1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3:30:10Z</dcterms:created>
  <dc:creator>Анастасия</dc:creator>
  <dc:description/>
  <dc:language>en-US</dc:language>
  <cp:lastModifiedBy>Pter</cp:lastModifiedBy>
  <dcterms:modified xsi:type="dcterms:W3CDTF">2012-03-24T09:43:46Z</dcterms:modified>
  <cp:revision>33</cp:revision>
  <dc:subject/>
  <dc:title>Слайд 1</dc:title>
</cp:coreProperties>
</file>