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D000-730A-4DBE-9A10-8B4B1FEB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AE9-9FE3-4B50-8005-5D3731D8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C18-7D22-4D1C-AD6B-17F1DD94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7D8-540B-427D-B9C8-6C2D195E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754-025B-4DCF-8949-CA8839EF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555-EB36-43D9-B421-4EFF27D6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1F2-37C2-4E0B-91C1-C6B61B88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8BD2-8B9A-47D8-8D09-E3FB790B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197-92E9-42FA-AA54-EF45D7C4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F26-9720-4999-B475-B9230178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5353-BF43-42CE-8BEA-E9E57537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338F-7403-41C2-8533-FD472055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8E21-33B4-45BB-8993-0856C80523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Формулы сокращенного умнож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Автор: учитель математики МОУ СОШ № 57 г.Астрах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урило М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3" descr="ANTN027"/>
          <p:cNvPicPr/>
          <p:nvPr/>
        </p:nvPicPr>
        <p:blipFill>
          <a:blip r:embed="rId2"/>
          <a:stretch/>
        </p:blipFill>
        <p:spPr>
          <a:xfrm>
            <a:off x="6673680" y="4508640"/>
            <a:ext cx="2470320" cy="234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анимации мои\442.gif"/>
          <p:cNvPicPr/>
          <p:nvPr/>
        </p:nvPicPr>
        <p:blipFill>
          <a:blip r:embed="rId3"/>
          <a:stretch/>
        </p:blipFill>
        <p:spPr>
          <a:xfrm>
            <a:off x="3924360" y="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Monotype Corsiva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" descr="C:\Users\Анастасия\Desktop\анимашки\163163568.jpg"/>
          <p:cNvPicPr/>
          <p:nvPr/>
        </p:nvPicPr>
        <p:blipFill>
          <a:blip r:embed="rId2"/>
          <a:stretch/>
        </p:blipFill>
        <p:spPr>
          <a:xfrm>
            <a:off x="7723080" y="189000"/>
            <a:ext cx="1420920" cy="1009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55162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C:\Users\Анастасия\Desktop\5_3md_wht.gif"/>
          <p:cNvPicPr/>
          <p:nvPr/>
        </p:nvPicPr>
        <p:blipFill>
          <a:blip r:embed="rId3"/>
          <a:stretch/>
        </p:blipFill>
        <p:spPr>
          <a:xfrm>
            <a:off x="2916360" y="2276640"/>
            <a:ext cx="1077840" cy="1438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Анастасия\Desktop\5_3md_wht.gif"/>
          <p:cNvPicPr/>
          <p:nvPr/>
        </p:nvPicPr>
        <p:blipFill>
          <a:blip r:embed="rId4"/>
          <a:stretch/>
        </p:blipFill>
        <p:spPr>
          <a:xfrm rot="19104000">
            <a:off x="1241280" y="4266720"/>
            <a:ext cx="1059120" cy="1411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:\Users\Анастасия\Desktop\5_3md_wht.gif"/>
          <p:cNvPicPr/>
          <p:nvPr/>
        </p:nvPicPr>
        <p:blipFill>
          <a:blip r:embed="rId5"/>
          <a:stretch/>
        </p:blipFill>
        <p:spPr>
          <a:xfrm>
            <a:off x="4859280" y="3789360"/>
            <a:ext cx="1185840" cy="1579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Users\Анастасия\Desktop\5_3md_wht.gif"/>
          <p:cNvPicPr/>
          <p:nvPr/>
        </p:nvPicPr>
        <p:blipFill>
          <a:blip r:embed="rId6"/>
          <a:stretch/>
        </p:blipFill>
        <p:spPr>
          <a:xfrm rot="2141400">
            <a:off x="7303680" y="4237200"/>
            <a:ext cx="960480" cy="1280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:\Users\Анастасия\Desktop\5_1md_wht.gif"/>
          <p:cNvPicPr/>
          <p:nvPr/>
        </p:nvPicPr>
        <p:blipFill>
          <a:blip r:embed="rId7"/>
          <a:stretch/>
        </p:blipFill>
        <p:spPr>
          <a:xfrm rot="2437800">
            <a:off x="7065720" y="1815840"/>
            <a:ext cx="1317600" cy="1647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C:\Users\Анастасия\Desktop\5_1md_wht.gif"/>
          <p:cNvPicPr/>
          <p:nvPr/>
        </p:nvPicPr>
        <p:blipFill>
          <a:blip r:embed="rId8"/>
          <a:stretch/>
        </p:blipFill>
        <p:spPr>
          <a:xfrm rot="18729600">
            <a:off x="600840" y="1962720"/>
            <a:ext cx="130644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вадрат суммы (разности) двух выражений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9640" y="184464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  <a:ea typeface="Arial"/>
              </a:rPr>
              <a:t>±2ab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+b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50920" y="1125360"/>
            <a:ext cx="87138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050920" y="4581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-b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5400" spc="-1" strike="noStrike" baseline="30000">
                <a:solidFill>
                  <a:srgbClr val="002060"/>
                </a:solidFill>
                <a:latin typeface="Calibri"/>
              </a:rPr>
              <a:t>=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)(а+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0" y="2997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Разность квадратов двух выражений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3" name="6-конечная звезда 14"/>
          <p:cNvSpPr/>
          <p:nvPr/>
        </p:nvSpPr>
        <p:spPr>
          <a:xfrm>
            <a:off x="658800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6-конечная звезда 15"/>
          <p:cNvSpPr/>
          <p:nvPr/>
        </p:nvSpPr>
        <p:spPr>
          <a:xfrm>
            <a:off x="543564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6-конечная звезда 13"/>
          <p:cNvSpPr/>
          <p:nvPr/>
        </p:nvSpPr>
        <p:spPr>
          <a:xfrm>
            <a:off x="2411280" y="32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6-конечная звезда 12"/>
          <p:cNvSpPr/>
          <p:nvPr/>
        </p:nvSpPr>
        <p:spPr>
          <a:xfrm>
            <a:off x="464328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6-конечная звезда 11"/>
          <p:cNvSpPr/>
          <p:nvPr/>
        </p:nvSpPr>
        <p:spPr>
          <a:xfrm>
            <a:off x="291636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6-конечная звезда 10"/>
          <p:cNvSpPr/>
          <p:nvPr/>
        </p:nvSpPr>
        <p:spPr>
          <a:xfrm>
            <a:off x="1619280" y="32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6-конечная звезда 6"/>
          <p:cNvSpPr/>
          <p:nvPr/>
        </p:nvSpPr>
        <p:spPr>
          <a:xfrm>
            <a:off x="5292720" y="220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6-конечная звезда 5"/>
          <p:cNvSpPr/>
          <p:nvPr/>
        </p:nvSpPr>
        <p:spPr>
          <a:xfrm>
            <a:off x="2268360" y="14842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6-конечная звезда 4"/>
          <p:cNvSpPr/>
          <p:nvPr/>
        </p:nvSpPr>
        <p:spPr>
          <a:xfrm>
            <a:off x="421164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6-конечная звезда 7"/>
          <p:cNvSpPr/>
          <p:nvPr/>
        </p:nvSpPr>
        <p:spPr>
          <a:xfrm>
            <a:off x="341964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6-конечная звезда 8"/>
          <p:cNvSpPr/>
          <p:nvPr/>
        </p:nvSpPr>
        <p:spPr>
          <a:xfrm>
            <a:off x="169236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6-конечная звезда 9"/>
          <p:cNvSpPr/>
          <p:nvPr/>
        </p:nvSpPr>
        <p:spPr>
          <a:xfrm>
            <a:off x="1403280" y="14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Квадрат суммы (разности) двух выражений: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±2ab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+b</a:t>
            </a:r>
            <a:r>
              <a:rPr b="1" lang="en-US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>
                <a:solidFill>
                  <a:srgbClr val="e46c0a"/>
                </a:solidFill>
                <a:latin typeface="Calibri"/>
                <a:ea typeface="Arial"/>
              </a:rPr>
              <a:t>+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  <a:ea typeface="Arial"/>
              </a:rPr>
              <a:t>4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e46c0a"/>
                </a:solidFill>
                <a:latin typeface="Calibri"/>
              </a:rPr>
              <a:t>+</a:t>
            </a: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4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+(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4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 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1" lang="en-US" sz="4900" spc="-1" strike="noStrike">
                <a:solidFill>
                  <a:srgbClr val="e46c0a"/>
                </a:solidFill>
                <a:latin typeface="Calibri"/>
                <a:ea typeface="Arial"/>
              </a:rPr>
              <a:t>-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  <a:ea typeface="Arial"/>
              </a:rPr>
              <a:t>3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c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900" spc="-1" strike="noStrike">
                <a:solidFill>
                  <a:srgbClr val="e46c0a"/>
                </a:solidFill>
                <a:latin typeface="Calibri"/>
              </a:rPr>
              <a:t>-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3c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+(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3c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                             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H:\анимации мои\442.gif"/>
          <p:cNvPicPr/>
          <p:nvPr/>
        </p:nvPicPr>
        <p:blipFill>
          <a:blip r:embed="rId2"/>
          <a:stretch/>
        </p:blipFill>
        <p:spPr>
          <a:xfrm>
            <a:off x="324000" y="4941720"/>
            <a:ext cx="10382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69" name="6-конечная звезда 8"/>
          <p:cNvSpPr/>
          <p:nvPr/>
        </p:nvSpPr>
        <p:spPr>
          <a:xfrm>
            <a:off x="4284720" y="4653000"/>
            <a:ext cx="841320" cy="863640"/>
          </a:xfrm>
          <a:custGeom>
            <a:avLst/>
            <a:gdLst/>
            <a:ahLst/>
            <a:rect l="l" t="t" r="r" b="b"/>
            <a:pathLst>
              <a:path w="842392" h="864096">
                <a:moveTo>
                  <a:pt x="0" y="216024"/>
                </a:moveTo>
                <a:lnTo>
                  <a:pt x="280795" y="216020"/>
                </a:lnTo>
                <a:lnTo>
                  <a:pt x="421196" y="0"/>
                </a:lnTo>
                <a:lnTo>
                  <a:pt x="561597" y="216020"/>
                </a:lnTo>
                <a:lnTo>
                  <a:pt x="842392" y="216024"/>
                </a:lnTo>
                <a:lnTo>
                  <a:pt x="701998" y="432048"/>
                </a:lnTo>
                <a:lnTo>
                  <a:pt x="842392" y="648072"/>
                </a:lnTo>
                <a:lnTo>
                  <a:pt x="561597" y="648076"/>
                </a:lnTo>
                <a:lnTo>
                  <a:pt x="421196" y="864096"/>
                </a:lnTo>
                <a:lnTo>
                  <a:pt x="280795" y="648076"/>
                </a:lnTo>
                <a:lnTo>
                  <a:pt x="0" y="648072"/>
                </a:lnTo>
                <a:lnTo>
                  <a:pt x="140394" y="432048"/>
                </a:lnTo>
                <a:lnTo>
                  <a:pt x="0" y="216024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6-конечная звезда 15"/>
          <p:cNvSpPr/>
          <p:nvPr/>
        </p:nvSpPr>
        <p:spPr>
          <a:xfrm>
            <a:off x="673272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6-конечная звезда 9"/>
          <p:cNvSpPr/>
          <p:nvPr/>
        </p:nvSpPr>
        <p:spPr>
          <a:xfrm>
            <a:off x="579600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6-конечная звезда 14"/>
          <p:cNvSpPr/>
          <p:nvPr/>
        </p:nvSpPr>
        <p:spPr>
          <a:xfrm>
            <a:off x="4211640" y="765000"/>
            <a:ext cx="792000" cy="719280"/>
          </a:xfrm>
          <a:custGeom>
            <a:avLst/>
            <a:gdLst/>
            <a:ahLst/>
            <a:rect l="l" t="t" r="r" b="b"/>
            <a:pathLst>
              <a:path w="792088" h="720080">
                <a:moveTo>
                  <a:pt x="0" y="180020"/>
                </a:moveTo>
                <a:lnTo>
                  <a:pt x="264027" y="180017"/>
                </a:lnTo>
                <a:lnTo>
                  <a:pt x="396044" y="0"/>
                </a:lnTo>
                <a:lnTo>
                  <a:pt x="528061" y="180017"/>
                </a:lnTo>
                <a:lnTo>
                  <a:pt x="792088" y="180020"/>
                </a:lnTo>
                <a:lnTo>
                  <a:pt x="660078" y="360040"/>
                </a:lnTo>
                <a:lnTo>
                  <a:pt x="792088" y="540060"/>
                </a:lnTo>
                <a:lnTo>
                  <a:pt x="528061" y="540063"/>
                </a:lnTo>
                <a:lnTo>
                  <a:pt x="396044" y="720080"/>
                </a:lnTo>
                <a:lnTo>
                  <a:pt x="264027" y="540063"/>
                </a:lnTo>
                <a:lnTo>
                  <a:pt x="0" y="540060"/>
                </a:lnTo>
                <a:lnTo>
                  <a:pt x="132010" y="360040"/>
                </a:lnTo>
                <a:lnTo>
                  <a:pt x="0" y="18002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6-конечная звезда 10"/>
          <p:cNvSpPr/>
          <p:nvPr/>
        </p:nvSpPr>
        <p:spPr>
          <a:xfrm>
            <a:off x="3492360" y="4724280"/>
            <a:ext cx="792360" cy="720720"/>
          </a:xfrm>
          <a:custGeom>
            <a:avLst/>
            <a:gdLst/>
            <a:ahLst/>
            <a:rect l="l" t="t" r="r" b="b"/>
            <a:pathLst>
              <a:path w="792088" h="720080">
                <a:moveTo>
                  <a:pt x="0" y="180020"/>
                </a:moveTo>
                <a:lnTo>
                  <a:pt x="264027" y="180017"/>
                </a:lnTo>
                <a:lnTo>
                  <a:pt x="396044" y="0"/>
                </a:lnTo>
                <a:lnTo>
                  <a:pt x="528061" y="180017"/>
                </a:lnTo>
                <a:lnTo>
                  <a:pt x="792088" y="180020"/>
                </a:lnTo>
                <a:lnTo>
                  <a:pt x="660078" y="360040"/>
                </a:lnTo>
                <a:lnTo>
                  <a:pt x="792088" y="540060"/>
                </a:lnTo>
                <a:lnTo>
                  <a:pt x="528061" y="540063"/>
                </a:lnTo>
                <a:lnTo>
                  <a:pt x="396044" y="720080"/>
                </a:lnTo>
                <a:lnTo>
                  <a:pt x="264027" y="540063"/>
                </a:lnTo>
                <a:lnTo>
                  <a:pt x="0" y="540060"/>
                </a:lnTo>
                <a:lnTo>
                  <a:pt x="132010" y="360040"/>
                </a:lnTo>
                <a:lnTo>
                  <a:pt x="0" y="18002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6-конечная звезда 11"/>
          <p:cNvSpPr/>
          <p:nvPr/>
        </p:nvSpPr>
        <p:spPr>
          <a:xfrm>
            <a:off x="500364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6-конечная звезда 12"/>
          <p:cNvSpPr/>
          <p:nvPr/>
        </p:nvSpPr>
        <p:spPr>
          <a:xfrm>
            <a:off x="2411280" y="765000"/>
            <a:ext cx="698760" cy="792360"/>
          </a:xfrm>
          <a:custGeom>
            <a:avLst/>
            <a:gdLst/>
            <a:ahLst/>
            <a:rect l="l" t="t" r="r" b="b"/>
            <a:pathLst>
              <a:path w="698376" h="792088">
                <a:moveTo>
                  <a:pt x="0" y="198022"/>
                </a:moveTo>
                <a:lnTo>
                  <a:pt x="232790" y="198019"/>
                </a:lnTo>
                <a:lnTo>
                  <a:pt x="349188" y="0"/>
                </a:lnTo>
                <a:lnTo>
                  <a:pt x="465586" y="198019"/>
                </a:lnTo>
                <a:lnTo>
                  <a:pt x="698376" y="198022"/>
                </a:lnTo>
                <a:lnTo>
                  <a:pt x="581984" y="396044"/>
                </a:lnTo>
                <a:lnTo>
                  <a:pt x="698376" y="594066"/>
                </a:lnTo>
                <a:lnTo>
                  <a:pt x="465586" y="594069"/>
                </a:lnTo>
                <a:lnTo>
                  <a:pt x="349188" y="792088"/>
                </a:lnTo>
                <a:lnTo>
                  <a:pt x="232790" y="594069"/>
                </a:lnTo>
                <a:lnTo>
                  <a:pt x="0" y="594066"/>
                </a:lnTo>
                <a:lnTo>
                  <a:pt x="116392" y="396044"/>
                </a:lnTo>
                <a:lnTo>
                  <a:pt x="0" y="19802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6-конечная звезда 13"/>
          <p:cNvSpPr/>
          <p:nvPr/>
        </p:nvSpPr>
        <p:spPr>
          <a:xfrm>
            <a:off x="349236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b+b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=(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57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5f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20fz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5f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5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z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(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z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5f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2z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3" descr="ANTN027"/>
          <p:cNvPicPr/>
          <p:nvPr/>
        </p:nvPicPr>
        <p:blipFill>
          <a:blip r:embed="rId2"/>
          <a:stretch/>
        </p:blipFill>
        <p:spPr>
          <a:xfrm>
            <a:off x="468360" y="4508640"/>
            <a:ext cx="228924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81" name="6-конечная звезда 15"/>
          <p:cNvSpPr/>
          <p:nvPr/>
        </p:nvSpPr>
        <p:spPr>
          <a:xfrm>
            <a:off x="320364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6-конечная звезда 13"/>
          <p:cNvSpPr/>
          <p:nvPr/>
        </p:nvSpPr>
        <p:spPr>
          <a:xfrm>
            <a:off x="7093080" y="4437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6-конечная звезда 10"/>
          <p:cNvSpPr/>
          <p:nvPr/>
        </p:nvSpPr>
        <p:spPr>
          <a:xfrm>
            <a:off x="521964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6-конечная звезда 9"/>
          <p:cNvSpPr/>
          <p:nvPr/>
        </p:nvSpPr>
        <p:spPr>
          <a:xfrm>
            <a:off x="3924360" y="3789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6-конечная звезда 14"/>
          <p:cNvSpPr/>
          <p:nvPr/>
        </p:nvSpPr>
        <p:spPr>
          <a:xfrm>
            <a:off x="586728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6-конечная звезда 11"/>
          <p:cNvSpPr/>
          <p:nvPr/>
        </p:nvSpPr>
        <p:spPr>
          <a:xfrm>
            <a:off x="428472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6-конечная звезда 12"/>
          <p:cNvSpPr/>
          <p:nvPr/>
        </p:nvSpPr>
        <p:spPr>
          <a:xfrm>
            <a:off x="2627280" y="3860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6-конечная звезда 4"/>
          <p:cNvSpPr/>
          <p:nvPr/>
        </p:nvSpPr>
        <p:spPr>
          <a:xfrm>
            <a:off x="5076720" y="256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6-конечная звезда 3"/>
          <p:cNvSpPr/>
          <p:nvPr/>
        </p:nvSpPr>
        <p:spPr>
          <a:xfrm>
            <a:off x="161928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6-конечная звезда 8"/>
          <p:cNvSpPr/>
          <p:nvPr/>
        </p:nvSpPr>
        <p:spPr>
          <a:xfrm>
            <a:off x="234000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6-конечная звезда 7"/>
          <p:cNvSpPr/>
          <p:nvPr/>
        </p:nvSpPr>
        <p:spPr>
          <a:xfrm>
            <a:off x="3924360" y="256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6-конечная звезда 6"/>
          <p:cNvSpPr/>
          <p:nvPr/>
        </p:nvSpPr>
        <p:spPr>
          <a:xfrm>
            <a:off x="75564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Разность квадратов двух выражений: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-b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 baseline="30000">
                <a:solidFill>
                  <a:srgbClr val="002060"/>
                </a:solidFill>
                <a:latin typeface="Calibri"/>
              </a:rPr>
              <a:t>=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)(а+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)=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16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9k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(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H:\анимации мои\442.gif"/>
          <p:cNvPicPr/>
          <p:nvPr/>
        </p:nvPicPr>
        <p:blipFill>
          <a:blip r:embed="rId2"/>
          <a:stretch/>
        </p:blipFill>
        <p:spPr>
          <a:xfrm>
            <a:off x="684360" y="5013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ая соединительная линия 20"/>
          <p:cNvSpPr/>
          <p:nvPr/>
        </p:nvSpPr>
        <p:spPr>
          <a:xfrm>
            <a:off x="4859280" y="3068640"/>
            <a:ext cx="28908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98" name="Овал 3"/>
          <p:cNvSpPr/>
          <p:nvPr/>
        </p:nvSpPr>
        <p:spPr>
          <a:xfrm>
            <a:off x="4140360" y="3716280"/>
            <a:ext cx="576000" cy="50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Найдите ошиб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)(0,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1b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0,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)</a:t>
            </a:r>
            <a:r>
              <a:rPr b="1" lang="ru-RU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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6a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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0,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(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 0,3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</a:t>
            </a:r>
            <a:r>
              <a:rPr b="1" lang="ru-RU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,2а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0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) (7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+3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)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(7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-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) =(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у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-(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7х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 )=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9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49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3851280" y="3141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Выгнутая влево стрелка 15"/>
          <p:cNvSpPr/>
          <p:nvPr/>
        </p:nvSpPr>
        <p:spPr>
          <a:xfrm rot="16200000">
            <a:off x="4240080" y="5039640"/>
            <a:ext cx="469800" cy="1216080"/>
          </a:xfrm>
          <a:custGeom>
            <a:avLst/>
            <a:gdLst>
              <a:gd name="textAreaLeft" fmla="*/ 62640 w 469800"/>
              <a:gd name="textAreaRight" fmla="*/ 407160 w 469800"/>
              <a:gd name="textAreaTop" fmla="*/ 259920 h 1216080"/>
              <a:gd name="textAreaBottom" fmla="*/ 89748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0" stAng="-5400000" swAng="-5400000"/>
                <a:lnTo>
                  <a:pt x="0" y="11321"/>
                </a:lnTo>
                <a:arcTo wR="21600" hR="9240" stAng="10800000" swAng="-3533053"/>
                <a:lnTo>
                  <a:pt x="16200" y="21307"/>
                </a:lnTo>
                <a:lnTo>
                  <a:pt x="21600" y="19520"/>
                </a:lnTo>
                <a:lnTo>
                  <a:pt x="16200" y="17146"/>
                </a:lnTo>
                <a:lnTo>
                  <a:pt x="16200" y="18186"/>
                </a:lnTo>
                <a:arcTo wR="21600" hR="9240" stAng="7266947" swAng="3366522"/>
                <a:lnTo>
                  <a:pt x="137" y="10280"/>
                </a:lnTo>
                <a:arcTo wR="21600" hR="9240" stAng="-10633469" swAng="5233469"/>
                <a:close/>
              </a:path>
              <a:path fill="darkenLess" w="21600" h="21600">
                <a:moveTo>
                  <a:pt x="21600" y="0"/>
                </a:moveTo>
                <a:arcTo wR="21600" hR="9240" stAng="-5400000" swAng="-5400000"/>
                <a:lnTo>
                  <a:pt x="0" y="9240"/>
                </a:lnTo>
                <a:arcTo wR="21600" hR="9240" stAng="10800000" swAng="-166531"/>
                <a:lnTo>
                  <a:pt x="137" y="10280"/>
                </a:lnTo>
                <a:arcTo wR="21600" hR="9240" stAng="-10633469" swAng="523346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Выгнутая влево стрелка 16"/>
          <p:cNvSpPr/>
          <p:nvPr/>
        </p:nvSpPr>
        <p:spPr>
          <a:xfrm rot="5400000">
            <a:off x="4224240" y="4135320"/>
            <a:ext cx="469800" cy="1216080"/>
          </a:xfrm>
          <a:custGeom>
            <a:avLst/>
            <a:gdLst>
              <a:gd name="textAreaLeft" fmla="*/ 62640 w 469800"/>
              <a:gd name="textAreaRight" fmla="*/ 407160 w 469800"/>
              <a:gd name="textAreaTop" fmla="*/ 259920 h 1216080"/>
              <a:gd name="textAreaBottom" fmla="*/ 89748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0" stAng="-5400000" swAng="-5400000"/>
                <a:lnTo>
                  <a:pt x="0" y="11321"/>
                </a:lnTo>
                <a:arcTo wR="21600" hR="9240" stAng="10800000" swAng="-3533053"/>
                <a:lnTo>
                  <a:pt x="16200" y="21307"/>
                </a:lnTo>
                <a:lnTo>
                  <a:pt x="21600" y="19520"/>
                </a:lnTo>
                <a:lnTo>
                  <a:pt x="16200" y="17146"/>
                </a:lnTo>
                <a:lnTo>
                  <a:pt x="16200" y="18186"/>
                </a:lnTo>
                <a:arcTo wR="21600" hR="9240" stAng="7266947" swAng="3366522"/>
                <a:lnTo>
                  <a:pt x="137" y="10280"/>
                </a:lnTo>
                <a:arcTo wR="21600" hR="9240" stAng="-10633469" swAng="5233469"/>
                <a:close/>
              </a:path>
              <a:path fill="darkenLess" w="21600" h="21600">
                <a:moveTo>
                  <a:pt x="21600" y="0"/>
                </a:moveTo>
                <a:arcTo wR="21600" hR="9240" stAng="-5400000" swAng="-5400000"/>
                <a:lnTo>
                  <a:pt x="0" y="9240"/>
                </a:lnTo>
                <a:arcTo wR="21600" hR="9240" stAng="10800000" swAng="-166531"/>
                <a:lnTo>
                  <a:pt x="137" y="10280"/>
                </a:lnTo>
                <a:arcTo wR="21600" hR="9240" stAng="-10633469" swAng="523346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18"/>
          <p:cNvSpPr/>
          <p:nvPr/>
        </p:nvSpPr>
        <p:spPr>
          <a:xfrm>
            <a:off x="5796000" y="4724280"/>
            <a:ext cx="1224000" cy="865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20"/>
          <p:cNvSpPr/>
          <p:nvPr/>
        </p:nvSpPr>
        <p:spPr>
          <a:xfrm flipV="1">
            <a:off x="5867280" y="4653000"/>
            <a:ext cx="1297080" cy="1008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7236000" y="4861080"/>
                <a:ext cx="165708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7" name="Picture 5" descr="C:\Users\Анастасия\Desktop\МАМА\анимашки\Картинки и анимашки на школьную тему\teacher.jpg"/>
          <p:cNvPicPr/>
          <p:nvPr/>
        </p:nvPicPr>
        <p:blipFill>
          <a:blip r:embed="rId2"/>
          <a:stretch/>
        </p:blipFill>
        <p:spPr>
          <a:xfrm>
            <a:off x="539640" y="1484280"/>
            <a:ext cx="13683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пишите в виде выраж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ведение суммы двух выражени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х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y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х  разности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ведение разности двух выражений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3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5b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и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м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драт суммы двух выражений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7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ность квадратов двух выражений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5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3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драт разности двух выражений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6b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ая выноска 4"/>
          <p:cNvSpPr/>
          <p:nvPr/>
        </p:nvSpPr>
        <p:spPr>
          <a:xfrm>
            <a:off x="5076720" y="1557360"/>
            <a:ext cx="295128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2х+у)(2х-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ая выноска 5"/>
          <p:cNvSpPr/>
          <p:nvPr/>
        </p:nvSpPr>
        <p:spPr>
          <a:xfrm>
            <a:off x="5219640" y="2637000"/>
            <a:ext cx="2952720" cy="57600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3а-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ая выноска 6"/>
          <p:cNvSpPr/>
          <p:nvPr/>
        </p:nvSpPr>
        <p:spPr>
          <a:xfrm>
            <a:off x="5148360" y="3716280"/>
            <a:ext cx="2952720" cy="6494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9"/>
              <p:cNvSpPr txBox="1"/>
              <p:nvPr/>
            </p:nvSpPr>
            <p:spPr>
              <a:xfrm>
                <a:off x="5651640" y="3645000"/>
                <a:ext cx="19810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Прямоугольная выноска 8"/>
          <p:cNvSpPr/>
          <p:nvPr/>
        </p:nvSpPr>
        <p:spPr>
          <a:xfrm>
            <a:off x="5219640" y="4869000"/>
            <a:ext cx="295272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5316480" y="4849920"/>
                <a:ext cx="2727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Прямоугольная выноска 10"/>
          <p:cNvSpPr/>
          <p:nvPr/>
        </p:nvSpPr>
        <p:spPr>
          <a:xfrm>
            <a:off x="5219640" y="5877000"/>
            <a:ext cx="295272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5570640" y="5877000"/>
                <a:ext cx="22892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Найдите тождественно равные выраж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Куб 8"/>
          <p:cNvSpPr/>
          <p:nvPr/>
        </p:nvSpPr>
        <p:spPr>
          <a:xfrm rot="20269800">
            <a:off x="676080" y="2198160"/>
            <a:ext cx="2174760" cy="1524240"/>
          </a:xfrm>
          <a:prstGeom prst="cube">
            <a:avLst>
              <a:gd name="adj" fmla="val 25000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Куб 11"/>
          <p:cNvSpPr/>
          <p:nvPr/>
        </p:nvSpPr>
        <p:spPr>
          <a:xfrm rot="2866200">
            <a:off x="6574320" y="1907280"/>
            <a:ext cx="1936800" cy="1792080"/>
          </a:xfrm>
          <a:prstGeom prst="cube">
            <a:avLst>
              <a:gd name="adj" fmla="val 25000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Куб 12"/>
          <p:cNvSpPr/>
          <p:nvPr/>
        </p:nvSpPr>
        <p:spPr>
          <a:xfrm rot="4304400">
            <a:off x="6037920" y="4150440"/>
            <a:ext cx="1819080" cy="1674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Куб 13"/>
          <p:cNvSpPr/>
          <p:nvPr/>
        </p:nvSpPr>
        <p:spPr>
          <a:xfrm rot="4411800">
            <a:off x="635400" y="4418280"/>
            <a:ext cx="1622520" cy="1621080"/>
          </a:xfrm>
          <a:prstGeom prst="cube">
            <a:avLst>
              <a:gd name="adj" fmla="val 250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Куб 14"/>
          <p:cNvSpPr/>
          <p:nvPr/>
        </p:nvSpPr>
        <p:spPr>
          <a:xfrm rot="19308000">
            <a:off x="3219120" y="4055760"/>
            <a:ext cx="1727280" cy="181440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Куб 15"/>
          <p:cNvSpPr/>
          <p:nvPr/>
        </p:nvSpPr>
        <p:spPr>
          <a:xfrm rot="3345000">
            <a:off x="4084560" y="1687320"/>
            <a:ext cx="1709640" cy="164304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4211640" y="2205000"/>
                <a:ext cx="936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6254640" y="4822920"/>
                <a:ext cx="944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2"/>
              <p:cNvSpPr txBox="1"/>
              <p:nvPr/>
            </p:nvSpPr>
            <p:spPr>
              <a:xfrm>
                <a:off x="684360" y="2852640"/>
                <a:ext cx="18716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3059280" y="4724280"/>
                <a:ext cx="2143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6670800" y="2600280"/>
                <a:ext cx="10602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826920" y="4869000"/>
                <a:ext cx="106056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а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Выгнутая вверх стрелка 22"/>
          <p:cNvSpPr/>
          <p:nvPr/>
        </p:nvSpPr>
        <p:spPr>
          <a:xfrm>
            <a:off x="1835280" y="1341360"/>
            <a:ext cx="5113080" cy="1235160"/>
          </a:xfrm>
          <a:custGeom>
            <a:avLst/>
            <a:gdLst>
              <a:gd name="textAreaLeft" fmla="*/ 1162440 w 5113080"/>
              <a:gd name="textAreaRight" fmla="*/ 3796560 w 5113080"/>
              <a:gd name="textAreaTop" fmla="*/ 165240 h 1235160"/>
              <a:gd name="textAreaBottom" fmla="*/ 1069920 h 1235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21" hR="21600" stAng="10800000" swAng="5400000"/>
                <a:lnTo>
                  <a:pt x="11127" y="0"/>
                </a:lnTo>
                <a:arcTo wR="9821" hR="21600" stAng="-5400000" swAng="3624532"/>
                <a:lnTo>
                  <a:pt x="21288" y="16200"/>
                </a:lnTo>
                <a:lnTo>
                  <a:pt x="20295" y="21600"/>
                </a:lnTo>
                <a:lnTo>
                  <a:pt x="18678" y="16200"/>
                </a:lnTo>
                <a:lnTo>
                  <a:pt x="19330" y="16200"/>
                </a:lnTo>
                <a:arcTo wR="9821" hR="21600" stAng="-1775468" swAng="-3520405"/>
                <a:lnTo>
                  <a:pt x="10474" y="48"/>
                </a:lnTo>
                <a:arcTo wR="9821" hR="21600" stAng="-5504127" swAng="-5295873"/>
                <a:close/>
              </a:path>
              <a:path fill="darkenLess" w="21600" h="21600">
                <a:moveTo>
                  <a:pt x="0" y="21600"/>
                </a:moveTo>
                <a:arcTo wR="9821" hR="21600" stAng="10800000" swAng="5400000"/>
                <a:lnTo>
                  <a:pt x="9821" y="0"/>
                </a:lnTo>
                <a:arcTo wR="9821" hR="21600" stAng="-5400000" swAng="104127"/>
                <a:lnTo>
                  <a:pt x="10474" y="48"/>
                </a:lnTo>
                <a:arcTo wR="9821" hR="21600" stAng="-5504127" swAng="-5295873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Выгнутая влево стрелка 23"/>
          <p:cNvSpPr/>
          <p:nvPr/>
        </p:nvSpPr>
        <p:spPr>
          <a:xfrm>
            <a:off x="0" y="2565360"/>
            <a:ext cx="971640" cy="2664000"/>
          </a:xfrm>
          <a:custGeom>
            <a:avLst/>
            <a:gdLst>
              <a:gd name="textAreaLeft" fmla="*/ 129960 w 971640"/>
              <a:gd name="textAreaRight" fmla="*/ 841680 w 971640"/>
              <a:gd name="textAreaTop" fmla="*/ 574920 h 2664000"/>
              <a:gd name="textAreaBottom" fmla="*/ 196776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23" stAng="-5400000" swAng="-5400000"/>
                <a:lnTo>
                  <a:pt x="0" y="11293"/>
                </a:lnTo>
                <a:arcTo wR="21600" hR="9323" stAng="10800000" swAng="-3546707"/>
                <a:lnTo>
                  <a:pt x="16200" y="21304"/>
                </a:lnTo>
                <a:lnTo>
                  <a:pt x="21600" y="19631"/>
                </a:lnTo>
                <a:lnTo>
                  <a:pt x="16200" y="17366"/>
                </a:lnTo>
                <a:lnTo>
                  <a:pt x="16200" y="18350"/>
                </a:lnTo>
                <a:arcTo wR="21600" hR="9323" stAng="7253293" swAng="3389168"/>
                <a:lnTo>
                  <a:pt x="121" y="10308"/>
                </a:lnTo>
                <a:arcTo wR="21600" hR="9323" stAng="-10642460" swAng="5242460"/>
                <a:close/>
              </a:path>
              <a:path fill="darkenLess" w="21600" h="21600">
                <a:moveTo>
                  <a:pt x="21600" y="0"/>
                </a:moveTo>
                <a:arcTo wR="21600" hR="9323" stAng="-5400000" swAng="-5400000"/>
                <a:lnTo>
                  <a:pt x="0" y="9323"/>
                </a:lnTo>
                <a:arcTo wR="21600" hR="9323" stAng="10800000" swAng="-157540"/>
                <a:lnTo>
                  <a:pt x="121" y="10308"/>
                </a:lnTo>
                <a:arcTo wR="21600" hR="9323" stAng="-10642460" swAng="524246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Выгнутая вправо стрелка 24"/>
          <p:cNvSpPr/>
          <p:nvPr/>
        </p:nvSpPr>
        <p:spPr>
          <a:xfrm>
            <a:off x="4500720" y="3068640"/>
            <a:ext cx="1295280" cy="194472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364680 h 1944720"/>
              <a:gd name="textAreaBottom" fmla="*/ 14180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3327084"/>
                <a:lnTo>
                  <a:pt x="5400" y="21343"/>
                </a:lnTo>
                <a:lnTo>
                  <a:pt x="0" y="18000"/>
                </a:lnTo>
                <a:lnTo>
                  <a:pt x="5400" y="14143"/>
                </a:lnTo>
                <a:lnTo>
                  <a:pt x="5400" y="15943"/>
                </a:lnTo>
                <a:arcTo wR="21600" hR="8100" stAng="3327084" swAng="-3033971"/>
                <a:lnTo>
                  <a:pt x="21060" y="9900"/>
                </a:lnTo>
                <a:arcTo wR="21600" hR="8100" stAng="-293113" swAng="-5106887"/>
                <a:close/>
              </a:path>
              <a:path fill="darkenLess"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-293113"/>
                <a:lnTo>
                  <a:pt x="21060" y="9900"/>
                </a:lnTo>
                <a:arcTo wR="21600" hR="8100" stAng="-293113" swAng="-5106887"/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1" descr="H:\анимации мои\442.gif"/>
          <p:cNvPicPr/>
          <p:nvPr/>
        </p:nvPicPr>
        <p:blipFill>
          <a:blip r:embed="rId2"/>
          <a:stretch/>
        </p:blipFill>
        <p:spPr>
          <a:xfrm>
            <a:off x="179280" y="-24300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мените соответствующую формул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1970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(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)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=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 (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)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Symbol"/>
                <a:ea typeface="Symbol"/>
              </a:rPr>
              <a:t>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en-US" sz="3300" spc="-1" strike="noStrike">
                <a:solidFill>
                  <a:srgbClr val="953735"/>
                </a:solidFill>
                <a:latin typeface="Symbol"/>
                <a:ea typeface="Symbol"/>
              </a:rPr>
              <a:t>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(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)</a:t>
            </a:r>
            <a:r>
              <a:rPr b="1" lang="ru-RU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=9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16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(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-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(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2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(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2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8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49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(8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-k)(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+k)=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(8d)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-k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=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64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-k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2a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+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5b)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5b-0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2a)=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5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-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 = 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=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25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-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04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9-144y</a:t>
            </a:r>
            <a:r>
              <a:rPr b="1" lang="ru-RU" sz="40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 = 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3</a:t>
            </a:r>
            <a:r>
              <a:rPr b="1" lang="ru-RU" sz="4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(12у)</a:t>
            </a:r>
            <a:r>
              <a:rPr b="1" lang="en-US" sz="4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700" spc="-1" strike="noStrike">
                <a:solidFill>
                  <a:srgbClr val="7030a0"/>
                </a:solidFill>
                <a:latin typeface="Calibri"/>
              </a:rPr>
              <a:t> =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 (3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1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у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)(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3+12у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4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4k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= 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(2k)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= 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+2k)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k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Горизонтальный свиток 10"/>
          <p:cNvSpPr/>
          <p:nvPr/>
        </p:nvSpPr>
        <p:spPr>
          <a:xfrm>
            <a:off x="2700360" y="1052640"/>
            <a:ext cx="6192720" cy="863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Горизонтальный свиток 11"/>
          <p:cNvSpPr/>
          <p:nvPr/>
        </p:nvSpPr>
        <p:spPr>
          <a:xfrm>
            <a:off x="2556000" y="1916280"/>
            <a:ext cx="6192720" cy="86508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Горизонтальный свиток 12"/>
          <p:cNvSpPr/>
          <p:nvPr/>
        </p:nvSpPr>
        <p:spPr>
          <a:xfrm>
            <a:off x="2987640" y="5084640"/>
            <a:ext cx="5977080" cy="86544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Горизонтальный свиток 13"/>
          <p:cNvSpPr/>
          <p:nvPr/>
        </p:nvSpPr>
        <p:spPr>
          <a:xfrm>
            <a:off x="2951280" y="4437000"/>
            <a:ext cx="6192720" cy="863640"/>
          </a:xfrm>
          <a:prstGeom prst="horizontalScroll">
            <a:avLst>
              <a:gd name="adj" fmla="val 12500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Горизонтальный свиток 14"/>
          <p:cNvSpPr/>
          <p:nvPr/>
        </p:nvSpPr>
        <p:spPr>
          <a:xfrm>
            <a:off x="3492360" y="2637000"/>
            <a:ext cx="3959280" cy="8632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Горизонтальный свиток 15"/>
          <p:cNvSpPr/>
          <p:nvPr/>
        </p:nvSpPr>
        <p:spPr>
          <a:xfrm>
            <a:off x="5292720" y="3357720"/>
            <a:ext cx="3311640" cy="863280"/>
          </a:xfrm>
          <a:prstGeom prst="horizontalScroll">
            <a:avLst>
              <a:gd name="adj" fmla="val 1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Горизонтальный свиток 16"/>
          <p:cNvSpPr/>
          <p:nvPr/>
        </p:nvSpPr>
        <p:spPr>
          <a:xfrm>
            <a:off x="1116000" y="3933720"/>
            <a:ext cx="3311640" cy="719280"/>
          </a:xfrm>
          <a:prstGeom prst="horizontalScroll">
            <a:avLst>
              <a:gd name="adj" fmla="val 1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3:30:10Z</dcterms:created>
  <dc:creator>Анастасия</dc:creator>
  <dc:description/>
  <dc:language>en-US</dc:language>
  <cp:lastModifiedBy>Pter</cp:lastModifiedBy>
  <dcterms:modified xsi:type="dcterms:W3CDTF">2012-03-24T09:43:46Z</dcterms:modified>
  <cp:revision>33</cp:revision>
  <dc:subject/>
  <dc:title>Слайд 1</dc:title>
</cp:coreProperties>
</file>