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E7B-3FBE-48FD-B238-7A0C70E9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B22-4E96-4DD5-8AE2-F9FAC71C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BFC-6D7F-42E0-9998-274B3131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505-7565-441E-9EEC-34DABD1A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147-6416-4346-BB70-607BD1AC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17B-989F-4BF5-845A-8C79B6FC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5C0-8B99-4988-877D-D8120FB8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E10-4B90-4178-A613-2A2CB5CF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88C-BE31-4184-843E-5802B005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5B5-ED0E-4CE9-9B82-49D026E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81E-14A8-4023-BA2A-4FE022CF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FC8-09D7-41E5-A26C-A29AD42C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62D1-9970-4EB9-93A2-7FB64DC3C7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рмулы сокращенного умн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втор: учитель математики МОУ СОШ № 57 г.Астрах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урило М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ANTN027"/>
          <p:cNvPicPr/>
          <p:nvPr/>
        </p:nvPicPr>
        <p:blipFill>
          <a:blip r:embed="rId2"/>
          <a:stretch/>
        </p:blipFill>
        <p:spPr>
          <a:xfrm>
            <a:off x="6673680" y="4508640"/>
            <a:ext cx="24703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анимации мои\442.gif"/>
          <p:cNvPicPr/>
          <p:nvPr/>
        </p:nvPicPr>
        <p:blipFill>
          <a:blip r:embed="rId3"/>
          <a:stretch/>
        </p:blipFill>
        <p:spPr>
          <a:xfrm>
            <a:off x="39243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C:\Users\Анастасия\Desktop\анимашки\163163568.jpg"/>
          <p:cNvPicPr/>
          <p:nvPr/>
        </p:nvPicPr>
        <p:blipFill>
          <a:blip r:embed="rId2"/>
          <a:stretch/>
        </p:blipFill>
        <p:spPr>
          <a:xfrm>
            <a:off x="7723080" y="189000"/>
            <a:ext cx="1420920" cy="100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Users\Анастасия\Desktop\5_3md_wht.gif"/>
          <p:cNvPicPr/>
          <p:nvPr/>
        </p:nvPicPr>
        <p:blipFill>
          <a:blip r:embed="rId3"/>
          <a:stretch/>
        </p:blipFill>
        <p:spPr>
          <a:xfrm>
            <a:off x="2916360" y="2276640"/>
            <a:ext cx="1077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Анастасия\Desktop\5_3md_wht.gif"/>
          <p:cNvPicPr/>
          <p:nvPr/>
        </p:nvPicPr>
        <p:blipFill>
          <a:blip r:embed="rId4"/>
          <a:stretch/>
        </p:blipFill>
        <p:spPr>
          <a:xfrm rot="19104000">
            <a:off x="1241280" y="4266720"/>
            <a:ext cx="105912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Анастасия\Desktop\5_3md_wht.gif"/>
          <p:cNvPicPr/>
          <p:nvPr/>
        </p:nvPicPr>
        <p:blipFill>
          <a:blip r:embed="rId5"/>
          <a:stretch/>
        </p:blipFill>
        <p:spPr>
          <a:xfrm>
            <a:off x="4859280" y="3789360"/>
            <a:ext cx="1185840" cy="15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Анастасия\Desktop\5_3md_wht.gif"/>
          <p:cNvPicPr/>
          <p:nvPr/>
        </p:nvPicPr>
        <p:blipFill>
          <a:blip r:embed="rId6"/>
          <a:stretch/>
        </p:blipFill>
        <p:spPr>
          <a:xfrm rot="2141400">
            <a:off x="7303680" y="4237200"/>
            <a:ext cx="960480" cy="128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Анастасия\Desktop\5_1md_wht.gif"/>
          <p:cNvPicPr/>
          <p:nvPr/>
        </p:nvPicPr>
        <p:blipFill>
          <a:blip r:embed="rId7"/>
          <a:stretch/>
        </p:blipFill>
        <p:spPr>
          <a:xfrm rot="2437800">
            <a:off x="7065720" y="18158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Анастасия\Desktop\5_1md_wht.gif"/>
          <p:cNvPicPr/>
          <p:nvPr/>
        </p:nvPicPr>
        <p:blipFill>
          <a:blip r:embed="rId8"/>
          <a:stretch/>
        </p:blipFill>
        <p:spPr>
          <a:xfrm rot="18729600">
            <a:off x="600840" y="1962720"/>
            <a:ext cx="1306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1125360"/>
            <a:ext cx="871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050920" y="4581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6-конечная звезда 14"/>
          <p:cNvSpPr/>
          <p:nvPr/>
        </p:nvSpPr>
        <p:spPr>
          <a:xfrm>
            <a:off x="658800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-конечная звезда 15"/>
          <p:cNvSpPr/>
          <p:nvPr/>
        </p:nvSpPr>
        <p:spPr>
          <a:xfrm>
            <a:off x="543564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-конечная звезда 13"/>
          <p:cNvSpPr/>
          <p:nvPr/>
        </p:nvSpPr>
        <p:spPr>
          <a:xfrm>
            <a:off x="2411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-конечная звезда 12"/>
          <p:cNvSpPr/>
          <p:nvPr/>
        </p:nvSpPr>
        <p:spPr>
          <a:xfrm>
            <a:off x="464328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-конечная звезда 11"/>
          <p:cNvSpPr/>
          <p:nvPr/>
        </p:nvSpPr>
        <p:spPr>
          <a:xfrm>
            <a:off x="291636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6-конечная звезда 10"/>
          <p:cNvSpPr/>
          <p:nvPr/>
        </p:nvSpPr>
        <p:spPr>
          <a:xfrm>
            <a:off x="1619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-конечная звезда 6"/>
          <p:cNvSpPr/>
          <p:nvPr/>
        </p:nvSpPr>
        <p:spPr>
          <a:xfrm>
            <a:off x="5292720" y="220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-конечная звезда 5"/>
          <p:cNvSpPr/>
          <p:nvPr/>
        </p:nvSpPr>
        <p:spPr>
          <a:xfrm>
            <a:off x="2268360" y="1484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-конечная звезда 4"/>
          <p:cNvSpPr/>
          <p:nvPr/>
        </p:nvSpPr>
        <p:spPr>
          <a:xfrm>
            <a:off x="4211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-конечная звезда 7"/>
          <p:cNvSpPr/>
          <p:nvPr/>
        </p:nvSpPr>
        <p:spPr>
          <a:xfrm>
            <a:off x="3419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-конечная звезда 8"/>
          <p:cNvSpPr/>
          <p:nvPr/>
        </p:nvSpPr>
        <p:spPr>
          <a:xfrm>
            <a:off x="169236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-конечная звезда 9"/>
          <p:cNvSpPr/>
          <p:nvPr/>
        </p:nvSpPr>
        <p:spPr>
          <a:xfrm>
            <a:off x="1403280" y="14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  <a:ea typeface="Arial"/>
              </a:rPr>
              <a:t>+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  <a:ea typeface="Arial"/>
              </a:rPr>
              <a:t>4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</a:rPr>
              <a:t>+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  <a:ea typeface="Arial"/>
              </a:rPr>
              <a:t>-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  <a:ea typeface="Arial"/>
              </a:rPr>
              <a:t>3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   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анимации мои\442.gif"/>
          <p:cNvPicPr/>
          <p:nvPr/>
        </p:nvPicPr>
        <p:blipFill>
          <a:blip r:embed="rId2"/>
          <a:stretch/>
        </p:blipFill>
        <p:spPr>
          <a:xfrm>
            <a:off x="324000" y="494172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9" name="6-конечная звезда 8"/>
          <p:cNvSpPr/>
          <p:nvPr/>
        </p:nvSpPr>
        <p:spPr>
          <a:xfrm>
            <a:off x="4284720" y="4653000"/>
            <a:ext cx="841320" cy="863640"/>
          </a:xfrm>
          <a:custGeom>
            <a:avLst/>
            <a:gdLst/>
            <a:ahLst/>
            <a:rect l="l" t="t" r="r" b="b"/>
            <a:pathLst>
              <a:path w="842392" h="864096">
                <a:moveTo>
                  <a:pt x="0" y="216024"/>
                </a:moveTo>
                <a:lnTo>
                  <a:pt x="280795" y="216020"/>
                </a:lnTo>
                <a:lnTo>
                  <a:pt x="421196" y="0"/>
                </a:lnTo>
                <a:lnTo>
                  <a:pt x="561597" y="216020"/>
                </a:lnTo>
                <a:lnTo>
                  <a:pt x="842392" y="216024"/>
                </a:lnTo>
                <a:lnTo>
                  <a:pt x="701998" y="432048"/>
                </a:lnTo>
                <a:lnTo>
                  <a:pt x="842392" y="648072"/>
                </a:lnTo>
                <a:lnTo>
                  <a:pt x="561597" y="648076"/>
                </a:lnTo>
                <a:lnTo>
                  <a:pt x="421196" y="864096"/>
                </a:lnTo>
                <a:lnTo>
                  <a:pt x="280795" y="648076"/>
                </a:lnTo>
                <a:lnTo>
                  <a:pt x="0" y="648072"/>
                </a:lnTo>
                <a:lnTo>
                  <a:pt x="140394" y="432048"/>
                </a:lnTo>
                <a:lnTo>
                  <a:pt x="0" y="21602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6-конечная звезда 15"/>
          <p:cNvSpPr/>
          <p:nvPr/>
        </p:nvSpPr>
        <p:spPr>
          <a:xfrm>
            <a:off x="673272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-конечная звезда 9"/>
          <p:cNvSpPr/>
          <p:nvPr/>
        </p:nvSpPr>
        <p:spPr>
          <a:xfrm>
            <a:off x="5796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4211640" y="765000"/>
            <a:ext cx="792000" cy="71928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-конечная звезда 10"/>
          <p:cNvSpPr/>
          <p:nvPr/>
        </p:nvSpPr>
        <p:spPr>
          <a:xfrm>
            <a:off x="3492360" y="4724280"/>
            <a:ext cx="792360" cy="72072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-конечная звезда 11"/>
          <p:cNvSpPr/>
          <p:nvPr/>
        </p:nvSpPr>
        <p:spPr>
          <a:xfrm>
            <a:off x="500364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6-конечная звезда 12"/>
          <p:cNvSpPr/>
          <p:nvPr/>
        </p:nvSpPr>
        <p:spPr>
          <a:xfrm>
            <a:off x="2411280" y="765000"/>
            <a:ext cx="698760" cy="792360"/>
          </a:xfrm>
          <a:custGeom>
            <a:avLst/>
            <a:gdLst/>
            <a:ahLst/>
            <a:rect l="l" t="t" r="r" b="b"/>
            <a:pathLst>
              <a:path w="698376" h="792088">
                <a:moveTo>
                  <a:pt x="0" y="198022"/>
                </a:moveTo>
                <a:lnTo>
                  <a:pt x="232790" y="198019"/>
                </a:lnTo>
                <a:lnTo>
                  <a:pt x="349188" y="0"/>
                </a:lnTo>
                <a:lnTo>
                  <a:pt x="465586" y="198019"/>
                </a:lnTo>
                <a:lnTo>
                  <a:pt x="698376" y="198022"/>
                </a:lnTo>
                <a:lnTo>
                  <a:pt x="581984" y="396044"/>
                </a:lnTo>
                <a:lnTo>
                  <a:pt x="698376" y="594066"/>
                </a:lnTo>
                <a:lnTo>
                  <a:pt x="465586" y="594069"/>
                </a:lnTo>
                <a:lnTo>
                  <a:pt x="349188" y="792088"/>
                </a:lnTo>
                <a:lnTo>
                  <a:pt x="232790" y="594069"/>
                </a:lnTo>
                <a:lnTo>
                  <a:pt x="0" y="594066"/>
                </a:lnTo>
                <a:lnTo>
                  <a:pt x="116392" y="396044"/>
                </a:lnTo>
                <a:lnTo>
                  <a:pt x="0" y="19802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6-конечная звезда 13"/>
          <p:cNvSpPr/>
          <p:nvPr/>
        </p:nvSpPr>
        <p:spPr>
          <a:xfrm>
            <a:off x="349236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b+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=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f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20f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2z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ANTN027"/>
          <p:cNvPicPr/>
          <p:nvPr/>
        </p:nvPicPr>
        <p:blipFill>
          <a:blip r:embed="rId2"/>
          <a:stretch/>
        </p:blipFill>
        <p:spPr>
          <a:xfrm>
            <a:off x="468360" y="4508640"/>
            <a:ext cx="22892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81" name="6-конечная звезда 15"/>
          <p:cNvSpPr/>
          <p:nvPr/>
        </p:nvSpPr>
        <p:spPr>
          <a:xfrm>
            <a:off x="3203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-конечная звезда 13"/>
          <p:cNvSpPr/>
          <p:nvPr/>
        </p:nvSpPr>
        <p:spPr>
          <a:xfrm>
            <a:off x="7093080" y="44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-конечная звезда 10"/>
          <p:cNvSpPr/>
          <p:nvPr/>
        </p:nvSpPr>
        <p:spPr>
          <a:xfrm>
            <a:off x="521964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6-конечная звезда 9"/>
          <p:cNvSpPr/>
          <p:nvPr/>
        </p:nvSpPr>
        <p:spPr>
          <a:xfrm>
            <a:off x="392436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6-конечная звезда 14"/>
          <p:cNvSpPr/>
          <p:nvPr/>
        </p:nvSpPr>
        <p:spPr>
          <a:xfrm>
            <a:off x="586728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-конечная звезда 11"/>
          <p:cNvSpPr/>
          <p:nvPr/>
        </p:nvSpPr>
        <p:spPr>
          <a:xfrm>
            <a:off x="428472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-конечная звезда 12"/>
          <p:cNvSpPr/>
          <p:nvPr/>
        </p:nvSpPr>
        <p:spPr>
          <a:xfrm>
            <a:off x="2627280" y="3860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-конечная звезда 4"/>
          <p:cNvSpPr/>
          <p:nvPr/>
        </p:nvSpPr>
        <p:spPr>
          <a:xfrm>
            <a:off x="507672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-конечная звезда 3"/>
          <p:cNvSpPr/>
          <p:nvPr/>
        </p:nvSpPr>
        <p:spPr>
          <a:xfrm>
            <a:off x="161928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6-конечная звезда 8"/>
          <p:cNvSpPr/>
          <p:nvPr/>
        </p:nvSpPr>
        <p:spPr>
          <a:xfrm>
            <a:off x="234000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6-конечная звезда 7"/>
          <p:cNvSpPr/>
          <p:nvPr/>
        </p:nvSpPr>
        <p:spPr>
          <a:xfrm>
            <a:off x="392436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-конечная звезда 6"/>
          <p:cNvSpPr/>
          <p:nvPr/>
        </p:nvSpPr>
        <p:spPr>
          <a:xfrm>
            <a:off x="755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)=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9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:\анимации мои\442.gif"/>
          <p:cNvPicPr/>
          <p:nvPr/>
        </p:nvPicPr>
        <p:blipFill>
          <a:blip r:embed="rId2"/>
          <a:stretch/>
        </p:blipFill>
        <p:spPr>
          <a:xfrm>
            <a:off x="684360" y="5013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20"/>
          <p:cNvSpPr/>
          <p:nvPr/>
        </p:nvSpPr>
        <p:spPr>
          <a:xfrm>
            <a:off x="4859280" y="3068640"/>
            <a:ext cx="28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8" name="Овал 3"/>
          <p:cNvSpPr/>
          <p:nvPr/>
        </p:nvSpPr>
        <p:spPr>
          <a:xfrm>
            <a:off x="4140360" y="3716280"/>
            <a:ext cx="57600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)(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1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)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6a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 0,3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,2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0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) 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 =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у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х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 )=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4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85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лево стрелка 15"/>
          <p:cNvSpPr/>
          <p:nvPr/>
        </p:nvSpPr>
        <p:spPr>
          <a:xfrm rot="16200000">
            <a:off x="4240080" y="503964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лево стрелка 16"/>
          <p:cNvSpPr/>
          <p:nvPr/>
        </p:nvSpPr>
        <p:spPr>
          <a:xfrm rot="5400000">
            <a:off x="4224240" y="413532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8"/>
          <p:cNvSpPr/>
          <p:nvPr/>
        </p:nvSpPr>
        <p:spPr>
          <a:xfrm>
            <a:off x="5796000" y="4724280"/>
            <a:ext cx="1224000" cy="865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 flipV="1">
            <a:off x="5867280" y="4653000"/>
            <a:ext cx="1297080" cy="1008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236000" y="4861080"/>
                <a:ext cx="16570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7" name="Picture 5" descr="C:\Users\Анастасия\Desktop\МАМА\анимашки\Картинки и анимашки на школьную тему\teacher.jpg"/>
          <p:cNvPicPr/>
          <p:nvPr/>
        </p:nvPicPr>
        <p:blipFill>
          <a:blip r:embed="rId2"/>
          <a:stretch/>
        </p:blipFill>
        <p:spPr>
          <a:xfrm>
            <a:off x="539640" y="1484280"/>
            <a:ext cx="1368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шите в вид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суммы двух выраж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х  раз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разности двух выражений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3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5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суммы двух выражений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7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сть квадратов двух выражений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разности двух выражений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6b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4"/>
          <p:cNvSpPr/>
          <p:nvPr/>
        </p:nvSpPr>
        <p:spPr>
          <a:xfrm>
            <a:off x="5076720" y="1557360"/>
            <a:ext cx="295128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х+у)(2х-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5"/>
          <p:cNvSpPr/>
          <p:nvPr/>
        </p:nvSpPr>
        <p:spPr>
          <a:xfrm>
            <a:off x="5219640" y="2637000"/>
            <a:ext cx="2952720" cy="576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а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ая выноска 6"/>
          <p:cNvSpPr/>
          <p:nvPr/>
        </p:nvSpPr>
        <p:spPr>
          <a:xfrm>
            <a:off x="5148360" y="3716280"/>
            <a:ext cx="2952720" cy="6494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5651640" y="3645000"/>
                <a:ext cx="1981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Прямоугольная выноска 8"/>
          <p:cNvSpPr/>
          <p:nvPr/>
        </p:nvSpPr>
        <p:spPr>
          <a:xfrm>
            <a:off x="5219640" y="4869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16480" y="4849920"/>
                <a:ext cx="2727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ая выноска 10"/>
          <p:cNvSpPr/>
          <p:nvPr/>
        </p:nvSpPr>
        <p:spPr>
          <a:xfrm>
            <a:off x="5219640" y="5877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5570640" y="5877000"/>
                <a:ext cx="2289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айдите тождественно равны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Куб 8"/>
          <p:cNvSpPr/>
          <p:nvPr/>
        </p:nvSpPr>
        <p:spPr>
          <a:xfrm rot="20269800">
            <a:off x="676080" y="2198160"/>
            <a:ext cx="2174760" cy="1524240"/>
          </a:xfrm>
          <a:prstGeom prst="cube">
            <a:avLst>
              <a:gd name="adj" fmla="val 25000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Куб 11"/>
          <p:cNvSpPr/>
          <p:nvPr/>
        </p:nvSpPr>
        <p:spPr>
          <a:xfrm rot="2866200">
            <a:off x="6574320" y="1907280"/>
            <a:ext cx="1936800" cy="1792080"/>
          </a:xfrm>
          <a:prstGeom prst="cube">
            <a:avLst>
              <a:gd name="adj" fmla="val 25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Куб 12"/>
          <p:cNvSpPr/>
          <p:nvPr/>
        </p:nvSpPr>
        <p:spPr>
          <a:xfrm rot="4304400">
            <a:off x="6037920" y="4150440"/>
            <a:ext cx="1819080" cy="1674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Куб 13"/>
          <p:cNvSpPr/>
          <p:nvPr/>
        </p:nvSpPr>
        <p:spPr>
          <a:xfrm rot="4411800">
            <a:off x="635400" y="4418280"/>
            <a:ext cx="1622520" cy="1621080"/>
          </a:xfrm>
          <a:prstGeom prst="cube">
            <a:avLst>
              <a:gd name="adj" fmla="val 25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Куб 14"/>
          <p:cNvSpPr/>
          <p:nvPr/>
        </p:nvSpPr>
        <p:spPr>
          <a:xfrm rot="19308000">
            <a:off x="3219120" y="4055760"/>
            <a:ext cx="1727280" cy="18144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Куб 15"/>
          <p:cNvSpPr/>
          <p:nvPr/>
        </p:nvSpPr>
        <p:spPr>
          <a:xfrm rot="3345000">
            <a:off x="4084560" y="1687320"/>
            <a:ext cx="1709640" cy="16430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211640" y="220500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4640" y="4822920"/>
                <a:ext cx="944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684360" y="2852640"/>
                <a:ext cx="187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059280" y="4724280"/>
                <a:ext cx="2143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6670800" y="2600280"/>
                <a:ext cx="1060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826920" y="4869000"/>
                <a:ext cx="10605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Выгнутая вверх стрелка 22"/>
          <p:cNvSpPr/>
          <p:nvPr/>
        </p:nvSpPr>
        <p:spPr>
          <a:xfrm>
            <a:off x="1835280" y="1341360"/>
            <a:ext cx="5113080" cy="1235160"/>
          </a:xfrm>
          <a:custGeom>
            <a:avLst/>
            <a:gdLst>
              <a:gd name="textAreaLeft" fmla="*/ 1162440 w 5113080"/>
              <a:gd name="textAreaRight" fmla="*/ 3796560 w 5113080"/>
              <a:gd name="textAreaTop" fmla="*/ 165240 h 1235160"/>
              <a:gd name="textAreaBottom" fmla="*/ 10699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1" hR="21600" stAng="10800000" swAng="5400000"/>
                <a:lnTo>
                  <a:pt x="11127" y="0"/>
                </a:lnTo>
                <a:arcTo wR="9821" hR="21600" stAng="-5400000" swAng="3624532"/>
                <a:lnTo>
                  <a:pt x="21288" y="16200"/>
                </a:lnTo>
                <a:lnTo>
                  <a:pt x="20295" y="21600"/>
                </a:lnTo>
                <a:lnTo>
                  <a:pt x="18678" y="16200"/>
                </a:lnTo>
                <a:lnTo>
                  <a:pt x="19330" y="16200"/>
                </a:lnTo>
                <a:arcTo wR="9821" hR="21600" stAng="-1775468" swAng="-3520405"/>
                <a:lnTo>
                  <a:pt x="10474" y="48"/>
                </a:lnTo>
                <a:arcTo wR="9821" hR="21600" stAng="-5504127" swAng="-5295873"/>
                <a:close/>
              </a:path>
              <a:path fill="darkenLess" w="21600" h="21600">
                <a:moveTo>
                  <a:pt x="0" y="21600"/>
                </a:moveTo>
                <a:arcTo wR="9821" hR="21600" stAng="10800000" swAng="5400000"/>
                <a:lnTo>
                  <a:pt x="9821" y="0"/>
                </a:lnTo>
                <a:arcTo wR="9821" hR="21600" stAng="-5400000" swAng="104127"/>
                <a:lnTo>
                  <a:pt x="10474" y="48"/>
                </a:lnTo>
                <a:arcTo wR="9821" hR="21600" stAng="-5504127" swAng="-5295873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лево стрелка 23"/>
          <p:cNvSpPr/>
          <p:nvPr/>
        </p:nvSpPr>
        <p:spPr>
          <a:xfrm>
            <a:off x="0" y="2565360"/>
            <a:ext cx="971640" cy="2664000"/>
          </a:xfrm>
          <a:custGeom>
            <a:avLst/>
            <a:gdLst>
              <a:gd name="textAreaLeft" fmla="*/ 129960 w 971640"/>
              <a:gd name="textAreaRight" fmla="*/ 841680 w 971640"/>
              <a:gd name="textAreaTop" fmla="*/ 574920 h 2664000"/>
              <a:gd name="textAreaBottom" fmla="*/ 19677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3" stAng="-5400000" swAng="-5400000"/>
                <a:lnTo>
                  <a:pt x="0" y="11293"/>
                </a:lnTo>
                <a:arcTo wR="21600" hR="9323" stAng="10800000" swAng="-3546707"/>
                <a:lnTo>
                  <a:pt x="16200" y="21304"/>
                </a:lnTo>
                <a:lnTo>
                  <a:pt x="21600" y="19631"/>
                </a:lnTo>
                <a:lnTo>
                  <a:pt x="16200" y="17366"/>
                </a:lnTo>
                <a:lnTo>
                  <a:pt x="16200" y="18350"/>
                </a:lnTo>
                <a:arcTo wR="21600" hR="9323" stAng="7253293" swAng="3389168"/>
                <a:lnTo>
                  <a:pt x="121" y="10308"/>
                </a:lnTo>
                <a:arcTo wR="21600" hR="9323" stAng="-10642460" swAng="5242460"/>
                <a:close/>
              </a:path>
              <a:path fill="darkenLess" w="21600" h="21600">
                <a:moveTo>
                  <a:pt x="21600" y="0"/>
                </a:moveTo>
                <a:arcTo wR="21600" hR="9323" stAng="-5400000" swAng="-5400000"/>
                <a:lnTo>
                  <a:pt x="0" y="9323"/>
                </a:lnTo>
                <a:arcTo wR="21600" hR="9323" stAng="10800000" swAng="-157540"/>
                <a:lnTo>
                  <a:pt x="121" y="10308"/>
                </a:lnTo>
                <a:arcTo wR="21600" hR="9323" stAng="-10642460" swAng="524246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24"/>
          <p:cNvSpPr/>
          <p:nvPr/>
        </p:nvSpPr>
        <p:spPr>
          <a:xfrm>
            <a:off x="4500720" y="3068640"/>
            <a:ext cx="1295280" cy="1944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64680 h 1944720"/>
              <a:gd name="textAreaBottom" fmla="*/ 1418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H:\анимации мои\442.gif"/>
          <p:cNvPicPr/>
          <p:nvPr/>
        </p:nvPicPr>
        <p:blipFill>
          <a:blip r:embed="rId2"/>
          <a:stretch/>
        </p:blipFill>
        <p:spPr>
          <a:xfrm>
            <a:off x="179280" y="-243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мените соответствующую формул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=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 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(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ru-RU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=9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16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(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49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(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-k)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+k)=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(8d)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6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2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-0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2a)=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04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9-144y</a:t>
            </a:r>
            <a:r>
              <a:rPr b="1" lang="ru-RU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 = 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ru-RU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(12у)</a:t>
            </a:r>
            <a:r>
              <a:rPr b="1" lang="en-US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700" spc="-1" strike="noStrike">
                <a:solidFill>
                  <a:srgbClr val="7030a0"/>
                </a:solidFill>
                <a:latin typeface="Calibri"/>
              </a:rPr>
              <a:t> =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 (3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(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+12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4k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(2k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2k)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Горизонтальный свиток 10"/>
          <p:cNvSpPr/>
          <p:nvPr/>
        </p:nvSpPr>
        <p:spPr>
          <a:xfrm>
            <a:off x="2700360" y="105264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1"/>
          <p:cNvSpPr/>
          <p:nvPr/>
        </p:nvSpPr>
        <p:spPr>
          <a:xfrm>
            <a:off x="2556000" y="1916280"/>
            <a:ext cx="6192720" cy="86508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Горизонтальный свиток 12"/>
          <p:cNvSpPr/>
          <p:nvPr/>
        </p:nvSpPr>
        <p:spPr>
          <a:xfrm>
            <a:off x="2987640" y="5084640"/>
            <a:ext cx="5977080" cy="8654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51280" y="443700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Горизонтальный свиток 14"/>
          <p:cNvSpPr/>
          <p:nvPr/>
        </p:nvSpPr>
        <p:spPr>
          <a:xfrm>
            <a:off x="3492360" y="2637000"/>
            <a:ext cx="3959280" cy="863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Горизонтальный свиток 15"/>
          <p:cNvSpPr/>
          <p:nvPr/>
        </p:nvSpPr>
        <p:spPr>
          <a:xfrm>
            <a:off x="5292720" y="3357720"/>
            <a:ext cx="3311640" cy="863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Горизонтальный свиток 16"/>
          <p:cNvSpPr/>
          <p:nvPr/>
        </p:nvSpPr>
        <p:spPr>
          <a:xfrm>
            <a:off x="1116000" y="3933720"/>
            <a:ext cx="3311640" cy="719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3:30:10Z</dcterms:created>
  <dc:creator>Анастасия</dc:creator>
  <dc:description/>
  <dc:language>en-US</dc:language>
  <cp:lastModifiedBy>Pter</cp:lastModifiedBy>
  <dcterms:modified xsi:type="dcterms:W3CDTF">2012-03-24T09:43:46Z</dcterms:modified>
  <cp:revision>33</cp:revision>
  <dc:subject/>
  <dc:title>Слайд 1</dc:title>
</cp:coreProperties>
</file>