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4ADD-380A-46D9-B6EE-4BF6A68BA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875C-DF10-49C2-9A4E-E7ACC6AF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453B-81B8-44E2-A8BE-DC8FABCFF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21D0-14CD-4796-B87F-ECC019FE8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AA92-5C5B-4E45-A080-1B180C63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F62F-FD19-444D-968D-5FA1D938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B7B4-0338-477F-BA3C-B244BB15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1390-AEA3-4E70-A20D-A0B2126E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D76D-4742-41B8-BAF2-5DD69A07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41DA-BA34-473D-A68A-C308696E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E08A-8BF1-45F8-8B7F-8C8D68AE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4CAA-EDDE-4267-BACD-B155152C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F9FB-3E3F-4BE3-B4E2-D7671592C5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506520" y="4513320"/>
            <a:ext cx="8704080" cy="1933560"/>
          </a:xfrm>
          <a:prstGeom prst="rect">
            <a:avLst/>
          </a:prstGeom>
          <a:ln w="0">
            <a:noFill/>
          </a:ln>
        </p:spPr>
      </p:pic>
      <p:sp>
        <p:nvSpPr>
          <p:cNvPr id="43" name="">
            <a:hlinkClick r:id="rId3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2"/>
          <p:cNvSpPr/>
          <p:nvPr/>
        </p:nvSpPr>
        <p:spPr>
          <a:xfrm>
            <a:off x="1785960" y="600084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Ю.Гагарин и С.П. Королев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642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5508720" y="1916280"/>
            <a:ext cx="309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ая женщина-космонавт  Валентина Тереш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32000" y="620640"/>
            <a:ext cx="6426000" cy="428004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1428840" y="5500800"/>
            <a:ext cx="61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Ю.Гагарин и В. Терешко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2"/>
          <p:cNvSpPr/>
          <p:nvPr/>
        </p:nvSpPr>
        <p:spPr>
          <a:xfrm>
            <a:off x="323640" y="428760"/>
            <a:ext cx="835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вая женщина, вышедшая в открытый  косм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Светлана Савицк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06140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4343400" cy="5359320"/>
          </a:xfrm>
          <a:prstGeom prst="rect">
            <a:avLst/>
          </a:prstGeom>
          <a:ln w="0">
            <a:noFill/>
          </a:ln>
        </p:spPr>
      </p:pic>
      <p:sp>
        <p:nvSpPr>
          <p:cNvPr id="46" name="TextBox 6"/>
          <p:cNvSpPr/>
          <p:nvPr/>
        </p:nvSpPr>
        <p:spPr>
          <a:xfrm>
            <a:off x="4857840" y="642960"/>
            <a:ext cx="3857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АГАРИН, ЮРИЙ АЛЕКСЕЕВИЧ (1934–1968), советский летчик-космонавт, первый человек, совершивший орбитальный космический пол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572000" cy="4647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219640" y="1844640"/>
            <a:ext cx="3673440" cy="293364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5216400" y="5229360"/>
            <a:ext cx="364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Ю. Гагарин и его родит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395280" y="28584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 марта 1934 г. в селе Клушино ( Смоленская область) родился Ю.А. Гагар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4076640" cy="3441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292720" y="2708280"/>
            <a:ext cx="3429000" cy="378468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285840" y="4572000"/>
            <a:ext cx="414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аратовский индустриальный техник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5219640" y="90792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агарин - курсант  Саратовского аэроклу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684360" y="1557360"/>
            <a:ext cx="7858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 апреля 1961 Ю.А.Гагарин на космическом корабле «Восток», созданном в опытно-конструкторском бюро С.П.Королева, стартовал с космодрома Байконур и совершил первый космический полет, облетев земной шар за 108 минут и благополучно вернувшись на Земл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572320" cy="579132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357120" y="21420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сто приземления  Ю.А. Гага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14:40:37Z</dcterms:created>
  <dc:creator>HardyWf</dc:creator>
  <dc:description/>
  <dc:language>en-US</dc:language>
  <cp:lastModifiedBy>Name</cp:lastModifiedBy>
  <dcterms:modified xsi:type="dcterms:W3CDTF">2010-09-23T12:06:21Z</dcterms:modified>
  <cp:revision>3</cp:revision>
  <dc:subject/>
  <dc:title>Первые космонав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6000000000001024140</vt:lpwstr>
  </property>
</Properties>
</file>