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C20-13C1-455E-98BA-EF5EC584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C10-369E-4FD2-9D18-59B90516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F8F-96A2-45C6-9AD8-0CFE6A31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ECA-90A7-4A73-92AA-C7CADE51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9FF-98DE-4AB1-BCDF-28EC27F0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637-9949-4D18-A91D-44267E1F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393-3C86-45A4-82DD-4DB4B2A2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A717-73DC-42B6-9D1B-92B09ACD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147-2196-4DB6-8402-BBD60803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43B-A6DC-424B-95FD-09A8CBF8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08B3-13E7-4D00-9205-870D0096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F01D-D4F9-4CE8-AAA9-9CE526E5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898C-B915-4205-BDDB-199A67FDE5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06520" y="4513320"/>
            <a:ext cx="8704080" cy="193356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1785960" y="600084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Гагарин и С.П. Короле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642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5508720" y="1916280"/>
            <a:ext cx="309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женщина-космонавт  Валентина Тере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426000" cy="4280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428840" y="55008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Ю.Гагарин и В. Терешк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323640" y="428760"/>
            <a:ext cx="835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ая женщина, вышедшая в открытый  косм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ветлана Савиц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0614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43400" cy="5359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4857840" y="642960"/>
            <a:ext cx="3857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ГАРИН, ЮРИЙ АЛЕКСЕЕВИЧ (1934–1968), советский летчик-космонавт, первый человек, совершивший орбитальный космический по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72000" cy="464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2933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216400" y="5229360"/>
            <a:ext cx="36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 Гагарин и его 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95280" y="2858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марта 1934 г. в селе Клушино ( Смоленская область) родился Ю.А. Гага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076640" cy="344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429000" cy="3784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85840" y="457200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ратовский индустриальный техн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219640" y="9079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гарин - курсант  Саратовского аэрокл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684360" y="1557360"/>
            <a:ext cx="785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апреля 1961 Ю.А.Гагарин на космическом корабле «Восток», созданном в опытно-конструкторском бюро С.П.Королева, стартовал с космодрома Байконур и совершил первый космический полет, облетев земной шар за 108 минут и благополучно вернувшись на Зем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72320" cy="5791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приземления  Ю.А. Гаг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4:40:37Z</dcterms:created>
  <dc:creator>HardyWf</dc:creator>
  <dc:description/>
  <dc:language>en-US</dc:language>
  <cp:lastModifiedBy>Name</cp:lastModifiedBy>
  <dcterms:modified xsi:type="dcterms:W3CDTF">2010-09-23T12:06:21Z</dcterms:modified>
  <cp:revision>3</cp:revision>
  <dc:subject/>
  <dc:title>Первые космонав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6000000000001024140</vt:lpwstr>
  </property>
</Properties>
</file>