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3A45-9080-4E49-A006-4C50D91794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8A9-C7C4-4D5B-80C1-A293BEF5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017-B337-404F-A8BB-ABF43FDB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F56-C733-422D-966E-B702E645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4B5-ED07-4C53-A606-9ACD2CA8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7BBC-0A99-4D8A-A9CD-47EF5A5A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559C-2467-40E7-B3CC-91343FFB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210C-DACE-4650-8689-08F35186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A4AD-0AA7-4FFF-9524-D4A1655F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9E8B-6D7A-415E-B936-CEE9FFAD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9DDA-5825-4463-AE0C-0D28BBAF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855F-932B-4598-82C7-C4DE6F61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8CD-439E-4D42-82A8-351B05D2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84DA-9AC4-4E6C-ACE7-16564908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F410-8C79-4DDB-8D2D-3584EF6F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644E-C57F-4827-909B-23E5642D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E3E3-051A-4660-9E31-4A4F6994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BAC4-0EB6-4040-AE30-DDCE8808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EAB-629D-4AC5-BFAC-05AA0042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E58-3F53-40FE-9CF1-F0F174FD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700-E3F0-4A84-816E-23E335CE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DBA-8DBC-4C3C-AE5E-A02D0231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B0D-2190-4BB7-BBCF-288E2DD5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9D0-10E8-4F66-9150-3D19557B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3F72-A15E-4C92-BF76-296FE8F4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4DFE-CC8F-4147-A5CC-CFD08F0F5E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9E0E-FFFC-4F9C-B02D-B36862D5E3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преля - День Космонав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анды шк. №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Дети Энштейн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60036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ий быт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ое снаряж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мический скафандр – это герметичный костюм, в котором космонавт может жить и работать в открытом космическом пространстве, на поверхности небесных тел. Он содержит почти все блоки и системы, имеющиеся в отсеках корабля. В скафандре космонавт нормально дышит, двигается, ему не жарко и не холодно, хотя снаружи температура меняется в самых широких предел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ая е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62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самого начала разработки программ полетов в космос разрабатывались новые методы обработки и упаковки обычной пищи. Космическую пищу приготовляют главным образом методом сублимационного обезвоживания. Этот способ обработки пищи в настоящее время в ограниченных масштабах применяется в странах Европы и Америки. Большую часть натуральной пищи по весу составляет вода. Если удалить воду, то вес продуктов питания будет значительно уменьшен, а простое добавление воды в такую пищу сделает ее съедобной. Этим способом можно снизить вес пищи на 70%. На борту корабля «Аполлон» для хранения пищи отводится пространство объемом всего лишь 0,13,  такой выигрыш в объеме продуктов питания кажется особенно привлекательным. Всего лишь 0,589 кг такой пищи будет достаточно для одного космонавта в течение суток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746360"/>
            <a:ext cx="2971800" cy="2047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03800" y="3941640"/>
            <a:ext cx="2925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орога в космо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600200" y="1730520"/>
            <a:ext cx="5867280" cy="3962160"/>
            <a:chOff x="1600200" y="1730520"/>
            <a:chExt cx="5867280" cy="3962160"/>
          </a:xfrm>
        </p:grpSpPr>
        <p:sp>
          <p:nvSpPr>
            <p:cNvPr id="190" name="_s146445"/>
            <p:cNvSpPr/>
            <p:nvPr/>
          </p:nvSpPr>
          <p:spPr>
            <a:xfrm flipH="1" flipV="1">
              <a:off x="3557160" y="3533400"/>
              <a:ext cx="50796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46444"/>
            <p:cNvSpPr/>
            <p:nvPr/>
          </p:nvSpPr>
          <p:spPr>
            <a:xfrm>
              <a:off x="1600200" y="2971800"/>
              <a:ext cx="1982880" cy="932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ставля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ру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46443"/>
            <p:cNvSpPr/>
            <p:nvPr/>
          </p:nvSpPr>
          <p:spPr>
            <a:xfrm flipH="1">
              <a:off x="3943080" y="4295880"/>
              <a:ext cx="31572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46442"/>
            <p:cNvSpPr/>
            <p:nvPr/>
          </p:nvSpPr>
          <p:spPr>
            <a:xfrm>
              <a:off x="2362320" y="4626000"/>
              <a:ext cx="1803240" cy="1066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втомат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план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46449"/>
            <p:cNvSpPr/>
            <p:nvPr/>
          </p:nvSpPr>
          <p:spPr>
            <a:xfrm>
              <a:off x="4884840" y="4295880"/>
              <a:ext cx="314280" cy="43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46448"/>
            <p:cNvSpPr/>
            <p:nvPr/>
          </p:nvSpPr>
          <p:spPr>
            <a:xfrm>
              <a:off x="4979880" y="4626000"/>
              <a:ext cx="1801800" cy="1066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рбит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46447"/>
            <p:cNvSpPr/>
            <p:nvPr/>
          </p:nvSpPr>
          <p:spPr>
            <a:xfrm flipV="1">
              <a:off x="5078520" y="3534840"/>
              <a:ext cx="509400" cy="165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46446"/>
            <p:cNvSpPr/>
            <p:nvPr/>
          </p:nvSpPr>
          <p:spPr>
            <a:xfrm>
              <a:off x="5560920" y="2971800"/>
              <a:ext cx="1906560" cy="932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раб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46441"/>
            <p:cNvSpPr/>
            <p:nvPr/>
          </p:nvSpPr>
          <p:spPr>
            <a:xfrm flipV="1">
              <a:off x="4572000" y="2797200"/>
              <a:ext cx="0" cy="534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46440"/>
            <p:cNvSpPr/>
            <p:nvPr/>
          </p:nvSpPr>
          <p:spPr>
            <a:xfrm>
              <a:off x="3581280" y="1730520"/>
              <a:ext cx="2133720" cy="10666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ут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ем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46439"/>
            <p:cNvSpPr/>
            <p:nvPr/>
          </p:nvSpPr>
          <p:spPr>
            <a:xfrm>
              <a:off x="3886200" y="3332160"/>
              <a:ext cx="1371600" cy="10666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сми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ке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ыводи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ая ракета – ракета-носите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ракеты состоят из нескольких меньших ракет – ракетных ступе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запуске в космос они работают последов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ачала весь «ракетный поезд» везет первая ступ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в ней израсходуется все топливо, она отделяется от ракеты и падает на Землю, тут же включаются двигатели второй сту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ем эстафета передается последней, третьей ступени, которая несет полезный груз – автоматическую станцию или космический корабль – и достигает нужной космической скор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экипажа важно чувствовать себя по-домашнему и ориентироваться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ому психологами разработан успокаивающий, «пастельный» декор. В станции есть «пол» и «потолок», хотя при невесомости понятия «верх» и «низ» отсутствуют. Космонавты могут прослушивать записи с родными звуками Земли: шумом моря, порывами ветра, пением птиц и шуршанием листь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200" y="636480"/>
            <a:ext cx="8228880" cy="3123720"/>
            <a:chOff x="457200" y="636480"/>
            <a:chExt cx="8228880" cy="3123720"/>
          </a:xfrm>
        </p:grpSpPr>
        <p:cxnSp>
          <p:nvCxnSpPr>
            <p:cNvPr id="206" name="_s16405"/>
            <p:cNvCxnSpPr>
              <a:stCxn id="207" idx="0"/>
              <a:endCxn id="208" idx="2"/>
            </p:cNvCxnSpPr>
            <p:nvPr/>
          </p:nvCxnSpPr>
          <p:spPr>
            <a:xfrm flipV="1">
              <a:off x="745164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16403"/>
            <p:cNvCxnSpPr>
              <a:stCxn id="210" idx="0"/>
              <a:endCxn id="211" idx="2"/>
            </p:cNvCxnSpPr>
            <p:nvPr/>
          </p:nvCxnSpPr>
          <p:spPr>
            <a:xfrm flipV="1">
              <a:off x="457128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16401"/>
            <p:cNvCxnSpPr>
              <a:stCxn id="213" idx="0"/>
              <a:endCxn id="214" idx="2"/>
            </p:cNvCxnSpPr>
            <p:nvPr/>
          </p:nvCxnSpPr>
          <p:spPr>
            <a:xfrm flipV="1">
              <a:off x="169092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16399"/>
            <p:cNvCxnSpPr>
              <a:stCxn id="208" idx="0"/>
              <a:endCxn id="216" idx="2"/>
            </p:cNvCxnSpPr>
            <p:nvPr/>
          </p:nvCxnSpPr>
          <p:spPr>
            <a:xfrm flipV="1" rot="16200000">
              <a:off x="5817240" y="173160"/>
              <a:ext cx="390960" cy="287820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6398"/>
            <p:cNvCxnSpPr>
              <a:stCxn id="211" idx="0"/>
              <a:endCxn id="216" idx="2"/>
            </p:cNvCxnSpPr>
            <p:nvPr/>
          </p:nvCxnSpPr>
          <p:spPr>
            <a:xfrm flipH="1" flipV="1" rot="5400000">
              <a:off x="4377240" y="1610640"/>
              <a:ext cx="390960" cy="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6397"/>
            <p:cNvCxnSpPr>
              <a:stCxn id="214" idx="0"/>
              <a:endCxn id="216" idx="2"/>
            </p:cNvCxnSpPr>
            <p:nvPr/>
          </p:nvCxnSpPr>
          <p:spPr>
            <a:xfrm flipH="1" flipV="1" rot="5400000">
              <a:off x="2936880" y="170640"/>
              <a:ext cx="390960" cy="288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6393"/>
            <p:cNvSpPr/>
            <p:nvPr/>
          </p:nvSpPr>
          <p:spPr>
            <a:xfrm>
              <a:off x="3048840" y="636480"/>
              <a:ext cx="304524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битальная станция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дом» космонав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6394"/>
            <p:cNvSpPr/>
            <p:nvPr/>
          </p:nvSpPr>
          <p:spPr>
            <a:xfrm>
              <a:off x="45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Салют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6395"/>
            <p:cNvSpPr/>
            <p:nvPr/>
          </p:nvSpPr>
          <p:spPr>
            <a:xfrm>
              <a:off x="333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Мир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6396"/>
            <p:cNvSpPr/>
            <p:nvPr/>
          </p:nvSpPr>
          <p:spPr>
            <a:xfrm>
              <a:off x="621756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дунаро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ая стан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МКС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6400"/>
            <p:cNvSpPr/>
            <p:nvPr/>
          </p:nvSpPr>
          <p:spPr>
            <a:xfrm>
              <a:off x="45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апреля 197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следний «Салют 7» сейча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обитаем, до сих пор на орб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6402"/>
            <p:cNvSpPr/>
            <p:nvPr/>
          </p:nvSpPr>
          <p:spPr>
            <a:xfrm>
              <a:off x="333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февраля 1986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веден с орби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 марта 200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6404"/>
            <p:cNvSpPr/>
            <p:nvPr/>
          </p:nvSpPr>
          <p:spPr>
            <a:xfrm>
              <a:off x="621756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 декабря 1998 г. астронав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СА соединяют американ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российский модули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чав строительство МК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рбитальная станция – это тяжелый искусственный спутник, длительное время совершающий полет по околоземной, окололунной или околопланетной орбит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 ней можно проводить комплекс разнообразных исследований, так как здесь имеются все необходимые условия для продолжительной работы космонав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тличие от пилотируемых кораблей орбитальные станции не возвращаются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танция имеет большие размеры, в ней создается максимум удобств для обитателей, размещено необходимое оборудование и аппаратура, экипаж имеет возможность нормально жить и работать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мический корабль – это летательный аппарат, предназначенный для полета людей или перевозки груза в космическ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Космические корабли для полета по околоземным орбитам называются кораблями-спутниками, а для полета к другим небесным телам – межпланетными корабля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корабле три отсека: орбитальный, приборно-агрегатный и спускаемый аппара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рбитальном отсеке космонавты работают и отдыхают во время полета по орби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спускаемом аппарате космонавты находятся во время выведения на орбиту, стыковки и спуска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приборно-агрегатном отсеке находятся основные служебные системы кораб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нтр управления полет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только космический корабль или орбитальная станция отделяются от последней ступени ракеты, выносящей их в космос, они становятся объектами работы для специалистов в Центре управления пол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ый зал управления – просторное помещение, уставленное рядами пультов,  тремя экранами и несколькими табло на передней стене – поражает соей тишиной. Нарушает ее только голос оператора, ведущего связь с космонав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тр управления не только руководит деятельностью экипажа, следит за функционированием систем и агрегатов космических аппаратов, но и координирует работу многочисленных наземных и корабельных станций сле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агодаря станциям слежения мы не только слышим, но и видим обитателей космического дома. Космонавты регулярно проводят телерепортажи, показывают землянам их планету, Луну, россыпи ярко сияющих на черном небе звез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0" t="0" r="0" b="70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200400" y="1066680"/>
            <a:ext cx="261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07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en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1 У истоков зарождения космонавти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1 Пионеры русской космонав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стантин Эдуардович Циол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алентин Петрович Глу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ергей Павлович Коро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Юрий Алексеевич Гаг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2 Космический дне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2 Космический б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1 Космическое сна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2 Космическая 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3 Дорога в кос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1 Космическая ракета – ракета-нос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2 Орбитальная станция – «дом» космонав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 Космически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4 Центр управления по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У истоков зарождения космонавтики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23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чта о проникновении в космос, стремление человека к звездам родились тысячелетия назад. Первые пороховые ракеты появились в давние времена сначала для фейерверков, а затем для военного применения. Идея использования ракет для полета к небесным телам упоминается в романах французских авторов: Сирано де Бержерака, Жюля Верна и Ашиля Эйро, в произведении американского писателя Э.Э. Хэйла, известного английского писателя Герберта Уэль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152280" y="1371240"/>
            <a:ext cx="396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И.Кибальчич – известный русский революционер-народоволец, один из пионеров ракетной техники, изобре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85200" y="1435680"/>
            <a:ext cx="4753800" cy="4227480"/>
            <a:chOff x="3985200" y="1435680"/>
            <a:chExt cx="4753800" cy="4227480"/>
          </a:xfrm>
        </p:grpSpPr>
        <p:sp>
          <p:nvSpPr>
            <p:cNvPr id="112" name="_s13327"/>
            <p:cNvSpPr/>
            <p:nvPr/>
          </p:nvSpPr>
          <p:spPr>
            <a:xfrm flipH="1">
              <a:off x="5216040" y="4363560"/>
              <a:ext cx="574920" cy="3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326"/>
            <p:cNvSpPr/>
            <p:nvPr/>
          </p:nvSpPr>
          <p:spPr>
            <a:xfrm>
              <a:off x="3985200" y="436356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делал вывод, чт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жущей сил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ов долж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ь реактивн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ила газов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325"/>
            <p:cNvSpPr/>
            <p:nvPr/>
          </p:nvSpPr>
          <p:spPr>
            <a:xfrm>
              <a:off x="6933240" y="4361040"/>
              <a:ext cx="572400" cy="32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324"/>
            <p:cNvSpPr/>
            <p:nvPr/>
          </p:nvSpPr>
          <p:spPr>
            <a:xfrm>
              <a:off x="7418520" y="4363560"/>
              <a:ext cx="132048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едложил создать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, прообраз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ремен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илотируемы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323"/>
            <p:cNvSpPr/>
            <p:nvPr/>
          </p:nvSpPr>
          <p:spPr>
            <a:xfrm flipV="1">
              <a:off x="6362280" y="2735640"/>
              <a:ext cx="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322"/>
            <p:cNvSpPr/>
            <p:nvPr/>
          </p:nvSpPr>
          <p:spPr>
            <a:xfrm>
              <a:off x="5702040" y="1435680"/>
              <a:ext cx="1320840" cy="1300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писал рукопись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«Проек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ог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бора»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321"/>
            <p:cNvSpPr/>
            <p:nvPr/>
          </p:nvSpPr>
          <p:spPr>
            <a:xfrm>
              <a:off x="5702040" y="338832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.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ибальчич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1676520"/>
            <a:ext cx="2286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981080"/>
            <a:ext cx="1143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ионеры русской космонавтик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466720" cy="2863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Константин Эдуардович Циолковский.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оположником космонавтики, создателем теории ракетного полета, основных принципов построения ракетно-космических систем, автором первых научных планов проникновения человека в межпланетное пространство и завоевания космоса является К.Э.Циолковский.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430080" y="1496880"/>
            <a:ext cx="5328000" cy="5193360"/>
            <a:chOff x="3430080" y="1496880"/>
            <a:chExt cx="5328000" cy="5193360"/>
          </a:xfrm>
        </p:grpSpPr>
        <p:sp>
          <p:nvSpPr>
            <p:cNvPr id="126" name="_s10292"/>
            <p:cNvSpPr/>
            <p:nvPr/>
          </p:nvSpPr>
          <p:spPr>
            <a:xfrm flipV="1">
              <a:off x="6092280" y="27882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291"/>
            <p:cNvSpPr/>
            <p:nvPr/>
          </p:nvSpPr>
          <p:spPr>
            <a:xfrm>
              <a:off x="5430240" y="149688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своих статья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ложил основ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ор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и жидкостн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я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94"/>
            <p:cNvSpPr/>
            <p:nvPr/>
          </p:nvSpPr>
          <p:spPr>
            <a:xfrm>
              <a:off x="6754680" y="4092120"/>
              <a:ext cx="67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293"/>
            <p:cNvSpPr/>
            <p:nvPr/>
          </p:nvSpPr>
          <p:spPr>
            <a:xfrm>
              <a:off x="7430040" y="3445560"/>
              <a:ext cx="132804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ычислил запас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оплива, необходим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ля преодол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кетой сил сопро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ивления воздуш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олочки Зем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290"/>
            <p:cNvSpPr/>
            <p:nvPr/>
          </p:nvSpPr>
          <p:spPr>
            <a:xfrm>
              <a:off x="6092280" y="47376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289"/>
            <p:cNvSpPr/>
            <p:nvPr/>
          </p:nvSpPr>
          <p:spPr>
            <a:xfrm>
              <a:off x="5430240" y="53949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работал теори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ногоступенчаты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84"/>
            <p:cNvSpPr/>
            <p:nvPr/>
          </p:nvSpPr>
          <p:spPr>
            <a:xfrm flipH="1">
              <a:off x="4755240" y="4092120"/>
              <a:ext cx="67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283"/>
            <p:cNvSpPr/>
            <p:nvPr/>
          </p:nvSpPr>
          <p:spPr>
            <a:xfrm>
              <a:off x="343008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ешил задачу 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садке раке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верхность план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282"/>
            <p:cNvSpPr/>
            <p:nvPr/>
          </p:nvSpPr>
          <p:spPr>
            <a:xfrm>
              <a:off x="543024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К.Э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Циолковский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33520" y="1752480"/>
            <a:ext cx="36576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363760" cy="2828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350532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алентин Петрович Глушко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П. Глушко –  выдающийся ученый в области ракетно-космической техники, один из пионеров космонавтики, основоположник отечественного жидкостного ракетного двигателестро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87600" y="1440000"/>
            <a:ext cx="4725000" cy="4268160"/>
            <a:chOff x="4287600" y="1440000"/>
            <a:chExt cx="4725000" cy="4268160"/>
          </a:xfrm>
        </p:grpSpPr>
        <p:sp>
          <p:nvSpPr>
            <p:cNvPr id="139" name="_s9232"/>
            <p:cNvSpPr/>
            <p:nvPr/>
          </p:nvSpPr>
          <p:spPr>
            <a:xfrm flipH="1">
              <a:off x="5511600" y="4395960"/>
              <a:ext cx="5716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9231"/>
            <p:cNvSpPr/>
            <p:nvPr/>
          </p:nvSpPr>
          <p:spPr>
            <a:xfrm>
              <a:off x="4287600" y="43959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конструирова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й в мир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электротермически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9230"/>
            <p:cNvSpPr/>
            <p:nvPr/>
          </p:nvSpPr>
          <p:spPr>
            <a:xfrm>
              <a:off x="7218000" y="4393440"/>
              <a:ext cx="56916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9229"/>
            <p:cNvSpPr/>
            <p:nvPr/>
          </p:nvSpPr>
          <p:spPr>
            <a:xfrm>
              <a:off x="7700400" y="4395960"/>
              <a:ext cx="131220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течествен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228"/>
            <p:cNvSpPr/>
            <p:nvPr/>
          </p:nvSpPr>
          <p:spPr>
            <a:xfrm flipV="1">
              <a:off x="6650640" y="2752920"/>
              <a:ext cx="0" cy="65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227"/>
            <p:cNvSpPr/>
            <p:nvPr/>
          </p:nvSpPr>
          <p:spPr>
            <a:xfrm>
              <a:off x="5994000" y="1440000"/>
              <a:ext cx="1312920" cy="1312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следования п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прос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ей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9226"/>
            <p:cNvSpPr/>
            <p:nvPr/>
          </p:nvSpPr>
          <p:spPr>
            <a:xfrm>
              <a:off x="5994000" y="34113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.П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лушко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200" y="2057400"/>
            <a:ext cx="28954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573200" cy="2152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152280" y="228240"/>
            <a:ext cx="449568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Сергей Павлович Корол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П. Королев – конструктор первых ракетно-космических систем, лауреат Ленинской премии, дважды герой социалистического тр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046760" y="1728000"/>
            <a:ext cx="4871160" cy="4695840"/>
            <a:chOff x="4046760" y="1728000"/>
            <a:chExt cx="4871160" cy="4695840"/>
          </a:xfrm>
        </p:grpSpPr>
        <p:sp>
          <p:nvSpPr>
            <p:cNvPr id="150" name="_s11284"/>
            <p:cNvSpPr/>
            <p:nvPr/>
          </p:nvSpPr>
          <p:spPr>
            <a:xfrm flipH="1" flipV="1">
              <a:off x="5278680" y="3864960"/>
              <a:ext cx="60228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1283"/>
            <p:cNvSpPr/>
            <p:nvPr/>
          </p:nvSpPr>
          <p:spPr>
            <a:xfrm>
              <a:off x="4046760" y="3040200"/>
              <a:ext cx="126324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мног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утники Земли 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ежпланет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ведчик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1282"/>
            <p:cNvSpPr/>
            <p:nvPr/>
          </p:nvSpPr>
          <p:spPr>
            <a:xfrm flipH="1">
              <a:off x="5736960" y="4768920"/>
              <a:ext cx="374040" cy="51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1281"/>
            <p:cNvSpPr/>
            <p:nvPr/>
          </p:nvSpPr>
          <p:spPr>
            <a:xfrm>
              <a:off x="4737240" y="515988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д его руководств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были построен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пилотируем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ические кораб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1279"/>
            <p:cNvSpPr/>
            <p:nvPr/>
          </p:nvSpPr>
          <p:spPr>
            <a:xfrm>
              <a:off x="6854760" y="4766400"/>
              <a:ext cx="370080" cy="5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1278"/>
            <p:cNvSpPr/>
            <p:nvPr/>
          </p:nvSpPr>
          <p:spPr>
            <a:xfrm>
              <a:off x="6965280" y="515808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создание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дальне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йствия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1277"/>
            <p:cNvSpPr/>
            <p:nvPr/>
          </p:nvSpPr>
          <p:spPr>
            <a:xfrm flipV="1">
              <a:off x="7082640" y="3866760"/>
              <a:ext cx="602280" cy="1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1276"/>
            <p:cNvSpPr/>
            <p:nvPr/>
          </p:nvSpPr>
          <p:spPr>
            <a:xfrm>
              <a:off x="7653960" y="303804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ую крылат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у и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планер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1275"/>
            <p:cNvSpPr/>
            <p:nvPr/>
          </p:nvSpPr>
          <p:spPr>
            <a:xfrm flipV="1">
              <a:off x="6482160" y="2991600"/>
              <a:ext cx="0" cy="63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74"/>
            <p:cNvSpPr/>
            <p:nvPr/>
          </p:nvSpPr>
          <p:spPr>
            <a:xfrm>
              <a:off x="5850360" y="172800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пусками перв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и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73"/>
            <p:cNvSpPr/>
            <p:nvPr/>
          </p:nvSpPr>
          <p:spPr>
            <a:xfrm>
              <a:off x="5850360" y="362592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.П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оролев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04920" y="1676520"/>
            <a:ext cx="281916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604960" cy="3225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3886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Юрий Алексеевич Гага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Ю.А. Гагарин – летчик-космонавт ССС, полковник, Герой Советского Союза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59200" y="1749960"/>
            <a:ext cx="4272840" cy="4424040"/>
            <a:chOff x="4759200" y="1749960"/>
            <a:chExt cx="4272840" cy="4424040"/>
          </a:xfrm>
        </p:grpSpPr>
        <p:sp>
          <p:nvSpPr>
            <p:cNvPr id="165" name="_s157714"/>
            <p:cNvSpPr/>
            <p:nvPr/>
          </p:nvSpPr>
          <p:spPr>
            <a:xfrm flipH="1">
              <a:off x="582624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57713"/>
            <p:cNvSpPr/>
            <p:nvPr/>
          </p:nvSpPr>
          <p:spPr>
            <a:xfrm>
              <a:off x="475920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частвовал в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учении экипаже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онавтов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57711"/>
            <p:cNvSpPr/>
            <p:nvPr/>
          </p:nvSpPr>
          <p:spPr>
            <a:xfrm>
              <a:off x="6895800" y="4514400"/>
              <a:ext cx="0" cy="55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7710"/>
            <p:cNvSpPr/>
            <p:nvPr/>
          </p:nvSpPr>
          <p:spPr>
            <a:xfrm>
              <a:off x="6362280" y="50691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етел Земл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эллиптическ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рбит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57709"/>
            <p:cNvSpPr/>
            <p:nvPr/>
          </p:nvSpPr>
          <p:spPr>
            <a:xfrm>
              <a:off x="742968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57708"/>
            <p:cNvSpPr/>
            <p:nvPr/>
          </p:nvSpPr>
          <p:spPr>
            <a:xfrm>
              <a:off x="7965000" y="3409560"/>
              <a:ext cx="106704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данн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грамму 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землилс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заданн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йон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57707"/>
            <p:cNvSpPr/>
            <p:nvPr/>
          </p:nvSpPr>
          <p:spPr>
            <a:xfrm flipV="1">
              <a:off x="6895800" y="2854800"/>
              <a:ext cx="0" cy="55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57706"/>
            <p:cNvSpPr/>
            <p:nvPr/>
          </p:nvSpPr>
          <p:spPr>
            <a:xfrm>
              <a:off x="6362280" y="1749960"/>
              <a:ext cx="1067400" cy="1105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л человеком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летевши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космос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57705"/>
            <p:cNvSpPr/>
            <p:nvPr/>
          </p:nvSpPr>
          <p:spPr>
            <a:xfrm>
              <a:off x="636228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Ю.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агарин?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1905120"/>
            <a:ext cx="2743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1874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ий дневник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371600"/>
          <a:ext cx="4038480" cy="2554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 запускает первый искусственный спутник Зем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о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йка первое живое существо, облетевшее вокруг Зем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сен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ский спутник «Луна 2»  первым достиг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3» впервые сни-мает на пленку обратную сторону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648320" y="1371600"/>
          <a:ext cx="4190760" cy="2735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февраля 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9» передает на Землю первый фотографии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декабря 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ипаж «Аполлона 8» -первые люди, совершившие облет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сентября 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илотный зонд «Луна 16» доставляет на Землю образцы лунной поч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июля 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совместная экспедиция СССР и США: стыковка «Союза» и «Аполлон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" y="3962520"/>
          <a:ext cx="4038480" cy="27352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апреля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. Гагарин совершает виток вокруг Земли на корабле «Восток 1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августа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 Титов совершает космический полет вокруг Земли предолжи-теьностью в с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июня 1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ина Терешкова – первая женщина в Космос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рта 1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выход в открытый Космос – Алексей Леон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8320" y="4114800"/>
          <a:ext cx="4190760" cy="2573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февраля 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уск советской станции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декабря 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мир Титов и Муса Манаров завершают первый космический полет продолжительностью 1 го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июня 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мический челнок «Атлантис» стыкуется на орбите с российской станцией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7:00:05Z</dcterms:created>
  <dc:creator>User</dc:creator>
  <dc:description/>
  <dc:language>en-US</dc:language>
  <cp:lastModifiedBy>Name</cp:lastModifiedBy>
  <dcterms:modified xsi:type="dcterms:W3CDTF">2010-09-23T12:06:18Z</dcterms:modified>
  <cp:revision>6</cp:revision>
  <dc:subject/>
  <dc:title>Космические кораб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3000000000001024140</vt:lpwstr>
  </property>
  <property fmtid="{D5CDD505-2E9C-101B-9397-08002B2CF9AE}" pid="3" name="Version">
    <vt:r8>1</vt:r8>
  </property>
</Properties>
</file>