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8.jpeg" ContentType="image/jpeg"/>
  <Override PartName="/ppt/media/image1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wmf" ContentType="image/x-wmf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E3E9-EF6D-4EA7-97ED-B95005000A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D82C-D4F4-4F21-9C05-064F06235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B625-F81C-4F1A-96A6-86FD562B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E264-6F7A-4268-9892-73A4F595B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E7B9-E460-4E8D-A234-CBF63401D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5D1B-DB91-4A4F-A534-906719D65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7E1E-6F9D-439B-AEAB-F9E7D6F2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2B71-7AF7-4DBF-B599-80752237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D62B-7DC6-4201-BE6C-5496D0F4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98D2-F788-44BF-BC8D-2A543036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7533-72D9-4265-885A-E06A93C8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9092-19DF-4A94-A5E6-A8486C35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028C-4728-491E-9322-9336F420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5D65-2CF0-4D1F-9147-443D863E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318D-3593-4A42-9D60-7D5EE639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2CB1-D38E-4EAB-859E-F4AAB2B7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3523-FC72-4903-B4FC-B309FCEB4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3F7B-26CA-4773-8F02-E75FD483A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1BDA-4E9D-4FB1-9547-EDD0DFCF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FE89-DF66-48D1-97E5-8796690B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1FF2-65F4-4093-8707-A6A1AE77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7316-000F-445C-85E8-EC370E0F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E2BB-D148-4390-9CF5-27DC1CDC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6557-EB64-4E37-90C6-ABDFDEB7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3925-585C-4A26-8FD8-A954C208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FFC6-BB00-441A-8BC7-AF964B3DD2D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53DF-20BE-4711-9A4C-17EFAECB1F8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преля - День Космонав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анды шк. №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Дети Энштейн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3600360" cy="685656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Космический быт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Космическое снаряжени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смический скафандр – это герметичный костюм, в котором космонавт может жить и работать в открытом космическом пространстве, на поверхности небесных тел. Он содержит почти все блоки и системы, имеющиеся в отсеках корабля. В скафандре космонавт нормально дышит, двигается, ему не жарко и не холодно, хотя снаружи температура меняется в самых широких предел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306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Космическая еда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4621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 самого начала разработки программ полетов в космос разрабатывались новые методы обработки и упаковки обычной пищи. Космическую пищу приготовляют главным образом методом сублимационного обезвоживания. Этот способ обработки пищи в настоящее время в ограниченных масштабах применяется в странах Европы и Америки. Большую часть натуральной пищи по весу составляет вода. Если удалить воду, то вес продуктов питания будет значительно уменьшен, а простое добавление воды в такую пищу сделает ее съедобной. Этим способом можно снизить вес пищи на 70%. На борту корабля «Аполлон» для хранения пищи отводится пространство объемом всего лишь 0,13,  такой выигрыш в объеме продуктов питания кажется особенно привлекательным. Всего лишь 0,589 кг такой пищи будет достаточно для одного космонавта в течение суток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181480" y="1746360"/>
            <a:ext cx="2971800" cy="20476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203800" y="3941640"/>
            <a:ext cx="292572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Дорога в космос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600200" y="1730520"/>
            <a:ext cx="5867280" cy="3962160"/>
            <a:chOff x="1600200" y="1730520"/>
            <a:chExt cx="5867280" cy="3962160"/>
          </a:xfrm>
        </p:grpSpPr>
        <p:sp>
          <p:nvSpPr>
            <p:cNvPr id="190" name="_s146445"/>
            <p:cNvSpPr/>
            <p:nvPr/>
          </p:nvSpPr>
          <p:spPr>
            <a:xfrm flipH="1" flipV="1">
              <a:off x="3557160" y="3533400"/>
              <a:ext cx="507960" cy="166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146444"/>
            <p:cNvSpPr/>
            <p:nvPr/>
          </p:nvSpPr>
          <p:spPr>
            <a:xfrm>
              <a:off x="1600200" y="2971800"/>
              <a:ext cx="1982880" cy="9320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оставляе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 космо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груз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146443"/>
            <p:cNvSpPr/>
            <p:nvPr/>
          </p:nvSpPr>
          <p:spPr>
            <a:xfrm flipH="1">
              <a:off x="3943080" y="4295880"/>
              <a:ext cx="315720" cy="431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146442"/>
            <p:cNvSpPr/>
            <p:nvPr/>
          </p:nvSpPr>
          <p:spPr>
            <a:xfrm>
              <a:off x="2362320" y="4626000"/>
              <a:ext cx="1803240" cy="10666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втоматическ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ежплане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тан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46449"/>
            <p:cNvSpPr/>
            <p:nvPr/>
          </p:nvSpPr>
          <p:spPr>
            <a:xfrm>
              <a:off x="4884840" y="4295880"/>
              <a:ext cx="314280" cy="433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46448"/>
            <p:cNvSpPr/>
            <p:nvPr/>
          </p:nvSpPr>
          <p:spPr>
            <a:xfrm>
              <a:off x="4979880" y="4626000"/>
              <a:ext cx="1801800" cy="10666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рбита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тан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46447"/>
            <p:cNvSpPr/>
            <p:nvPr/>
          </p:nvSpPr>
          <p:spPr>
            <a:xfrm flipV="1">
              <a:off x="5078520" y="3534840"/>
              <a:ext cx="509400" cy="165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146446"/>
            <p:cNvSpPr/>
            <p:nvPr/>
          </p:nvSpPr>
          <p:spPr>
            <a:xfrm>
              <a:off x="5560920" y="2971800"/>
              <a:ext cx="1906560" cy="9320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смическ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раб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46441"/>
            <p:cNvSpPr/>
            <p:nvPr/>
          </p:nvSpPr>
          <p:spPr>
            <a:xfrm flipV="1">
              <a:off x="4572000" y="2797200"/>
              <a:ext cx="0" cy="534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146440"/>
            <p:cNvSpPr/>
            <p:nvPr/>
          </p:nvSpPr>
          <p:spPr>
            <a:xfrm>
              <a:off x="3581280" y="1730520"/>
              <a:ext cx="2133720" cy="10666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скусствен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путни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ем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46439"/>
            <p:cNvSpPr/>
            <p:nvPr/>
          </p:nvSpPr>
          <p:spPr>
            <a:xfrm>
              <a:off x="3886200" y="3332160"/>
              <a:ext cx="1371600" cy="10666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33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осмическа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аке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ыводит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 космо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Космическая ракета – ракета-носитель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ногие ракеты состоят из нескольких меньших ракет – ракетных ступе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запуске в космос они работают последова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начала весь «ракетный поезд» везет первая ступ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гда в ней израсходуется все топливо, она отделяется от ракеты и падает на Землю, тут же включаются двигатели второй ступ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тем эстафета передается последней, третьей ступени, которая несет полезный груз – автоматическую станцию или космический корабль – и достигает нужной космической скор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40719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экипажа важно чувствовать себя по-домашнему и ориентироваться в простран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этому психологами разработан успокаивающий, «пастельный» декор. В станции есть «пол» и «потолок», хотя при невесомости понятия «верх» и «низ» отсутствуют. Космонавты могут прослушивать записи с родными звуками Земли: шумом моря, порывами ветра, пением птиц и шуршанием листь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57200" y="636480"/>
            <a:ext cx="8228880" cy="3123720"/>
            <a:chOff x="457200" y="636480"/>
            <a:chExt cx="8228880" cy="3123720"/>
          </a:xfrm>
        </p:grpSpPr>
        <p:cxnSp>
          <p:nvCxnSpPr>
            <p:cNvPr id="206" name="_s16405"/>
            <p:cNvCxnSpPr>
              <a:stCxn id="207" idx="0"/>
              <a:endCxn id="208" idx="2"/>
            </p:cNvCxnSpPr>
            <p:nvPr/>
          </p:nvCxnSpPr>
          <p:spPr>
            <a:xfrm flipV="1">
              <a:off x="7451640" y="2588400"/>
              <a:ext cx="3240" cy="390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9" name="_s16403"/>
            <p:cNvCxnSpPr>
              <a:stCxn id="210" idx="0"/>
              <a:endCxn id="211" idx="2"/>
            </p:cNvCxnSpPr>
            <p:nvPr/>
          </p:nvCxnSpPr>
          <p:spPr>
            <a:xfrm flipV="1">
              <a:off x="4571280" y="2588400"/>
              <a:ext cx="3240" cy="390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2" name="_s16401"/>
            <p:cNvCxnSpPr>
              <a:stCxn id="213" idx="0"/>
              <a:endCxn id="214" idx="2"/>
            </p:cNvCxnSpPr>
            <p:nvPr/>
          </p:nvCxnSpPr>
          <p:spPr>
            <a:xfrm flipV="1">
              <a:off x="1690920" y="2588400"/>
              <a:ext cx="3240" cy="390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5" name="_s16399"/>
            <p:cNvCxnSpPr>
              <a:stCxn id="208" idx="0"/>
              <a:endCxn id="216" idx="2"/>
            </p:cNvCxnSpPr>
            <p:nvPr/>
          </p:nvCxnSpPr>
          <p:spPr>
            <a:xfrm flipV="1" rot="16200000">
              <a:off x="5817240" y="173160"/>
              <a:ext cx="390960" cy="2878200"/>
            </a:xfrm>
            <a:prstGeom prst="bentConnector3">
              <a:avLst>
                <a:gd name="adj1" fmla="val 29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16398"/>
            <p:cNvCxnSpPr>
              <a:stCxn id="211" idx="0"/>
              <a:endCxn id="216" idx="2"/>
            </p:cNvCxnSpPr>
            <p:nvPr/>
          </p:nvCxnSpPr>
          <p:spPr>
            <a:xfrm flipH="1" flipV="1" rot="5400000">
              <a:off x="4377240" y="1610640"/>
              <a:ext cx="390960" cy="3240"/>
            </a:xfrm>
            <a:prstGeom prst="bentConnector3">
              <a:avLst>
                <a:gd name="adj1" fmla="val 29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16397"/>
            <p:cNvCxnSpPr>
              <a:stCxn id="214" idx="0"/>
              <a:endCxn id="216" idx="2"/>
            </p:cNvCxnSpPr>
            <p:nvPr/>
          </p:nvCxnSpPr>
          <p:spPr>
            <a:xfrm flipH="1" flipV="1" rot="5400000">
              <a:off x="2936880" y="170640"/>
              <a:ext cx="390960" cy="2883240"/>
            </a:xfrm>
            <a:prstGeom prst="bentConnector3">
              <a:avLst>
                <a:gd name="adj1" fmla="val 29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6" name="_s16393"/>
            <p:cNvSpPr/>
            <p:nvPr/>
          </p:nvSpPr>
          <p:spPr>
            <a:xfrm>
              <a:off x="3048840" y="636480"/>
              <a:ext cx="304524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рбитальная станция –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«дом» космонав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16394"/>
            <p:cNvSpPr/>
            <p:nvPr/>
          </p:nvSpPr>
          <p:spPr>
            <a:xfrm>
              <a:off x="457200" y="180792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танция «Салют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16395"/>
            <p:cNvSpPr/>
            <p:nvPr/>
          </p:nvSpPr>
          <p:spPr>
            <a:xfrm>
              <a:off x="3337200" y="180792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танция «Мир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6396"/>
            <p:cNvSpPr/>
            <p:nvPr/>
          </p:nvSpPr>
          <p:spPr>
            <a:xfrm>
              <a:off x="6217560" y="180792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еждународ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смическая станци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МКС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16400"/>
            <p:cNvSpPr/>
            <p:nvPr/>
          </p:nvSpPr>
          <p:spPr>
            <a:xfrm>
              <a:off x="457200" y="297936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ервый запуск осуществле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 апреля 1971 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оследний «Салют 7» сейчас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еобитаем, до сих пор на орбит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6402"/>
            <p:cNvSpPr/>
            <p:nvPr/>
          </p:nvSpPr>
          <p:spPr>
            <a:xfrm>
              <a:off x="3337200" y="297936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ервый запуск осуществле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 февраля 1986 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ыведен с орбит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3 марта 2001 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16404"/>
            <p:cNvSpPr/>
            <p:nvPr/>
          </p:nvSpPr>
          <p:spPr>
            <a:xfrm>
              <a:off x="6217560" y="297936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 декабря 1998 г. астронавт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АСА соединяют американск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 российский модули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ачав строительство МК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403848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Орбитальная станция – это тяжелый искусственный спутник, длительное время совершающий полет по околоземной, окололунной или околопланетной орбит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На ней можно проводить комплекс разнообразных исследований, так как здесь имеются все необходимые условия для продолжительной работы космонавто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отличие от пилотируемых кораблей орбитальные станции не возвращаются на Землю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Станция имеет большие размеры, в ней создается максимум удобств для обитателей, размещено необходимое оборудование и аппаратура, экипаж имеет возможность нормально жить и работать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смический корабль – это летательный аппарат, предназначенный для полета людей или перевозки груза в космическом простра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Космические корабли для полета по околоземным орбитам называются кораблями-спутниками, а для полета к другим небесным телам – межпланетными кораблям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корабле три отсека: орбитальный, приборно-агрегатный и спускаемый аппарат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орбитальном отсеке космонавты работают и отдыхают во время полета по орбит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спускаемом аппарате космонавты находятся во время выведения на орбиту, стыковки и спуска на Землю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приборно-агрегатном отсеке находятся основные служебные системы корабл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Центр управления полетом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к только космический корабль или орбитальная станция отделяются от последней ступени ракеты, выносящей их в космос, они становятся объектами работы для специалистов в Центре управления поле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лавный зал управления – просторное помещение, уставленное рядами пультов,  тремя экранами и несколькими табло на передней стене – поражает соей тишиной. Нарушает ее только голос оператора, ведущего связь с космонав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Центр управления не только руководит деятельностью экипажа, следит за функционированием систем и агрегатов космических аппаратов, но и координирует работу многочисленных наземных и корабельных станций сле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лагодаря станциям слежения мы не только слышим, но и видим обитателей космического дома. Космонавты регулярно проводят телерепортажи, показывают землянам их планету, Луну, россыпи ярко сияющих на черном небе звез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rcRect l="0" t="0" r="0" b="70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3200400" y="1066680"/>
            <a:ext cx="26146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107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he end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Содержание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ь 1 У истоков зарождения космонавти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1 Пионеры русской космонав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иколай Иванович Кибальч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онстантин Эдуардович Циол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алентин Петрович Глу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ергей Павлович Корол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Юрий Алексеевич Гага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2 Космический днев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ь 2 Космический бы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1 Космическое снар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2 Космическая 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ь 3 Дорога в косм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1 Космическая ракета – ракета-нос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2 Орбитальная станция – «дом» космонав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3 Космический кораб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4 Центр управления пол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У истоков зарождения космонавтики.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223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чта о проникновении в космос, стремление человека к звездам родились тысячелетия назад. Первые пороховые ракеты появились в давние времена сначала для фейерверков, а затем для военного применения. Идея использования ракет для полета к небесным телам упоминается в романах французских авторов: Сирано де Бержерака, Жюля Верна и Ашиля Эйро, в произведении американского писателя Э.Э. Хэйла, известного английского писателя Герберта Уэль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-152280" y="1371240"/>
            <a:ext cx="3962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Николай Иванович Кибальч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.И.Кибальчич – известный русский революционер-народоволец, один из пионеров ракетной техники, изобре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985200" y="1435680"/>
            <a:ext cx="4753800" cy="4227480"/>
            <a:chOff x="3985200" y="1435680"/>
            <a:chExt cx="4753800" cy="4227480"/>
          </a:xfrm>
        </p:grpSpPr>
        <p:sp>
          <p:nvSpPr>
            <p:cNvPr id="112" name="_s13327"/>
            <p:cNvSpPr/>
            <p:nvPr/>
          </p:nvSpPr>
          <p:spPr>
            <a:xfrm flipH="1">
              <a:off x="5216040" y="4363560"/>
              <a:ext cx="574920" cy="32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3326"/>
            <p:cNvSpPr/>
            <p:nvPr/>
          </p:nvSpPr>
          <p:spPr>
            <a:xfrm>
              <a:off x="3985200" y="4363560"/>
              <a:ext cx="1320840" cy="1299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делал вывод, чт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вижущей сило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оздухоплавательны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аппаратов должн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тать реактивна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ила газов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3325"/>
            <p:cNvSpPr/>
            <p:nvPr/>
          </p:nvSpPr>
          <p:spPr>
            <a:xfrm>
              <a:off x="6933240" y="4361040"/>
              <a:ext cx="572400" cy="32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3324"/>
            <p:cNvSpPr/>
            <p:nvPr/>
          </p:nvSpPr>
          <p:spPr>
            <a:xfrm>
              <a:off x="7418520" y="4363560"/>
              <a:ext cx="1320480" cy="1299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едложил создать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аппарат, прообраз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временны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илотируемых раке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3323"/>
            <p:cNvSpPr/>
            <p:nvPr/>
          </p:nvSpPr>
          <p:spPr>
            <a:xfrm flipV="1">
              <a:off x="6362280" y="2735640"/>
              <a:ext cx="0" cy="65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3322"/>
            <p:cNvSpPr/>
            <p:nvPr/>
          </p:nvSpPr>
          <p:spPr>
            <a:xfrm>
              <a:off x="5702040" y="1435680"/>
              <a:ext cx="1320840" cy="1300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Написал рукопись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«Проект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оздухоплавательног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ибора»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3321"/>
            <p:cNvSpPr/>
            <p:nvPr/>
          </p:nvSpPr>
          <p:spPr>
            <a:xfrm>
              <a:off x="5702040" y="3388320"/>
              <a:ext cx="1320840" cy="1299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Что сделал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.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ибальчич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04920" y="1676520"/>
            <a:ext cx="22860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05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981080"/>
            <a:ext cx="11430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Пионеры русской космонавтики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3733920"/>
            <a:ext cx="2466720" cy="28638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Константин Эдуардович Циолковский.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сновоположником космонавтики, создателем теории ракетного полета, основных принципов построения ракетно-космических систем, автором первых научных планов проникновения человека в межпланетное пространство и завоевания космоса является К.Э.Циолковский.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430080" y="1496880"/>
            <a:ext cx="5328000" cy="5193360"/>
            <a:chOff x="3430080" y="1496880"/>
            <a:chExt cx="5328000" cy="5193360"/>
          </a:xfrm>
        </p:grpSpPr>
        <p:sp>
          <p:nvSpPr>
            <p:cNvPr id="126" name="_s10292"/>
            <p:cNvSpPr/>
            <p:nvPr/>
          </p:nvSpPr>
          <p:spPr>
            <a:xfrm flipV="1">
              <a:off x="6092280" y="2788200"/>
              <a:ext cx="0" cy="65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291"/>
            <p:cNvSpPr/>
            <p:nvPr/>
          </p:nvSpPr>
          <p:spPr>
            <a:xfrm>
              <a:off x="5430240" y="1496880"/>
              <a:ext cx="132912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 своих статья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заложил основы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теори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 и жидкостног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вигателя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294"/>
            <p:cNvSpPr/>
            <p:nvPr/>
          </p:nvSpPr>
          <p:spPr>
            <a:xfrm>
              <a:off x="6754680" y="4092120"/>
              <a:ext cx="67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293"/>
            <p:cNvSpPr/>
            <p:nvPr/>
          </p:nvSpPr>
          <p:spPr>
            <a:xfrm>
              <a:off x="7430040" y="3445560"/>
              <a:ext cx="132804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Вычислил запасы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топлива, необходимог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для преодолени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ракетой сил сопро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тивления воздушно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оболочки Земли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290"/>
            <p:cNvSpPr/>
            <p:nvPr/>
          </p:nvSpPr>
          <p:spPr>
            <a:xfrm>
              <a:off x="6092280" y="4737600"/>
              <a:ext cx="0" cy="65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289"/>
            <p:cNvSpPr/>
            <p:nvPr/>
          </p:nvSpPr>
          <p:spPr>
            <a:xfrm>
              <a:off x="5430240" y="5394960"/>
              <a:ext cx="132912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зработал теори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многоступенчатых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0284"/>
            <p:cNvSpPr/>
            <p:nvPr/>
          </p:nvSpPr>
          <p:spPr>
            <a:xfrm flipH="1">
              <a:off x="4755240" y="4092120"/>
              <a:ext cx="674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283"/>
            <p:cNvSpPr/>
            <p:nvPr/>
          </p:nvSpPr>
          <p:spPr>
            <a:xfrm>
              <a:off x="3430080" y="3445560"/>
              <a:ext cx="132912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ешил задачу 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садке ракет н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верхность плане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282"/>
            <p:cNvSpPr/>
            <p:nvPr/>
          </p:nvSpPr>
          <p:spPr>
            <a:xfrm>
              <a:off x="5430240" y="3445560"/>
              <a:ext cx="132912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Что сделал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К.Э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Циолковский?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533520" y="1752480"/>
            <a:ext cx="36576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363760" cy="28288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-360" y="380880"/>
            <a:ext cx="350532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алентин Петрович Глушко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.П. Глушко –  выдающийся ученый в области ракетно-космической техники, один из пионеров космонавтики, основоположник отечественного жидкостного ракетного двигателестро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287600" y="1440000"/>
            <a:ext cx="4725000" cy="4268160"/>
            <a:chOff x="4287600" y="1440000"/>
            <a:chExt cx="4725000" cy="4268160"/>
          </a:xfrm>
        </p:grpSpPr>
        <p:sp>
          <p:nvSpPr>
            <p:cNvPr id="139" name="_s9232"/>
            <p:cNvSpPr/>
            <p:nvPr/>
          </p:nvSpPr>
          <p:spPr>
            <a:xfrm flipH="1">
              <a:off x="5511600" y="4395960"/>
              <a:ext cx="571680" cy="32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9231"/>
            <p:cNvSpPr/>
            <p:nvPr/>
          </p:nvSpPr>
          <p:spPr>
            <a:xfrm>
              <a:off x="4287600" y="4395960"/>
              <a:ext cx="1312920" cy="1312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конструировал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ервый в мир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электротермически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ный двигатель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9230"/>
            <p:cNvSpPr/>
            <p:nvPr/>
          </p:nvSpPr>
          <p:spPr>
            <a:xfrm>
              <a:off x="7218000" y="4393440"/>
              <a:ext cx="569160" cy="33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9229"/>
            <p:cNvSpPr/>
            <p:nvPr/>
          </p:nvSpPr>
          <p:spPr>
            <a:xfrm>
              <a:off x="7700400" y="4395960"/>
              <a:ext cx="1312200" cy="1312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здал первы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течественны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жидкостны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ный двигатель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9228"/>
            <p:cNvSpPr/>
            <p:nvPr/>
          </p:nvSpPr>
          <p:spPr>
            <a:xfrm flipV="1">
              <a:off x="6650640" y="2752920"/>
              <a:ext cx="0" cy="65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9227"/>
            <p:cNvSpPr/>
            <p:nvPr/>
          </p:nvSpPr>
          <p:spPr>
            <a:xfrm>
              <a:off x="5994000" y="1440000"/>
              <a:ext cx="1312920" cy="13125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ыполнил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исследования п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опроса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жидкостны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вигателей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9226"/>
            <p:cNvSpPr/>
            <p:nvPr/>
          </p:nvSpPr>
          <p:spPr>
            <a:xfrm>
              <a:off x="5994000" y="3411360"/>
              <a:ext cx="1312920" cy="1312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Что сделал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.П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Глушко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457200" y="2057400"/>
            <a:ext cx="28954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5800" y="4191120"/>
            <a:ext cx="1573200" cy="21524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-152280" y="228240"/>
            <a:ext cx="449568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Сергей Павлович Короле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.П. Королев – конструктор первых ракетно-космических систем, лауреат Ленинской премии, дважды герой социалистического тру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046760" y="1728000"/>
            <a:ext cx="4871160" cy="4695840"/>
            <a:chOff x="4046760" y="1728000"/>
            <a:chExt cx="4871160" cy="4695840"/>
          </a:xfrm>
        </p:grpSpPr>
        <p:sp>
          <p:nvSpPr>
            <p:cNvPr id="150" name="_s11284"/>
            <p:cNvSpPr/>
            <p:nvPr/>
          </p:nvSpPr>
          <p:spPr>
            <a:xfrm flipH="1" flipV="1">
              <a:off x="5278680" y="3864960"/>
              <a:ext cx="602280" cy="19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1283"/>
            <p:cNvSpPr/>
            <p:nvPr/>
          </p:nvSpPr>
          <p:spPr>
            <a:xfrm>
              <a:off x="4046760" y="3040200"/>
              <a:ext cx="1263240" cy="1263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здал многи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искусственн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путники Земли 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ерв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межпланетн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зведчики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1282"/>
            <p:cNvSpPr/>
            <p:nvPr/>
          </p:nvSpPr>
          <p:spPr>
            <a:xfrm flipH="1">
              <a:off x="5736960" y="4768920"/>
              <a:ext cx="374040" cy="51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1281"/>
            <p:cNvSpPr/>
            <p:nvPr/>
          </p:nvSpPr>
          <p:spPr>
            <a:xfrm>
              <a:off x="4737240" y="5159880"/>
              <a:ext cx="1263960" cy="1263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д его руководство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были построены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ервые пилотируем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космические корабли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1279"/>
            <p:cNvSpPr/>
            <p:nvPr/>
          </p:nvSpPr>
          <p:spPr>
            <a:xfrm>
              <a:off x="6854760" y="4766400"/>
              <a:ext cx="370080" cy="51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11278"/>
            <p:cNvSpPr/>
            <p:nvPr/>
          </p:nvSpPr>
          <p:spPr>
            <a:xfrm>
              <a:off x="6965280" y="5158080"/>
              <a:ext cx="1263960" cy="1263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уководил создание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 дальнег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ействия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1277"/>
            <p:cNvSpPr/>
            <p:nvPr/>
          </p:nvSpPr>
          <p:spPr>
            <a:xfrm flipV="1">
              <a:off x="7082640" y="3866760"/>
              <a:ext cx="602280" cy="1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1276"/>
            <p:cNvSpPr/>
            <p:nvPr/>
          </p:nvSpPr>
          <p:spPr>
            <a:xfrm>
              <a:off x="7653960" y="3038040"/>
              <a:ext cx="1263960" cy="1263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здал перву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ветскую крылату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у и первы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ный планер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11275"/>
            <p:cNvSpPr/>
            <p:nvPr/>
          </p:nvSpPr>
          <p:spPr>
            <a:xfrm flipV="1">
              <a:off x="6482160" y="2991600"/>
              <a:ext cx="0" cy="63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1274"/>
            <p:cNvSpPr/>
            <p:nvPr/>
          </p:nvSpPr>
          <p:spPr>
            <a:xfrm>
              <a:off x="5850360" y="1728000"/>
              <a:ext cx="1263960" cy="1263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уководил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запусками первы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ветских раке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1273"/>
            <p:cNvSpPr/>
            <p:nvPr/>
          </p:nvSpPr>
          <p:spPr>
            <a:xfrm>
              <a:off x="5850360" y="3625920"/>
              <a:ext cx="1263960" cy="1263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Что сдела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С.П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Королев?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04920" y="1676520"/>
            <a:ext cx="281916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2604960" cy="32259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-360" y="1447920"/>
            <a:ext cx="3886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Юрий Алексеевич Гагар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Ю.А. Гагарин – летчик-космонавт ССС, полковник, Герой Советского Союза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759200" y="1749960"/>
            <a:ext cx="4272840" cy="4424040"/>
            <a:chOff x="4759200" y="1749960"/>
            <a:chExt cx="4272840" cy="4424040"/>
          </a:xfrm>
        </p:grpSpPr>
        <p:sp>
          <p:nvSpPr>
            <p:cNvPr id="165" name="_s157714"/>
            <p:cNvSpPr/>
            <p:nvPr/>
          </p:nvSpPr>
          <p:spPr>
            <a:xfrm flipH="1">
              <a:off x="5826240" y="3962160"/>
              <a:ext cx="53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57713"/>
            <p:cNvSpPr/>
            <p:nvPr/>
          </p:nvSpPr>
          <p:spPr>
            <a:xfrm>
              <a:off x="4759200" y="3409560"/>
              <a:ext cx="1067400" cy="1104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Участвовал в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бучении экипаже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космонавтов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157711"/>
            <p:cNvSpPr/>
            <p:nvPr/>
          </p:nvSpPr>
          <p:spPr>
            <a:xfrm>
              <a:off x="6895800" y="4514400"/>
              <a:ext cx="0" cy="55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57710"/>
            <p:cNvSpPr/>
            <p:nvPr/>
          </p:nvSpPr>
          <p:spPr>
            <a:xfrm>
              <a:off x="6362280" y="5069160"/>
              <a:ext cx="1067400" cy="1104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блетел Земл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 эллиптическо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рбите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57709"/>
            <p:cNvSpPr/>
            <p:nvPr/>
          </p:nvSpPr>
          <p:spPr>
            <a:xfrm>
              <a:off x="7429680" y="3962160"/>
              <a:ext cx="53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57708"/>
            <p:cNvSpPr/>
            <p:nvPr/>
          </p:nvSpPr>
          <p:spPr>
            <a:xfrm>
              <a:off x="7965000" y="3409560"/>
              <a:ext cx="1067040" cy="1104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ыполнил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заданну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ограмму 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иземлилс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 заданно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йоне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57707"/>
            <p:cNvSpPr/>
            <p:nvPr/>
          </p:nvSpPr>
          <p:spPr>
            <a:xfrm flipV="1">
              <a:off x="6895800" y="2854800"/>
              <a:ext cx="0" cy="55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57706"/>
            <p:cNvSpPr/>
            <p:nvPr/>
          </p:nvSpPr>
          <p:spPr>
            <a:xfrm>
              <a:off x="6362280" y="1749960"/>
              <a:ext cx="1067400" cy="1105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тал человеком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перв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летевши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 космос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57705"/>
            <p:cNvSpPr/>
            <p:nvPr/>
          </p:nvSpPr>
          <p:spPr>
            <a:xfrm>
              <a:off x="6362280" y="3409560"/>
              <a:ext cx="1067400" cy="1104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Что сделал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Ю.А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Гагарин?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457200" y="1905120"/>
            <a:ext cx="27432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143000" y="3124080"/>
            <a:ext cx="187488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Космический дневник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371600"/>
          <a:ext cx="4038480" cy="25542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октября 19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СР запускает первый искусственный спутник Земл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ноября 19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йка первое живое существо, облетевшее вокруг Земл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сентября 19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етский спутник «Луна 2»  первым достиг Лу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октября 19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уна 3» впервые сни-мает на пленку обратную сторону Лу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4648320" y="1371600"/>
          <a:ext cx="4190760" cy="2735280"/>
        </p:xfrm>
        <a:graphic>
          <a:graphicData uri="http://schemas.openxmlformats.org/drawingml/2006/table">
            <a:tbl>
              <a:tblPr/>
              <a:tblGrid>
                <a:gridCol w="2095560"/>
                <a:gridCol w="209520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февраля 19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уна 9» передает на Землю первый фотографии Лу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декабря 19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ипаж «Аполлона 8» -первые люди, совершившие облет Лу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сентября 19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пилотный зонд «Луна 16» доставляет на Землю образцы лунной почв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июля 1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ая совместная экспедиция СССР и США: стыковка «Союза» и «Аполлон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57200" y="3962520"/>
          <a:ext cx="4038480" cy="273528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апреля 19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. Гагарин совершает виток вокруг Земли на корабле «Восток 1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августа 19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ман Титов совершает космический полет вокруг Земли предолжи-теьностью в ст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июня 19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лентина Терешкова – первая женщина в Космосе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марта 19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ый выход в открытый Космос – Алексей Леон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4648320" y="4114800"/>
          <a:ext cx="4190760" cy="2573280"/>
        </p:xfrm>
        <a:graphic>
          <a:graphicData uri="http://schemas.openxmlformats.org/drawingml/2006/table">
            <a:tbl>
              <a:tblPr/>
              <a:tblGrid>
                <a:gridCol w="2095560"/>
                <a:gridCol w="209520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февраля 19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уск советской станции «Мир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декабря 19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димир Титов и Муса Манаров завершают первый космический полет продолжительностью 1 год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июня 19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смический челнок «Атлантис» стыкуется на орбите с российской станцией «Мир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7:00:05Z</dcterms:created>
  <dc:creator>User</dc:creator>
  <dc:description/>
  <dc:language>en-US</dc:language>
  <cp:lastModifiedBy>Name</cp:lastModifiedBy>
  <dcterms:modified xsi:type="dcterms:W3CDTF">2010-09-23T12:06:18Z</dcterms:modified>
  <cp:revision>6</cp:revision>
  <dc:subject/>
  <dc:title>Космические корабл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03000000000001024140</vt:lpwstr>
  </property>
  <property fmtid="{D5CDD505-2E9C-101B-9397-08002B2CF9AE}" pid="3" name="Version">
    <vt:r8>1</vt:r8>
  </property>
</Properties>
</file>