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01AE-0432-4D51-B2A8-EF4EEA67BE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D3D-EEDE-45C6-885B-0C985603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0AA-052C-4056-A588-89267423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1BC-9D53-42A8-9786-111F5EF0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4CD-4D04-45FD-9559-3DF266A2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A961-411D-4DC0-BEDE-760E8963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0C40-59A8-4AB4-9833-FEAC9624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2DE5-9FE6-4669-A8DA-49AD32F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E7D0-1407-450C-A66C-2E5E756D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0463-E4E6-4362-AF3C-382F7093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22FB-1849-461B-B0B6-5CD96CFD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F581-8827-4F04-8905-ABF83048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D57-C9DE-47D8-8F35-44EB825C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DB9D-CC4C-47E3-A619-A1480F9E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F1AC-353F-47CC-9E2B-D63D5DC1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7FBB-F480-4104-AC29-DA429DD9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2E03-E106-40A2-9779-38ED139B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D361-E582-4D0F-8297-40340C5C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6EC-7326-4154-BDDD-BCC944D3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A0F-D375-44E8-B7D5-10277554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497-1915-445A-88EF-AB1B1BC3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E4A-E846-4AEB-897F-10F55B5A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C52-64EA-400B-904D-6E9EF528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819-6719-4FD5-B187-54CE1E51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CBA-55DE-4BF7-B9C1-2349E296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BFC5-40B3-462B-8A89-680EAB03BA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3659-F672-4E43-A349-98D0EA03B1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реля - День Космонав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анды шк. №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Дети Энштейн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6003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ий быт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ое снаряж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мический скафандр – это герметичный костюм, в котором космонавт может жить и работать в открытом космическом пространстве, на поверхности небесных тел. Он содержит почти все блоки и системы, имеющиеся в отсеках корабля. В скафандре космонавт нормально дышит, двигается, ему не жарко и не холодно, хотя снаружи температура меняется в самых широких преде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ая е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62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самого начала разработки программ полетов в космос разрабатывались новые методы обработки и упаковки обычной пищи. Космическую пищу приготовляют главным образом методом сублимационного обезвоживания. Этот способ обработки пищи в настоящее время в ограниченных масштабах применяется в странах Европы и Америки. Большую часть натуральной пищи по весу составляет вода. Если удалить воду, то вес продуктов питания будет значительно уменьшен, а простое добавление воды в такую пищу сделает ее съедобной. Этим способом можно снизить вес пищи на 70%. На борту корабля «Аполлон» для хранения пищи отводится пространство объемом всего лишь 0,13,  такой выигрыш в объеме продуктов питания кажется особенно привлекательным. Всего лишь 0,589 кг такой пищи будет достаточно для одного космонавта в течение суток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746360"/>
            <a:ext cx="2971800" cy="204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03800" y="3941640"/>
            <a:ext cx="2925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рога в космо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00200" y="1730520"/>
            <a:ext cx="5867280" cy="3962160"/>
            <a:chOff x="1600200" y="1730520"/>
            <a:chExt cx="5867280" cy="3962160"/>
          </a:xfrm>
        </p:grpSpPr>
        <p:sp>
          <p:nvSpPr>
            <p:cNvPr id="190" name="_s146445"/>
            <p:cNvSpPr/>
            <p:nvPr/>
          </p:nvSpPr>
          <p:spPr>
            <a:xfrm flipH="1" flipV="1">
              <a:off x="3557160" y="3533400"/>
              <a:ext cx="50796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46444"/>
            <p:cNvSpPr/>
            <p:nvPr/>
          </p:nvSpPr>
          <p:spPr>
            <a:xfrm>
              <a:off x="1600200" y="2971800"/>
              <a:ext cx="1982880" cy="932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ставл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ру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46443"/>
            <p:cNvSpPr/>
            <p:nvPr/>
          </p:nvSpPr>
          <p:spPr>
            <a:xfrm flipH="1">
              <a:off x="3943080" y="4295880"/>
              <a:ext cx="31572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46442"/>
            <p:cNvSpPr/>
            <p:nvPr/>
          </p:nvSpPr>
          <p:spPr>
            <a:xfrm>
              <a:off x="2362320" y="4626000"/>
              <a:ext cx="1803240" cy="1066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втома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план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46449"/>
            <p:cNvSpPr/>
            <p:nvPr/>
          </p:nvSpPr>
          <p:spPr>
            <a:xfrm>
              <a:off x="4884840" y="4295880"/>
              <a:ext cx="314280" cy="43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46448"/>
            <p:cNvSpPr/>
            <p:nvPr/>
          </p:nvSpPr>
          <p:spPr>
            <a:xfrm>
              <a:off x="4979880" y="4626000"/>
              <a:ext cx="1801800" cy="1066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бит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46447"/>
            <p:cNvSpPr/>
            <p:nvPr/>
          </p:nvSpPr>
          <p:spPr>
            <a:xfrm flipV="1">
              <a:off x="5078520" y="3534840"/>
              <a:ext cx="509400" cy="165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46446"/>
            <p:cNvSpPr/>
            <p:nvPr/>
          </p:nvSpPr>
          <p:spPr>
            <a:xfrm>
              <a:off x="5560920" y="2971800"/>
              <a:ext cx="1906560" cy="932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раб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46441"/>
            <p:cNvSpPr/>
            <p:nvPr/>
          </p:nvSpPr>
          <p:spPr>
            <a:xfrm flipV="1">
              <a:off x="4572000" y="279720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46440"/>
            <p:cNvSpPr/>
            <p:nvPr/>
          </p:nvSpPr>
          <p:spPr>
            <a:xfrm>
              <a:off x="3581280" y="1730520"/>
              <a:ext cx="2133720" cy="10666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у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ем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46439"/>
            <p:cNvSpPr/>
            <p:nvPr/>
          </p:nvSpPr>
          <p:spPr>
            <a:xfrm>
              <a:off x="3886200" y="3332160"/>
              <a:ext cx="1371600" cy="10666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сми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к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води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ая ракета – ракета-носите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ракеты состоят из нескольких меньших ракет – ракетных ступе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запуске в космос они работают по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ачала весь «ракетный поезд» везет первая ступ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в ней израсходуется все топливо, она отделяется от ракеты и падает на Землю, тут же включаются двигатели второй сту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эстафета передается последней, третьей ступени, которая несет полезный груз – автоматическую станцию или космический корабль – и достигает нужной космической скор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кипажа важно чувствовать себя по-домашнему и ориентироватьс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психологами разработан успокаивающий, «пастельный» декор. В станции есть «пол» и «потолок», хотя при невесомости понятия «верх» и «низ» отсутствуют. Космонавты могут прослушивать записи с родными звуками Земли: шумом моря, порывами ветра, пением птиц и шуршанием листь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" y="636480"/>
            <a:ext cx="8228880" cy="3123720"/>
            <a:chOff x="457200" y="636480"/>
            <a:chExt cx="8228880" cy="3123720"/>
          </a:xfrm>
        </p:grpSpPr>
        <p:cxnSp>
          <p:nvCxnSpPr>
            <p:cNvPr id="206" name="_s16405"/>
            <p:cNvCxnSpPr>
              <a:stCxn id="207" idx="0"/>
              <a:endCxn id="208" idx="2"/>
            </p:cNvCxnSpPr>
            <p:nvPr/>
          </p:nvCxnSpPr>
          <p:spPr>
            <a:xfrm flipV="1">
              <a:off x="745164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16403"/>
            <p:cNvCxnSpPr>
              <a:stCxn id="210" idx="0"/>
              <a:endCxn id="211" idx="2"/>
            </p:cNvCxnSpPr>
            <p:nvPr/>
          </p:nvCxnSpPr>
          <p:spPr>
            <a:xfrm flipV="1">
              <a:off x="457128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16401"/>
            <p:cNvCxnSpPr>
              <a:stCxn id="213" idx="0"/>
              <a:endCxn id="214" idx="2"/>
            </p:cNvCxnSpPr>
            <p:nvPr/>
          </p:nvCxnSpPr>
          <p:spPr>
            <a:xfrm flipV="1">
              <a:off x="169092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16399"/>
            <p:cNvCxnSpPr>
              <a:stCxn id="208" idx="0"/>
              <a:endCxn id="216" idx="2"/>
            </p:cNvCxnSpPr>
            <p:nvPr/>
          </p:nvCxnSpPr>
          <p:spPr>
            <a:xfrm flipV="1" rot="16200000">
              <a:off x="5817240" y="173160"/>
              <a:ext cx="390960" cy="287820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6398"/>
            <p:cNvCxnSpPr>
              <a:stCxn id="211" idx="0"/>
              <a:endCxn id="216" idx="2"/>
            </p:cNvCxnSpPr>
            <p:nvPr/>
          </p:nvCxnSpPr>
          <p:spPr>
            <a:xfrm flipH="1" flipV="1" rot="5400000">
              <a:off x="4377240" y="1610640"/>
              <a:ext cx="390960" cy="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6397"/>
            <p:cNvCxnSpPr>
              <a:stCxn id="214" idx="0"/>
              <a:endCxn id="216" idx="2"/>
            </p:cNvCxnSpPr>
            <p:nvPr/>
          </p:nvCxnSpPr>
          <p:spPr>
            <a:xfrm flipH="1" flipV="1" rot="5400000">
              <a:off x="2936880" y="170640"/>
              <a:ext cx="390960" cy="288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6393"/>
            <p:cNvSpPr/>
            <p:nvPr/>
          </p:nvSpPr>
          <p:spPr>
            <a:xfrm>
              <a:off x="3048840" y="636480"/>
              <a:ext cx="304524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битальная станция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дом» космонав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6394"/>
            <p:cNvSpPr/>
            <p:nvPr/>
          </p:nvSpPr>
          <p:spPr>
            <a:xfrm>
              <a:off x="45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Салют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6395"/>
            <p:cNvSpPr/>
            <p:nvPr/>
          </p:nvSpPr>
          <p:spPr>
            <a:xfrm>
              <a:off x="333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Ми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6396"/>
            <p:cNvSpPr/>
            <p:nvPr/>
          </p:nvSpPr>
          <p:spPr>
            <a:xfrm>
              <a:off x="621756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дунаро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ая стан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МКС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6400"/>
            <p:cNvSpPr/>
            <p:nvPr/>
          </p:nvSpPr>
          <p:spPr>
            <a:xfrm>
              <a:off x="45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апреля 197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ледний «Салют 7» сейча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обитаем, до сих пор на орб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6402"/>
            <p:cNvSpPr/>
            <p:nvPr/>
          </p:nvSpPr>
          <p:spPr>
            <a:xfrm>
              <a:off x="333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февраля 1986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веден с орби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 марта 200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6404"/>
            <p:cNvSpPr/>
            <p:nvPr/>
          </p:nvSpPr>
          <p:spPr>
            <a:xfrm>
              <a:off x="621756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 декабря 1998 г. астронав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СА соединяют американ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российский модули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чав строительство МК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рбитальная станция – это тяжелый искусственный спутник, длительное время совершающий полет по околоземной, окололунной или околопланетной орби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 ней можно проводить комплекс разнообразных исследований, так как здесь имеются все необходимые условия для продолжительной работы космонав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тличие от пилотируемых кораблей орбитальные станции не возвращаются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танция имеет большие размеры, в ней создается максимум удобств для обитателей, размещено необходимое оборудование и аппаратура, экипаж имеет возможность нормально жить и работат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мический корабль – это летательный аппарат, предназначенный для полета людей или перевозки груза в космическ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осмические корабли для полета по околоземным орбитам называются кораблями-спутниками, а для полета к другим небесным телам – межпланетными корабля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корабле три отсека: орбитальный, приборно-агрегатный и спускаемый аппара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рбитальном отсеке космонавты работают и отдыхают во время полета по орби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спускаемом аппарате космонавты находятся во время выведения на орбиту, стыковки и спуска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приборно-агрегатном отсеке находятся основные служебные системы кораб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нтр управления полет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только космический корабль или орбитальная станция отделяются от последней ступени ракеты, выносящей их в космос, они становятся объектами работы для специалистов в Центре управления пол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ый зал управления – просторное помещение, уставленное рядами пультов,  тремя экранами и несколькими табло на передней стене – поражает соей тишиной. Нарушает ее только голос оператора, ведущего связь с космонав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 управления не только руководит деятельностью экипажа, следит за функционированием систем и агрегатов космических аппаратов, но и координирует работу многочисленных наземных и корабельных станций сле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агодаря станциям слежения мы не только слышим, но и видим обитателей космического дома. Космонавты регулярно проводят телерепортажи, показывают землянам их планету, Луну, россыпи ярко сияющих на черном небе звез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0" r="0" b="7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200400" y="1066680"/>
            <a:ext cx="261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07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1 У истоков зарождения космонавти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1 Пионеры русской космонав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тантин Эдуардович Циол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алентин Петрович Глу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ргей Павлович Коро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Юрий Алексеевич Га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2 Космический 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2 Космический б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 Космическое сна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2 Космическая 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3 Дорога в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1 Космическая ракета – ракета-нос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2 Орбитальная станция – «дом» космонав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 Космически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4 Центр управления по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У истоков зарождения космонавтик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23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чта о проникновении в космос, стремление человека к звездам родились тысячелетия назад. Первые пороховые ракеты появились в давние времена сначала для фейерверков, а затем для военного применения. Идея использования ракет для полета к небесным телам упоминается в романах французских авторов: Сирано де Бержерака, Жюля Верна и Ашиля Эйро, в произведении американского писателя Э.Э. Хэйла, известного английского писателя Герберта Уэль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152280" y="1371240"/>
            <a:ext cx="396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И.Кибальчич – известный русский революционер-народоволец, один из пионеров ракетной техники, изобре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85200" y="1435680"/>
            <a:ext cx="4753800" cy="4227480"/>
            <a:chOff x="3985200" y="1435680"/>
            <a:chExt cx="4753800" cy="4227480"/>
          </a:xfrm>
        </p:grpSpPr>
        <p:sp>
          <p:nvSpPr>
            <p:cNvPr id="112" name="_s13327"/>
            <p:cNvSpPr/>
            <p:nvPr/>
          </p:nvSpPr>
          <p:spPr>
            <a:xfrm flipH="1">
              <a:off x="5216040" y="4363560"/>
              <a:ext cx="57492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326"/>
            <p:cNvSpPr/>
            <p:nvPr/>
          </p:nvSpPr>
          <p:spPr>
            <a:xfrm>
              <a:off x="3985200" y="436356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делал вывод, ч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жущей сил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ов долж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ь реактивн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ила газов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325"/>
            <p:cNvSpPr/>
            <p:nvPr/>
          </p:nvSpPr>
          <p:spPr>
            <a:xfrm>
              <a:off x="6933240" y="4361040"/>
              <a:ext cx="572400" cy="32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324"/>
            <p:cNvSpPr/>
            <p:nvPr/>
          </p:nvSpPr>
          <p:spPr>
            <a:xfrm>
              <a:off x="7418520" y="4363560"/>
              <a:ext cx="132048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едложил созда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, прообраз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ремен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илотируемы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323"/>
            <p:cNvSpPr/>
            <p:nvPr/>
          </p:nvSpPr>
          <p:spPr>
            <a:xfrm flipV="1">
              <a:off x="6362280" y="2735640"/>
              <a:ext cx="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322"/>
            <p:cNvSpPr/>
            <p:nvPr/>
          </p:nvSpPr>
          <p:spPr>
            <a:xfrm>
              <a:off x="5702040" y="1435680"/>
              <a:ext cx="1320840" cy="1300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писал рукопись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«Проек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ог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бора»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321"/>
            <p:cNvSpPr/>
            <p:nvPr/>
          </p:nvSpPr>
          <p:spPr>
            <a:xfrm>
              <a:off x="5702040" y="338832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.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ибальчич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1676520"/>
            <a:ext cx="2286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981080"/>
            <a:ext cx="1143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ионеры русской космонавтик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466720" cy="2863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онстантин Эдуардович Циолковский.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оположником космонавтики, создателем теории ракетного полета, основных принципов построения ракетно-космических систем, автором первых научных планов проникновения человека в межпланетное пространство и завоевания космоса является К.Э.Циолковский.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430080" y="1496880"/>
            <a:ext cx="5328000" cy="5193360"/>
            <a:chOff x="3430080" y="1496880"/>
            <a:chExt cx="5328000" cy="5193360"/>
          </a:xfrm>
        </p:grpSpPr>
        <p:sp>
          <p:nvSpPr>
            <p:cNvPr id="126" name="_s10292"/>
            <p:cNvSpPr/>
            <p:nvPr/>
          </p:nvSpPr>
          <p:spPr>
            <a:xfrm flipV="1">
              <a:off x="6092280" y="27882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291"/>
            <p:cNvSpPr/>
            <p:nvPr/>
          </p:nvSpPr>
          <p:spPr>
            <a:xfrm>
              <a:off x="5430240" y="149688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своих статья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ложил основ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ор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и жидкостн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я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94"/>
            <p:cNvSpPr/>
            <p:nvPr/>
          </p:nvSpPr>
          <p:spPr>
            <a:xfrm>
              <a:off x="6754680" y="4092120"/>
              <a:ext cx="67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293"/>
            <p:cNvSpPr/>
            <p:nvPr/>
          </p:nvSpPr>
          <p:spPr>
            <a:xfrm>
              <a:off x="7430040" y="3445560"/>
              <a:ext cx="132804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ычислил запас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оплива, необходим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ля преодол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кетой сил сопро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ивления воздуш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лочки Зем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290"/>
            <p:cNvSpPr/>
            <p:nvPr/>
          </p:nvSpPr>
          <p:spPr>
            <a:xfrm>
              <a:off x="6092280" y="47376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289"/>
            <p:cNvSpPr/>
            <p:nvPr/>
          </p:nvSpPr>
          <p:spPr>
            <a:xfrm>
              <a:off x="5430240" y="53949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работал теори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ногоступенчаты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84"/>
            <p:cNvSpPr/>
            <p:nvPr/>
          </p:nvSpPr>
          <p:spPr>
            <a:xfrm flipH="1">
              <a:off x="4755240" y="4092120"/>
              <a:ext cx="67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283"/>
            <p:cNvSpPr/>
            <p:nvPr/>
          </p:nvSpPr>
          <p:spPr>
            <a:xfrm>
              <a:off x="343008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шил задачу 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садке раке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верхность план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282"/>
            <p:cNvSpPr/>
            <p:nvPr/>
          </p:nvSpPr>
          <p:spPr>
            <a:xfrm>
              <a:off x="543024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.Э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Циолковский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33520" y="1752480"/>
            <a:ext cx="36576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363760" cy="2828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350532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алентин Петрович Глушко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П. Глушко –  выдающийся ученый в области ракетно-космической техники, один из пионеров космонавтики, основоположник отечественного жидкостного ракетного двигателестро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87600" y="1440000"/>
            <a:ext cx="4725000" cy="4268160"/>
            <a:chOff x="4287600" y="1440000"/>
            <a:chExt cx="4725000" cy="4268160"/>
          </a:xfrm>
        </p:grpSpPr>
        <p:sp>
          <p:nvSpPr>
            <p:cNvPr id="139" name="_s9232"/>
            <p:cNvSpPr/>
            <p:nvPr/>
          </p:nvSpPr>
          <p:spPr>
            <a:xfrm flipH="1">
              <a:off x="5511600" y="4395960"/>
              <a:ext cx="5716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31"/>
            <p:cNvSpPr/>
            <p:nvPr/>
          </p:nvSpPr>
          <p:spPr>
            <a:xfrm>
              <a:off x="4287600" y="43959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конструирова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й в мир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электротермическ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30"/>
            <p:cNvSpPr/>
            <p:nvPr/>
          </p:nvSpPr>
          <p:spPr>
            <a:xfrm>
              <a:off x="7218000" y="4393440"/>
              <a:ext cx="56916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29"/>
            <p:cNvSpPr/>
            <p:nvPr/>
          </p:nvSpPr>
          <p:spPr>
            <a:xfrm>
              <a:off x="7700400" y="4395960"/>
              <a:ext cx="131220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ечествен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28"/>
            <p:cNvSpPr/>
            <p:nvPr/>
          </p:nvSpPr>
          <p:spPr>
            <a:xfrm flipV="1">
              <a:off x="6650640" y="2752920"/>
              <a:ext cx="0" cy="65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227"/>
            <p:cNvSpPr/>
            <p:nvPr/>
          </p:nvSpPr>
          <p:spPr>
            <a:xfrm>
              <a:off x="5994000" y="1440000"/>
              <a:ext cx="1312920" cy="1312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следования п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прос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ей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9226"/>
            <p:cNvSpPr/>
            <p:nvPr/>
          </p:nvSpPr>
          <p:spPr>
            <a:xfrm>
              <a:off x="5994000" y="34113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.П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лушко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" y="2057400"/>
            <a:ext cx="28954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73200" cy="2152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152280" y="228240"/>
            <a:ext cx="449568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Сергей Павлович Корол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П. Королев – конструктор первых ракетно-космических систем, лауреат Ленинской премии, дважды герой социалистического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046760" y="1728000"/>
            <a:ext cx="4871160" cy="4695840"/>
            <a:chOff x="4046760" y="1728000"/>
            <a:chExt cx="4871160" cy="4695840"/>
          </a:xfrm>
        </p:grpSpPr>
        <p:sp>
          <p:nvSpPr>
            <p:cNvPr id="150" name="_s11284"/>
            <p:cNvSpPr/>
            <p:nvPr/>
          </p:nvSpPr>
          <p:spPr>
            <a:xfrm flipH="1" flipV="1">
              <a:off x="5278680" y="3864960"/>
              <a:ext cx="60228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1283"/>
            <p:cNvSpPr/>
            <p:nvPr/>
          </p:nvSpPr>
          <p:spPr>
            <a:xfrm>
              <a:off x="4046760" y="3040200"/>
              <a:ext cx="126324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мног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утники Земли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ежпланет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ведчик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1282"/>
            <p:cNvSpPr/>
            <p:nvPr/>
          </p:nvSpPr>
          <p:spPr>
            <a:xfrm flipH="1">
              <a:off x="5736960" y="4768920"/>
              <a:ext cx="374040" cy="51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1281"/>
            <p:cNvSpPr/>
            <p:nvPr/>
          </p:nvSpPr>
          <p:spPr>
            <a:xfrm>
              <a:off x="4737240" y="515988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д его руководств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ыли построен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пилотируе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ические кораб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1279"/>
            <p:cNvSpPr/>
            <p:nvPr/>
          </p:nvSpPr>
          <p:spPr>
            <a:xfrm>
              <a:off x="6854760" y="4766400"/>
              <a:ext cx="370080" cy="5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1278"/>
            <p:cNvSpPr/>
            <p:nvPr/>
          </p:nvSpPr>
          <p:spPr>
            <a:xfrm>
              <a:off x="6965280" y="515808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создание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дальне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йствия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1277"/>
            <p:cNvSpPr/>
            <p:nvPr/>
          </p:nvSpPr>
          <p:spPr>
            <a:xfrm flipV="1">
              <a:off x="7082640" y="3866760"/>
              <a:ext cx="602280" cy="1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1276"/>
            <p:cNvSpPr/>
            <p:nvPr/>
          </p:nvSpPr>
          <p:spPr>
            <a:xfrm>
              <a:off x="7653960" y="303804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ую крылат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у и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планер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275"/>
            <p:cNvSpPr/>
            <p:nvPr/>
          </p:nvSpPr>
          <p:spPr>
            <a:xfrm flipV="1">
              <a:off x="6482160" y="2991600"/>
              <a:ext cx="0" cy="63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74"/>
            <p:cNvSpPr/>
            <p:nvPr/>
          </p:nvSpPr>
          <p:spPr>
            <a:xfrm>
              <a:off x="5850360" y="172800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пусками перв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и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73"/>
            <p:cNvSpPr/>
            <p:nvPr/>
          </p:nvSpPr>
          <p:spPr>
            <a:xfrm>
              <a:off x="5850360" y="362592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.П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ролев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4920" y="1676520"/>
            <a:ext cx="28191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604960" cy="3225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Юрий Алексеевич Гага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Ю.А. Гагарин – летчик-космонавт ССС, полковник, Герой Советского Союза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59200" y="1749960"/>
            <a:ext cx="4272840" cy="4424040"/>
            <a:chOff x="4759200" y="1749960"/>
            <a:chExt cx="4272840" cy="4424040"/>
          </a:xfrm>
        </p:grpSpPr>
        <p:sp>
          <p:nvSpPr>
            <p:cNvPr id="165" name="_s157714"/>
            <p:cNvSpPr/>
            <p:nvPr/>
          </p:nvSpPr>
          <p:spPr>
            <a:xfrm flipH="1">
              <a:off x="582624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57713"/>
            <p:cNvSpPr/>
            <p:nvPr/>
          </p:nvSpPr>
          <p:spPr>
            <a:xfrm>
              <a:off x="475920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вовал в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учении экипаже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онавтов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57711"/>
            <p:cNvSpPr/>
            <p:nvPr/>
          </p:nvSpPr>
          <p:spPr>
            <a:xfrm>
              <a:off x="6895800" y="4514400"/>
              <a:ext cx="0" cy="55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7710"/>
            <p:cNvSpPr/>
            <p:nvPr/>
          </p:nvSpPr>
          <p:spPr>
            <a:xfrm>
              <a:off x="6362280" y="50691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етел Земл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эллиптическ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бит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57709"/>
            <p:cNvSpPr/>
            <p:nvPr/>
          </p:nvSpPr>
          <p:spPr>
            <a:xfrm>
              <a:off x="742968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57708"/>
            <p:cNvSpPr/>
            <p:nvPr/>
          </p:nvSpPr>
          <p:spPr>
            <a:xfrm>
              <a:off x="7965000" y="3409560"/>
              <a:ext cx="106704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данн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грамму 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землилс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заданн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йон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7707"/>
            <p:cNvSpPr/>
            <p:nvPr/>
          </p:nvSpPr>
          <p:spPr>
            <a:xfrm flipV="1">
              <a:off x="6895800" y="2854800"/>
              <a:ext cx="0" cy="55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57706"/>
            <p:cNvSpPr/>
            <p:nvPr/>
          </p:nvSpPr>
          <p:spPr>
            <a:xfrm>
              <a:off x="6362280" y="1749960"/>
              <a:ext cx="1067400" cy="1105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л человеком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летевши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космос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57705"/>
            <p:cNvSpPr/>
            <p:nvPr/>
          </p:nvSpPr>
          <p:spPr>
            <a:xfrm>
              <a:off x="636228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Ю.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агарин?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1905120"/>
            <a:ext cx="2743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1874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ий дневник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4038480" cy="255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 запускает первый искусственный спутник Зем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йка первое живое существо, облетевшее вокруг Зем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сен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ский спутник «Луна 2»  первым достиг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3» впервые сни-мает на пленку обратную сторону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648320" y="1371600"/>
          <a:ext cx="4190760" cy="2735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февраля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9» передает на Землю первый фотографии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декабря 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ипаж «Аполлона 8» -первые люди, совершившие облет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сентября 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илотный зонд «Луна 16» доставляет на Землю образцы лунной поч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июля 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совместная экспедиция СССР и США: стыковка «Союза» и «Аполлон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" y="3962520"/>
          <a:ext cx="4038480" cy="27352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апреля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. Гагарин совершает виток вокруг Земли на корабле «Восток 1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августа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 Титов совершает космический полет вокруг Земли предолжи-теьностью в с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июня 1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ина Терешкова – первая женщина в Космос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рта 1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выход в открытый Космос – Алексей Ле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8320" y="4114800"/>
          <a:ext cx="4190760" cy="2573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февраля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советской станции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декабря 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 Титов и Муса Манаров завершают первый космический полет продолжительностью 1 го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ня 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мический челнок «Атлантис» стыкуется на орбите с российской станцией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00:05Z</dcterms:created>
  <dc:creator>User</dc:creator>
  <dc:description/>
  <dc:language>en-US</dc:language>
  <cp:lastModifiedBy>Name</cp:lastModifiedBy>
  <dcterms:modified xsi:type="dcterms:W3CDTF">2010-09-23T12:06:18Z</dcterms:modified>
  <cp:revision>6</cp:revision>
  <dc:subject/>
  <dc:title>Космические кораб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3000000000001024140</vt:lpwstr>
  </property>
  <property fmtid="{D5CDD505-2E9C-101B-9397-08002B2CF9AE}" pid="3" name="Version">
    <vt:r8>1</vt:r8>
  </property>
</Properties>
</file>