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EEE6-74F3-4110-A3CE-C6BBB933D8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8C8A-460A-4ECC-B5E0-D100B73E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FA6-3D0D-4AA8-B8DB-01318123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7F08-319B-4FDF-AD32-462EDBE0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7E1-33BA-4142-AC66-2D2930FA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6B19-3C87-4B0E-AD91-475F46F8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D08A-902D-475E-B93E-78B40DBC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5DBA-40A1-4085-862F-2C85F634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174B-0BAD-4B42-9D6C-F519B04E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98DE-DF13-4BCE-9E6E-7776C8C8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5A44-3145-4597-83BD-B6F00AF7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308F-58A8-4A11-A074-53528A4E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C7D-D161-44FB-A73B-3D153E1B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B1E4-7183-491A-8278-22697C16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CB2A-0301-46DB-AB9E-FEE1FBD7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E5F9-3EE3-4EE6-847E-EDA4AF83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A6B8-AAF6-4922-9A1E-492370BF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C377-ADE5-4B96-B335-222E61ED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AC67-2779-4B17-B260-B9BA22FE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CD9-3F4D-46F8-8097-060D4D29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9A2-8382-43D4-AC2C-E337B318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3E68-D0A3-46AC-890C-43179ED6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DE67-D474-449D-9B38-B6D1AE79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6CF-40DE-4381-9156-1217B0E4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59BC-390A-4108-BBE1-7DF5DA17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7B94-42EC-4805-B7B3-C96EF63F62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9E1A-BE3C-4291-B8D0-5E6548CA17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преля - День Космонав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анды шк. №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Дети Энштейн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60036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ий быт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ое снаряже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мический скафандр – это герметичный костюм, в котором космонавт может жить и работать в открытом космическом пространстве, на поверхности небесных тел. Он содержит почти все блоки и системы, имеющиеся в отсеках корабля. В скафандре космонавт нормально дышит, двигается, ему не жарко и не холодно, хотя снаружи температура меняется в самых широких предел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смическая ед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4621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самого начала разработки программ полетов в космос разрабатывались новые методы обработки и упаковки обычной пищи. Космическую пищу приготовляют главным образом методом сублимационного обезвоживания. Этот способ обработки пищи в настоящее время в ограниченных масштабах применяется в странах Европы и Америки. Большую часть натуральной пищи по весу составляет вода. Если удалить воду, то вес продуктов питания будет значительно уменьшен, а простое добавление воды в такую пищу сделает ее съедобной. Этим способом можно снизить вес пищи на 70%. На борту корабля «Аполлон» для хранения пищи отводится пространство объемом всего лишь 0,13,  такой выигрыш в объеме продуктов питания кажется особенно привлекательным. Всего лишь 0,589 кг такой пищи будет достаточно для одного космонавта в течение суток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746360"/>
            <a:ext cx="2971800" cy="2047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03800" y="3941640"/>
            <a:ext cx="29257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орога в космо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600200" y="1730520"/>
            <a:ext cx="5867280" cy="3962160"/>
            <a:chOff x="1600200" y="1730520"/>
            <a:chExt cx="5867280" cy="3962160"/>
          </a:xfrm>
        </p:grpSpPr>
        <p:sp>
          <p:nvSpPr>
            <p:cNvPr id="190" name="_s146445"/>
            <p:cNvSpPr/>
            <p:nvPr/>
          </p:nvSpPr>
          <p:spPr>
            <a:xfrm flipH="1" flipV="1">
              <a:off x="3557160" y="3533400"/>
              <a:ext cx="50796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146444"/>
            <p:cNvSpPr/>
            <p:nvPr/>
          </p:nvSpPr>
          <p:spPr>
            <a:xfrm>
              <a:off x="1600200" y="2971800"/>
              <a:ext cx="1982880" cy="932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ставля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косм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руз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46443"/>
            <p:cNvSpPr/>
            <p:nvPr/>
          </p:nvSpPr>
          <p:spPr>
            <a:xfrm flipH="1">
              <a:off x="3943080" y="4295880"/>
              <a:ext cx="31572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46442"/>
            <p:cNvSpPr/>
            <p:nvPr/>
          </p:nvSpPr>
          <p:spPr>
            <a:xfrm>
              <a:off x="2362320" y="4626000"/>
              <a:ext cx="1803240" cy="10666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втомат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жплан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46449"/>
            <p:cNvSpPr/>
            <p:nvPr/>
          </p:nvSpPr>
          <p:spPr>
            <a:xfrm>
              <a:off x="4884840" y="4295880"/>
              <a:ext cx="314280" cy="43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46448"/>
            <p:cNvSpPr/>
            <p:nvPr/>
          </p:nvSpPr>
          <p:spPr>
            <a:xfrm>
              <a:off x="4979880" y="4626000"/>
              <a:ext cx="1801800" cy="10666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рбита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46447"/>
            <p:cNvSpPr/>
            <p:nvPr/>
          </p:nvSpPr>
          <p:spPr>
            <a:xfrm flipV="1">
              <a:off x="5078520" y="3534840"/>
              <a:ext cx="509400" cy="165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46446"/>
            <p:cNvSpPr/>
            <p:nvPr/>
          </p:nvSpPr>
          <p:spPr>
            <a:xfrm>
              <a:off x="5560920" y="2971800"/>
              <a:ext cx="1906560" cy="932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см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раб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46441"/>
            <p:cNvSpPr/>
            <p:nvPr/>
          </p:nvSpPr>
          <p:spPr>
            <a:xfrm flipV="1">
              <a:off x="4572000" y="2797200"/>
              <a:ext cx="0" cy="534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46440"/>
            <p:cNvSpPr/>
            <p:nvPr/>
          </p:nvSpPr>
          <p:spPr>
            <a:xfrm>
              <a:off x="3581280" y="1730520"/>
              <a:ext cx="2133720" cy="10666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кусствен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утн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ем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46439"/>
            <p:cNvSpPr/>
            <p:nvPr/>
          </p:nvSpPr>
          <p:spPr>
            <a:xfrm>
              <a:off x="3886200" y="3332160"/>
              <a:ext cx="1371600" cy="10666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осми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аке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ыводи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 космо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ая ракета – ракета-носитель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ие ракеты состоят из нескольких меньших ракет – ракетных ступе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запуске в космос они работают последова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ачала весь «ракетный поезд» везет первая ступ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в ней израсходуется все топливо, она отделяется от ракеты и падает на Землю, тут же включаются двигатели второй сту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ем эстафета передается последней, третьей ступени, которая несет полезный груз – автоматическую станцию или космический корабль – и достигает нужной космической скор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экипажа важно чувствовать себя по-домашнему и ориентироваться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этому психологами разработан успокаивающий, «пастельный» декор. В станции есть «пол» и «потолок», хотя при невесомости понятия «верх» и «низ» отсутствуют. Космонавты могут прослушивать записи с родными звуками Земли: шумом моря, порывами ветра, пением птиц и шуршанием листь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57200" y="636480"/>
            <a:ext cx="8228880" cy="3123720"/>
            <a:chOff x="457200" y="636480"/>
            <a:chExt cx="8228880" cy="3123720"/>
          </a:xfrm>
        </p:grpSpPr>
        <p:cxnSp>
          <p:nvCxnSpPr>
            <p:cNvPr id="206" name="_s16405"/>
            <p:cNvCxnSpPr>
              <a:stCxn id="207" idx="0"/>
              <a:endCxn id="208" idx="2"/>
            </p:cNvCxnSpPr>
            <p:nvPr/>
          </p:nvCxnSpPr>
          <p:spPr>
            <a:xfrm flipV="1">
              <a:off x="745164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16403"/>
            <p:cNvCxnSpPr>
              <a:stCxn id="210" idx="0"/>
              <a:endCxn id="211" idx="2"/>
            </p:cNvCxnSpPr>
            <p:nvPr/>
          </p:nvCxnSpPr>
          <p:spPr>
            <a:xfrm flipV="1">
              <a:off x="457128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16401"/>
            <p:cNvCxnSpPr>
              <a:stCxn id="213" idx="0"/>
              <a:endCxn id="214" idx="2"/>
            </p:cNvCxnSpPr>
            <p:nvPr/>
          </p:nvCxnSpPr>
          <p:spPr>
            <a:xfrm flipV="1">
              <a:off x="169092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16399"/>
            <p:cNvCxnSpPr>
              <a:stCxn id="208" idx="0"/>
              <a:endCxn id="216" idx="2"/>
            </p:cNvCxnSpPr>
            <p:nvPr/>
          </p:nvCxnSpPr>
          <p:spPr>
            <a:xfrm flipV="1" rot="16200000">
              <a:off x="5817240" y="173160"/>
              <a:ext cx="390960" cy="287820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6398"/>
            <p:cNvCxnSpPr>
              <a:stCxn id="211" idx="0"/>
              <a:endCxn id="216" idx="2"/>
            </p:cNvCxnSpPr>
            <p:nvPr/>
          </p:nvCxnSpPr>
          <p:spPr>
            <a:xfrm flipH="1" flipV="1" rot="5400000">
              <a:off x="4377240" y="1610640"/>
              <a:ext cx="390960" cy="324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6397"/>
            <p:cNvCxnSpPr>
              <a:stCxn id="214" idx="0"/>
              <a:endCxn id="216" idx="2"/>
            </p:cNvCxnSpPr>
            <p:nvPr/>
          </p:nvCxnSpPr>
          <p:spPr>
            <a:xfrm flipH="1" flipV="1" rot="5400000">
              <a:off x="2936880" y="170640"/>
              <a:ext cx="390960" cy="288324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6393"/>
            <p:cNvSpPr/>
            <p:nvPr/>
          </p:nvSpPr>
          <p:spPr>
            <a:xfrm>
              <a:off x="3048840" y="636480"/>
              <a:ext cx="304524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битальная станция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«дом» космонав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6394"/>
            <p:cNvSpPr/>
            <p:nvPr/>
          </p:nvSpPr>
          <p:spPr>
            <a:xfrm>
              <a:off x="45720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анция «Салют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6395"/>
            <p:cNvSpPr/>
            <p:nvPr/>
          </p:nvSpPr>
          <p:spPr>
            <a:xfrm>
              <a:off x="333720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анция «Мир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6396"/>
            <p:cNvSpPr/>
            <p:nvPr/>
          </p:nvSpPr>
          <p:spPr>
            <a:xfrm>
              <a:off x="621756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ждународ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смическая станц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МКС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16400"/>
            <p:cNvSpPr/>
            <p:nvPr/>
          </p:nvSpPr>
          <p:spPr>
            <a:xfrm>
              <a:off x="45720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ервый запуск осуществ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 апреля 1971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следний «Салют 7» сейча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еобитаем, до сих пор на орбит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6402"/>
            <p:cNvSpPr/>
            <p:nvPr/>
          </p:nvSpPr>
          <p:spPr>
            <a:xfrm>
              <a:off x="333720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ервый запуск осуществ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 февраля 1986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веден с орби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 марта 2001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6404"/>
            <p:cNvSpPr/>
            <p:nvPr/>
          </p:nvSpPr>
          <p:spPr>
            <a:xfrm>
              <a:off x="621756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 декабря 1998 г. астронав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СА соединяют американск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 российский модули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чав строительство МК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рбитальная станция – это тяжелый искусственный спутник, длительное время совершающий полет по околоземной, окололунной или околопланетной орбит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а ней можно проводить комплекс разнообразных исследований, так как здесь имеются все необходимые условия для продолжительной работы космонавт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отличие от пилотируемых кораблей орбитальные станции не возвращаются на Земл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танция имеет большие размеры, в ней создается максимум удобств для обитателей, размещено необходимое оборудование и аппаратура, экипаж имеет возможность нормально жить и работать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мический корабль – это летательный аппарат, предназначенный для полета людей или перевозки груза в космическ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Космические корабли для полета по околоземным орбитам называются кораблями-спутниками, а для полета к другим небесным телам – межпланетными корабля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корабле три отсека: орбитальный, приборно-агрегатный и спускаемый аппара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орбитальном отсеке космонавты работают и отдыхают во время полета по орби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спускаемом аппарате космонавты находятся во время выведения на орбиту, стыковки и спуска на Земл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приборно-агрегатном отсеке находятся основные служебные системы корабл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Центр управления полето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только космический корабль или орбитальная станция отделяются от последней ступени ракеты, выносящей их в космос, они становятся объектами работы для специалистов в Центре управления пол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лавный зал управления – просторное помещение, уставленное рядами пультов,  тремя экранами и несколькими табло на передней стене – поражает соей тишиной. Нарушает ее только голос оператора, ведущего связь с космонав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нтр управления не только руководит деятельностью экипажа, следит за функционированием систем и агрегатов космических аппаратов, но и координирует работу многочисленных наземных и корабельных станций сле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лагодаря станциям слежения мы не только слышим, но и видим обитателей космического дома. Космонавты регулярно проводят телерепортажи, показывают землянам их планету, Луну, россыпи ярко сияющих на черном небе звез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rcRect l="0" t="0" r="0" b="70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200400" y="1066680"/>
            <a:ext cx="2614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107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 en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1 У истоков зарождения космонавти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1 Пионеры русской космонав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иколай Иванович Кибальч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стантин Эдуардович Циол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алентин Петрович Глу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ергей Павлович Коро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Юрий Алексеевич Гага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2 Космический дне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2 Космический б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1 Космическое сна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2 Космическая 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3 Дорога в кос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1 Космическая ракета – ракета-нос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2 Орбитальная станция – «дом» космонав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3 Космический кора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4 Центр управления по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У истоков зарождения космонавтики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23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чта о проникновении в космос, стремление человека к звездам родились тысячелетия назад. Первые пороховые ракеты появились в давние времена сначала для фейерверков, а затем для военного применения. Идея использования ракет для полета к небесным телам упоминается в романах французских авторов: Сирано де Бержерака, Жюля Верна и Ашиля Эйро, в произведении американского писателя Э.Э. Хэйла, известного английского писателя Герберта Уэль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152280" y="1371240"/>
            <a:ext cx="396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иколай Иванович Кибальч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И.Кибальчич – известный русский революционер-народоволец, один из пионеров ракетной техники, изобре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985200" y="1435680"/>
            <a:ext cx="4753800" cy="4227480"/>
            <a:chOff x="3985200" y="1435680"/>
            <a:chExt cx="4753800" cy="4227480"/>
          </a:xfrm>
        </p:grpSpPr>
        <p:sp>
          <p:nvSpPr>
            <p:cNvPr id="112" name="_s13327"/>
            <p:cNvSpPr/>
            <p:nvPr/>
          </p:nvSpPr>
          <p:spPr>
            <a:xfrm flipH="1">
              <a:off x="5216040" y="4363560"/>
              <a:ext cx="574920" cy="32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3326"/>
            <p:cNvSpPr/>
            <p:nvPr/>
          </p:nvSpPr>
          <p:spPr>
            <a:xfrm>
              <a:off x="3985200" y="4363560"/>
              <a:ext cx="132084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делал вывод, чт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жущей сил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здухоплаватель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ппаратов долж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ть реактивна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ила газов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325"/>
            <p:cNvSpPr/>
            <p:nvPr/>
          </p:nvSpPr>
          <p:spPr>
            <a:xfrm>
              <a:off x="6933240" y="4361040"/>
              <a:ext cx="572400" cy="32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3324"/>
            <p:cNvSpPr/>
            <p:nvPr/>
          </p:nvSpPr>
          <p:spPr>
            <a:xfrm>
              <a:off x="7418520" y="4363560"/>
              <a:ext cx="132048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едложил создать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ппарат, прообраз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ремен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илотируемых 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323"/>
            <p:cNvSpPr/>
            <p:nvPr/>
          </p:nvSpPr>
          <p:spPr>
            <a:xfrm flipV="1">
              <a:off x="6362280" y="2735640"/>
              <a:ext cx="0" cy="65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3322"/>
            <p:cNvSpPr/>
            <p:nvPr/>
          </p:nvSpPr>
          <p:spPr>
            <a:xfrm>
              <a:off x="5702040" y="1435680"/>
              <a:ext cx="1320840" cy="1300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Написал рукопись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«Проект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здухоплавательног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бора»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3321"/>
            <p:cNvSpPr/>
            <p:nvPr/>
          </p:nvSpPr>
          <p:spPr>
            <a:xfrm>
              <a:off x="5702040" y="3388320"/>
              <a:ext cx="132084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.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ибальчич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920" y="1676520"/>
            <a:ext cx="22860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981080"/>
            <a:ext cx="11430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ионеры русской космонавтики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2466720" cy="2863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Константин Эдуардович Циолковский.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новоположником космонавтики, создателем теории ракетного полета, основных принципов построения ракетно-космических систем, автором первых научных планов проникновения человека в межпланетное пространство и завоевания космоса является К.Э.Циолковский.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430080" y="1496880"/>
            <a:ext cx="5328000" cy="5193360"/>
            <a:chOff x="3430080" y="1496880"/>
            <a:chExt cx="5328000" cy="5193360"/>
          </a:xfrm>
        </p:grpSpPr>
        <p:sp>
          <p:nvSpPr>
            <p:cNvPr id="126" name="_s10292"/>
            <p:cNvSpPr/>
            <p:nvPr/>
          </p:nvSpPr>
          <p:spPr>
            <a:xfrm flipV="1">
              <a:off x="6092280" y="2788200"/>
              <a:ext cx="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291"/>
            <p:cNvSpPr/>
            <p:nvPr/>
          </p:nvSpPr>
          <p:spPr>
            <a:xfrm>
              <a:off x="5430240" y="149688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своих статья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ложил основ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ор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 и жидкостн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гателя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294"/>
            <p:cNvSpPr/>
            <p:nvPr/>
          </p:nvSpPr>
          <p:spPr>
            <a:xfrm>
              <a:off x="6754680" y="4092120"/>
              <a:ext cx="67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293"/>
            <p:cNvSpPr/>
            <p:nvPr/>
          </p:nvSpPr>
          <p:spPr>
            <a:xfrm>
              <a:off x="7430040" y="3445560"/>
              <a:ext cx="132804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ычислил запас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оплива, необходим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для преодоле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акетой сил сопро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ивления воздушн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олочки Земл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290"/>
            <p:cNvSpPr/>
            <p:nvPr/>
          </p:nvSpPr>
          <p:spPr>
            <a:xfrm>
              <a:off x="6092280" y="4737600"/>
              <a:ext cx="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289"/>
            <p:cNvSpPr/>
            <p:nvPr/>
          </p:nvSpPr>
          <p:spPr>
            <a:xfrm>
              <a:off x="5430240" y="53949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работал теори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ногоступенчаты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284"/>
            <p:cNvSpPr/>
            <p:nvPr/>
          </p:nvSpPr>
          <p:spPr>
            <a:xfrm flipH="1">
              <a:off x="4755240" y="4092120"/>
              <a:ext cx="67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283"/>
            <p:cNvSpPr/>
            <p:nvPr/>
          </p:nvSpPr>
          <p:spPr>
            <a:xfrm>
              <a:off x="3430080" y="34455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ешил задачу 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садке ракет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верхность план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282"/>
            <p:cNvSpPr/>
            <p:nvPr/>
          </p:nvSpPr>
          <p:spPr>
            <a:xfrm>
              <a:off x="5430240" y="34455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К.Э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Циолковский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33520" y="1752480"/>
            <a:ext cx="36576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363760" cy="2828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350532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алентин Петрович Глушко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П. Глушко –  выдающийся ученый в области ракетно-космической техники, один из пионеров космонавтики, основоположник отечественного жидкостного ракетного двигателестро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287600" y="1440000"/>
            <a:ext cx="4725000" cy="4268160"/>
            <a:chOff x="4287600" y="1440000"/>
            <a:chExt cx="4725000" cy="4268160"/>
          </a:xfrm>
        </p:grpSpPr>
        <p:sp>
          <p:nvSpPr>
            <p:cNvPr id="139" name="_s9232"/>
            <p:cNvSpPr/>
            <p:nvPr/>
          </p:nvSpPr>
          <p:spPr>
            <a:xfrm flipH="1">
              <a:off x="5511600" y="4395960"/>
              <a:ext cx="5716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9231"/>
            <p:cNvSpPr/>
            <p:nvPr/>
          </p:nvSpPr>
          <p:spPr>
            <a:xfrm>
              <a:off x="4287600" y="4395960"/>
              <a:ext cx="131292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конструирова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й в мир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электротермически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двигатель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9230"/>
            <p:cNvSpPr/>
            <p:nvPr/>
          </p:nvSpPr>
          <p:spPr>
            <a:xfrm>
              <a:off x="7218000" y="4393440"/>
              <a:ext cx="56916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9229"/>
            <p:cNvSpPr/>
            <p:nvPr/>
          </p:nvSpPr>
          <p:spPr>
            <a:xfrm>
              <a:off x="7700400" y="4395960"/>
              <a:ext cx="131220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перв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течествен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жидкост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двигатель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228"/>
            <p:cNvSpPr/>
            <p:nvPr/>
          </p:nvSpPr>
          <p:spPr>
            <a:xfrm flipV="1">
              <a:off x="6650640" y="2752920"/>
              <a:ext cx="0" cy="65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9227"/>
            <p:cNvSpPr/>
            <p:nvPr/>
          </p:nvSpPr>
          <p:spPr>
            <a:xfrm>
              <a:off x="5994000" y="1440000"/>
              <a:ext cx="1312920" cy="1312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полн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сследования п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проса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жидкост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гателей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9226"/>
            <p:cNvSpPr/>
            <p:nvPr/>
          </p:nvSpPr>
          <p:spPr>
            <a:xfrm>
              <a:off x="5994000" y="3411360"/>
              <a:ext cx="131292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.П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лушко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57200" y="2057400"/>
            <a:ext cx="28954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573200" cy="2152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-152280" y="228240"/>
            <a:ext cx="449568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Сергей Павлович Корол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.П. Королев – конструктор первых ракетно-космических систем, лауреат Ленинской премии, дважды герой социалистического тру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046760" y="1728000"/>
            <a:ext cx="4871160" cy="4695840"/>
            <a:chOff x="4046760" y="1728000"/>
            <a:chExt cx="4871160" cy="4695840"/>
          </a:xfrm>
        </p:grpSpPr>
        <p:sp>
          <p:nvSpPr>
            <p:cNvPr id="150" name="_s11284"/>
            <p:cNvSpPr/>
            <p:nvPr/>
          </p:nvSpPr>
          <p:spPr>
            <a:xfrm flipH="1" flipV="1">
              <a:off x="5278680" y="3864960"/>
              <a:ext cx="602280" cy="19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1283"/>
            <p:cNvSpPr/>
            <p:nvPr/>
          </p:nvSpPr>
          <p:spPr>
            <a:xfrm>
              <a:off x="4046760" y="3040200"/>
              <a:ext cx="126324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многи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скусствен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путники Земли 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ежпланет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ведчик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1282"/>
            <p:cNvSpPr/>
            <p:nvPr/>
          </p:nvSpPr>
          <p:spPr>
            <a:xfrm flipH="1">
              <a:off x="5736960" y="4768920"/>
              <a:ext cx="374040" cy="51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1281"/>
            <p:cNvSpPr/>
            <p:nvPr/>
          </p:nvSpPr>
          <p:spPr>
            <a:xfrm>
              <a:off x="4737240" y="5159880"/>
              <a:ext cx="126396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д его руководств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были построен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е пилотируем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смические корабл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1279"/>
            <p:cNvSpPr/>
            <p:nvPr/>
          </p:nvSpPr>
          <p:spPr>
            <a:xfrm>
              <a:off x="6854760" y="4766400"/>
              <a:ext cx="370080" cy="5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1278"/>
            <p:cNvSpPr/>
            <p:nvPr/>
          </p:nvSpPr>
          <p:spPr>
            <a:xfrm>
              <a:off x="6965280" y="515808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ил создание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 дальне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ействия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1277"/>
            <p:cNvSpPr/>
            <p:nvPr/>
          </p:nvSpPr>
          <p:spPr>
            <a:xfrm flipV="1">
              <a:off x="7082640" y="3866760"/>
              <a:ext cx="602280" cy="1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1276"/>
            <p:cNvSpPr/>
            <p:nvPr/>
          </p:nvSpPr>
          <p:spPr>
            <a:xfrm>
              <a:off x="7653960" y="303804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перв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етскую крылат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у и перв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планер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1275"/>
            <p:cNvSpPr/>
            <p:nvPr/>
          </p:nvSpPr>
          <p:spPr>
            <a:xfrm flipV="1">
              <a:off x="6482160" y="2991600"/>
              <a:ext cx="0" cy="63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74"/>
            <p:cNvSpPr/>
            <p:nvPr/>
          </p:nvSpPr>
          <p:spPr>
            <a:xfrm>
              <a:off x="5850360" y="1728000"/>
              <a:ext cx="126396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пусками перв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етских 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73"/>
            <p:cNvSpPr/>
            <p:nvPr/>
          </p:nvSpPr>
          <p:spPr>
            <a:xfrm>
              <a:off x="5850360" y="362592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Что сдела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.П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Королев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04920" y="1676520"/>
            <a:ext cx="281916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604960" cy="3225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3886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Юрий Алексеевич Гага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Ю.А. Гагарин – летчик-космонавт ССС, полковник, Герой Советского Союза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59200" y="1749960"/>
            <a:ext cx="4272840" cy="4424040"/>
            <a:chOff x="4759200" y="1749960"/>
            <a:chExt cx="4272840" cy="4424040"/>
          </a:xfrm>
        </p:grpSpPr>
        <p:sp>
          <p:nvSpPr>
            <p:cNvPr id="165" name="_s157714"/>
            <p:cNvSpPr/>
            <p:nvPr/>
          </p:nvSpPr>
          <p:spPr>
            <a:xfrm flipH="1">
              <a:off x="5826240" y="396216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57713"/>
            <p:cNvSpPr/>
            <p:nvPr/>
          </p:nvSpPr>
          <p:spPr>
            <a:xfrm>
              <a:off x="4759200" y="34095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Участвовал в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учении экипаже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смонавтов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57711"/>
            <p:cNvSpPr/>
            <p:nvPr/>
          </p:nvSpPr>
          <p:spPr>
            <a:xfrm>
              <a:off x="6895800" y="4514400"/>
              <a:ext cx="0" cy="55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57710"/>
            <p:cNvSpPr/>
            <p:nvPr/>
          </p:nvSpPr>
          <p:spPr>
            <a:xfrm>
              <a:off x="6362280" y="50691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летел Земл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эллиптическ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рбит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57709"/>
            <p:cNvSpPr/>
            <p:nvPr/>
          </p:nvSpPr>
          <p:spPr>
            <a:xfrm>
              <a:off x="7429680" y="396216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57708"/>
            <p:cNvSpPr/>
            <p:nvPr/>
          </p:nvSpPr>
          <p:spPr>
            <a:xfrm>
              <a:off x="7965000" y="3409560"/>
              <a:ext cx="106704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полн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данн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ограмму 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землилс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заданн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йон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57707"/>
            <p:cNvSpPr/>
            <p:nvPr/>
          </p:nvSpPr>
          <p:spPr>
            <a:xfrm flipV="1">
              <a:off x="6895800" y="2854800"/>
              <a:ext cx="0" cy="55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57706"/>
            <p:cNvSpPr/>
            <p:nvPr/>
          </p:nvSpPr>
          <p:spPr>
            <a:xfrm>
              <a:off x="6362280" y="1749960"/>
              <a:ext cx="1067400" cy="1105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л человеком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перв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летевши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космос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57705"/>
            <p:cNvSpPr/>
            <p:nvPr/>
          </p:nvSpPr>
          <p:spPr>
            <a:xfrm>
              <a:off x="6362280" y="34095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Что сделал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Ю.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Гагарин?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57200" y="1905120"/>
            <a:ext cx="27432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18748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смический дневник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371600"/>
          <a:ext cx="4038480" cy="25542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ктября 1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 запускает первый искусственный спутник Зем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ноября 1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йка первое живое существо, облетевшее вокруг Земл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сентября 1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тский спутник «Луна 2»  первым достиг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ктября 1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уна 3» впервые сни-мает на пленку обратную сторону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648320" y="1371600"/>
          <a:ext cx="4190760" cy="27352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февраля 1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уна 9» передает на Землю первый фотографии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декабря 1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ипаж «Аполлона 8» -первые люди, совершившие облет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сентября 1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пилотный зонд «Луна 16» доставляет на Землю образцы лунной поч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июля 1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 совместная экспедиция СССР и США: стыковка «Союза» и «Аполлон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57200" y="3962520"/>
          <a:ext cx="4038480" cy="27352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апреля 1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. Гагарин совершает виток вокруг Земли на корабле «Восток 1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августа 1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 Титов совершает космический полет вокруг Земли предолжи-теьностью в с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июня 19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ина Терешкова – первая женщина в Космос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марта 19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выход в открытый Космос – Алексей Леон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648320" y="4114800"/>
          <a:ext cx="4190760" cy="25732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февраля 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уск советской станции «Ми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декабря 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имир Титов и Муса Манаров завершают первый космический полет продолжительностью 1 го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июня 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мический челнок «Атлантис» стыкуется на орбите с российской станцией «Ми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7:00:05Z</dcterms:created>
  <dc:creator>User</dc:creator>
  <dc:description/>
  <dc:language>en-US</dc:language>
  <cp:lastModifiedBy>Name</cp:lastModifiedBy>
  <dcterms:modified xsi:type="dcterms:W3CDTF">2010-09-23T12:06:18Z</dcterms:modified>
  <cp:revision>6</cp:revision>
  <dc:subject/>
  <dc:title>Космические кораб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3000000000001024140</vt:lpwstr>
  </property>
  <property fmtid="{D5CDD505-2E9C-101B-9397-08002B2CF9AE}" pid="3" name="Version">
    <vt:r8>1</vt:r8>
  </property>
</Properties>
</file>