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C94-3C86-4B79-BDB6-C1A434D3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F0B-2A7B-4509-9A65-3E2DB119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28A-882E-4C20-9BD7-DC606FF6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E0D-D7ED-43E3-9008-498BC47E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E3F5-DB5E-4251-B8CD-0204042F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B764-6B33-41D5-981D-0F95E172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24DC-C00E-4A8C-B99E-B0B3058E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D204-EF92-49B6-8348-0E82933C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3D32-9AC2-48F4-A00E-B7AF98A1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EABE-D903-4856-9053-CD453628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2C4D-E48A-4996-973D-F524355C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B93-29D7-488F-99C8-BB6974FA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9D70-1AE6-4E07-919E-AC8F23CC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F71B-1546-4A15-8631-7CA96061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8580-A881-4810-9E4F-66FAAC00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5949-E6B1-4BAC-88C5-692CA41E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C2A3-64D6-471A-8982-453A307D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C37-007C-419D-B2C9-38070D8A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FEA-C377-4532-8CDF-B96AE6C0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B67-F96B-4A5A-B08C-7A0BE184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3A5C-503B-4A41-8D53-5106E69D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D99-C250-4295-86D8-84532D3D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719-0C31-49A2-8BCA-54D6F0B8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137-5015-4CD6-B21D-A6BA8D35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0F1D-9CDE-4920-AA42-648F8B4D36E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BF05-3034-4681-8AB9-873FF4422F0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stronews.prao.psn.ru/SolarSystem/Saturn/image3.jpg" TargetMode="External"/><Relationship Id="rId3" Type="http://schemas.openxmlformats.org/officeDocument/2006/relationships/hyperlink" Target="http://astronews.prao.psn.ru/SolarSystem/Saturn/saturn2_big.gif" TargetMode="External"/><Relationship Id="rId4" Type="http://schemas.openxmlformats.org/officeDocument/2006/relationships/hyperlink" Target="http://astronews.prao.psn.ru/SolarSystem/Saturn/cloud.jpg" TargetMode="External"/><Relationship Id="rId5" Type="http://schemas.openxmlformats.org/officeDocument/2006/relationships/hyperlink" Target="http://astronews.prao.psn.ru/SolarSystem/Saturn/ring_big.gif" TargetMode="External"/><Relationship Id="rId6" Type="http://schemas.openxmlformats.org/officeDocument/2006/relationships/hyperlink" Target="http://astronews.prao.psn.ru/SolarSystem/Saturn/image1.jpg" TargetMode="External"/><Relationship Id="rId7" Type="http://schemas.openxmlformats.org/officeDocument/2006/relationships/hyperlink" Target="http://astronews.prao.psn.ru/SolarSystem/Saturn/ring_sat.gif" TargetMode="External"/><Relationship Id="rId8" Type="http://schemas.openxmlformats.org/officeDocument/2006/relationships/hyperlink" Target="http://astronews.prao.psn.ru/SolarSystem/Saturn/image3.jpg" TargetMode="External"/><Relationship Id="rId9" Type="http://schemas.openxmlformats.org/officeDocument/2006/relationships/image" Target="../media/image2.jpeg"/><Relationship Id="rId10" Type="http://schemas.openxmlformats.org/officeDocument/2006/relationships/hyperlink" Target="http://astronews.prao.psn.ru/SolarSystem/Saturn/saturn2_big.gif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astronews.prao.psn.ru/SolarSystem/Saturn/cloud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astronews.prao.psn.ru/SolarSystem/Saturn/ring_big.gif" TargetMode="External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hyperlink" Target="http://astronews.prao.psn.ru/SolarSystem/Saturn/image1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astronews.prao.psn.ru/SolarSystem/Saturn/ring_sat.gif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b2b2b2"/>
                </a:solidFill>
                <a:uFillTx/>
                <a:latin typeface="comic"/>
              </a:rPr>
              <a:t>Сатурн  и  его  «  глаз «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15000" cy="24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-4648320" y="-97267680"/>
          <a:ext cx="9144000" cy="366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- шестая от Солнца и вторая по величине планета Солнечной системы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-4833360" y="-96901560"/>
            <a:ext cx="62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Орбита: 1 429 400 000 км (9,54 АЕ) от Солнца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Диаметр: 120 536 км (экватор)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Масса: 5.68е26 кг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48320" y="-96656400"/>
          <a:ext cx="182520" cy="186019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601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Римской мифологии Сатурн - бог сельского хозяйства. Соответствующий ему Греческий бог, Кронус, был сыном Урана и Геи и отцом Зевса (Юпитера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был известен с доисторических времен. Галилей первым наблюдал его в телескоп в 1610 году. Ранние наблюдения Сатурна были усложнены предположением, согласно которому Земля проходит через плоскость колец Сатурна каждые несколько лет, когда Сатурн пересекает ее орбиту. Только в 1659 году Кристиан Гюйгенс правильно вывел геометрию колец. Кольца Сатурна оставались уникальными для Солнечной системы до 1977 года, когда были обнаружены очень слабые кольца вокруг Урана и вскоре после этого вокруг Юпитера и Нептун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13114440" y="91287720"/>
            <a:ext cx="35374320" cy="10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  </a:t>
            </a:r>
            <a:r>
              <a:rPr b="0" lang="ru-RU" sz="5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ервым кораблем, летавшим к Сатурну, был Pioneer 11 в 1979 году, и позднее - Voyager, 1 и Voyager 2. Cassini, который сейчас находится на пути к нему, прибудет туда в 2004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же в малый телескоп можно заметить, что Сатурн явно сплющен; его экваториальный и полярный диаметры различаются почти на 10 % (120,536 км и 108,728 км). Это - результат быстрого вращения и жидкого состояния. Другие газовые планеты тоже сплющены, но не так си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имеет самую низкую плотность среди всех планет, его удельный вес составляет всего 0.7 - меньше, чем у 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добно Юпитеру, Сатурн состоит приблизительно на 75 % из водорода и на 25 % из гелия со следами воды, метана, аммиака и камня, что соответствует составу исконной Солнечной Туманности, из которой была сформирована Солнечная систе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 </a:t>
            </a: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  </a:t>
            </a:r>
            <a:r>
              <a:rPr b="0" lang="ru-RU" sz="6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осы, так выделяющиеся на Юпитере, на Сатурне намного более слабые. Они намного более широки ближе к экватору. У Сатурна также существуют долговечные пятна (красное пятно в центре изображения слева) и другие особенности, общие с Юпитер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а основных кольца (А и B) и одно слабое кольцо (C) могут наблюдаться с Земли. Промежуток между кольцами А и B известен как раздел Cassini. Изображения Voyager показывают четыре дополнительных слабых кольца. Кольца Сатурна, в отличие от колец других планет, являются очень яркими (альбедо 0.2 - 0.6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  </a:t>
            </a:r>
            <a:r>
              <a:rPr b="0" lang="ru-RU" sz="63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тя с Земли кольца выглядят непрерывными, фактически они состоят из бесчисленных малых частичек, каждая из которых имеет свою собственную независимую орбиту. Расстояние между ними колеблется от сантиметра до нескольких мет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ьца Сатурна необычайно тонки: хотя их диаметр - 250,000 км или чуть больше, их толщина составляет 1.5 км. Они состоят в основном из льда и частиц горных пород, покрытых ледяной кор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9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иболее удаленное кольцо Сатурна, называемое F-кольцом, является сложной структурой, составленной из отдельных малых колец, вдоль которых видны "узлы". Эти узлы состоят из скоплений материала, составляющего кольца (слев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оисхождение колец Сатурна и других планет неизвестно, возможно, они возникли путем разрушения больших спутников. Кольцевые системы не устойчивы, они должны восстанавливаться постоянно продолжающимися процесс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к и другие планеты группы Юпитера, Сатурн имеет значительное магнитное пол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легко увидеть в ночном небе невооруженным глазом. Хотя он не такой яркий, как Юпитер, его просто идентифицировать как планету, так как он не "мерцает", как звезды. Кольца и большие спутники можно наблюдать в небольшой телеско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  </a:t>
            </a:r>
            <a:r>
              <a:rPr b="0" lang="ru-RU" sz="55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  </a:t>
            </a:r>
            <a:r>
              <a:rPr b="0" lang="ru-RU" sz="66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-4492800" y="89409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-4492800" y="91849680"/>
            <a:ext cx="1905120" cy="857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-4492800" y="937702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-4492800" y="95508720"/>
            <a:ext cx="1428840" cy="100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-4492800" y="975679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-4492800" y="100861920"/>
            <a:ext cx="1143000" cy="88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-4492800" y="101700000"/>
            <a:ext cx="2857680" cy="104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ита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- самый крупный из известных спутников Сатурна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бита: 1 221 830 км от Сатур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аметр: 5 150 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сса: 1.35е23 к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   В греческой мифологии Титаны были семейством гигантов, детьми Урана и Геи, которые стремились управлять небесами, но были свергнуты и вытеснены Зевс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был открыт Гюйгенсом в 1655 г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80036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Гипер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он - шестой из известных спутников Сатурна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бита: 1 481 100 км от Непту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метр: 286 км (410x260x220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са: 1.77e19 кг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   В греческой мифологии Гиперон был титаном, сыном Геи и Урана и отцом Гелиоса. Открыт Бондом и Ласселем в 1848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Тритону летал только один космический корабль, Voyager 2, в августе 1989 года. Почти все, что мы знаем об этом спутнике, мы знаем благодаря этому полет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-за того, что орбита Тритона носит попятный характер, приливные взаимодействия между Нептуном и Тритоном уменьшают энергию Тритона, результатом чего является понижение его орбиты. Поэтому когда-нибудь, в далеком будущем, Тритон или разрушится (возможно, с формированием кольца вокруг Нептуна), или столкнется со своей плане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581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«Глаз»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-5283360"/>
            <a:ext cx="9144000" cy="474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 « Сатурна – это  пыльная  буря, которая  продолжается  на Сатурне  уже  более 400 лет. Эта пыльная  буря ничто  иное, как  солитон. Это  очень мощная  длинная волна, энергия которой не может  исчезнуть сразу , и поэтому идёт по затухающей , каждый раз возвращаясь, но уже с меньшей энерг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224000"/>
            <a:ext cx="5761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дробнее о «глазе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»-это пыльная буря, которая не проходит уже около 400 лет. А эта буря ничто иное, как солитон. Это длинная мощная волна, энергия которой не может исчезнуть  сразу, и поэтому идёт по затухающей. Каждый раз возвращаясь, но уже с меньшим количеством энерг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нутреннее  строе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ворц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стерова Елена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кова  Дарь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Б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.Слободской, Кировская обл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раткие  свед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атурн - шестая от Солнца и вторая по величине планета Солнечной системы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 429 400 000 км (9,54 АЕ) от Солн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120 536 км (экватор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5.68е26 к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3703680"/>
            <a:ext cx="41036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льца  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 два основных кольца, видимых с Земли. Расстояние между ними колеблется от нескольких см. до нескольких метров. Кольца Сатурна тонки: хотя их диаметр 250.000 км., а толщина 1.5 км. Они состоят из льда и горных пород , покрытых льдом. Происхождение колец  неизвестно , возможно, они возникли путём разрушения спутников. Кольца неустойчивы, они должны  восстанавливаться постоянно продолжающимися процесс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9527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Его  спутн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емного о крупнейших спутниках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н - ближайший из всех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3 583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22 км 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Был обнаруже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k R Showalter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90 г на фотографиях, сделанных кораблё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y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1601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тла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лас - второй из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7 670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30 км (40 x 20 км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       Атлас был титаном, братом Прометея, приговоренным Зевсом к тому, чтобы держать небеса на своих плечах.        Атлас был обнаружен R. Terrile в 1980 году на фотографиях, сделанных Voyag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омете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метей - третий из известных спутников Сатурна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а: 139 350 км от Сатур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метр: 91 км (145 x 85 x 62 км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сса: 2.7е17 к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       Прометей был титаном, который похитил огонь с Олимпа и отнес его людям, за что Зевс жестоко наказал его.        Прометей был открыт в 1980 году Коллинзом и др. на фотографиях, сделанных кораблем Voyager.      На поверхности Прометея есть ряд горных кряжей, долин и отдельных кратеров диаметром около 20 к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андо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ндора - четвертый из известных спутников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бита: 141 700 км от Сатур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метр: 84 км (114 x 84 x 62 км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сса: 2.2е17 к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       В Греческой мифологии Пандора был первой женщиной, подаренная Зевсом человечеству в наказание за то, что Прометей похитил огонь. Она из любопытства открыла ящик, содержащий все болезни, которые могли принести бедствия людям, и выпустила все зло на свободу.        Пандора, как и Прометей, была обнаружена в 1980 году Коллинзом и др. на фотографиях, сделанных кораблем Voy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5:14:11Z</dcterms:created>
  <dc:creator>Гость</dc:creator>
  <dc:description/>
  <dc:language>en-US</dc:language>
  <cp:lastModifiedBy>Name</cp:lastModifiedBy>
  <dcterms:modified xsi:type="dcterms:W3CDTF">2010-09-23T12:06:13Z</dcterms:modified>
  <cp:revision>11</cp:revision>
  <dc:subject/>
  <dc:title>Спутники Сатур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2000000000001024140</vt:lpwstr>
  </property>
</Properties>
</file>