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4F8-50C9-4800-820E-3A735D1D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99D-CCC2-4352-8C8D-A2945F26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74D-AC75-4AD2-B4BB-6718B83D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895-B090-448F-95B8-3F72A413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26C6-57ED-4E3B-8F4F-10B46DD7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2532-8CE5-4D36-9456-3A5D64AE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ECC5-5B15-4470-B2D9-2B51752C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4AF5-A52D-4AE9-BECD-B0F59B0F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7195-53B5-4300-915A-F0243E34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1C3F-512E-4F11-8B5B-A796F163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F9A4-E4F0-4494-9AF4-EF1E0CB6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96FF-8782-45C6-AE6A-CC97987F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6F4D-4896-4E7A-A706-A54145E2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7AB1-82A9-4429-988C-1848A54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5991-B604-4128-8D5B-91952FA6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AF01-B458-41E7-B6CE-227FFB80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C524-008F-4C23-9B9E-E481C8B4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F5B-CECC-4CAC-96F6-5830B31B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71B-8872-4177-9065-C0639DB2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B08-E60A-4870-A2C9-EFEF4452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8A6-C19E-4D59-BBD8-A1676827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FE8-50B6-4D9D-894A-465B9DE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F93-8C99-4C19-848F-27B80047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74A-8894-4586-AF05-6F66B326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6840-971D-4A48-B66A-293319F4466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D3D3-FB4F-46E2-9FE8-3BB81C50A6D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tronews.prao.psn.ru/SolarSystem/Saturn/image3.jpg" TargetMode="External"/><Relationship Id="rId3" Type="http://schemas.openxmlformats.org/officeDocument/2006/relationships/hyperlink" Target="http://astronews.prao.psn.ru/SolarSystem/Saturn/saturn2_big.gif" TargetMode="External"/><Relationship Id="rId4" Type="http://schemas.openxmlformats.org/officeDocument/2006/relationships/hyperlink" Target="http://astronews.prao.psn.ru/SolarSystem/Saturn/cloud.jpg" TargetMode="External"/><Relationship Id="rId5" Type="http://schemas.openxmlformats.org/officeDocument/2006/relationships/hyperlink" Target="http://astronews.prao.psn.ru/SolarSystem/Saturn/ring_big.gif" TargetMode="External"/><Relationship Id="rId6" Type="http://schemas.openxmlformats.org/officeDocument/2006/relationships/hyperlink" Target="http://astronews.prao.psn.ru/SolarSystem/Saturn/image1.jpg" TargetMode="External"/><Relationship Id="rId7" Type="http://schemas.openxmlformats.org/officeDocument/2006/relationships/hyperlink" Target="http://astronews.prao.psn.ru/SolarSystem/Saturn/ring_sat.gif" TargetMode="External"/><Relationship Id="rId8" Type="http://schemas.openxmlformats.org/officeDocument/2006/relationships/hyperlink" Target="http://astronews.prao.psn.ru/SolarSystem/Saturn/image3.jpg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astronews.prao.psn.ru/SolarSystem/Saturn/saturn2_big.gif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astronews.prao.psn.ru/SolarSystem/Saturn/cloud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astronews.prao.psn.ru/SolarSystem/Saturn/ring_big.gif" TargetMode="External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hyperlink" Target="http://astronews.prao.psn.ru/SolarSystem/Saturn/image1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astronews.prao.psn.ru/SolarSystem/Saturn/ring_sat.gif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b2b2b2"/>
                </a:solidFill>
                <a:uFillTx/>
                <a:latin typeface="comic"/>
              </a:rPr>
              <a:t>Сатурн  и  его  «  глаз «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1500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4648320" y="-9726768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- шестая от Солнца и вторая по величине планета Солнечной систем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4833360" y="-96901560"/>
            <a:ext cx="62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Орбита: 1 429 400 000 км (9,54 АЕ) от Солнца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Диаметр: 120 536 км (экватор)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Масса: 5.68е26 кг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48320" y="-96656400"/>
          <a:ext cx="182520" cy="186019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60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Римской мифологии Сатурн - бог сельского хозяйства. Соответствующий ему Греческий бог, Кронус, был сыном Урана и Геи и отцом Зевса (Юпитера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был известен с доисторических времен. Галилей первым наблюдал его в телескоп в 1610 году. Ранние наблюдения Сатурна были усложнены предположением, согласно которому Земля проходит через плоскость колец Сатурна каждые несколько лет, когда Сатурн пересекает ее орбиту. Только в 1659 году Кристиан Гюйгенс правильно вывел геометрию колец. Кольца Сатурна оставались уникальными для Солнечной системы до 1977 года, когда были обнаружены очень слабые кольца вокруг Урана и вскоре после этого вокруг Юпитера и Нептун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13114440" y="91287720"/>
            <a:ext cx="35374320" cy="10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рвым кораблем, летавшим к Сатурну, был Pioneer 11 в 1979 году, и позднее - Voyager, 1 и Voyager 2. Cassini, который сейчас находится на пути к нему, прибудет туда в 200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же в малый телескоп можно заметить, что Сатурн явно сплющен; его экваториальный и полярный диаметры различаются почти на 10 % (120,536 км и 108,728 км). Это - результат быстрого вращения и жидкого состояния. Другие газовые планеты тоже сплющены, но не так си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имеет самую низкую плотность среди всех планет, его удельный вес составляет всего 0.7 - меньше, чем у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добно Юпитеру, Сатурн состоит приблизительно на 75 % из водорода и на 25 % из гелия со следами воды, метана, аммиака и камня, что соответствует составу исконной Солнечной Туманности, из которой была сформирована Солнечная систе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  </a:t>
            </a: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осы, так выделяющиеся на Юпитере, на Сатурне намного более слабые. Они намного более широки ближе к экватору. У Сатурна также существуют долговечные пятна (красное пятно в центре изображения слева) и другие особенности, общие с Юпит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а основных кольца (А и B) и одно слабое кольцо (C) могут наблюдаться с Земли. Промежуток между кольцами А и B известен как раздел Cassini. Изображения Voyager показывают четыре дополнительных слабых кольца. Кольца Сатурна, в отличие от колец других планет, являются очень яркими (альбедо 0.2 - 0.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63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я с Земли кольца выглядят непрерывными, фактически они состоят из бесчисленных малых частичек, каждая из которых имеет свою собственную независимую орбиту. Расстояние между ними колеблется от сантиметра до нескольких 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ьца Сатурна необычайно тонки: хотя их диаметр - 250,000 км или чуть больше, их толщина составляет 1.5 км. Они состоят в основном из льда и частиц горных пород, покрытых ледяной кор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9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иболее удаленное кольцо Сатурна, называемое F-кольцом, является сложной структурой, составленной из отдельных малых колец, вдоль которых видны "узлы". Эти узлы состоят из скоплений материала, составляющего кольца (слев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оисхождение колец Сатурна и других планет неизвестно, возможно, они возникли путем разрушения больших спутников. Кольцевые системы не устойчивы, они должны восстанавливаться постоянно продолжающимися процес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к и другие планеты группы Юпитера, Сатурн имеет значительное магнитное п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легко увидеть в ночном небе невооруженным глазом. Хотя он не такой яркий, как Юпитер, его просто идентифицировать как планету, так как он не "мерцает", как звезды. Кольца и большие спутники можно наблюдать в небольшой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 </a:t>
            </a:r>
            <a:r>
              <a:rPr b="0" lang="ru-RU" sz="55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  </a:t>
            </a: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-4492800" y="89409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4492800" y="91849680"/>
            <a:ext cx="1905120" cy="85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-4492800" y="93770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-4492800" y="9550872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-4492800" y="97567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4492800" y="100861920"/>
            <a:ext cx="1143000" cy="88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4492800" y="101700000"/>
            <a:ext cx="2857680" cy="104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ит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- самый крупный из известных спутников Сатурна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бита: 1 221 830 км от Сатур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метр: 5 150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сса: 1.35е23 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   В греческой мифологии Титаны были семейством гигантов, детьми Урана и Геи, которые стремились управлять небесами, но были свергнуты и вытеснены Зев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был открыт Гюйгенсом в 165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00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е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н - шестой из известных спутников Сатурна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бита: 1 481 100 км от Непту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метр: 286 км (410x260x220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а: 1.77e19 к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   В греческой мифологии Гиперон был титаном, сыном Геи и Урана и отцом Гелиоса. Открыт Бондом и Ласселем в 1848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Тритону летал только один космический корабль, Voyager 2, в августе 1989 года. Почти все, что мы знаем об этом спутнике, мы знаем благодаря этому поле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того, что орбита Тритона носит попятный характер, приливные взаимодействия между Нептуном и Тритоном уменьшают энергию Тритона, результатом чего является понижение его орбиты. Поэтому когда-нибудь, в далеком будущем, Тритон или разрушится (возможно, с формированием кольца вокруг Нептуна), или столкнется со своей плане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«Глаз»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5283360"/>
            <a:ext cx="9144000" cy="47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 « Сатурна – это  пыльная  буря, которая  продолжается  на Сатурне  уже  более 400 лет. Эта пыльная  буря ничто  иное, как  солитон. Это  очень мощная  длинная волна, энергия которой не может  исчезнуть сразу , и поэтому идёт по затухающей , каждый раз возвращаясь, но уже с меньшей энерг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224000"/>
            <a:ext cx="5761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робнее о «глазе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»-это пыльная буря, которая не проходит уже около 400 лет. А эта буря ничто иное, как солитон. Это длинная мощная волна, энергия которой не может исчезнуть  сразу, и поэтому идёт по затухающей. Каждый раз возвращаясь, но уже с меньшим количеством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нутреннее  строе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ворц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ерова Елен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кова  Дарь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Б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.Слободской, Кировская обл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ткие  све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атурн - шестая от Солнца и вторая по величине планета Солнечной системы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 429 400 000 км (9,54 АЕ) от Солн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120 536 км (экватор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5.68е26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3703680"/>
            <a:ext cx="4103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льца  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два основных кольца, видимых с Земли. Расстояние между ними колеблется от нескольких см. до нескольких метров. Кольца Сатурна тонки: хотя их диаметр 250.000 км., а толщина 1.5 км. Они состоят из льда и горных пород , покрытых льдом. Происхождение колец  неизвестно , возможно, они возникли путём разрушения спутников. Кольца неустойчивы, они должны  восстанавливаться постоянно продолжающимися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952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Его  спутн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о крупнейших спутниках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 - ближайший из всех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3 583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22 км 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Был обнаруж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k R Showalter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90 г на фотографиях, сделанных кораблё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160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тла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лас - второй из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7 670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30 км (40 x 20 км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     Атлас был титаном, братом Прометея, приговоренным Зевсом к тому, чтобы держать небеса на своих плечах.        Атлас был обнаружен R. Terrile в 1980 году на фотографиях, сделанных Voyag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мете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тей - третий из известных спутников Сатурна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а: 139 350 км от Сату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метр: 91 км (145 x 85 x 62 км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са: 2.7е17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      Прометей был титаном, который похитил огонь с Олимпа и отнес его людям, за что Зевс жестоко наказал его.        Прометей был открыт в 1980 году Коллинзом и др. на фотографиях, сделанных кораблем Voyager.      На поверхности Прометея есть ряд горных кряжей, долин и отдельных кратеров диаметром около 20 к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ндо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ндора - четвертый из известных спутников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бита: 141 700 км от Сатур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метр: 84 км (114 x 84 x 62 км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сса: 2.2е17 к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      В Греческой мифологии Пандора был первой женщиной, подаренная Зевсом человечеству в наказание за то, что Прометей похитил огонь. Она из любопытства открыла ящик, содержащий все болезни, которые могли принести бедствия людям, и выпустила все зло на свободу.        Пандора, как и Прометей, была обнаружена в 1980 году Коллинзом и др. на фотографиях, сделанных кораблем Voy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5:14:11Z</dcterms:created>
  <dc:creator>Гость</dc:creator>
  <dc:description/>
  <dc:language>en-US</dc:language>
  <cp:lastModifiedBy>Name</cp:lastModifiedBy>
  <dcterms:modified xsi:type="dcterms:W3CDTF">2010-09-23T12:06:13Z</dcterms:modified>
  <cp:revision>11</cp:revision>
  <dc:subject/>
  <dc:title>Спутники Сатур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2000000000001024140</vt:lpwstr>
  </property>
</Properties>
</file>