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135-F60F-407F-8D4C-F656B219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C64-1DDB-4DA2-BFEF-927AA874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5D0-ED38-4408-81E4-2C9C15F1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524-FCF0-416E-8C67-5F88959C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A6B5-1FE4-4D17-BCD5-8344E81C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4607-4790-4C15-A0BE-7A452DEE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BA34-696C-432E-931D-3669AF5F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3C98-EE67-4576-94AA-2FA980CD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72E5-77C0-490E-9AF8-D0AF3653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2C8A-DA93-4ECB-812C-6E9DBFCF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9D1D-E1DD-4667-9E42-78E43C70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719-7034-440E-A63F-CAF0DABC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2335-BEC3-4B85-985B-99B2B388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D1E4-1F06-4618-8C2C-62BF7C6F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CB05-116D-4C10-AF76-A8269FBA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BB6D-4A02-4D6B-B1BC-23219E83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91F3-7B08-4B79-A5A1-52E4AAD7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04E9-3929-4953-9453-56DAD229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D06-5889-4124-BF17-8CFFFCA8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DC5-5FE8-482D-83F6-118F88E5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31C-EDFF-4D18-836A-28DA7F57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916-82F4-44A4-9113-871D9B36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867-4EED-45D5-B2DF-C7E77048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95A9-9918-490B-B958-8166C7A7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6D17-0A11-47DD-A3D8-A0CBE531BFE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3B1D-582C-4AE4-A4BA-F00F908EDA6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stronews.prao.psn.ru/SolarSystem/Saturn/image3.jpg" TargetMode="External"/><Relationship Id="rId3" Type="http://schemas.openxmlformats.org/officeDocument/2006/relationships/hyperlink" Target="http://astronews.prao.psn.ru/SolarSystem/Saturn/saturn2_big.gif" TargetMode="External"/><Relationship Id="rId4" Type="http://schemas.openxmlformats.org/officeDocument/2006/relationships/hyperlink" Target="http://astronews.prao.psn.ru/SolarSystem/Saturn/cloud.jpg" TargetMode="External"/><Relationship Id="rId5" Type="http://schemas.openxmlformats.org/officeDocument/2006/relationships/hyperlink" Target="http://astronews.prao.psn.ru/SolarSystem/Saturn/ring_big.gif" TargetMode="External"/><Relationship Id="rId6" Type="http://schemas.openxmlformats.org/officeDocument/2006/relationships/hyperlink" Target="http://astronews.prao.psn.ru/SolarSystem/Saturn/image1.jpg" TargetMode="External"/><Relationship Id="rId7" Type="http://schemas.openxmlformats.org/officeDocument/2006/relationships/hyperlink" Target="http://astronews.prao.psn.ru/SolarSystem/Saturn/ring_sat.gif" TargetMode="External"/><Relationship Id="rId8" Type="http://schemas.openxmlformats.org/officeDocument/2006/relationships/hyperlink" Target="http://astronews.prao.psn.ru/SolarSystem/Saturn/image3.jpg" TargetMode="External"/><Relationship Id="rId9" Type="http://schemas.openxmlformats.org/officeDocument/2006/relationships/image" Target="../media/image2.jpeg"/><Relationship Id="rId10" Type="http://schemas.openxmlformats.org/officeDocument/2006/relationships/hyperlink" Target="http://astronews.prao.psn.ru/SolarSystem/Saturn/saturn2_big.gif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astronews.prao.psn.ru/SolarSystem/Saturn/cloud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astronews.prao.psn.ru/SolarSystem/Saturn/ring_big.gif" TargetMode="External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hyperlink" Target="http://astronews.prao.psn.ru/SolarSystem/Saturn/image1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astronews.prao.psn.ru/SolarSystem/Saturn/ring_sat.gif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b2b2b2"/>
                </a:solidFill>
                <a:uFillTx/>
                <a:latin typeface="comic"/>
              </a:rPr>
              <a:t>Сатурн  и  его  «  глаз «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15000" cy="24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-4648320" y="-97267680"/>
          <a:ext cx="9144000" cy="366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- шестая от Солнца и вторая по величине планета Солнечной системы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-4833360" y="-96901560"/>
            <a:ext cx="62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Орбита: 1 429 400 000 км (9,54 АЕ) от Солнца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Диаметр: 120 536 км (экватор)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Масса: 5.68е26 кг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48320" y="-96656400"/>
          <a:ext cx="182520" cy="186019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8601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Римской мифологии Сатурн - бог сельского хозяйства. Соответствующий ему Греческий бог, Кронус, был сыном Урана и Геи и отцом Зевса (Юпитера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был известен с доисторических времен. Галилей первым наблюдал его в телескоп в 1610 году. Ранние наблюдения Сатурна были усложнены предположением, согласно которому Земля проходит через плоскость колец Сатурна каждые несколько лет, когда Сатурн пересекает ее орбиту. Только в 1659 году Кристиан Гюйгенс правильно вывел геометрию колец. Кольца Сатурна оставались уникальными для Солнечной системы до 1977 года, когда были обнаружены очень слабые кольца вокруг Урана и вскоре после этого вокруг Юпитера и Нептун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13114440" y="91287720"/>
            <a:ext cx="35374320" cy="10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  </a:t>
            </a:r>
            <a:r>
              <a:rPr b="0" lang="ru-RU" sz="5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ервым кораблем, летавшим к Сатурну, был Pioneer 11 в 1979 году, и позднее - Voyager, 1 и Voyager 2. Cassini, который сейчас находится на пути к нему, прибудет туда в 2004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же в малый телескоп можно заметить, что Сатурн явно сплющен; его экваториальный и полярный диаметры различаются почти на 10 % (120,536 км и 108,728 км). Это - результат быстрого вращения и жидкого состояния. Другие газовые планеты тоже сплющены, но не так си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имеет самую низкую плотность среди всех планет, его удельный вес составляет всего 0.7 - меньше, чем у 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добно Юпитеру, Сатурн состоит приблизительно на 75 % из водорода и на 25 % из гелия со следами воды, метана, аммиака и камня, что соответствует составу исконной Солнечной Туманности, из которой была сформирована Солнечная систе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 </a:t>
            </a: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  </a:t>
            </a:r>
            <a:r>
              <a:rPr b="0" lang="ru-RU" sz="6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осы, так выделяющиеся на Юпитере, на Сатурне намного более слабые. Они намного более широки ближе к экватору. У Сатурна также существуют долговечные пятна (красное пятно в центре изображения слева) и другие особенности, общие с Юпитер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а основных кольца (А и B) и одно слабое кольцо (C) могут наблюдаться с Земли. Промежуток между кольцами А и B известен как раздел Cassini. Изображения Voyager показывают четыре дополнительных слабых кольца. Кольца Сатурна, в отличие от колец других планет, являются очень яркими (альбедо 0.2 - 0.6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  </a:t>
            </a:r>
            <a:r>
              <a:rPr b="0" lang="ru-RU" sz="63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тя с Земли кольца выглядят непрерывными, фактически они состоят из бесчисленных малых частичек, каждая из которых имеет свою собственную независимую орбиту. Расстояние между ними колеблется от сантиметра до нескольких мет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ьца Сатурна необычайно тонки: хотя их диаметр - 250,000 км или чуть больше, их толщина составляет 1.5 км. Они состоят в основном из льда и частиц горных пород, покрытых ледяной кор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9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иболее удаленное кольцо Сатурна, называемое F-кольцом, является сложной структурой, составленной из отдельных малых колец, вдоль которых видны "узлы". Эти узлы состоят из скоплений материала, составляющего кольца (слев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оисхождение колец Сатурна и других планет неизвестно, возможно, они возникли путем разрушения больших спутников. Кольцевые системы не устойчивы, они должны восстанавливаться постоянно продолжающимися процесс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к и другие планеты группы Юпитера, Сатурн имеет значительное магнитное пол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легко увидеть в ночном небе невооруженным глазом. Хотя он не такой яркий, как Юпитер, его просто идентифицировать как планету, так как он не "мерцает", как звезды. Кольца и большие спутники можно наблюдать в небольшой телеско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  </a:t>
            </a:r>
            <a:r>
              <a:rPr b="0" lang="ru-RU" sz="55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  </a:t>
            </a:r>
            <a:r>
              <a:rPr b="0" lang="ru-RU" sz="66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-4492800" y="8940960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-4492800" y="91849680"/>
            <a:ext cx="1905120" cy="857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-4492800" y="937702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-4492800" y="95508720"/>
            <a:ext cx="1428840" cy="100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-4492800" y="975679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-4492800" y="100861920"/>
            <a:ext cx="1143000" cy="88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-4492800" y="101700000"/>
            <a:ext cx="2857680" cy="104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ита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- самый крупный из известных спутников Сатурна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бита: 1 221 830 км от Сатур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аметр: 5 150 к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сса: 1.35е23 к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   В греческой мифологии Титаны были семейством гигантов, детьми Урана и Геи, которые стремились управлять небесами, но были свергнуты и вытеснены Зевс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был открыт Гюйгенсом в 1655 г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80036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Гипер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он - шестой из известных спутников Сатурна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бита: 1 481 100 км от Непту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метр: 286 км (410x260x220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сса: 1.77e19 кг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   В греческой мифологии Гиперон был титаном, сыном Геи и Урана и отцом Гелиоса. Открыт Бондом и Ласселем в 1848 го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Тритону летал только один космический корабль, Voyager 2, в августе 1989 года. Почти все, что мы знаем об этом спутнике, мы знаем благодаря этому полет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-за того, что орбита Тритона носит попятный характер, приливные взаимодействия между Нептуном и Тритоном уменьшают энергию Тритона, результатом чего является понижение его орбиты. Поэтому когда-нибудь, в далеком будущем, Тритон или разрушится (возможно, с формированием кольца вокруг Нептуна), или столкнется со своей плане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581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«Глаз»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-5283360"/>
            <a:ext cx="9144000" cy="474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 « Сатурна – это  пыльная  буря, которая  продолжается  на Сатурне  уже  более 400 лет. Эта пыльная  буря ничто  иное, как  солитон. Это  очень мощная  длинная волна, энергия которой не может  исчезнуть сразу , и поэтому идёт по затухающей , каждый раз возвращаясь, но уже с меньшей энерг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224000"/>
            <a:ext cx="5761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дробнее о «глазе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»-это пыльная буря, которая не проходит уже около 400 лет. А эта буря ничто иное, как солитон. Это длинная мощная волна, энергия которой не может исчезнуть  сразу, и поэтому идёт по затухающей. Каждый раз возвращаясь, но уже с меньшим количеством энерг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нутреннее  строе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ворц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стерова Елена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кова  Дарь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Б кла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.Слободской, Кировская обл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раткие  свед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атурн - шестая от Солнца и вторая по величине планета Солнечной системы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 429 400 000 км (9,54 АЕ) от Солн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120 536 км (экватор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5.68е26 к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3703680"/>
            <a:ext cx="41036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льца  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 два основных кольца, видимых с Земли. Расстояние между ними колеблется от нескольких см. до нескольких метров. Кольца Сатурна тонки: хотя их диаметр 250.000 км., а толщина 1.5 км. Они состоят из льда и горных пород , покрытых льдом. Происхождение колец  неизвестно , возможно, они возникли путём разрушения спутников. Кольца неустойчивы, они должны  восстанавливаться постоянно продолжающимися процесса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9527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Его  спутни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емного о крупнейших спутниках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н - ближайший из всех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3 583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22 км 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Был обнаруже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k R Showalter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90 г на фотографиях, сделанных кораблё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y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1601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тла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лас - второй из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7 670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30 км (40 x 20 км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       Атлас был титаном, братом Прометея, приговоренным Зевсом к тому, чтобы держать небеса на своих плечах.        Атлас был обнаружен R. Terrile в 1980 году на фотографиях, сделанных Voyag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омете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метей - третий из известных спутников Сатурна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а: 139 350 км от Сатур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метр: 91 км (145 x 85 x 62 км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сса: 2.7е17 к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       Прометей был титаном, который похитил огонь с Олимпа и отнес его людям, за что Зевс жестоко наказал его.        Прометей был открыт в 1980 году Коллинзом и др. на фотографиях, сделанных кораблем Voyager.      На поверхности Прометея есть ряд горных кряжей, долин и отдельных кратеров диаметром около 20 к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андо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ндора - четвертый из известных спутников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бита: 141 700 км от Сатур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метр: 84 км (114 x 84 x 62 км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сса: 2.2е17 к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       В Греческой мифологии Пандора был первой женщиной, подаренная Зевсом человечеству в наказание за то, что Прометей похитил огонь. Она из любопытства открыла ящик, содержащий все болезни, которые могли принести бедствия людям, и выпустила все зло на свободу.        Пандора, как и Прометей, была обнаружена в 1980 году Коллинзом и др. на фотографиях, сделанных кораблем Voy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5:14:11Z</dcterms:created>
  <dc:creator>Гость</dc:creator>
  <dc:description/>
  <dc:language>en-US</dc:language>
  <cp:lastModifiedBy>Name</cp:lastModifiedBy>
  <dcterms:modified xsi:type="dcterms:W3CDTF">2010-09-23T12:06:13Z</dcterms:modified>
  <cp:revision>11</cp:revision>
  <dc:subject/>
  <dc:title>Спутники Сатур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2000000000001024140</vt:lpwstr>
  </property>
</Properties>
</file>