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3568-04BC-47B2-98AA-2D36748F3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2FAD-3138-4DE0-94A3-05F0E2B85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919E-95D4-403C-B2FC-E7F84781F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CB44-C8D9-4302-A029-7EFBCB5B3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C8797-D5E6-47C1-AA25-1D00FB6BA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D64F3-98C1-4727-85FA-BDE707D1C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7D44F-4180-4BD6-9666-ECD6ACB7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84706-33B3-4FEF-90AB-BFDA78CE7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CAD25-B302-454F-8C2B-D2BCFA351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2C465-6D64-47F0-B240-39908D17A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9C52D-017D-4026-A3E6-F2A36118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996A-A4D3-4FF9-B7A7-F1B180921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E2EF8-A01C-47B7-B629-29403704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51FF3-F904-4FCA-92E5-569AB9E7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B7AAD-1FFA-43FE-8BDE-28E982A5E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1AA78-A4B6-4582-8129-B9D41812D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843BB-5167-4AF9-8EF8-104AA401E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9272-78E3-45A6-94E9-EC393ADC3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2A6E-2904-40A6-9169-ACCF07902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225C-E0A9-46F0-A732-B0E10A2BF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5D66-3246-4EEE-80DA-E4B543B93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083A-DDBA-47CD-8E61-010BC2A4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8BED-B9C4-4647-9D0C-7162D25E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6401-C170-4629-8C2B-DE71F6D8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BE4CE-4C08-40AF-B0BC-968CA1026652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9ACC8-EDA5-47EA-9A0B-3E6DC980BB73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stronews.prao.psn.ru/SolarSystem/Saturn/image3.jpg" TargetMode="External"/><Relationship Id="rId3" Type="http://schemas.openxmlformats.org/officeDocument/2006/relationships/hyperlink" Target="http://astronews.prao.psn.ru/SolarSystem/Saturn/saturn2_big.gif" TargetMode="External"/><Relationship Id="rId4" Type="http://schemas.openxmlformats.org/officeDocument/2006/relationships/hyperlink" Target="http://astronews.prao.psn.ru/SolarSystem/Saturn/cloud.jpg" TargetMode="External"/><Relationship Id="rId5" Type="http://schemas.openxmlformats.org/officeDocument/2006/relationships/hyperlink" Target="http://astronews.prao.psn.ru/SolarSystem/Saturn/ring_big.gif" TargetMode="External"/><Relationship Id="rId6" Type="http://schemas.openxmlformats.org/officeDocument/2006/relationships/hyperlink" Target="http://astronews.prao.psn.ru/SolarSystem/Saturn/image1.jpg" TargetMode="External"/><Relationship Id="rId7" Type="http://schemas.openxmlformats.org/officeDocument/2006/relationships/hyperlink" Target="http://astronews.prao.psn.ru/SolarSystem/Saturn/ring_sat.gif" TargetMode="External"/><Relationship Id="rId8" Type="http://schemas.openxmlformats.org/officeDocument/2006/relationships/hyperlink" Target="http://astronews.prao.psn.ru/SolarSystem/Saturn/image3.jpg" TargetMode="External"/><Relationship Id="rId9" Type="http://schemas.openxmlformats.org/officeDocument/2006/relationships/image" Target="../media/image2.jpeg"/><Relationship Id="rId10" Type="http://schemas.openxmlformats.org/officeDocument/2006/relationships/hyperlink" Target="http://astronews.prao.psn.ru/SolarSystem/Saturn/saturn2_big.gif" TargetMode="External"/><Relationship Id="rId11" Type="http://schemas.openxmlformats.org/officeDocument/2006/relationships/image" Target="../media/image3.jpeg"/><Relationship Id="rId12" Type="http://schemas.openxmlformats.org/officeDocument/2006/relationships/hyperlink" Target="http://astronews.prao.psn.ru/SolarSystem/Saturn/cloud.jpg" TargetMode="External"/><Relationship Id="rId13" Type="http://schemas.openxmlformats.org/officeDocument/2006/relationships/image" Target="../media/image4.jpeg"/><Relationship Id="rId14" Type="http://schemas.openxmlformats.org/officeDocument/2006/relationships/hyperlink" Target="http://astronews.prao.psn.ru/SolarSystem/Saturn/ring_big.gif" TargetMode="External"/><Relationship Id="rId15" Type="http://schemas.openxmlformats.org/officeDocument/2006/relationships/image" Target="../media/image5.jpeg"/><Relationship Id="rId16" Type="http://schemas.openxmlformats.org/officeDocument/2006/relationships/image" Target="../media/image6.jpeg"/><Relationship Id="rId17" Type="http://schemas.openxmlformats.org/officeDocument/2006/relationships/hyperlink" Target="http://astronews.prao.psn.ru/SolarSystem/Saturn/image1.jpg" TargetMode="External"/><Relationship Id="rId18" Type="http://schemas.openxmlformats.org/officeDocument/2006/relationships/image" Target="../media/image7.jpeg"/><Relationship Id="rId19" Type="http://schemas.openxmlformats.org/officeDocument/2006/relationships/hyperlink" Target="http://astronews.prao.psn.ru/SolarSystem/Saturn/ring_sat.gif" TargetMode="External"/><Relationship Id="rId20" Type="http://schemas.openxmlformats.org/officeDocument/2006/relationships/image" Target="../media/image8.jpeg"/><Relationship Id="rId2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 u="sng">
                <a:solidFill>
                  <a:srgbClr val="b2b2b2"/>
                </a:solidFill>
                <a:uFillTx/>
                <a:latin typeface="comic"/>
              </a:rPr>
              <a:t>Сатурн  и  его  «  глаз «</a:t>
            </a:r>
            <a:endParaRPr b="0" lang="en-US" sz="9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763640" y="3573360"/>
            <a:ext cx="5715000" cy="2467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" name=""/>
          <p:cNvGraphicFramePr/>
          <p:nvPr/>
        </p:nvGraphicFramePr>
        <p:xfrm>
          <a:off x="-4648320" y="-97267680"/>
          <a:ext cx="9144000" cy="3668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366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33ccff"/>
                          </a:solidFill>
                          <a:latin typeface="Arial"/>
                        </a:rPr>
                        <a:t>C</a:t>
                      </a:r>
                      <a:r>
                        <a:rPr b="0" lang="ru-RU" sz="1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атурн - шестая от Солнца и вторая по величине планета Солнечной системы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-4833360" y="-96901560"/>
            <a:ext cx="625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99"/>
                </a:solidFill>
                <a:latin typeface="Arial Unicode MS"/>
              </a:rPr>
              <a:t>Орбита: 1 429 400 000 км (9,54 АЕ) от Солнца</a:t>
            </a:r>
            <a:r>
              <a:rPr b="0" lang="en-US" sz="1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US" sz="1000" spc="-1" strike="noStrike">
                <a:solidFill>
                  <a:srgbClr val="ffff99"/>
                </a:solidFill>
                <a:latin typeface="Arial Unicode MS"/>
              </a:rPr>
              <a:t>Диаметр: 120 536 км (экватор)</a:t>
            </a:r>
            <a:r>
              <a:rPr b="0" lang="en-US" sz="1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US" sz="1000" spc="-1" strike="noStrike">
                <a:solidFill>
                  <a:srgbClr val="ffff99"/>
                </a:solidFill>
                <a:latin typeface="Arial Unicode MS"/>
              </a:rPr>
              <a:t>Масса: 5.68е26 кг</a:t>
            </a:r>
            <a:r>
              <a:rPr b="0" lang="en-US" sz="10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-4648320" y="-96656400"/>
          <a:ext cx="182520" cy="1860199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86019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</a:t>
                      </a:r>
                      <a:r>
                        <a:rPr b="0" lang="ru-RU" sz="1800" spc="-1" strike="noStrike">
                          <a:solidFill>
                            <a:srgbClr val="33ccff"/>
                          </a:solidFill>
                          <a:latin typeface="Arial"/>
                        </a:rPr>
                        <a:t>В</a:t>
                      </a:r>
                      <a:r>
                        <a:rPr b="0" lang="ru-RU" sz="1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 Римской мифологии Сатурн - бог сельского хозяйства. Соответствующий ему Греческий бог, Кронус, был сыном Урана и Геи и отцом Зевса (Юпитера)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</a:t>
                      </a:r>
                      <a:r>
                        <a:rPr b="0" lang="ru-RU" sz="1800" spc="-1" strike="noStrike">
                          <a:solidFill>
                            <a:srgbClr val="33ccff"/>
                          </a:solidFill>
                          <a:latin typeface="Arial"/>
                        </a:rPr>
                        <a:t>С</a:t>
                      </a:r>
                      <a:r>
                        <a:rPr b="0" lang="ru-RU" sz="1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атурн был известен с доисторических времен. Галилей первым наблюдал его в телескоп в 1610 году. Ранние наблюдения Сатурна были усложнены предположением, согласно которому Земля проходит через плоскость колец Сатурна каждые несколько лет, когда Сатурн пересекает ее орбиту. Только в 1659 году Кристиан Гюйгенс правильно вывел геометрию колец. Кольца Сатурна оставались уникальными для Солнечной системы до 1977 года, когда были обнаружены очень слабые кольца вокруг Урана и вскоре после этого вокруг Юпитера и Нептуна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-13114440" y="91287720"/>
            <a:ext cx="35374320" cy="109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  </a:t>
            </a:r>
            <a:r>
              <a:rPr b="0" lang="ru-RU" sz="5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                     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П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ервым кораблем, летавшим к Сатурну, был Pioneer 11 в 1979 году, и позднее - Voyager, 1 и Voyager 2. Cassini, который сейчас находится на пути к нему, прибудет туда в 2004 год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Д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аже в малый телескоп можно заметить, что Сатурн явно сплющен; его экваториальный и полярный диаметры различаются почти на 10 % (120,536 км и 108,728 км). Это - результат быстрого вращения и жидкого состояния. Другие газовые планеты тоже сплющены, но не так сильно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С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атурн имеет самую низкую плотность среди всех планет, его удельный вес составляет всего 0.7 - меньше, чем у вод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П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одобно Юпитеру, Сатурн состоит приблизительно на 75 % из водорода и на 25 % из гелия со следами воды, метана, аммиака и камня, что соответствует составу исконной Солнечной Туманности, из которой была сформирована Солнечная систем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  </a:t>
            </a:r>
            <a:r>
              <a:rPr b="0" lang="ru-RU" sz="5400" spc="-1" strike="noStrike">
                <a:solidFill>
                  <a:srgbClr val="ffff99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                           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П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о своему внутреннему строению Сатурн подобен Юпитеру и состоит из скалистого ядра, жидкого металлического водородного слоя и молекулярного водородного слоя. Присутствуют также следы различных льд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В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нутри Сатурна - горячее ядро с температурой 12000 K, и он излучает в космос большее количество энергии, чем получает от Солнца. Основная часть дополнительной энергии сгенерирована механизмом Келвина - Гельмгольца, как в Юпитере. Но этого недостаточно, чтобы объяснить видимую яркость Сатурна; должен присутствовать некоторый дополнительный механизм внутри Сатурн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  </a:t>
            </a:r>
            <a:r>
              <a:rPr b="0" lang="ru-RU" sz="6000" spc="-1" strike="noStrike">
                <a:solidFill>
                  <a:srgbClr val="ffff99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                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П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олосы, так выделяющиеся на Юпитере, на Сатурне намного более слабые. Они намного более широки ближе к экватору. У Сатурна также существуют долговечные пятна (красное пятно в центре изображения слева) и другие особенности, общие с Юпитеро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Д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ва основных кольца (А и B) и одно слабое кольцо (C) могут наблюдаться с Земли. Промежуток между кольцами А и B известен как раздел Cassini. Изображения Voyager показывают четыре дополнительных слабых кольца. Кольца Сатурна, в отличие от колец других планет, являются очень яркими (альбедо 0.2 - 0.6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5"/>
              </a:rPr>
              <a:t>  </a:t>
            </a:r>
            <a:r>
              <a:rPr b="0" lang="ru-RU" sz="6300" spc="-1" strike="noStrike">
                <a:solidFill>
                  <a:srgbClr val="ffff99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                 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Х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отя с Земли кольца выглядят непрерывными, фактически они состоят из бесчисленных малых частичек, каждая из которых имеет свою собственную независимую орбиту. Расстояние между ними колеблется от сантиметра до нескольких метр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К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ольца Сатурна необычайно тонки: хотя их диаметр - 250,000 км или чуть больше, их толщина составляет 1.5 км. Они состоят в основном из льда и частиц горных пород, покрытых ледяной корк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0" lang="ru-RU" sz="9000" spc="-1" strike="noStrike">
                <a:solidFill>
                  <a:srgbClr val="ffff99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                 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Н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аиболее удаленное кольцо Сатурна, называемое F-кольцом, является сложной структурой, составленной из отдельных малых колец, вдоль которых видны "узлы". Эти узлы состоят из скоплений материала, составляющего кольца (слева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П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роисхождение колец Сатурна и других планет неизвестно, возможно, они возникли путем разрушения больших спутников. Кольцевые системы не устойчивы, они должны восстанавливаться постоянно продолжающимися процесса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К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ак и другие планеты группы Юпитера, Сатурн имеет значительное магнитное пол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С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атурн легко увидеть в ночном небе невооруженным глазом. Хотя он не такой яркий, как Юпитер, его просто идентифицировать как планету, так как он не "мерцает", как звезды. Кольца и большие спутники можно наблюдать в небольшой телескоп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6"/>
              </a:rPr>
              <a:t>  </a:t>
            </a:r>
            <a:r>
              <a:rPr b="0" lang="ru-RU" sz="5500" spc="-1" strike="noStrike">
                <a:solidFill>
                  <a:srgbClr val="ffff99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             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cc"/>
                </a:solidFill>
                <a:uFillTx/>
                <a:latin typeface="Arial"/>
                <a:hlinkClick r:id="rId7"/>
              </a:rPr>
              <a:t>  </a:t>
            </a:r>
            <a:r>
              <a:rPr b="0" lang="ru-RU" sz="6600" spc="-1" strike="noStrike">
                <a:solidFill>
                  <a:srgbClr val="ffff99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                                        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33ccff"/>
                </a:solidFill>
                <a:latin typeface="Arial"/>
              </a:rPr>
              <a:t>У</a:t>
            </a:r>
            <a:r>
              <a:rPr b="0" lang="ru-RU" sz="1800" spc="-1" strike="noStrike">
                <a:solidFill>
                  <a:srgbClr val="ffff99"/>
                </a:solidFill>
                <a:latin typeface="Arial"/>
              </a:rPr>
              <a:t> Сатурна 18 спутников, имеющих свои наименования. Из тех спутников, скорости вращения которых известны, все, кроме Фебы и Гиперона, вращаются синхронно. Три пары спутников - Мимас - Тезис, Енцелад - Диона и Титан - Гиперон - взаимодействуют гравитационно таким образом, чтобы поддержать устойчивые связи между их орбитами. В дополнение к этим 18 спутникам по крайней мере еще дюжине были присвоены временные обозначения, но теперь считается, что вряд ли все они реальны и являются спутниками Сатурна.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-4492800" y="89409600"/>
            <a:ext cx="1428840" cy="8380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-4492800" y="91849680"/>
            <a:ext cx="1905120" cy="857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-4492800" y="93770280"/>
            <a:ext cx="1266840" cy="952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-4492800" y="95508720"/>
            <a:ext cx="1428840" cy="1009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6"/>
          <a:stretch/>
        </p:blipFill>
        <p:spPr>
          <a:xfrm>
            <a:off x="-4492800" y="9756792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-4492800" y="100861920"/>
            <a:ext cx="1143000" cy="885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-4492800" y="101700000"/>
            <a:ext cx="2857680" cy="10476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Титан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итан - самый крупный из известных спутников Сатурна.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рбита: 1 221 830 км от Сатурн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иаметр: 5 150 к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асса: 1.35е23 кг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   В греческой мифологии Титаны были семейством гигантов, детьми Урана и Геи, которые стремились управлять небесами, но были свергнуты и вытеснены Зевсо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итан был открыт Гюйгенсом в 1655 год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1800360" cy="13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Гиперон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иперон - шестой из известных спутников Сатурна.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рбита: 1 481 100 км от Нептун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аметр: 286 км (410x260x220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сса: 1.77e19 кг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   В греческой мифологии Гиперон был титаном, сыном Геи и Урана и отцом Гелиоса. Открыт Бондом и Ласселем в 1848 год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 Тритону летал только один космический корабль, Voyager 2, в августе 1989 года. Почти все, что мы знаем об этом спутнике, мы знаем благодаря этому полет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-за того, что орбита Тритона носит попятный характер, приливные взаимодействия между Нептуном и Тритоном уменьшают энергию Тритона, результатом чего является понижение его орбиты. Поэтому когда-нибудь, в далеком будущем, Тритон или разрушится (возможно, с формированием кольца вокруг Нептуна), или столкнется со своей планет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55520" y="46080"/>
            <a:ext cx="15811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«Глаз» Сатурн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-5283360"/>
            <a:ext cx="9144000" cy="474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глаз « Сатурна – это  пыльная  буря, которая  продолжается  на Сатурне  уже  более 400 лет. Эта пыльная  буря ничто  иное, как  солитон. Это  очень мощная  длинная волна, энергия которой не может  исчезнуть сразу , и поэтому идёт по затухающей , каждый раз возвращаясь, но уже с меньшей энерги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547640" y="1224000"/>
            <a:ext cx="576108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Подробнее о «глазе»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Глаз»-это пыльная буря, которая не проходит уже около 400 лет. А эта буря ничто иное, как солитон. Это длинная мощная волна, энергия которой не может исчезнуть  сразу, и поэтому идёт по затухающей. Каждый раз возвращаясь, но уже с меньшим количеством энерг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Внутреннее  строение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своему внутреннему строению Сатурн подобен Юпитеру и состоит из скалистого ядра, жидкого металлического водородного слоя и молекулярного водородного слоя. Присутствуют также следы различных льд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  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нутри Сатурна - горячее ядро с температурой 12000 K, и он излучает в космос большее количество энергии, чем получает от Солнца. Основная часть дополнительной энергии сгенерирована механизмом Келвина - Гельмгольца, как в Юпитере. Но этого недостаточно, чтобы объяснить видимую яркость Сатурна; должен присутствовать некоторый дополнительный механизм внутри Сатурн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Творцы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стерова Елена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таркова  Дарь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1 Б класс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5 г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.Слободской, Кировская облас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Краткие  сведен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Cатурн - шестая от Солнца и вторая по величине планета Солнечной системы.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рбита: 1 429 400 000 км (9,54 АЕ) от Солнц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метр: 120 536 км (экватор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сса: 5.68е26 кг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00720" y="3703680"/>
            <a:ext cx="410364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Кольца   Сатурн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5280" y="4365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Есть два основных кольца, видимых с Земли. Расстояние между ними колеблется от нескольких см. до нескольких метров. Кольца Сатурна тонки: хотя их диаметр 250.000 км., а толщина 1.5 км. Они состоят из льда и горных пород , покрытых льдом. Происхождение колец  неизвестно , возможно, они возникли путём разрушения спутников. Кольца неустойчивы, они должны  восстанавливаться постоянно продолжающимися процессам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2952720" cy="25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Его  спутники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 Сатурна 18 спутников, имеющих свои наименования. Из тех спутников, скорости вращения которых известны, все, кроме Фебы и Гиперона, вращаются синхронно. Три пары спутников - Мимас - Тезис, Енцелад - Диона и Титан - Гиперон - взаимодействуют гравитационно таким образом, чтобы поддержать устойчивые связи между их орбитами. В дополнение к этим 18 спутникам по крайней мере еще дюжине были присвоены временные обозначения, но теперь считается, что вряд ли все они реальны и являются спутниками Сатурн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116000" y="0"/>
            <a:ext cx="619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Немного о крупнейших спутниках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н - ближайший из всех известных спутников Сатурна.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рбита: 133 583 км от Сатурн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метр: 22 км Масса: ?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Был обнаружен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ark R Showalter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1990 г на фотографиях, сделанных кораблём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y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71640" y="4581360"/>
            <a:ext cx="160164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Атлас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тлас - второй из известных спутников Сатурна.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рбита: 137 670 км от Сатурн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иаметр: 30 км (40 x 20 км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сса: ?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       Атлас был титаном, братом Прометея, приговоренным Зевсом к тому, чтобы держать небеса на своих плечах.        Атлас был обнаружен R. Terrile в 1980 году на фотографиях, сделанных Voyager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Прометей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метей - третий из известных спутников Сатурна.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рбита: 139 350 км от Сатурн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иаметр: 91 км (145 x 85 x 62 км)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сса: 2.7е17 кг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       Прометей был титаном, который похитил огонь с Олимпа и отнес его людям, за что Зевс жестоко наказал его.        Прометей был открыт в 1980 году Коллинзом и др. на фотографиях, сделанных кораблем Voyager.      На поверхности Прометея есть ряд горных кряжей, долин и отдельных кратеров диаметром около 20 к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165564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Пандор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андора - четвертый из известных спутников Сатурн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рбита: 141 700 км от Сатурн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иаметр: 84 км (114 x 84 x 62 км)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сса: 2.2е17 кг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       В Греческой мифологии Пандора был первой женщиной, подаренная Зевсом человечеству в наказание за то, что Прометей похитил огонь. Она из любопытства открыла ящик, содержащий все болезни, которые могли принести бедствия людям, и выпустила все зло на свободу.        Пандора, как и Прометей, была обнаружена в 1980 году Коллинзом и др. на фотографиях, сделанных кораблем Voyag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7T05:14:11Z</dcterms:created>
  <dc:creator>Гость</dc:creator>
  <dc:description/>
  <dc:language>en-US</dc:language>
  <cp:lastModifiedBy>Name</cp:lastModifiedBy>
  <dcterms:modified xsi:type="dcterms:W3CDTF">2010-09-23T12:06:13Z</dcterms:modified>
  <cp:revision>11</cp:revision>
  <dc:subject/>
  <dc:title>Спутники Сатурн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a02000000000001024140</vt:lpwstr>
  </property>
</Properties>
</file>