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E33-B8D2-4FEE-93D3-1A567B98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2E6-E0C9-4E9E-A336-441AADA1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C80-2373-4FC7-B0B7-CC98C741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833-D5B2-4E4A-AD92-0FFAEFDB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4C8AF-3DBE-4C1F-A4AE-B11B5AE7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52531-7F24-4F92-A1E5-94E5F974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4B665-DBEA-4BB7-B80E-112F113C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9CA0C-2665-40F6-B1A3-C3CDCF65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D8B9C-FE9C-4C5A-BD0A-4AB92BD1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11E58-BFF5-4994-98D2-0E222932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90AE7-5B12-4B48-85E3-5AF7DA79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A1A-9606-4380-AE6E-F7053214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E89CD-B07E-4210-96B5-AB110CF3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5E852-70E8-4FA1-B12E-716B8DEC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58EA8-BCCE-4ECB-887F-49208271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D3E79-31AF-4898-877D-4B90AEF6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9E0F1-AF36-4BC9-8DF5-B520FAC2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937-A0D8-43F4-BB0C-E6B712BE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AB8-7282-4052-905B-DFD6302B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DD8-EEE4-4774-B0CC-3D5EC698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37E-5697-4BE9-B73B-0238F903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A2E-2373-4F70-8C39-A9987EB9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2EE-A999-45F8-A351-4A1E4100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06D-0C64-4087-B9D4-68EDD0B8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EAC6-BDC2-4C01-8FBE-959B7FF12D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FCCB-363A-46A4-9F18-C6ED12B8BB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467400" cy="646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0720"/>
            <a:ext cx="75614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ирода лу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5437080"/>
            <a:ext cx="5832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Чертагановой Ольги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рифоновой Марины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16200" y="1413000"/>
            <a:ext cx="3252960" cy="4032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вым в телескоп наблюдал Луну Галилео Галилей. Он увидел лунный пейзаж, покрытый горами и изрытый кратер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3737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елескопы Галилея(Музей истории науки, Флоренция) Два телескопа укреплены на музейной подставке. В центре виньетки разбитый объектив от первого телескопа Галил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1797120"/>
            <a:ext cx="5761080" cy="4200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системе наименований деталей рельефа Луны, используемой в настоящее время на картах, сохранились названия, данные еще Яном Гевелием в 1647 году, - Альпы, Апеннины, Кавк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6226200"/>
            <a:ext cx="43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9500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60213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ерхность Луны, снятая АМС «Клементи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5184720" cy="4665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тальянский астроном Джованни Риччоли в 1651 г. предложил называть образования на Лун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терами и мор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623736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61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Эратосфен диаметром 61 км образовался относительно недавно.                 На горизонте виден другой молодой кратер-Копер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79640" y="1917720"/>
            <a:ext cx="4457520" cy="4457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9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емные области на Луне носят названия: Море Влажности Океан Бурь, Море Дождей, Море Облаков, Залив Росы , Залив Радуги, Море Ясности, Море Спокойствия, Море Изоби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6308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ре споко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95480" y="1628640"/>
            <a:ext cx="3621240" cy="497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ша автоматическая станция «Луна-2» первой достигла лунной поверхности, а АМС «Луна-3» сфотографировала невидимую с Земли сторону Луны в 1959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33564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МС – «Луна-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278160" cy="228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1970 году автоматическая станция «Луна-17» доставила на Луну «Луноход -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528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оход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6093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имая сторона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535280" cy="227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Луне побывали 12 астронавтов космических экспедиций «Аполло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219640" y="4184640"/>
            <a:ext cx="3024360" cy="227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00000" y="4200480"/>
            <a:ext cx="31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651640" y="1300320"/>
            <a:ext cx="3024000" cy="21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35733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д космонавта на мягком грунт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638172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поллон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789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следование кра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338720" cy="4338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 только космическими автоматическими станциями исследуется поверхность Луны, но и современные телескопы ведут наблюдения  за спутни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6093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блюдения с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968880" cy="3497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деальное место для  астрономических наблюдений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же сейчас существуют проекты будущих лунных  обсервато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14680" y="176220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 – один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з самых крупных спутник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Солнечной сис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63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5229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а на нашем небосклоне и Земля на лунном н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640720" cy="6315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0755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емля видна на небосклоне Лу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80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Земли с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76360" y="1990800"/>
            <a:ext cx="5477040" cy="3308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иод вращения Луны вокруг своей ос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равен сидерическому периоду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скольку время одного оборота Луны вокруг Земли в точности равно времени одного оборота ее вокруг оси, Луна постоянно повернута к Земле одной и той же сторо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537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Луны в телеско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705440" cy="3854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сса Луны в 81 раз меньше массы Земли, и поэтому на ней нет атмосф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64720" cy="3384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сутствие атмосферы на Луне приводит к резким колебаниям температуры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95640" y="1778040"/>
            <a:ext cx="4935240" cy="4935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нутреннее строение Луны изучено по сейсмическим данным, переданными  приборами космических экспедиций «Аполлон»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олщина  коры Луны 60-100 км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Толщина верхней мантии 400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нутреннее строени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97632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учение лунных пород, доставленных на Землю, позволило оценить возраст Луны методом радиоактивного распада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мни на луне стали твердыми около 4,4 млрд. лет наз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79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ва-1,5 килограммовый базальт одного из лунны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292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права – горные породы со дна кратера, образовавшиеся в результате падения метеор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700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центре - анортозит, по составу похожий на лунную кору возвышенных 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080" y="363600"/>
            <a:ext cx="79786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щная литосфера толщиной около 1000 км исключает разломы и выход лавы на поверхность. Но раньше миллиарды лет назад, на Луне были извержения вулк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5589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Ван де Граф шириной 243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1:14:57Z</dcterms:created>
  <dc:creator>Авдонин Александр Петрович</dc:creator>
  <dc:description/>
  <dc:language>en-US</dc:language>
  <cp:lastModifiedBy>Name</cp:lastModifiedBy>
  <dcterms:modified xsi:type="dcterms:W3CDTF">2010-09-23T12:06:11Z</dcterms:modified>
  <cp:revision>11</cp:revision>
  <dc:subject/>
  <dc:title>Поверхность Лу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9000000000001024140</vt:lpwstr>
  </property>
</Properties>
</file>