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4253-BA58-48A0-BCEF-ED4629CEF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ECF9-1AA2-47B3-96D0-ECA45E785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DED6-B41E-49DD-BA17-46B38777C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91A5-F904-4008-9095-5D9848DAA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66CF4A-AA0B-46CB-B5D6-B9EEB9DD5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94F2A2-5610-4FE6-9B56-3248B7340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C3FEA4-7AFB-4854-B8F0-C4D2F2237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A52F5C-4090-4E0F-8BC8-D427F0F54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BA056F-A2B9-49D6-9ECA-D4D38D468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DF669E-7C2D-4E64-A2E6-E9118AADF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4F1A9E-C251-44FC-81A9-E5EBC8F1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E013-89A6-4794-9D44-E934AD072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448371-A3EE-4742-B3C2-683F4FC2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EFE99D-3505-46D1-99DB-1F2B5258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04B80E-4F7D-4D1D-8158-AAFD23556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1721E6-20F0-43A2-BA86-BEE757DE2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BABCAC-AA84-4A25-BFA6-D5F9A2C16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81B0-E4BB-4DAA-A970-D913E54A9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1CE8-5884-4875-9274-F46632C84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C5BB-6A14-473A-BBFA-6AC2F0EB7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8498-6162-48F2-B404-4FA4C2983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9E4C-9DA2-47AE-B854-FB0B718B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7594-9236-4210-8F61-62DF8858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9F2E-3E35-4ECE-9F10-7FC3BE56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5D5DD-E340-4492-A619-435DEEE28BD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BE5B7-B4D3-4D0C-8D6F-B3682E9BE49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900igr.net/" TargetMode="External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332000" y="0"/>
            <a:ext cx="6467400" cy="64674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180720"/>
            <a:ext cx="75614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Природа лун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2268360" y="5437080"/>
            <a:ext cx="58327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оект Чертагановой Ольги (11 класс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Трифоновой Марины (11 класс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3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716200" y="1413000"/>
            <a:ext cx="3252960" cy="4032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ервым в телескоп наблюдал Луну Галилео Галилей. Он увидел лунный пейзаж, покрытый горами и изрытый кратерами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611280" y="5373720"/>
            <a:ext cx="81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Телескопы Галилея(Музей истории науки, Флоренция) Два телескопа укреплены на музейной подставке. В центре виньетки разбитый объектив от первого телескопа Галиле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03280" y="1797120"/>
            <a:ext cx="5761080" cy="42004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 системе наименований деталей рельефа Луны, используемой в настоящее время на картах, сохранились названия, данные еще Яном Гевелием в 1647 году, - Альпы, Апеннины, Кавказ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3059280" y="6226200"/>
            <a:ext cx="43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95640" y="5950080"/>
            <a:ext cx="468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19280" y="6021360"/>
            <a:ext cx="54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верхность Луны, снятая АМС «Клементин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195640" y="1557360"/>
            <a:ext cx="5184720" cy="46656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тальянский астроном Джованни Риччоли в 1651 г. предложил называть образования на Луне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ратерами и морям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755640" y="6237360"/>
            <a:ext cx="7848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616572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Кратер Эратосфен диаметром 61 км образовался относительно недавно.                 На горизонте виден другой молодой кратер-Коперн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9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9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979640" y="1917720"/>
            <a:ext cx="4457520" cy="44575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91520" cy="19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Темные области на Луне носят названия: Море Влажности Океан Бурь, Море Дождей, Море Облаков, Залив Росы , Залив Радуги, Море Ясности, Море Спокойствия, Море Изобил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2340000" y="6308640"/>
            <a:ext cx="36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Море спокойств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895480" y="1628640"/>
            <a:ext cx="3621240" cy="49752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Наша автоматическая станция «Луна-2» первой достигла лунной поверхности, а АМС «Луна-3» сфотографировала невидимую с Земли сторону Луны в 1959 год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6335640" y="5805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АМС – «Луна-3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11280" y="1844640"/>
            <a:ext cx="3278160" cy="22892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 1970 году автоматическая станция «Луна-17» доставила на Луну «Луноход -1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5219640" y="2276640"/>
            <a:ext cx="3500640" cy="3500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835280" y="49417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Луноход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651640" y="6093000"/>
            <a:ext cx="31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идимая сторона Лу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4535280" cy="227664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На Луне побывали 12 астронавтов космических экспедиций «Аполлон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5219640" y="4184640"/>
            <a:ext cx="3024360" cy="22716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900000" y="4200480"/>
            <a:ext cx="3167280" cy="2397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5651640" y="1300320"/>
            <a:ext cx="3024000" cy="21985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580000" y="3573360"/>
            <a:ext cx="31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След космонавта на мягком грунте Лу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64000" y="6381720"/>
            <a:ext cx="29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Аполлон 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42920" y="378936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Исследование крате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9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124000" y="1700280"/>
            <a:ext cx="4338720" cy="43387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Не только космическими автоматическими станциями исследуется поверхность Луны, но и современные телескопы ведут наблюдения  за спутник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1403280" y="609300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блюдения с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V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9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971640" y="2349360"/>
            <a:ext cx="6968880" cy="34974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686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Луна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деальное место для  астрономических наблюдений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же сейчас существуют проекты будущих лунных  обсерватор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9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714680" y="1762200"/>
            <a:ext cx="5715000" cy="33336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Луна – один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з самых крупных спутников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в Солнечной систем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5300640"/>
            <a:ext cx="63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03280" y="522936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Луна на нашем небосклоне и Земля на лунном неб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8640720" cy="63151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07552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Земля видна на небосклоне Лун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276720" y="580536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ид Земли с Лу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476360" y="1990800"/>
            <a:ext cx="5477040" cy="33084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ериод вращения Луны вокруг своей оси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равен сидерическому периоду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оскольку время одного оборота Луны вокруг Земли в точности равно времени одного оборота ее вокруг оси, Луна постоянно повернута к Земле одной и той же сторон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2340000" y="537372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ид Луны в телеско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84360" y="1844640"/>
            <a:ext cx="7705440" cy="38545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Масса Луны в 81 раз меньше массы Земли, и поэтому на ней нет атмосфер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39640" y="2349360"/>
            <a:ext cx="8064720" cy="33847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Отсутствие атмосферы на Луне приводит к резким колебаниям температуры поверх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195640" y="1778040"/>
            <a:ext cx="4935240" cy="49356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нутреннее строение Луны изучено по сейсмическим данным, переданными  приборами космических экспедиций «Аполлон».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Толщина  коры Луны 60-100 км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Толщина верхней мантии 400 к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5724360" y="6237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нутреннее строение Лу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403280" y="976320"/>
            <a:ext cx="6264360" cy="50115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42472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Изучение лунных пород, доставленных на Землю, позволило оценить возраст Луны методом радиоактивного распада.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Камни на луне стали твердыми около 4,4 млрд. лет назад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179280" y="479736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Слева-1,5 килограммовый базальт одного из лунных мор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80000" y="4292640"/>
            <a:ext cx="33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Справа – горные породы со дна кратера, образовавшиеся в результате падения метеори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11280" y="170028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 центре - анортозит, по составу похожий на лунную кору возвышенных регион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124000" y="1700280"/>
            <a:ext cx="5238720" cy="38098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14080" y="363600"/>
            <a:ext cx="79786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Мощная литосфера толщиной около 1000 км исключает разломы и выход лавы на поверхность. Но раньше миллиарды лет назад, на Луне были извержения вулкан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2050920" y="558972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Кратер Ван де Граф шириной 243 к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8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1T11:14:57Z</dcterms:created>
  <dc:creator>Авдонин Александр Петрович</dc:creator>
  <dc:description/>
  <dc:language>en-US</dc:language>
  <cp:lastModifiedBy>Name</cp:lastModifiedBy>
  <dcterms:modified xsi:type="dcterms:W3CDTF">2010-09-23T12:06:11Z</dcterms:modified>
  <cp:revision>11</cp:revision>
  <dc:subject/>
  <dc:title>Поверхность Лун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a09000000000001024140</vt:lpwstr>
  </property>
</Properties>
</file>