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E20-2EB0-4F84-9514-AFBD8261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BC67-B5B0-43CF-8DC7-66270C4C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7CE-E534-44F7-A835-C5D09C3E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53E4-F6E4-4017-83A3-7E88460C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A25C5-9B4E-49B5-8E51-C09B5D5E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B09AC-A483-4FB6-A684-D4F3923F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4250E-4010-4C93-8903-1C0CC9D2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4C9D0-9759-4F46-A347-06412709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E84B0-7453-4EE5-A86F-C3FDE094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C06EA-4898-4063-A570-503179E1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7271F-CA11-4F8B-85AF-7ED58526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26AB-189F-49D4-8E72-DD39445D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8B82F-7A8A-43C3-878F-C5D3C1D9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67970-9A02-4D05-AA5F-6B30C509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1672A-CC05-44D7-9BA3-1E04B2DC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8B3E2-D145-4B96-8A26-C7CC5AE2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45F89-040F-496D-8E3D-BD928459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5750-D735-4575-B500-16729CAD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16B-C9F4-4A7B-A1E7-51576E9C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8E3-328C-4BBE-BF2A-F07F769F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C6A-1A11-4FEC-96D3-FF246F76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8096-7611-4DC0-B52A-BDFC4FE0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C96C-2886-425A-ABC0-E40F9D79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1F21-F6F1-48EC-AD14-D5432388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606E-43BB-4C8C-9DBD-ACE6EB1EC7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1F39-29F2-4E5B-8E8A-5DC74327D6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467400" cy="6467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80720"/>
            <a:ext cx="75614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ирода лу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5437080"/>
            <a:ext cx="5832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Чертагановой Ольги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рифоновой Марины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16200" y="1413000"/>
            <a:ext cx="3252960" cy="4032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вым в телескоп наблюдал Луну Галилео Галилей. Он увидел лунный пейзаж, покрытый горами и изрытый кратерам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37372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елескопы Галилея(Музей истории науки, Флоренция) Два телескопа укреплены на музейной подставке. В центре виньетки разбитый объектив от первого телескопа Галил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1797120"/>
            <a:ext cx="5761080" cy="4200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системе наименований деталей рельефа Луны, используемой в настоящее время на картах, сохранились названия, данные еще Яном Гевелием в 1647 году, - Альпы, Апеннины, Кавка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6226200"/>
            <a:ext cx="43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950080"/>
            <a:ext cx="46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602136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верхность Луны, снятая АМС «Клементи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195640" y="1557360"/>
            <a:ext cx="5184720" cy="4665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тальянский астроном Джованни Риччоли в 1651 г. предложил называть образования на Лун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атерами и мор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6237360"/>
            <a:ext cx="784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6165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Эратосфен диаметром 61 км образовался относительно недавно.                 На горизонте виден другой молодой кратер-Копер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79640" y="1917720"/>
            <a:ext cx="4457520" cy="4457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19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емные области на Луне носят названия: Море Влажности Океан Бурь, Море Дождей, Море Облаков, Залив Росы , Залив Радуги, Море Ясности, Море Спокойствия, Море Изобил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6308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ре споко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895480" y="1628640"/>
            <a:ext cx="3621240" cy="4975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ша автоматическая станция «Луна-2» первой достигла лунной поверхности, а АМС «Луна-3» сфотографировала невидимую с Земли сторону Луны в 1959 го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335640" y="58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МС – «Луна-3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3278160" cy="228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1970 году автоматическая станция «Луна-17» доставила на Луну «Луноход -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219640" y="227664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3528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оход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51640" y="6093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имая сторона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535280" cy="2276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 Луне побывали 12 астронавтов космических экспедиций «Аполлон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219640" y="4184640"/>
            <a:ext cx="3024360" cy="2271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00000" y="4200480"/>
            <a:ext cx="3167280" cy="2397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651640" y="1300320"/>
            <a:ext cx="3024000" cy="219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80000" y="35733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д космонавта на мягком грунт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638172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поллон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3789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следование крат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4338720" cy="4338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 только космическими автоматическими станциями исследуется поверхность Луны, но и современные телескопы ведут наблюдения  за спутник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60930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блюдения с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6968880" cy="3497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деальное место для  астрономических наблюдений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же сейчас существуют проекты будущих лунных  обсервато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14680" y="1762200"/>
            <a:ext cx="5715000" cy="3333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 – один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з самых крупных спутник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 Солнечной сис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5300640"/>
            <a:ext cx="63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5229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а на нашем небосклоне и Земля на лунном неб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640720" cy="6315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07552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емля видна на небосклоне Лу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805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Земли с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76360" y="1990800"/>
            <a:ext cx="5477040" cy="3308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иод вращения Луны вокруг своей оси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равен сидерическому периоду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скольку время одного оборота Луны вокруг Земли в точности равно времени одного оборота ее вокруг оси, Луна постоянно повернута к Земле одной и той же сторо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537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Луны в телеско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705440" cy="3854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асса Луны в 81 раз меньше массы Земли, и поэтому на ней нет атмосфе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8064720" cy="3384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сутствие атмосферы на Луне приводит к резким колебаниям температуры поверх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95640" y="1778040"/>
            <a:ext cx="4935240" cy="4935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нутреннее строение Луны изучено по сейсмическим данным, переданными  приборами космических экспедиций «Аполлон»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олщина  коры Луны 60-100 км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Толщина верхней мантии 400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нутреннее строени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03280" y="976320"/>
            <a:ext cx="6264360" cy="5011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42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учение лунных пород, доставленных на Землю, позволило оценить возраст Луны методом радиоактивного распада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мни на луне стали твердыми около 4,4 млрд. лет наза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4797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ва-1,5 килограммовый базальт одного из лунных мо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42926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права – горные породы со дна кратера, образовавшиеся в результате падения метеори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700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центре - анортозит, по составу похожий на лунную кору возвышенных реги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5238720" cy="3809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4080" y="363600"/>
            <a:ext cx="79786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щная литосфера толщиной около 1000 км исключает разломы и выход лавы на поверхность. Но раньше миллиарды лет назад, на Луне были извержения вулк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5589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Ван де Граф шириной 243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1:14:57Z</dcterms:created>
  <dc:creator>Авдонин Александр Петрович</dc:creator>
  <dc:description/>
  <dc:language>en-US</dc:language>
  <cp:lastModifiedBy>Name</cp:lastModifiedBy>
  <dcterms:modified xsi:type="dcterms:W3CDTF">2010-09-23T12:06:11Z</dcterms:modified>
  <cp:revision>11</cp:revision>
  <dc:subject/>
  <dc:title>Поверхность Лу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9000000000001024140</vt:lpwstr>
  </property>
</Properties>
</file>