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392-1517-469E-82F3-F4488D62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74D-8FB1-45F6-ACE5-8E7D4F6C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C80F-5A3D-45D9-B5A1-69360420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192-CB78-4DD2-B368-18D050BEE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AE2A71-A2FB-4D1D-BF16-7A23D0A6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DFA60-33F9-4086-B2A2-D22971B4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BDF911-CF04-42E7-AA79-207FF1A5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8BB52-0596-490B-A635-846054FD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949AE-064B-45FD-928E-9E09F22E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3C445-1D26-4D8E-AF92-A919828F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4B35B-BEFA-46D3-ADFB-EE4204C7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DC7-3895-43B3-943A-5F1EE942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7599E-C5F4-4D43-8503-B1E4B4CD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C347E-4799-4813-9AE0-4EDED393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FC034-6B99-4C45-953C-82FE4063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89CAF3-38BB-4FD3-9D5E-2BC94993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7E524-5B9B-4179-840D-F3F1C817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6D3-F5C7-4A8C-9827-77A51701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959B-2CBE-4245-A4E7-9E32CAFC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7196-2668-4F13-84B8-9E1B2D7D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23B-8A9C-42B7-A5B6-B94902D0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5963-C2B2-4954-A0A3-9F34EC8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1BA6-8E7E-4225-830A-4B35ACEA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02E-FA35-458B-B013-B30702C9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EB25-08DA-4C40-AA8A-F6DC4DB656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88FB-F494-4B8C-BCDD-B20D2BB226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467400" cy="6467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80720"/>
            <a:ext cx="75614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ирода лу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5437080"/>
            <a:ext cx="58327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ект Чертагановой Ольги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рифоновой Марины (11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16200" y="1413000"/>
            <a:ext cx="3252960" cy="4032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вым в телескоп наблюдал Луну Галилео Галилей. Он увидел лунный пейзаж, покрытый горами и изрытый кратерам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373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Телескопы Галилея(Музей истории науки, Флоренция) Два телескопа укреплены на музейной подставке. В центре виньетки разбитый объектив от первого телескопа Галиле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1797120"/>
            <a:ext cx="5761080" cy="42004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системе наименований деталей рельефа Луны, используемой в настоящее время на картах, сохранились названия, данные еще Яном Гевелием в 1647 году, - Альпы, Апеннины, Кав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6226200"/>
            <a:ext cx="43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5950080"/>
            <a:ext cx="46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602136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верхность Луны, снятая АМС «Клементин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195640" y="1557360"/>
            <a:ext cx="5184720" cy="4665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тальянский астроном Джованни Риччоли в 1651 г. предложил называть образования на Луне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атерами и мор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6237360"/>
            <a:ext cx="784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616572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Эратосфен диаметром 61 км образовался относительно недавно.                 На горизонте виден другой молодой кратер-Копер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979640" y="1917720"/>
            <a:ext cx="4457520" cy="44575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91520" cy="19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емные области на Луне носят названия: Море Влажности Океан Бурь, Море Дождей, Море Облаков, Залив Росы , Залив Радуги, Море Ясности, Море Спокойствия, Море Изобил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630864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Море спокойст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628640"/>
            <a:ext cx="3621240" cy="4975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ша автоматическая станция «Луна-2» первой достигла лунной поверхности, а АМС «Луна-3» сфотографировала невидимую с Земли сторону Луны в 1959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633564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МС – «Луна-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278160" cy="2289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1970 году автоматическая станция «Луна-17» доставила на Луну «Луноход -1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219640" y="2276640"/>
            <a:ext cx="3500640" cy="350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35280" y="4941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оход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51640" y="6093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имая сторона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4535280" cy="2276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а Луне побывали 12 астронавтов космических экспедиций «Аполлон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219640" y="4184640"/>
            <a:ext cx="3024360" cy="2271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900000" y="4200480"/>
            <a:ext cx="3167280" cy="2397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51640" y="1300320"/>
            <a:ext cx="3024000" cy="21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580000" y="357336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д космонавта на мягком грунт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638172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Аполлон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3789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Исследование крат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4338720" cy="43387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Не только космическими автоматическими станциями исследуется поверхность Луны, но и современные телескопы ведут наблюдения  за спутник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609300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Наблюдения с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6968880" cy="3497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деальное место для  астрономических наблюдений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же сейчас существуют проекты будущих лунных  обсерватор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714680" y="176220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Луна – один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з самых крупных спутник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 Солнечной систем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63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3280" y="522936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Луна на нашем небосклоне и Земля на лунном неб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40720" cy="63151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07552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Земля видна на небосклоне Лу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805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Земли с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76360" y="1990800"/>
            <a:ext cx="5477040" cy="3308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ериод вращения Луны вокруг своей оси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равен сидерическому периоду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Поскольку время одного оборота Луны вокруг Земли в точности равно времени одного оборота ее вокруг оси, Луна постоянно повернута к Земле одной и той же сторон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537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ид Луны в телеско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705440" cy="3854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асса Луны в 81 раз меньше массы Земли, и поэтому на ней нет атмосфе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8064720" cy="3384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Отсутствие атмосферы на Луне приводит к резким колебаниям температуры поверх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195640" y="1778040"/>
            <a:ext cx="4935240" cy="4935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нутреннее строение Луны изучено по сейсмическим данным, переданными  приборами космических экспедиций «Аполлон»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Толщина  коры Луны 60-100 км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Толщина верхней мантии 400 к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237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нутреннее строение Лу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03280" y="976320"/>
            <a:ext cx="6264360" cy="5011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зучение лунных пород, доставленных на Землю, позволило оценить возраст Луны методом радиоактивного распада.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Камни на луне стали твердыми около 4,4 млрд. лет наза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797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лева-1,5 килограммовый базальт одного из лунных мор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292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Справа – горные породы со дна кратера, образовавшиеся в результате падения метеори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1280" y="17002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 центре - анортозит, по составу похожий на лунную кору возвышенных регио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1700280"/>
            <a:ext cx="5238720" cy="380988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14080" y="363600"/>
            <a:ext cx="7978680" cy="13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Мощная литосфера толщиной около 1000 км исключает разломы и выход лавы на поверхность. Но раньше миллиарды лет назад, на Луне были извержения вулкан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Кратер Ван де Граф шириной 243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11:14:57Z</dcterms:created>
  <dc:creator>Авдонин Александр Петрович</dc:creator>
  <dc:description/>
  <dc:language>en-US</dc:language>
  <cp:lastModifiedBy>Name</cp:lastModifiedBy>
  <dcterms:modified xsi:type="dcterms:W3CDTF">2010-09-23T12:06:11Z</dcterms:modified>
  <cp:revision>11</cp:revision>
  <dc:subject/>
  <dc:title>Поверхность Лу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9000000000001024140</vt:lpwstr>
  </property>
</Properties>
</file>