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3FC-4800-4A57-9DB3-8A24F737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320-E4A5-4E7F-8514-4F42CAD0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D4F-DE9D-436F-8458-B236127F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58A-B9F3-4933-861E-B71E9BF1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8FC85-EDF5-42EB-B910-8D2A84E6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24FC4-072D-45D1-B54D-F6B8D258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65AAE-8AE7-42FD-B9B5-A02BD220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57B18-ED17-495B-90F3-2D5B156B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23241-1419-425C-967B-0FFE3561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6AC4A-EDA6-446B-AC0A-604F7938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13714-DFDE-4BEA-B3D5-54DE429A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96B-98E6-41CD-A309-D07D1D1A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E24C7-62FD-4B3E-93CE-C3ECA973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AAD62-116A-438C-907F-64CB784B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CC7CE-DE33-4F26-BFE6-9552471E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23AB1-637F-4F1C-BC34-43DA3072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87DC2-2F2A-4309-A528-B256A2DE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F04-F104-4712-98D3-542ABC88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0B7-7972-45D3-AF51-A6277A99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443-0B10-4164-A23F-5D9CBD18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1FA-C870-40EB-B3E6-5DF1ECE3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0BD-4605-4333-92DE-FFF7D731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980-925E-4840-B99F-43EC17A0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D37-B1A0-43EF-BAB0-3293C971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C93D-8F89-4E59-BEDC-2646AF76A0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50A6-FB62-4FD7-BFC4-C237E99965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космонавтики в России и ССС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8" descr="normal_b211396d87db13db2da54c2982c06479"/>
          <p:cNvPicPr/>
          <p:nvPr/>
        </p:nvPicPr>
        <p:blipFill>
          <a:blip r:embed="rId1"/>
          <a:stretch/>
        </p:blipFill>
        <p:spPr>
          <a:xfrm>
            <a:off x="2484360" y="1700280"/>
            <a:ext cx="395604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Допустив огромное количество ошибок в своей симуляции полета на Луну, США не знала куда ей деваться от своих неудач и поражений, но сдаваться они даже не намеривались. Найдя достаточно простой выход из ситуации США в поиске ученых договаривалась с некоторыми из ними, которые бежали через границу ГДР и ФРГ в Амер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normal_b211396d87db13db2da54c2982c06479"/>
          <p:cNvPicPr/>
          <p:nvPr/>
        </p:nvPicPr>
        <p:blipFill>
          <a:blip r:embed="rId1"/>
          <a:stretch/>
        </p:blipFill>
        <p:spPr>
          <a:xfrm>
            <a:off x="4643280" y="1773360"/>
            <a:ext cx="39560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Узнав об этом Советский Союз незамедлительно построил стену через границу ГДР и ФРГ которая разделила бы обе стороны. Уже позже и СССР и США совершили множество заметных шагов в освоении Венеры и Марса. Кроме того были и моменты разгрузки между двумя державами когда Леонид Ильич Брежнев и Ричард Никсон впервые подписали договор о сокращении и временном разоружении ядерного оружия и военн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Запуск ракеты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ем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Также между державами были совершены космические полеты в открытый космос с участием таких животных как собаки и мартышки которые опять таки СССР выиграл. Были совершены даже такие псевдо шаги как полеты на Луну и оставление там тайных сообщений для инопланетян на различных языках в том числе и мертвых из извес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7" descr="space_shuttle_endeavour_start07"/>
          <p:cNvPicPr/>
          <p:nvPr/>
        </p:nvPicPr>
        <p:blipFill>
          <a:blip r:embed="rId1"/>
          <a:stretch/>
        </p:blipFill>
        <p:spPr>
          <a:xfrm>
            <a:off x="4643280" y="1644480"/>
            <a:ext cx="3961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е годы 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Уже в восьмидесятых годах СССР и США прекратили массовые запуски ракет в космос, так как это уже было не популярно и не перспективно как прежде. В основном все ведущие космические программы были свернуты или оставлены на потом. Ведущую роль на тот момент имели лишь запуски спутником ведь мир был на пороге новых «мобильных» видов связи. Также в этот промежуток времени Советский Союз продает по лицензии разработки космических шатлов так и эту программу пришлось свернуть. Эти шатлы американцы запускают и по се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х год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перестройки все силы в основном уделялись на демократию, мирным связям с другими государствами и постепенному разоружению. С развалом СССР страна пребывала в мировом экономическом кризисе и ей опять таки просто напросто было не до космических технологий. Образовалось новое государство которое и по сей день практически не уделяет внимания на освоение космического прост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space_shuttle_endeavour_start02"/>
          <p:cNvPicPr/>
          <p:nvPr/>
        </p:nvPicPr>
        <p:blipFill>
          <a:blip r:embed="rId1"/>
          <a:stretch/>
        </p:blipFill>
        <p:spPr>
          <a:xfrm>
            <a:off x="4716360" y="1700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. 1957 год – Запуск первого искусственного спутника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2. 1958 год – Запуск спутника с научными приборами и космическим оборудованием с собакой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3. 1960 год – Создание корабля с космическим оборудованием на борту с автоматическим управл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4. 1961 год – запуск еще пяти космических кораблей с животными на борту, которые восемнадцать раз обошли орбиту земли и благополучно приземли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5. 12 апреля 1961 год – Запуск мощнейшей ракеты «Восток» с человеком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6. Сентябрь 1961 год – запуск космической ракеты «Восток 2» с человеком на борту который пробыл в открытом космосе в состоянии невесомости 25 часов и обогнул земную орбиту 17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7. Запуск 2 космических ракет «Восток 3» и «Восток 4» с двумя братьями – космонавтами Андрианом Николаевым и Павлом Поповичем которые на протяжении всего пути поддерживали между собой связ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8. Июнь 1963 год – Запуск первой ракеты с женщиной космонавтом на борту. Она пробыла в открытом космосе 71 час и 48 раз обогнула Зем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9. Октябрь 1964 год запуск в космос трех космонавтов Владимира Комарова, Константина Феоктистова и Бориса Егорова которые на протяжении всего полета сделали ряд научных наблюдений которые в огромной степени помогли дальнейшему изучению и освоению космического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0. Март 1965 год - Запуск космического корабля «Восход 2» с двумя космонавтами на борту Павлом Беляевым и Алексеем Леоновым которые впервые вышли из  корабля в космическое пространство и пробыли в нем 12 минут со скоростью движущегося корабля в 28000 лошади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1. Октябрь 1968 год - Запуск космического корабля «Союз 2» и самостоятельное управление и маневрирование им летчиком – космонавтом Георгием Береговы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2. Январь 1969 - Запуск двух космических кораблей «Союз 4» и Союз 5 с тремя летчиками – космонавтами на борту Алексей Елисеевым, Евгением Хруновым и Борисом Волыновым которые впервые совершили состыковку космических кораблей и имели возможность перейти из одного в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3. В октябре 1969 – Запуск трех космических кораблей «Союз 5», «Союз 6» и «Союз 7» с семью космонавтами на борту, которые проводили научные исследования и впервые в открытом космосе осуществили сварку метал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Вместо предислов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Официально история развития отечественной космонавтики приходится на начало пятидесятых годов двадцатого столетия. На самом деле еще в период довоенных отношений в Германии, СССР проектировал оборудование для запуска космического околоземного спутника и первого полета человека в открытый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4. В феврале 1975 года в Советском Союзе успешно состоялся взлет космического корабля, который достигнув земной орбиты на высоте 500 км имея на своем борту двух летчиком – космонавтов Алексея Губарева и Георгия Гречко в течении 30 суток совершил ряд научных исследований и откр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5. 17 июля 1982 года был совершен одновременный вылет с космических станций СССР и США двух ракет которые достигнув земной орбиты земли выпустили спутники и совершили между ними состыковку это программа получила название «Союз – Аполло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последующие годы были совершены еще множество вылетов космических кораблей, спутников и станций как со стороны Соединенных штатов так и со стороны Советского союза которые провели многочисленные исследования и дали объяснение многим неизученным прежде природным феноменам и явлениям которые прежде изучить было невозможно. Тем самым мир встав на пороге космического мира открыл для себя множество как положительных так и отрицательных явл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Доклад подготовил ученик 9 «А» класса Мартынов Михаи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По некоторым сохранившимся на сегодняшний день данным известно что в отличии от СССР в Германии еще в 1933 году с приходом к власти Гитлера, Германия «заболела» планами о покорении мира и добычи некоторых древних артефактов которые бы позволили Гитлеру осуществить свои планы и замысл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normal_2d5318edc13acbb53da21906fe5e3e51"/>
          <p:cNvPicPr/>
          <p:nvPr/>
        </p:nvPicPr>
        <p:blipFill>
          <a:blip r:embed="rId1"/>
          <a:stretch/>
        </p:blipFill>
        <p:spPr>
          <a:xfrm>
            <a:off x="4572000" y="1700280"/>
            <a:ext cx="410364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те времена Германия и СССР активно сотрудничали и обменивались в прямом смысле этого слова своими военными проектами и ресурсами что и позволило Советскому Союзу строить даже после войны автомобили, самолеты и даже ракеты. С наступлением различных военных конфликтов и войн между Германией и СССР связи были разорваны и Гитлер уже подло готовил свой план «Блицкрига» и «Барбароссы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Второй мировой войны Советскому Союзу было уже далеко до создания и испытания ракетной техники страна нуждалось в новой технике превосходящей по качеству и численности вражескую и она была. Благодаря таким известнейшим конструкторам как Яковлев, Туполев, Лавочкин и Ильюшин государство имело лучшую технику в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normal_f0a059d7aa5d4ef175ff8899a7c3ba23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результате победы Советского Союза над фашистской Германией страна оказалась в ужасающем положении которое требовало незамедлительного становления экономики. Кроме того выйдя победителями из войны СССР и США стали для друг друга не только серьезнейшими соперниками, но и заядлыми врагами. Но Советский Союз в отличии от США не обращал внимания на жизнь обычных рядовых жителей, а только все с большой силой эксплуатировала их строя новые ракеты, машины и авиацию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пя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растанием новых противоречий между СССР и США мир был на гране Третьей мировой войны что подтвердил «Карибский кризис» в шестидесятые годы двадцатого столетия. Оба государства старались стоить как можно больше ракет, ядерной техники и оружия порой пренебрегая техническими нормами и качеством сборки оруж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soyuz_raketa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последствии в связи визитом советского лидера Никиты Сергеевича Хрущева в Соединенные Штаты мир смог достичь разгрузки отношений между двумя державами. И тогда началась новая уже космическая гонка которую по началу Советский Союз во всех смыслах выигрывал и проявлялось это естественно и с запуском космического спутника в 1957 году и с полетом человека в открытый космос в 1961 году. Соединенные Штаты пребывали в состоянии шока узнав что они отстают от такой нищей страны как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В результате временного триумфа СССР, США решили пойти на крайние меры так и не взлетев в открытый космос США симулировала полет Нила Амстронга на луну сняв на видеопленку киношную картину этого события. Тем не менее даже допустив множество ошибок и «ляпов» в процессе съемки США до сих пор пытается доказать свой полет на Лу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space_shuttle_endeavour_start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0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6:25:27Z</dcterms:created>
  <dc:creator>анна</dc:creator>
  <dc:description/>
  <dc:language>en-US</dc:language>
  <cp:lastModifiedBy>Owner</cp:lastModifiedBy>
  <dcterms:modified xsi:type="dcterms:W3CDTF">2011-08-07T07:53:17Z</dcterms:modified>
  <cp:revision>8</cp:revision>
  <dc:subject/>
  <dc:title>История развития космонавтики в России и СССР</dc:title>
</cp:coreProperties>
</file>