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C3AED-8C1C-4839-AFFA-08D8C9C15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A6716-341A-492F-BE0E-C35890421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E852E-2C4F-44B1-B304-D4669CF35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8CDFF-CD44-45ED-9CEC-2605E12AC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131872-F987-4C03-A534-F71ED4415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71E760-DEB9-46C9-BB97-5FC4339D2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22063A-B49B-4328-87D9-7FAA63ED5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CA221C-6766-4B4A-80A7-E58AAFDD8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FA217A-99D7-40A8-8A04-179E4FFAE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F8826D-0663-4D3C-A7B8-2A9E2E130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BE5EEC-8D9D-4D39-913F-B4E63207D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74547-8E29-440C-8F34-E18F2A858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B4B17C-2475-482E-9EC0-92DAFB84D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45DC68-9D6F-420B-B707-424851E09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77A27E-A892-49DD-946A-FB6DFE10A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BC9044-3956-477C-88F8-D67F2BF23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D0DC63-F5AD-4A4F-BE40-FF4D332D3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9192B-B062-4680-A84B-C4D35B524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BBA87-706F-46F7-88E3-B7AEC72D8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10352-C697-4533-997B-A0E2C004E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176DA-04D0-4C24-8DE8-D9C739B91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70DB0-1693-4880-8155-DD1DDB9D6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C1051-50A2-4478-A2E6-130BE1A8E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38020-99EE-46C8-BC71-F0CB0DAFC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840"/>
              <a:gd name="textAreaBottom" fmla="*/ 610200 h 60984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>
                <a:gd name="textAreaLeft" fmla="*/ 0 w 5143320"/>
                <a:gd name="textAreaRight" fmla="*/ 5143680 w 514332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>
                  <a:gd name="textAreaLeft" fmla="*/ 0 w 1581120"/>
                  <a:gd name="textAreaRight" fmla="*/ 1581480 w 1581120"/>
                  <a:gd name="textAreaTop" fmla="*/ 0 h 846000"/>
                  <a:gd name="textAreaBottom" fmla="*/ 846360 h 846000"/>
                </a:gdLst>
                <a:ahLst/>
                <a:rect l="textAreaLeft" t="textAreaTop" r="textAreaRight" b="textAreaBottom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>
                  <a:gd name="textAreaLeft" fmla="*/ 0 w 600120"/>
                  <a:gd name="textAreaRight" fmla="*/ 600480 w 60012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>
                  <a:gd name="textAreaLeft" fmla="*/ 0 w 246240"/>
                  <a:gd name="textAreaRight" fmla="*/ 246240 w 24624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>
                  <a:gd name="textAreaLeft" fmla="*/ 0 w 66600"/>
                  <a:gd name="textAreaRight" fmla="*/ 66960 w 6660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>
                <a:gd name="textAreaLeft" fmla="*/ 0 w 6311880"/>
                <a:gd name="textAreaRight" fmla="*/ 6312240 w 631188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0C0AF-9234-4066-834A-835BC9816B2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0F68E-70EB-4B77-8736-40E7CF94E8E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900igr.net/" TargetMode="External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99ff"/>
                </a:solidFill>
                <a:latin typeface="Arial"/>
              </a:rPr>
              <a:t>История развития космонавтики в России и СССР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23" name="Picture 8" descr="normal_b211396d87db13db2da54c2982c06479"/>
          <p:cNvPicPr/>
          <p:nvPr/>
        </p:nvPicPr>
        <p:blipFill>
          <a:blip r:embed="rId1"/>
          <a:stretch/>
        </p:blipFill>
        <p:spPr>
          <a:xfrm>
            <a:off x="2484360" y="1700280"/>
            <a:ext cx="3956040" cy="4032360"/>
          </a:xfrm>
          <a:prstGeom prst="rect">
            <a:avLst/>
          </a:prstGeom>
          <a:ln w="0">
            <a:noFill/>
          </a:ln>
        </p:spPr>
      </p:pic>
      <p:sp>
        <p:nvSpPr>
          <p:cNvPr id="124" name="Скругленный прямоугольник 5">
            <a:hlinkClick r:id="rId2"/>
          </p:cNvPr>
          <p:cNvSpPr/>
          <p:nvPr/>
        </p:nvSpPr>
        <p:spPr>
          <a:xfrm>
            <a:off x="3898800" y="6477120"/>
            <a:ext cx="134640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1f1f1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25560" bIns="50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900igr.n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0000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99ff"/>
                </a:solidFill>
                <a:latin typeface="Arial"/>
              </a:rPr>
              <a:t>История развития отечественной космонавтики в шестидесятые годы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99ff"/>
                </a:solidFill>
                <a:latin typeface="Arial"/>
              </a:rPr>
              <a:t>    </a:t>
            </a:r>
            <a:r>
              <a:rPr b="0" i="1" lang="ru-RU" sz="2000" spc="-1" strike="noStrike">
                <a:solidFill>
                  <a:srgbClr val="3399ff"/>
                </a:solidFill>
                <a:latin typeface="Arial"/>
              </a:rPr>
              <a:t>Допустив огромное количество ошибок в своей симуляции полета на Луну, США не знала куда ей деваться от своих неудач и поражений, но сдаваться они даже не намеривались. Найдя достаточно простой выход из ситуации США в поиске ученых договаривалась с некоторыми из ними, которые бежали через границу ГДР и ФРГ в Америку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Picture 6" descr="normal_b211396d87db13db2da54c2982c06479"/>
          <p:cNvPicPr/>
          <p:nvPr/>
        </p:nvPicPr>
        <p:blipFill>
          <a:blip r:embed="rId1"/>
          <a:stretch/>
        </p:blipFill>
        <p:spPr>
          <a:xfrm>
            <a:off x="4643280" y="1773360"/>
            <a:ext cx="3956040" cy="4032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99ff"/>
                </a:solidFill>
                <a:latin typeface="Arial"/>
              </a:rPr>
              <a:t>История развития отечественной космонавтики в шестидесятые годы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99ff"/>
                </a:solidFill>
                <a:latin typeface="Arial"/>
              </a:rPr>
              <a:t>    </a:t>
            </a:r>
            <a:r>
              <a:rPr b="0" i="1" lang="ru-RU" sz="2000" spc="-1" strike="noStrike">
                <a:solidFill>
                  <a:srgbClr val="3399ff"/>
                </a:solidFill>
                <a:latin typeface="Arial"/>
              </a:rPr>
              <a:t>Узнав об этом Советский Союз незамедлительно построил стену через границу ГДР и ФРГ которая разделила бы обе стороны. Уже позже и СССР и США совершили множество заметных шагов в освоении Венеры и Марса. Кроме того были и моменты разгрузки между двумя державами когда Леонид Ильич Брежнев и Ричард Никсон впервые подписали договор о сокращении и временном разоружении ядерного оружия и военной техник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Picture 5" descr="Запуск ракеты"/>
          <p:cNvPicPr/>
          <p:nvPr/>
        </p:nvPicPr>
        <p:blipFill>
          <a:blip r:embed="rId1"/>
          <a:stretch/>
        </p:blipFill>
        <p:spPr>
          <a:xfrm>
            <a:off x="4572000" y="1700280"/>
            <a:ext cx="4032360" cy="4105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99ff"/>
                </a:solidFill>
                <a:latin typeface="Arial"/>
              </a:rPr>
              <a:t>История развития отечественной космонавтики в семидесятые годы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99ff"/>
                </a:solidFill>
                <a:latin typeface="Arial"/>
              </a:rPr>
              <a:t>    </a:t>
            </a:r>
            <a:r>
              <a:rPr b="0" i="1" lang="ru-RU" sz="2000" spc="-1" strike="noStrike">
                <a:solidFill>
                  <a:srgbClr val="3399ff"/>
                </a:solidFill>
                <a:latin typeface="Arial"/>
              </a:rPr>
              <a:t>Также между державами были совершены космические полеты в открытый космос с участием таких животных как собаки и мартышки которые опять таки СССР выиграл. Были совершены даже такие псевдо шаги как полеты на Луну и оставление там тайных сообщений для инопланетян на различных языках в том числе и мертвых из известных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3" name="Picture 7" descr="space_shuttle_endeavour_start07"/>
          <p:cNvPicPr/>
          <p:nvPr/>
        </p:nvPicPr>
        <p:blipFill>
          <a:blip r:embed="rId1"/>
          <a:stretch/>
        </p:blipFill>
        <p:spPr>
          <a:xfrm>
            <a:off x="4643280" y="1644480"/>
            <a:ext cx="3961080" cy="4160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99ff"/>
                </a:solidFill>
                <a:latin typeface="Arial"/>
              </a:rPr>
              <a:t>История развития отечественной космонавтики в восьмидесятые годы   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99ff"/>
                </a:solidFill>
                <a:latin typeface="Arial"/>
              </a:rPr>
              <a:t>    </a:t>
            </a:r>
            <a:r>
              <a:rPr b="0" i="1" lang="ru-RU" sz="2400" spc="-1" strike="noStrike">
                <a:solidFill>
                  <a:srgbClr val="3399ff"/>
                </a:solidFill>
                <a:latin typeface="Arial"/>
              </a:rPr>
              <a:t>Уже в восьмидесятых годах СССР и США прекратили массовые запуски ракет в космос, так как это уже было не популярно и не перспективно как прежде. В основном все ведущие космические программы были свернуты или оставлены на потом. Ведущую роль на тот момент имели лишь запуски спутником ведь мир был на пороге новых «мобильных» видов связи. Также в этот промежуток времени Советский Союз продает по лицензии разработки космических шатлов так и эту программу пришлось свернуть. Эти шатлы американцы запускают и по сей день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99ff"/>
                </a:solidFill>
                <a:latin typeface="Arial"/>
              </a:rPr>
              <a:t>История развития отечественной космонавтики в восьмидесятых годах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99ff"/>
                </a:solidFill>
                <a:latin typeface="Arial"/>
              </a:rPr>
              <a:t>    </a:t>
            </a:r>
            <a:r>
              <a:rPr b="0" i="1" lang="ru-RU" sz="2000" spc="-1" strike="noStrike">
                <a:solidFill>
                  <a:srgbClr val="3399ff"/>
                </a:solidFill>
                <a:latin typeface="Arial"/>
              </a:rPr>
              <a:t>С началом перестройки все силы в основном уделялись на демократию, мирным связям с другими государствами и постепенному разоружению. С развалом СССР страна пребывала в мировом экономическом кризисе и ей опять таки просто напросто было не до космических технологий. Образовалось новое государство которое и по сей день практически не уделяет внимания на освоение космического пространств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8" name="Picture 7" descr="space_shuttle_endeavour_start02"/>
          <p:cNvPicPr/>
          <p:nvPr/>
        </p:nvPicPr>
        <p:blipFill>
          <a:blip r:embed="rId1"/>
          <a:stretch/>
        </p:blipFill>
        <p:spPr>
          <a:xfrm>
            <a:off x="4716360" y="1700280"/>
            <a:ext cx="3888000" cy="4105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99ff"/>
                </a:solidFill>
                <a:latin typeface="Arial"/>
              </a:rPr>
              <a:t>Основные и важнейшие периоды в истории освоения космоса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99ff"/>
                </a:solidFill>
                <a:latin typeface="Arial"/>
              </a:rPr>
              <a:t>1. 1957 год – Запуск первого искусственного спутника земл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99ff"/>
                </a:solidFill>
                <a:latin typeface="Arial"/>
              </a:rPr>
              <a:t>2. 1958 год – Запуск спутника с научными приборами и космическим оборудованием с собакой на борт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99ff"/>
                </a:solidFill>
                <a:latin typeface="Arial"/>
              </a:rPr>
              <a:t>3. 1960 год – Создание корабля с космическим оборудованием на борту с автоматическим управление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99ff"/>
                </a:solidFill>
                <a:latin typeface="Arial"/>
              </a:rPr>
              <a:t>4. 1961 год – запуск еще пяти космических кораблей с животными на борту, которые восемнадцать раз обошли орбиту земли и благополучно приземлились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99ff"/>
                </a:solidFill>
                <a:latin typeface="Arial"/>
              </a:rPr>
              <a:t>Основные и важнейшие периоды в истории освоения космоса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99ff"/>
                </a:solidFill>
                <a:latin typeface="Arial"/>
              </a:rPr>
              <a:t>5. 12 апреля 1961 год – Запуск мощнейшей ракеты «Восток» с человеком на борт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99ff"/>
                </a:solidFill>
                <a:latin typeface="Arial"/>
              </a:rPr>
              <a:t>6. Сентябрь 1961 год – запуск космической ракеты «Восток 2» с человеком на борту который пробыл в открытом космосе в состоянии невесомости 25 часов и обогнул земную орбиту 17 раз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99ff"/>
                </a:solidFill>
                <a:latin typeface="Arial"/>
              </a:rPr>
              <a:t>7. Запуск 2 космических ракет «Восток 3» и «Восток 4» с двумя братьями – космонавтами Андрианом Николаевым и Павлом Поповичем которые на протяжении всего пути поддерживали между собой связь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99ff"/>
                </a:solidFill>
                <a:latin typeface="Arial"/>
              </a:rPr>
              <a:t>Основные и важнейшие периоды в истории освоения космоса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99ff"/>
                </a:solidFill>
                <a:latin typeface="Arial"/>
              </a:rPr>
              <a:t>8. Июнь 1963 год – Запуск первой ракеты с женщиной космонавтом на борту. Она пробыла в открытом космосе 71 час и 48 раз обогнула Землю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99ff"/>
                </a:solidFill>
                <a:latin typeface="Arial"/>
              </a:rPr>
              <a:t>9. Октябрь 1964 год запуск в космос трех космонавтов Владимира Комарова, Константина Феоктистова и Бориса Егорова которые на протяжении всего полета сделали ряд научных наблюдений которые в огромной степени помогли дальнейшему изучению и освоению космического пространств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99ff"/>
                </a:solidFill>
                <a:latin typeface="Arial"/>
              </a:rPr>
              <a:t>Основные и важнейшие периоды в истории освоения космоса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99ff"/>
                </a:solidFill>
                <a:latin typeface="Arial"/>
              </a:rPr>
              <a:t>10. Март 1965 год - Запуск космического корабля «Восход 2» с двумя космонавтами на борту Павлом Беляевым и Алексеем Леоновым которые впервые вышли из  корабля в космическое пространство и пробыли в нем 12 минут со скоростью движущегося корабля в 28000 лошадиных си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99ff"/>
                </a:solidFill>
                <a:latin typeface="Arial"/>
              </a:rPr>
              <a:t>11. Октябрь 1968 год - Запуск космического корабля «Союз 2» и самостоятельное управление и маневрирование им летчиком – космонавтом Георгием Береговым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99ff"/>
                </a:solidFill>
                <a:latin typeface="Arial"/>
              </a:rPr>
              <a:t>Основные и важнейшие периоды в истории освоения космоса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99ff"/>
                </a:solidFill>
                <a:latin typeface="Arial"/>
              </a:rPr>
              <a:t>12. Январь 1969 - Запуск двух космических кораблей «Союз 4» и Союз 5 с тремя летчиками – космонавтами на борту Алексей Елисеевым, Евгением Хруновым и Борисом Волыновым которые впервые совершили состыковку космических кораблей и имели возможность перейти из одного в друго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99ff"/>
                </a:solidFill>
                <a:latin typeface="Arial"/>
              </a:rPr>
              <a:t>13. В октябре 1969 – Запуск трех космических кораблей «Союз 5», «Союз 6» и «Союз 7» с семью космонавтами на борту, которые проводили научные исследования и впервые в открытом космосе осуществили сварку металл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99ff"/>
                </a:solidFill>
                <a:latin typeface="Arial"/>
              </a:rPr>
              <a:t>Вместо предисловия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99"/>
                </a:solidFill>
                <a:latin typeface="Arial"/>
              </a:rPr>
              <a:t>   </a:t>
            </a:r>
            <a:r>
              <a:rPr b="0" i="1" lang="ru-RU" sz="2400" spc="-1" strike="noStrike">
                <a:solidFill>
                  <a:srgbClr val="3399ff"/>
                </a:solidFill>
                <a:latin typeface="Arial"/>
              </a:rPr>
              <a:t>Официально история развития отечественной космонавтики приходится на начало пятидесятых годов двадцатого столетия. На самом деле еще в период довоенных отношений в Германии, СССР проектировал оборудование для запуска космического околоземного спутника и первого полета человека в открытый космос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99ff"/>
                </a:solidFill>
                <a:latin typeface="Arial"/>
              </a:rPr>
              <a:t>Основные и важнейшие периоды в истории освоения космоса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99ff"/>
                </a:solidFill>
                <a:latin typeface="Arial"/>
              </a:rPr>
              <a:t>14. В феврале 1975 года в Советском Союзе успешно состоялся взлет космического корабля, который достигнув земной орбиты на высоте 500 км имея на своем борту двух летчиком – космонавтов Алексея Губарева и Георгия Гречко в течении 30 суток совершил ряд научных исследований и открыти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99ff"/>
                </a:solidFill>
                <a:latin typeface="Arial"/>
              </a:rPr>
              <a:t>15. 17 июля 1982 года был совершен одновременный вылет с космических станций СССР и США двух ракет которые достигнув земной орбиты земли выпустили спутники и совершили между ними состыковку это программа получила название «Союз – Аполлон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99ff"/>
                </a:solidFill>
                <a:latin typeface="Arial"/>
              </a:rPr>
              <a:t>Основные и важнейшие периоды в истории освоения космоса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99ff"/>
                </a:solidFill>
                <a:latin typeface="Arial"/>
              </a:rPr>
              <a:t>    </a:t>
            </a:r>
            <a:r>
              <a:rPr b="0" i="1" lang="ru-RU" sz="2400" spc="-1" strike="noStrike">
                <a:solidFill>
                  <a:srgbClr val="3399ff"/>
                </a:solidFill>
                <a:latin typeface="Arial"/>
              </a:rPr>
              <a:t>В последующие годы были совершены еще множество вылетов космических кораблей, спутников и станций как со стороны Соединенных штатов так и со стороны Советского союза которые провели многочисленные исследования и дали объяснение многим неизученным прежде природным феноменам и явлениям которые прежде изучить было невозможно. Тем самым мир встав на пороге космического мира открыл для себя множество как положительных так и отрицательных явлений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764640"/>
            <a:ext cx="8229600" cy="302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99ff"/>
                </a:solidFill>
                <a:latin typeface="Arial"/>
              </a:rPr>
              <a:t>Доклад подготовил ученик 9 «А» класса Мартынов Михаил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99ff"/>
                </a:solidFill>
                <a:latin typeface="Arial"/>
              </a:rPr>
              <a:t>История развития отечественной космонавтики в тридцатые годы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99ff"/>
                </a:solidFill>
                <a:latin typeface="Arial"/>
              </a:rPr>
              <a:t>     </a:t>
            </a:r>
            <a:r>
              <a:rPr b="0" i="1" lang="ru-RU" sz="2000" spc="-1" strike="noStrike">
                <a:solidFill>
                  <a:srgbClr val="3399ff"/>
                </a:solidFill>
                <a:latin typeface="Arial"/>
              </a:rPr>
              <a:t>По некоторым сохранившимся на сегодняшний день данным известно что в отличии от СССР в Германии еще в 1933 году с приходом к власти Гитлера, Германия «заболела» планами о покорении мира и добычи некоторых древних артефактов которые бы позволили Гитлеру осуществить свои планы и замыслы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Picture 12" descr="normal_2d5318edc13acbb53da21906fe5e3e51"/>
          <p:cNvPicPr/>
          <p:nvPr/>
        </p:nvPicPr>
        <p:blipFill>
          <a:blip r:embed="rId1"/>
          <a:stretch/>
        </p:blipFill>
        <p:spPr>
          <a:xfrm>
            <a:off x="4572000" y="1700280"/>
            <a:ext cx="4103640" cy="4105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99ff"/>
                </a:solidFill>
                <a:latin typeface="Arial"/>
              </a:rPr>
              <a:t>История развития отечественной космонавтики в тридцатые годы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99ff"/>
                </a:solidFill>
                <a:latin typeface="Arial"/>
              </a:rPr>
              <a:t>    </a:t>
            </a:r>
            <a:r>
              <a:rPr b="0" i="1" lang="ru-RU" sz="2400" spc="-1" strike="noStrike">
                <a:solidFill>
                  <a:srgbClr val="3399ff"/>
                </a:solidFill>
                <a:latin typeface="Arial"/>
              </a:rPr>
              <a:t>В те времена Германия и СССР активно сотрудничали и обменивались в прямом смысле этого слова своими военными проектами и ресурсами что и позволило Советскому Союзу строить даже после войны автомобили, самолеты и даже ракеты. С наступлением различных военных конфликтов и войн между Германией и СССР связи были разорваны и Гитлер уже подло готовил свой план «Блицкрига» и «Барбароссы»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99ff"/>
                </a:solidFill>
                <a:latin typeface="Arial"/>
              </a:rPr>
              <a:t>История развития отечественной космонавтики в сороковые годы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99ff"/>
                </a:solidFill>
                <a:latin typeface="Arial"/>
              </a:rPr>
              <a:t>    </a:t>
            </a:r>
            <a:r>
              <a:rPr b="0" i="1" lang="ru-RU" sz="2000" spc="-1" strike="noStrike">
                <a:solidFill>
                  <a:srgbClr val="3399ff"/>
                </a:solidFill>
                <a:latin typeface="Arial"/>
              </a:rPr>
              <a:t>С началом Второй мировой войны Советскому Союзу было уже далеко до создания и испытания ракетной техники страна нуждалось в новой технике превосходящей по качеству и численности вражескую и она была. Благодаря таким известнейшим конструкторам как Яковлев, Туполев, Лавочкин и Ильюшин государство имело лучшую технику в мир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Picture 5" descr="normal_f0a059d7aa5d4ef175ff8899a7c3ba23"/>
          <p:cNvPicPr/>
          <p:nvPr/>
        </p:nvPicPr>
        <p:blipFill>
          <a:blip r:embed="rId1"/>
          <a:stretch/>
        </p:blipFill>
        <p:spPr>
          <a:xfrm>
            <a:off x="4572000" y="1700280"/>
            <a:ext cx="4032360" cy="38894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99ff"/>
                </a:solidFill>
                <a:latin typeface="Arial"/>
              </a:rPr>
              <a:t>История развития отечественной космонавтики в сороковые годы 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99ff"/>
                </a:solidFill>
                <a:latin typeface="Arial"/>
              </a:rPr>
              <a:t>    </a:t>
            </a:r>
            <a:r>
              <a:rPr b="0" i="1" lang="ru-RU" sz="2400" spc="-1" strike="noStrike">
                <a:solidFill>
                  <a:srgbClr val="3399ff"/>
                </a:solidFill>
                <a:latin typeface="Arial"/>
              </a:rPr>
              <a:t>В результате победы Советского Союза над фашистской Германией страна оказалась в ужасающем положении которое требовало незамедлительного становления экономики. Кроме того выйдя победителями из войны СССР и США стали для друг друга не только серьезнейшими соперниками, но и заядлыми врагами. Но Советский Союз в отличии от США не обращал внимания на жизнь обычных рядовых жителей, а только все с большой силой эксплуатировала их строя новые ракеты, машины и авиацию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99ff"/>
                </a:solidFill>
                <a:latin typeface="Arial"/>
              </a:rPr>
              <a:t>История развития отечественной космонавтики в пятидесятые годы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99ff"/>
                </a:solidFill>
                <a:latin typeface="Arial"/>
              </a:rPr>
              <a:t>    </a:t>
            </a:r>
            <a:r>
              <a:rPr b="0" i="1" lang="ru-RU" sz="2000" spc="-1" strike="noStrike">
                <a:solidFill>
                  <a:srgbClr val="3399ff"/>
                </a:solidFill>
                <a:latin typeface="Arial"/>
              </a:rPr>
              <a:t>С нарастанием новых противоречий между СССР и США мир был на гране Третьей мировой войны что подтвердил «Карибский кризис» в шестидесятые годы двадцатого столетия. Оба государства старались стоить как можно больше ракет, ядерной техники и оружия порой пренебрегая техническими нормами и качеством сборки оружия.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9" name="Picture 5" descr="soyuz_raketa01"/>
          <p:cNvPicPr/>
          <p:nvPr/>
        </p:nvPicPr>
        <p:blipFill>
          <a:blip r:embed="rId1"/>
          <a:stretch/>
        </p:blipFill>
        <p:spPr>
          <a:xfrm>
            <a:off x="4643280" y="1700280"/>
            <a:ext cx="3961080" cy="4176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99ff"/>
                </a:solidFill>
                <a:latin typeface="Arial"/>
              </a:rPr>
              <a:t>История развития отечественной космонавтики в шестидесятые годы 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99ff"/>
                </a:solidFill>
                <a:latin typeface="Arial"/>
              </a:rPr>
              <a:t>    </a:t>
            </a:r>
            <a:r>
              <a:rPr b="0" i="1" lang="ru-RU" sz="2400" spc="-1" strike="noStrike">
                <a:solidFill>
                  <a:srgbClr val="3399ff"/>
                </a:solidFill>
                <a:latin typeface="Arial"/>
              </a:rPr>
              <a:t>Впоследствии в связи визитом советского лидера Никиты Сергеевича Хрущева в Соединенные Штаты мир смог достичь разгрузки отношений между двумя державами. И тогда началась новая уже космическая гонка которую по началу Советский Союз во всех смыслах выигрывал и проявлялось это естественно и с запуском космического спутника в 1957 году и с полетом человека в открытый космос в 1961 году. Соединенные Штаты пребывали в состоянии шока узнав что они отстают от такой нищей страны как СССР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99ff"/>
                </a:solidFill>
                <a:latin typeface="Arial"/>
              </a:rPr>
              <a:t>История развития отечественной космонавтики в шестидесятые годы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99ff"/>
                </a:solidFill>
                <a:latin typeface="Arial"/>
              </a:rPr>
              <a:t>    </a:t>
            </a:r>
            <a:r>
              <a:rPr b="0" i="1" lang="ru-RU" sz="2000" spc="-1" strike="noStrike">
                <a:solidFill>
                  <a:srgbClr val="3399ff"/>
                </a:solidFill>
                <a:latin typeface="Arial"/>
              </a:rPr>
              <a:t>В результате временного триумфа СССР, США решили пойти на крайние меры так и не взлетев в открытый космос США симулировала полет Нила Амстронга на луну сняв на видеопленку киношную картину этого события. Тем не менее даже допустив множество ошибок и «ляпов» в процессе съемки США до сих пор пытается доказать свой полет на Луну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Picture 7" descr="space_shuttle_endeavour_start01"/>
          <p:cNvPicPr/>
          <p:nvPr/>
        </p:nvPicPr>
        <p:blipFill>
          <a:blip r:embed="rId1"/>
          <a:stretch/>
        </p:blipFill>
        <p:spPr>
          <a:xfrm>
            <a:off x="4643280" y="1700280"/>
            <a:ext cx="3961080" cy="40338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8T16:25:27Z</dcterms:created>
  <dc:creator>анна</dc:creator>
  <dc:description/>
  <dc:language>en-US</dc:language>
  <cp:lastModifiedBy>Owner</cp:lastModifiedBy>
  <dcterms:modified xsi:type="dcterms:W3CDTF">2011-08-07T07:53:17Z</dcterms:modified>
  <cp:revision>8</cp:revision>
  <dc:subject/>
  <dc:title>История развития космонавтики в России и СССР</dc:title>
</cp:coreProperties>
</file>