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9900-0160-4D94-B8AF-6CAECE8C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BD08-47D0-4AAB-AFD4-998D3835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74ED-CFF2-41BC-AD6F-4540FAC12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EEB3-368E-4107-80EB-0AD4EDF2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81884-F70E-4F35-B35E-4B4BDD56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73F35-ACB1-4A59-809F-54E4B650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EA457-BE89-4EBD-8B86-21D97BA9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BCD3E-4AEF-4044-9E61-7E63253A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29C65-8FFB-4890-9DB6-02C0E342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6664B-9592-4797-9316-7FA828AC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E9693-5F98-48DA-978F-01E12544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B88C-AC6B-4AB2-B2B3-2BC56804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E9B54-9AF7-4373-A472-9D6DB90C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7BF25-5E21-4E94-9263-A018B45E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63EB2-8B89-4B21-A9B9-10479802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CE329-1171-49EB-AC5B-D63B7A1E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7AC7E-7863-40F8-93F0-7C8FE408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DFF3-10FD-4C26-A7DF-C115356B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B69C-3A94-4B5D-B935-70060D3E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A841-5F3F-4E9C-B516-390BA3F9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375A-4C63-4472-AE38-40E7BEBC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5604-9CBC-46FA-BC80-B54CC66B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A9EE-18CE-443B-9819-9E25D237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6ECF-7471-4E36-B5A3-CBD77F33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723D-24B7-4AE6-B29F-6271F3ECC7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E972-CDBE-40D2-90CA-5CC004BFB5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космонавтики в России и СССР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Picture 8" descr="normal_b211396d87db13db2da54c2982c06479"/>
          <p:cNvPicPr/>
          <p:nvPr/>
        </p:nvPicPr>
        <p:blipFill>
          <a:blip r:embed="rId1"/>
          <a:stretch/>
        </p:blipFill>
        <p:spPr>
          <a:xfrm>
            <a:off x="2484360" y="1700280"/>
            <a:ext cx="3956040" cy="4032360"/>
          </a:xfrm>
          <a:prstGeom prst="rect">
            <a:avLst/>
          </a:prstGeom>
          <a:ln w="0">
            <a:noFill/>
          </a:ln>
        </p:spPr>
      </p:pic>
      <p:sp>
        <p:nvSpPr>
          <p:cNvPr id="124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Допустив огромное количество ошибок в своей симуляции полета на Луну, США не знала куда ей деваться от своих неудач и поражений, но сдаваться они даже не намеривались. Найдя достаточно простой выход из ситуации США в поиске ученых договаривалась с некоторыми из ними, которые бежали через границу ГДР и ФРГ в Амери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6" descr="normal_b211396d87db13db2da54c2982c06479"/>
          <p:cNvPicPr/>
          <p:nvPr/>
        </p:nvPicPr>
        <p:blipFill>
          <a:blip r:embed="rId1"/>
          <a:stretch/>
        </p:blipFill>
        <p:spPr>
          <a:xfrm>
            <a:off x="4643280" y="1773360"/>
            <a:ext cx="3956040" cy="40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Узнав об этом Советский Союз незамедлительно построил стену через границу ГДР и ФРГ которая разделила бы обе стороны. Уже позже и СССР и США совершили множество заметных шагов в освоении Венеры и Марса. Кроме того были и моменты разгрузки между двумя державами когда Леонид Ильич Брежнев и Ричард Никсон впервые подписали договор о сокращении и временном разоружении ядерного оружия и военной тех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Запуск ракеты"/>
          <p:cNvPicPr/>
          <p:nvPr/>
        </p:nvPicPr>
        <p:blipFill>
          <a:blip r:embed="rId1"/>
          <a:stretch/>
        </p:blipFill>
        <p:spPr>
          <a:xfrm>
            <a:off x="4572000" y="1700280"/>
            <a:ext cx="403236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ем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Также между державами были совершены космические полеты в открытый космос с участием таких животных как собаки и мартышки которые опять таки СССР выиграл. Были совершены даже такие псевдо шаги как полеты на Луну и оставление там тайных сообщений для инопланетян на различных языках в том числе и мертвых из извест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7" descr="space_shuttle_endeavour_start07"/>
          <p:cNvPicPr/>
          <p:nvPr/>
        </p:nvPicPr>
        <p:blipFill>
          <a:blip r:embed="rId1"/>
          <a:stretch/>
        </p:blipFill>
        <p:spPr>
          <a:xfrm>
            <a:off x="4643280" y="1644480"/>
            <a:ext cx="3961080" cy="416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восьмидесятые годы  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Уже в восьмидесятых годах СССР и США прекратили массовые запуски ракет в космос, так как это уже было не популярно и не перспективно как прежде. В основном все ведущие космические программы были свернуты или оставлены на потом. Ведущую роль на тот момент имели лишь запуски спутником ведь мир был на пороге новых «мобильных» видов связи. Также в этот промежуток времени Советский Союз продает по лицензии разработки космических шатлов так и эту программу пришлось свернуть. Эти шатлы американцы запускают и по сей де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восьмидесятых год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чалом перестройки все силы в основном уделялись на демократию, мирным связям с другими государствами и постепенному разоружению. С развалом СССР страна пребывала в мировом экономическом кризисе и ей опять таки просто напросто было не до космических технологий. Образовалось новое государство которое и по сей день практически не уделяет внимания на освоение космического простран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space_shuttle_endeavour_start02"/>
          <p:cNvPicPr/>
          <p:nvPr/>
        </p:nvPicPr>
        <p:blipFill>
          <a:blip r:embed="rId1"/>
          <a:stretch/>
        </p:blipFill>
        <p:spPr>
          <a:xfrm>
            <a:off x="4716360" y="1700280"/>
            <a:ext cx="388800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. 1957 год – Запуск первого искусственного спутника зем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2. 1958 год – Запуск спутника с научными приборами и космическим оборудованием с собакой на бор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3. 1960 год – Создание корабля с космическим оборудованием на борту с автоматическим управл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4. 1961 год – запуск еще пяти космических кораблей с животными на борту, которые восемнадцать раз обошли орбиту земли и благополучно приземли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5. 12 апреля 1961 год – Запуск мощнейшей ракеты «Восток» с человеком на бор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6. Сентябрь 1961 год – запуск космической ракеты «Восток 2» с человеком на борту который пробыл в открытом космосе в состоянии невесомости 25 часов и обогнул земную орбиту 17 р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7. Запуск 2 космических ракет «Восток 3» и «Восток 4» с двумя братьями – космонавтами Андрианом Николаевым и Павлом Поповичем которые на протяжении всего пути поддерживали между собой связ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8. Июнь 1963 год – Запуск первой ракеты с женщиной космонавтом на борту. Она пробыла в открытом космосе 71 час и 48 раз обогнула Земл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9. Октябрь 1964 год запуск в космос трех космонавтов Владимира Комарова, Константина Феоктистова и Бориса Егорова которые на протяжении всего полета сделали ряд научных наблюдений которые в огромной степени помогли дальнейшему изучению и освоению космического простран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0. Март 1965 год - Запуск космического корабля «Восход 2» с двумя космонавтами на борту Павлом Беляевым и Алексеем Леоновым которые впервые вышли из  корабля в космическое пространство и пробыли в нем 12 минут со скоростью движущегося корабля в 28000 лошадиных си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1. Октябрь 1968 год - Запуск космического корабля «Союз 2» и самостоятельное управление и маневрирование им летчиком – космонавтом Георгием Береговым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2. Январь 1969 - Запуск двух космических кораблей «Союз 4» и Союз 5 с тремя летчиками – космонавтами на борту Алексей Елисеевым, Евгением Хруновым и Борисом Волыновым которые впервые совершили состыковку космических кораблей и имели возможность перейти из одного в друг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3. В октябре 1969 – Запуск трех космических кораблей «Союз 5», «Союз 6» и «Союз 7» с семью космонавтами на борту, которые проводили научные исследования и впервые в открытом космосе осуществили сварку метал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Вместо предисловия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Официально история развития отечественной космонавтики приходится на начало пятидесятых годов двадцатого столетия. На самом деле еще в период довоенных отношений в Германии, СССР проектировал оборудование для запуска космического околоземного спутника и первого полета человека в открытый косм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4. В феврале 1975 года в Советском Союзе успешно состоялся взлет космического корабля, который достигнув земной орбиты на высоте 500 км имея на своем борту двух летчиком – космонавтов Алексея Губарева и Георгия Гречко в течении 30 суток совершил ряд научных исследований и откры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15. 17 июля 1982 года был совершен одновременный вылет с космических станций СССР и США двух ракет которые достигнув земной орбиты земли выпустили спутники и совершили между ними состыковку это программа получила название «Союз – Аполлон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Основные и важнейшие периоды в истории освоения космос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последующие годы были совершены еще множество вылетов космических кораблей, спутников и станций как со стороны Соединенных штатов так и со стороны Советского союза которые провели многочисленные исследования и дали объяснение многим неизученным прежде природным феноменам и явлениям которые прежде изучить было невозможно. Тем самым мир встав на пороге космического мира открыл для себя множество как положительных так и отрицательных явл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Доклад подготовил ученик 9 «А» класса Мартынов Михаил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тридца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По некоторым сохранившимся на сегодняшний день данным известно что в отличии от СССР в Германии еще в 1933 году с приходом к власти Гитлера, Германия «заболела» планами о покорении мира и добычи некоторых древних артефактов которые бы позволили Гитлеру осуществить свои планы и замыслы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2" descr="normal_2d5318edc13acbb53da21906fe5e3e51"/>
          <p:cNvPicPr/>
          <p:nvPr/>
        </p:nvPicPr>
        <p:blipFill>
          <a:blip r:embed="rId1"/>
          <a:stretch/>
        </p:blipFill>
        <p:spPr>
          <a:xfrm>
            <a:off x="4572000" y="1700280"/>
            <a:ext cx="4103640" cy="41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тридца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те времена Германия и СССР активно сотрудничали и обменивались в прямом смысле этого слова своими военными проектами и ресурсами что и позволило Советскому Союзу строить даже после войны автомобили, самолеты и даже ракеты. С наступлением различных военных конфликтов и войн между Германией и СССР связи были разорваны и Гитлер уже подло готовил свой план «Блицкрига» и «Барбароссы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ороков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чалом Второй мировой войны Советскому Союзу было уже далеко до создания и испытания ракетной техники страна нуждалось в новой технике превосходящей по качеству и численности вражескую и она была. Благодаря таким известнейшим конструкторам как Яковлев, Туполев, Лавочкин и Ильюшин государство имело лучшую технику в ми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normal_f0a059d7aa5d4ef175ff8899a7c3ba23"/>
          <p:cNvPicPr/>
          <p:nvPr/>
        </p:nvPicPr>
        <p:blipFill>
          <a:blip r:embed="rId1"/>
          <a:stretch/>
        </p:blipFill>
        <p:spPr>
          <a:xfrm>
            <a:off x="4572000" y="1700280"/>
            <a:ext cx="4032360" cy="38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сороковые год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 результате победы Советского Союза над фашистской Германией страна оказалась в ужасающем положении которое требовало незамедлительного становления экономики. Кроме того выйдя победителями из войны СССР и США стали для друг друга не только серьезнейшими соперниками, но и заядлыми врагами. Но Советский Союз в отличии от США не обращал внимания на жизнь обычных рядовых жителей, а только все с большой силой эксплуатировала их строя новые ракеты, машины и авиацию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пя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С нарастанием новых противоречий между СССР и США мир был на гране Третьей мировой войны что подтвердил «Карибский кризис» в шестидесятые годы двадцатого столетия. Оба государства старались стоить как можно больше ракет, ядерной техники и оружия порой пренебрегая техническими нормами и качеством сборки оружия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soyuz_raketa01"/>
          <p:cNvPicPr/>
          <p:nvPr/>
        </p:nvPicPr>
        <p:blipFill>
          <a:blip r:embed="rId1"/>
          <a:stretch/>
        </p:blipFill>
        <p:spPr>
          <a:xfrm>
            <a:off x="4643280" y="1700280"/>
            <a:ext cx="396108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99ff"/>
                </a:solidFill>
                <a:latin typeface="Arial"/>
              </a:rPr>
              <a:t>Впоследствии в связи визитом советского лидера Никиты Сергеевича Хрущева в Соединенные Штаты мир смог достичь разгрузки отношений между двумя державами. И тогда началась новая уже космическая гонка которую по началу Советский Союз во всех смыслах выигрывал и проявлялось это естественно и с запуском космического спутника в 1957 году и с полетом человека в открытый космос в 1961 году. Соединенные Штаты пребывали в состоянии шока узнав что они отстают от такой нищей страны как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ff"/>
                </a:solidFill>
                <a:latin typeface="Arial"/>
              </a:rPr>
              <a:t>История развития отечественной космонавтики в шестидесятые годы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В результате временного триумфа СССР, США решили пойти на крайние меры так и не взлетев в открытый космос США симулировала полет Нила Амстронга на луну сняв на видеопленку киношную картину этого события. Тем не менее даже допустив множество ошибок и «ляпов» в процессе съемки США до сих пор пытается доказать свой полет на Лун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space_shuttle_endeavour_start01"/>
          <p:cNvPicPr/>
          <p:nvPr/>
        </p:nvPicPr>
        <p:blipFill>
          <a:blip r:embed="rId1"/>
          <a:stretch/>
        </p:blipFill>
        <p:spPr>
          <a:xfrm>
            <a:off x="4643280" y="1700280"/>
            <a:ext cx="3961080" cy="403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6:25:27Z</dcterms:created>
  <dc:creator>анна</dc:creator>
  <dc:description/>
  <dc:language>en-US</dc:language>
  <cp:lastModifiedBy>Owner</cp:lastModifiedBy>
  <dcterms:modified xsi:type="dcterms:W3CDTF">2011-08-07T07:53:17Z</dcterms:modified>
  <cp:revision>8</cp:revision>
  <dc:subject/>
  <dc:title>История развития космонавтики в России и СССР</dc:title>
</cp:coreProperties>
</file>