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7E71-D85B-430B-AE2B-06282D385C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F097-1FA3-424A-8B3D-6DCDB8EEF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началом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00C5-141F-4227-B6DA-040ABBFC5C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CA52-35A8-400F-AB40-4ADE392337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3EB-3FED-45F9-A29C-FAEA970C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0F8-5DCC-44DB-8E1F-D0A986A9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E75-0015-4FA7-8848-538B6D8F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375-B495-46DB-AA40-F9E83957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D2AD-CB35-4E83-8024-05D883AC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788C-FAD2-42AE-9EDE-F35BA3D6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1BFF-ADCD-489B-A8EA-68FE089D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3550-4056-4F04-8513-6C0A4915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522C-7132-45D0-B1A1-F352DF57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AC67-279B-468D-A15B-6470D547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CEF7-5DBD-42F0-A63E-9D092CF7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BDE-DF9F-4A73-9BD1-737D1DFB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AC1E-EC08-4286-A40A-01900BD2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D47C-221B-4A1F-A7D1-9CCF7782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EAF8-C58D-466A-80BF-72DAE640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9AD0-24F9-4A12-967F-F0E26995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9939-409A-4E5F-8A82-8BEE1B14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715-1228-41CF-A179-DD6704B7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2D7-5AFE-4C58-8FC8-273CA5C0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B3B-F9ED-4A10-83B7-46E44CF7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CA3-F73D-47A9-8894-D4542038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D23-72BD-4A21-90D0-1A8B56EC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99D-FB09-44BA-955B-2A446160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2CD-6463-41E0-8CD9-A67AE6FB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B8BA-9B18-443D-B3F5-1ADF05925B7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631A-A92E-40B2-B944-E9DAC2FD941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МАКСИМУМ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f13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280"/>
          <p:cNvPicPr/>
          <p:nvPr/>
        </p:nvPicPr>
        <p:blipFill>
          <a:blip r:embed="rId1"/>
          <a:stretch/>
        </p:blipFill>
        <p:spPr>
          <a:xfrm>
            <a:off x="-1476360" y="-1539720"/>
            <a:ext cx="12192120" cy="975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180px-Leonow%2C_Alexei"/>
          <p:cNvPicPr/>
          <p:nvPr/>
        </p:nvPicPr>
        <p:blipFill>
          <a:blip r:embed="rId2"/>
          <a:stretch/>
        </p:blipFill>
        <p:spPr>
          <a:xfrm>
            <a:off x="5398920" y="26028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60" y="0"/>
            <a:ext cx="49615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выход в космос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совершен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ским космонавто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новым Алексе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рхипович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8 марта 1965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борта космического корабля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сход-2»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vskh-2.asf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4535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луноход 4"/>
          <p:cNvPicPr/>
          <p:nvPr/>
        </p:nvPicPr>
        <p:blipFill>
          <a:blip r:embed="rId1"/>
          <a:stretch/>
        </p:blipFill>
        <p:spPr>
          <a:xfrm>
            <a:off x="4427640" y="299736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960" y="260280"/>
            <a:ext cx="5624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ССР отправил на Луну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а радиоуправляемых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оходных аппарата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Луноход -1» 17 ноября 1970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«Луноход-2» в январе 1973 г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800px-ISS_after_STS-115_in_September_2006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970560" y="1413000"/>
            <a:ext cx="739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КС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ая орбитальная станция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ая как многоцелевая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ическая лаборатория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ОСМОС СЕГОДН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Увеличить изображение"/>
          <p:cNvPicPr/>
          <p:nvPr/>
        </p:nvPicPr>
        <p:blipFill>
          <a:blip r:embed="rId1"/>
          <a:stretch/>
        </p:blipFill>
        <p:spPr>
          <a:xfrm>
            <a:off x="14400" y="7920"/>
            <a:ext cx="91152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tma_20_coleman_26"/>
          <p:cNvPicPr/>
          <p:nvPr/>
        </p:nvPicPr>
        <p:blipFill>
          <a:blip r:embed="rId1"/>
          <a:stretch/>
        </p:blipFill>
        <p:spPr>
          <a:xfrm>
            <a:off x="4284720" y="2637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tma_20_kondratiev_26"/>
          <p:cNvPicPr/>
          <p:nvPr/>
        </p:nvPicPr>
        <p:blipFill>
          <a:blip r:embed="rId2"/>
          <a:stretch/>
        </p:blipFill>
        <p:spPr>
          <a:xfrm>
            <a:off x="1187280" y="256536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tma_20_nespoli_26"/>
          <p:cNvPicPr/>
          <p:nvPr/>
        </p:nvPicPr>
        <p:blipFill>
          <a:blip r:embed="rId3"/>
          <a:stretch/>
        </p:blipFill>
        <p:spPr>
          <a:xfrm>
            <a:off x="5865840" y="2637000"/>
            <a:ext cx="1584360" cy="2376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685080" y="1700280"/>
            <a:ext cx="69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Командир МКС      Бортинженеры МКС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559600" y="6915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Экипаж МКС-27: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902520" y="5157360"/>
            <a:ext cx="231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митрий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ндратьев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213440" y="515736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этрин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лман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869440" y="515736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аол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Несполи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39640" y="1186560"/>
            <a:ext cx="77774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ус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рабля «Союз ТМА-21», который должен стартовать 30 марта с космодрома Байконур, приурочен к 50-летию полета в космос Юрия Гагарина. По этому случаю кораблю даже присвоили «второе имя» — «Гагарин». В состав экипажа входят как российские, так и американские космонавты, причем некоторые из них отправятся в открытый космос впервые. Так, основной экипаж корабля «Союз ТМА-21» представлен командиром Александром Самокутяевым, бортинженером Андреем Борисенко и астронавтом NASA Рональдом Гараном. В составе дублирующего экипажа— командир Антон Шкаплеров, бортинженер Анатолий Иванишин и астронавт NASA Дэниел Бербэнк.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pace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248760" y="620640"/>
            <a:ext cx="2934720" cy="4718160"/>
            <a:chOff x="248760" y="620640"/>
            <a:chExt cx="2934720" cy="4718160"/>
          </a:xfrm>
        </p:grpSpPr>
        <p:pic>
          <p:nvPicPr>
            <p:cNvPr id="170" name="Picture 6" descr="пионер"/>
            <p:cNvPicPr/>
            <p:nvPr/>
          </p:nvPicPr>
          <p:blipFill>
            <a:blip r:embed="rId2"/>
            <a:stretch/>
          </p:blipFill>
          <p:spPr>
            <a:xfrm>
              <a:off x="322200" y="620640"/>
              <a:ext cx="273636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7"/>
            <p:cNvSpPr/>
            <p:nvPr/>
          </p:nvSpPr>
          <p:spPr>
            <a:xfrm>
              <a:off x="248760" y="4939920"/>
              <a:ext cx="29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онд серии «Пионер»</a:t>
              </a:r>
              <a:endParaRPr b="0" lang="en-US" sz="20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4067280" y="620640"/>
            <a:ext cx="4206600" cy="1800360"/>
            <a:chOff x="4067280" y="620640"/>
            <a:chExt cx="4206600" cy="1800360"/>
          </a:xfrm>
        </p:grpSpPr>
        <p:pic>
          <p:nvPicPr>
            <p:cNvPr id="173" name="Picture 8" descr="Венера"/>
            <p:cNvPicPr/>
            <p:nvPr/>
          </p:nvPicPr>
          <p:blipFill>
            <a:blip r:embed="rId3"/>
            <a:stretch/>
          </p:blipFill>
          <p:spPr>
            <a:xfrm>
              <a:off x="4067280" y="620640"/>
              <a:ext cx="2304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1"/>
            <p:cNvSpPr/>
            <p:nvPr/>
          </p:nvSpPr>
          <p:spPr>
            <a:xfrm>
              <a:off x="6464160" y="1125360"/>
              <a:ext cx="18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978 г. 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енеры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5" name="Group 14"/>
          <p:cNvGrpSpPr/>
          <p:nvPr/>
        </p:nvGrpSpPr>
        <p:grpSpPr>
          <a:xfrm>
            <a:off x="4788000" y="3284640"/>
            <a:ext cx="4352760" cy="2016000"/>
            <a:chOff x="4788000" y="3284640"/>
            <a:chExt cx="4352760" cy="2016000"/>
          </a:xfrm>
        </p:grpSpPr>
        <p:pic>
          <p:nvPicPr>
            <p:cNvPr id="176" name="Picture 9" descr="пионер на фоне юпитера"/>
            <p:cNvPicPr/>
            <p:nvPr/>
          </p:nvPicPr>
          <p:blipFill>
            <a:blip r:embed="rId4"/>
            <a:stretch/>
          </p:blipFill>
          <p:spPr>
            <a:xfrm>
              <a:off x="4788000" y="3284640"/>
              <a:ext cx="2808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3"/>
            <p:cNvSpPr/>
            <p:nvPr/>
          </p:nvSpPr>
          <p:spPr>
            <a:xfrm>
              <a:off x="7527600" y="3787920"/>
              <a:ext cx="16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«Пионер-10»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а фон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Юпитера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78" name="Rectangle 15"/>
          <p:cNvSpPr/>
          <p:nvPr/>
        </p:nvSpPr>
        <p:spPr>
          <a:xfrm>
            <a:off x="0" y="544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Венера, Марс – далее везде»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Астрономия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СМОС БУДУЩЕГ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моядерные двигатели, которые позволят сократить полёт на Марс до двух недель (именно столько, кстати, проводят в космосе шаттлы NAS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смические телескопы с 16-метровым зерка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овведения в области информационных технологий, чтобы продолжить изучение не только Солнечной системы и дальнего космоса, но и самой Земл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1478880" y="3017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 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комплекса проектно-технических вопросов производства ракетного топлива в космическом пространств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ртывание добывающей перерабатывающей и изготавливающей конечный продукт промышленности в космос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ало обустройства системы комфортабельной  жизни людей в космос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33520" y="6094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 сегодня. А завтра?… Поселения на Луне, путешествия к Марсу. Научные станции на астероидах, связь с другими цивилизациями… Все это – будущее. Пусть не столь близкое, но реальное. Ведь оно опирается на уже достигнутое. И не будем огорчаться, что не мы с вами станем участниками дальних межпланетных экспедиций. Не будем завидовать людям будущего. Им, конечно, здорово повезет, для них станет привычным то, о чем мы можем только мечтать. Но и нам тоже выпало большое счастье. Счастье первых шагов в космос. И пусть потомки завидуют нашему счастью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А. Гагарин, 20.03.196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Picture 3" descr="n"/>
          <p:cNvPicPr/>
          <p:nvPr/>
        </p:nvPicPr>
        <p:blipFill>
          <a:blip r:embed="rId1"/>
          <a:stretch/>
        </p:blipFill>
        <p:spPr>
          <a:xfrm>
            <a:off x="5791320" y="451332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1199583428_2024moon"/>
          <p:cNvPicPr/>
          <p:nvPr/>
        </p:nvPicPr>
        <p:blipFill>
          <a:blip r:embed="rId2"/>
          <a:stretch/>
        </p:blipFill>
        <p:spPr>
          <a:xfrm>
            <a:off x="2666880" y="4587840"/>
            <a:ext cx="2971800" cy="227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ad5893-001"/>
          <p:cNvPicPr/>
          <p:nvPr/>
        </p:nvPicPr>
        <p:blipFill>
          <a:blip r:embed="rId3"/>
          <a:stretch/>
        </p:blipFill>
        <p:spPr>
          <a:xfrm>
            <a:off x="228600" y="4495680"/>
            <a:ext cx="229536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ANd9GcS7oDhOnifrBYB9YAAsIVP0K2lKUGEyXcim4R71jNWj-aTf5trqnQ"/>
          <p:cNvPicPr/>
          <p:nvPr/>
        </p:nvPicPr>
        <p:blipFill>
          <a:blip r:embed="rId1"/>
          <a:srcRect l="5085" t="-2458" r="-7820" b="-12371"/>
          <a:stretch/>
        </p:blipFill>
        <p:spPr>
          <a:xfrm>
            <a:off x="900000" y="0"/>
            <a:ext cx="8101080" cy="47973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539640" y="4869000"/>
            <a:ext cx="7489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ЛЕТИМ МЫ ДО САМОГО СОЛНЦ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774200" cy="56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Космос – не только удел мужественных и смелых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н для любознательных и терпеливых, смекалистых и твёрдых,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ищущих и верящих в будущее этого пока еще не познанного мира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b2b2b2"/>
                </a:solidFill>
                <a:latin typeface="Arial"/>
              </a:rPr>
              <a:t>Ю. А. Гагарин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tsio"/>
          <p:cNvPicPr/>
          <p:nvPr/>
        </p:nvPicPr>
        <p:blipFill>
          <a:blip r:embed="rId1"/>
          <a:stretch/>
        </p:blipFill>
        <p:spPr>
          <a:xfrm>
            <a:off x="6227640" y="765000"/>
            <a:ext cx="2189160" cy="273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6123600" y="422100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олковский К. Э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1857 – 1953 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73880" y="141120"/>
            <a:ext cx="5080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03 г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публиковал труд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следование мировых пространств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тивными приборами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15240" y="1916280"/>
            <a:ext cx="55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вые в мире описал основные элементы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ктивного двигателя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400" y="256536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Предложил двигатели на жидком топливе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699920" y="5516640"/>
            <a:ext cx="57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Высказал идею бортовой системы ориентаци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Солнцу или другим небесным светилам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32320" y="4292640"/>
            <a:ext cx="51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оанализировать поведение ракеты вне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мосферы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640" y="3068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л зависимость между весом топлива 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ом конструкции ракеты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983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korolev2"/>
          <p:cNvPicPr/>
          <p:nvPr/>
        </p:nvPicPr>
        <p:blipFill>
          <a:blip r:embed="rId2"/>
          <a:stretch/>
        </p:blipFill>
        <p:spPr>
          <a:xfrm>
            <a:off x="2987640" y="836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904120" y="486900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К о р о л е в С. П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1907 – 1966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2" name="Group 13"/>
          <p:cNvGrpSpPr/>
          <p:nvPr/>
        </p:nvGrpSpPr>
        <p:grpSpPr>
          <a:xfrm>
            <a:off x="468720" y="189000"/>
            <a:ext cx="1733760" cy="2154240"/>
            <a:chOff x="468720" y="189000"/>
            <a:chExt cx="1733760" cy="2154240"/>
          </a:xfrm>
        </p:grpSpPr>
        <p:pic>
          <p:nvPicPr>
            <p:cNvPr id="123" name="Picture 9" descr="keldysh"/>
            <p:cNvPicPr/>
            <p:nvPr/>
          </p:nvPicPr>
          <p:blipFill>
            <a:blip r:embed="rId3"/>
            <a:stretch/>
          </p:blipFill>
          <p:spPr>
            <a:xfrm>
              <a:off x="732960" y="189000"/>
              <a:ext cx="13334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468720" y="197496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елдыш М. В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25" name="Group 15"/>
          <p:cNvGrpSpPr/>
          <p:nvPr/>
        </p:nvGrpSpPr>
        <p:grpSpPr>
          <a:xfrm>
            <a:off x="470880" y="2492280"/>
            <a:ext cx="1939320" cy="1861560"/>
            <a:chOff x="470880" y="2492280"/>
            <a:chExt cx="1939320" cy="1861560"/>
          </a:xfrm>
        </p:grpSpPr>
        <p:pic>
          <p:nvPicPr>
            <p:cNvPr id="126" name="Picture 10" descr="Жуковский"/>
            <p:cNvPicPr/>
            <p:nvPr/>
          </p:nvPicPr>
          <p:blipFill>
            <a:blip r:embed="rId4"/>
            <a:stretch/>
          </p:blipFill>
          <p:spPr>
            <a:xfrm>
              <a:off x="756360" y="2492280"/>
              <a:ext cx="14724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4"/>
            <p:cNvSpPr/>
            <p:nvPr/>
          </p:nvSpPr>
          <p:spPr>
            <a:xfrm>
              <a:off x="470880" y="3985560"/>
              <a:ext cx="19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Жуковский Н. 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28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540000" y="4437000"/>
            <a:ext cx="1718640" cy="2063160"/>
            <a:chOff x="540000" y="4437000"/>
            <a:chExt cx="1718640" cy="2063160"/>
          </a:xfrm>
        </p:grpSpPr>
        <p:pic>
          <p:nvPicPr>
            <p:cNvPr id="130" name="Picture 11" descr="мещерский"/>
            <p:cNvPicPr/>
            <p:nvPr/>
          </p:nvPicPr>
          <p:blipFill>
            <a:blip r:embed="rId5"/>
            <a:stretch/>
          </p:blipFill>
          <p:spPr>
            <a:xfrm>
              <a:off x="825480" y="4437000"/>
              <a:ext cx="143316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7"/>
            <p:cNvSpPr/>
            <p:nvPr/>
          </p:nvSpPr>
          <p:spPr>
            <a:xfrm>
              <a:off x="540000" y="61318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Цандер Ф. А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px-Sputnik_asm"/>
          <p:cNvPicPr/>
          <p:nvPr/>
        </p:nvPicPr>
        <p:blipFill>
          <a:blip r:embed="rId1"/>
          <a:stretch/>
        </p:blipFill>
        <p:spPr>
          <a:xfrm>
            <a:off x="5148360" y="191628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471240" y="1341360"/>
            <a:ext cx="562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 октября 19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л выведен на околоземную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у Первый в мире ИСЗ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20920" y="4846680"/>
            <a:ext cx="84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тот старт открыл космическую эру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истории человечества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small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250px-Ham_the_chimp"/>
          <p:cNvPicPr/>
          <p:nvPr/>
        </p:nvPicPr>
        <p:blipFill>
          <a:blip r:embed="rId2"/>
          <a:stretch/>
        </p:blipFill>
        <p:spPr>
          <a:xfrm>
            <a:off x="468360" y="364500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Belka_and_Strelka_Russian_Space_Dogs"/>
          <p:cNvPicPr/>
          <p:nvPr/>
        </p:nvPicPr>
        <p:blipFill>
          <a:blip r:embed="rId3"/>
          <a:stretch/>
        </p:blipFill>
        <p:spPr>
          <a:xfrm>
            <a:off x="5580000" y="260280"/>
            <a:ext cx="356400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-108360" y="212760"/>
            <a:ext cx="5866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 августа 1960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 запущен корабль – спутник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а «Восток», с собаками Белка и Стрелка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месте с ними 40 мышей, 2 крысы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личные мухи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тения и микроорганизмы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17 раз облетели вокруг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риземлились.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444840" y="4941720"/>
            <a:ext cx="5052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э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первый шимпанзе – астронавт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ущенный в космос 31.12.1961 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космодрома на мысе Канавера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land_00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7"/>
          <p:cNvGrpSpPr/>
          <p:nvPr/>
        </p:nvGrpSpPr>
        <p:grpSpPr>
          <a:xfrm>
            <a:off x="179280" y="476280"/>
            <a:ext cx="4732920" cy="5878080"/>
            <a:chOff x="179280" y="476280"/>
            <a:chExt cx="4732920" cy="5878080"/>
          </a:xfrm>
        </p:grpSpPr>
        <p:pic>
          <p:nvPicPr>
            <p:cNvPr id="142" name="Picture 5" descr="gagarin100"/>
            <p:cNvPicPr/>
            <p:nvPr/>
          </p:nvPicPr>
          <p:blipFill>
            <a:blip r:embed="rId2"/>
            <a:stretch/>
          </p:blipFill>
          <p:spPr>
            <a:xfrm>
              <a:off x="1106280" y="476280"/>
              <a:ext cx="2781360" cy="38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179280" y="4370760"/>
              <a:ext cx="473292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вершение века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2 апреля 1961 г.</a:t>
              </a: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Юрий Алексеевич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агарин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–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рвый человек в космосе!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pic>
        <p:nvPicPr>
          <p:cNvPr id="144" name="Picture 21" descr="kosmos-1204"/>
          <p:cNvPicPr/>
          <p:nvPr/>
        </p:nvPicPr>
        <p:blipFill>
          <a:blip r:embed="rId3"/>
          <a:stretch/>
        </p:blipFill>
        <p:spPr>
          <a:xfrm>
            <a:off x="5315040" y="1557360"/>
            <a:ext cx="382896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2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ereshkova"/>
          <p:cNvPicPr/>
          <p:nvPr/>
        </p:nvPicPr>
        <p:blipFill>
          <a:blip r:embed="rId2"/>
          <a:stretch/>
        </p:blipFill>
        <p:spPr>
          <a:xfrm>
            <a:off x="539640" y="260280"/>
            <a:ext cx="3003840" cy="37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t_9"/>
          <p:cNvPicPr/>
          <p:nvPr/>
        </p:nvPicPr>
        <p:blipFill>
          <a:blip r:embed="rId3"/>
          <a:stretch/>
        </p:blipFill>
        <p:spPr>
          <a:xfrm>
            <a:off x="179280" y="4365720"/>
            <a:ext cx="3672000" cy="2263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3878280" y="981000"/>
            <a:ext cx="52657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 июня 1963 г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орбиту спутника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еден космический корабль «Восток-6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первые в мире пилотируемый женщиной –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жданкой Советского Союза космонавтом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ешковой Валентиной Владимировной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38:04Z</dcterms:created>
  <dc:creator>student</dc:creator>
  <dc:description/>
  <dc:language>en-US</dc:language>
  <cp:lastModifiedBy>Owner</cp:lastModifiedBy>
  <dcterms:modified xsi:type="dcterms:W3CDTF">2011-07-20T22:24:34Z</dcterms:modified>
  <cp:revision>44</cp:revision>
  <dc:subject/>
  <dc:title>12 АПРЕЛЯ День космонавтики</dc:title>
</cp:coreProperties>
</file>