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97C1-4070-4E83-BA73-CF39E4FBEF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E191-A044-4EFD-920D-9DC12D9AA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началом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1944-B2F0-4408-BD6A-13BD60E71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5013-E1EC-4C77-8571-90FC8D4886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203-5087-4365-9F49-463C69D3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DDA-EC87-4F13-8546-57E73DF4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032-1589-4EC1-BF57-52679FFB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49C-8F19-4366-90F2-E6DB6E2C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6D0B-2205-462E-8723-68F8B762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B2D2-BAEA-4BDC-8848-F4F8B2CB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4358-20E1-440A-BEE4-F2B601B8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1D33-B8EF-40C8-A162-A12A2167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46D3-BF1B-42B2-89A3-35B60FEF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DAEF-B23D-403C-A4EF-904F3085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DA92-9505-4761-8382-ADBEF627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D98-97BA-4966-9133-404C6CF9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F231-69F6-4D3E-BAC3-EF43B677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19B6-85AD-45D0-8103-D1FCCEB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CD8B-C09B-42FE-A3B8-E13291DF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3816-4C89-4E99-B913-62EBCB67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271C-60F9-465B-905B-205A6A16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149-7300-417C-8B7F-832CACE8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D13-7A07-4843-9DB7-B15B6B92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126-0B19-48F7-AE3C-7119975A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22C-3403-4D0B-9736-5EEA9E67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48E-2FDC-47FD-BAF2-BB448574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F1C-7E4D-4C4C-A3E7-9A51EA6F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2ED-ECE0-47F6-B103-9A7D8D9F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5C2F-A638-4E91-8307-780564D57E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5678-1A59-4B98-99A8-E322EBD7EC1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АКСИМУ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f13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280"/>
          <p:cNvPicPr/>
          <p:nvPr/>
        </p:nvPicPr>
        <p:blipFill>
          <a:blip r:embed="rId1"/>
          <a:stretch/>
        </p:blipFill>
        <p:spPr>
          <a:xfrm>
            <a:off x="-1476360" y="-1539720"/>
            <a:ext cx="12192120" cy="975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80px-Leonow%2C_Alexei"/>
          <p:cNvPicPr/>
          <p:nvPr/>
        </p:nvPicPr>
        <p:blipFill>
          <a:blip r:embed="rId2"/>
          <a:stretch/>
        </p:blipFill>
        <p:spPr>
          <a:xfrm>
            <a:off x="5398920" y="26028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60" y="0"/>
            <a:ext cx="4961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выход в космос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совершен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ским космонавто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овым Алексе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пович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8 марта 1965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борта космического корабля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сход-2»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vskh-2.asf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535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луноход 4"/>
          <p:cNvPicPr/>
          <p:nvPr/>
        </p:nvPicPr>
        <p:blipFill>
          <a:blip r:embed="rId1"/>
          <a:stretch/>
        </p:blipFill>
        <p:spPr>
          <a:xfrm>
            <a:off x="4427640" y="299736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960" y="260280"/>
            <a:ext cx="56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СР отправил на Луну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а радиоуправляемых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ходных аппарата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уноход -1» 17 ноября 1970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уноход-2» в январе 1973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800px-ISS_after_STS-115_in_September_2006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970560" y="1413000"/>
            <a:ext cx="739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К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орбитальная станция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ая как многоцелевая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лаборатория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ОСМОС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Увеличить изображение"/>
          <p:cNvPicPr/>
          <p:nvPr/>
        </p:nvPicPr>
        <p:blipFill>
          <a:blip r:embed="rId1"/>
          <a:stretch/>
        </p:blipFill>
        <p:spPr>
          <a:xfrm>
            <a:off x="14400" y="7920"/>
            <a:ext cx="9115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tma_20_coleman_26"/>
          <p:cNvPicPr/>
          <p:nvPr/>
        </p:nvPicPr>
        <p:blipFill>
          <a:blip r:embed="rId1"/>
          <a:stretch/>
        </p:blipFill>
        <p:spPr>
          <a:xfrm>
            <a:off x="4284720" y="2637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ma_20_kondratiev_26"/>
          <p:cNvPicPr/>
          <p:nvPr/>
        </p:nvPicPr>
        <p:blipFill>
          <a:blip r:embed="rId2"/>
          <a:stretch/>
        </p:blipFill>
        <p:spPr>
          <a:xfrm>
            <a:off x="1187280" y="256536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tma_20_nespoli_26"/>
          <p:cNvPicPr/>
          <p:nvPr/>
        </p:nvPicPr>
        <p:blipFill>
          <a:blip r:embed="rId3"/>
          <a:stretch/>
        </p:blipFill>
        <p:spPr>
          <a:xfrm>
            <a:off x="5865840" y="2637000"/>
            <a:ext cx="158436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85080" y="17002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Командир МКС      Бортинженеры МК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59600" y="6915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Экипаж МКС-27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2520" y="5157360"/>
            <a:ext cx="23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митри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ндратьев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213440" y="515736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этрин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лман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869440" y="515736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аол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спол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1186560"/>
            <a:ext cx="77774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ус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бля «Союз ТМА-21», который должен стартовать 30 марта с космодрома Байконур, приурочен к 50-летию полета в космос Юрия Гагарина. По этому случаю кораблю даже присвоили «второе имя» — «Гагарин». В состав экипажа входят как российские, так и американские космонавты, причем некоторые из них отправятся в открытый космос впервые. Так, основной экипаж корабля «Союз ТМА-21» представлен командиром Александром Самокутяевым, бортинженером Андреем Борисенко и астронавтом NASA Рональдом Гараном. В составе дублирующего экипажа— командир Антон Шкаплеров, бортинженер Анатолий Иванишин и астронавт NASA Дэниел Бербэнк.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pac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248760" y="620640"/>
            <a:ext cx="2934720" cy="4718160"/>
            <a:chOff x="248760" y="620640"/>
            <a:chExt cx="2934720" cy="4718160"/>
          </a:xfrm>
        </p:grpSpPr>
        <p:pic>
          <p:nvPicPr>
            <p:cNvPr id="170" name="Picture 6" descr="пионер"/>
            <p:cNvPicPr/>
            <p:nvPr/>
          </p:nvPicPr>
          <p:blipFill>
            <a:blip r:embed="rId2"/>
            <a:stretch/>
          </p:blipFill>
          <p:spPr>
            <a:xfrm>
              <a:off x="322200" y="620640"/>
              <a:ext cx="27363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248760" y="493992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онд серии «Пионер»</a:t>
              </a:r>
              <a:endParaRPr b="0" lang="en-US" sz="20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4067280" y="620640"/>
            <a:ext cx="4206600" cy="1800360"/>
            <a:chOff x="4067280" y="620640"/>
            <a:chExt cx="4206600" cy="1800360"/>
          </a:xfrm>
        </p:grpSpPr>
        <p:pic>
          <p:nvPicPr>
            <p:cNvPr id="173" name="Picture 8" descr="Венера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230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1"/>
            <p:cNvSpPr/>
            <p:nvPr/>
          </p:nvSpPr>
          <p:spPr>
            <a:xfrm>
              <a:off x="6464160" y="1125360"/>
              <a:ext cx="18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978 г. 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енеры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4788000" y="3284640"/>
            <a:ext cx="4352760" cy="2016000"/>
            <a:chOff x="4788000" y="3284640"/>
            <a:chExt cx="4352760" cy="2016000"/>
          </a:xfrm>
        </p:grpSpPr>
        <p:pic>
          <p:nvPicPr>
            <p:cNvPr id="176" name="Picture 9" descr="пионер на фоне юпитера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2808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3"/>
            <p:cNvSpPr/>
            <p:nvPr/>
          </p:nvSpPr>
          <p:spPr>
            <a:xfrm>
              <a:off x="7527600" y="3787920"/>
              <a:ext cx="16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«Пионер-10»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 фон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питера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78" name="Rectangle 15"/>
          <p:cNvSpPr/>
          <p:nvPr/>
        </p:nvSpPr>
        <p:spPr>
          <a:xfrm>
            <a:off x="0" y="54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енера, Марс – далее везде»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Астрономия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 БУДУЩЕГ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оядерные двигатели, которые позволят сократить полёт на Марс до двух недель (именно столько, кстати, проводят в космосе шаттлы NAS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е телескопы с 16-метровым зерка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введения в области информационных технологий, чтобы продолжить изучение не только Солнечной системы и дальнего космоса, но и самой Земл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1478880" y="301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комплекса проектно-технических вопросов производства ракетного топлива в космическом пространств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ртывание добывающей перерабатывающей и изготавливающей конечный продукт промышленности в космос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обустройства системы комфортабельной  жизни людей в космос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33520" y="6094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егодня. А завтра?… Поселения на Луне, путешествия к Марсу. Научные станции на астероидах, связь с другими цивилизациями… Все это – будущее. Пусть не столь близкое, но реальное. Ведь оно опирается на уже достигнут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. И пусть потомки завидуют нашему счастью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, 20.03.196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Picture 3" descr="n"/>
          <p:cNvPicPr/>
          <p:nvPr/>
        </p:nvPicPr>
        <p:blipFill>
          <a:blip r:embed="rId1"/>
          <a:stretch/>
        </p:blipFill>
        <p:spPr>
          <a:xfrm>
            <a:off x="5791320" y="451332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199583428_2024moon"/>
          <p:cNvPicPr/>
          <p:nvPr/>
        </p:nvPicPr>
        <p:blipFill>
          <a:blip r:embed="rId2"/>
          <a:stretch/>
        </p:blipFill>
        <p:spPr>
          <a:xfrm>
            <a:off x="2666880" y="4587840"/>
            <a:ext cx="2971800" cy="227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d5893-001"/>
          <p:cNvPicPr/>
          <p:nvPr/>
        </p:nvPicPr>
        <p:blipFill>
          <a:blip r:embed="rId3"/>
          <a:stretch/>
        </p:blipFill>
        <p:spPr>
          <a:xfrm>
            <a:off x="228600" y="4495680"/>
            <a:ext cx="22953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ANd9GcS7oDhOnifrBYB9YAAsIVP0K2lKUGEyXcim4R71jNWj-aTf5trqnQ"/>
          <p:cNvPicPr/>
          <p:nvPr/>
        </p:nvPicPr>
        <p:blipFill>
          <a:blip r:embed="rId1"/>
          <a:srcRect l="5085" t="-2458" r="-7820" b="-12371"/>
          <a:stretch/>
        </p:blipFill>
        <p:spPr>
          <a:xfrm>
            <a:off x="900000" y="0"/>
            <a:ext cx="810108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539640" y="4869000"/>
            <a:ext cx="74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ЛЕТИМ МЫ ДО САМОГО СОЛНЦ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74200" cy="56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смос – не только удел мужественных и смелых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н для любознательных и терпеливых, смекалистых и твёрдых,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ищущих и верящих в будущее этого пока еще не познанного мира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Ю. А. Гагарин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tsio"/>
          <p:cNvPicPr/>
          <p:nvPr/>
        </p:nvPicPr>
        <p:blipFill>
          <a:blip r:embed="rId1"/>
          <a:stretch/>
        </p:blipFill>
        <p:spPr>
          <a:xfrm>
            <a:off x="6227640" y="765000"/>
            <a:ext cx="218916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6123600" y="422100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олковский К. Э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57 – 1953 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3880" y="141120"/>
            <a:ext cx="508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публиковал труд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следование мировых пространств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тивными приборами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5240" y="1916280"/>
            <a:ext cx="55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ктивного двигателя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400" y="25653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699920" y="55166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олнцу или другим небесным светилам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32320" y="429264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мосферы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640" y="3068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ом конструкции ракеты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83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904120" y="486900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 о р о л е в С. П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1907 – 1966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468720" y="189000"/>
            <a:ext cx="1733760" cy="2154240"/>
            <a:chOff x="468720" y="189000"/>
            <a:chExt cx="1733760" cy="2154240"/>
          </a:xfrm>
        </p:grpSpPr>
        <p:pic>
          <p:nvPicPr>
            <p:cNvPr id="123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32960" y="18900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468720" y="19749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елдыш М. В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0880" y="2492280"/>
            <a:ext cx="1939320" cy="1861560"/>
            <a:chOff x="470880" y="2492280"/>
            <a:chExt cx="1939320" cy="1861560"/>
          </a:xfrm>
        </p:grpSpPr>
        <p:pic>
          <p:nvPicPr>
            <p:cNvPr id="126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56360" y="249228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4"/>
            <p:cNvSpPr/>
            <p:nvPr/>
          </p:nvSpPr>
          <p:spPr>
            <a:xfrm>
              <a:off x="470880" y="3985560"/>
              <a:ext cx="19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Жуковский Н. 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540000" y="4437000"/>
            <a:ext cx="1718640" cy="2063160"/>
            <a:chOff x="540000" y="4437000"/>
            <a:chExt cx="1718640" cy="2063160"/>
          </a:xfrm>
        </p:grpSpPr>
        <p:pic>
          <p:nvPicPr>
            <p:cNvPr id="130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825480" y="4437000"/>
              <a:ext cx="1433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540000" y="61318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Цандер Ф. А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px-Sputnik_asm"/>
          <p:cNvPicPr/>
          <p:nvPr/>
        </p:nvPicPr>
        <p:blipFill>
          <a:blip r:embed="rId1"/>
          <a:stretch/>
        </p:blipFill>
        <p:spPr>
          <a:xfrm>
            <a:off x="5148360" y="191628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71240" y="1341360"/>
            <a:ext cx="562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октября 19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л выведен на околоземную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у Первый в мире ИСЗ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20920" y="4846680"/>
            <a:ext cx="84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т старт открыл космическую эру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истории человечества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small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50px-Ham_the_chimp"/>
          <p:cNvPicPr/>
          <p:nvPr/>
        </p:nvPicPr>
        <p:blipFill>
          <a:blip r:embed="rId2"/>
          <a:stretch/>
        </p:blipFill>
        <p:spPr>
          <a:xfrm>
            <a:off x="468360" y="3645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elka_and_Strelka_Russian_Space_Dogs"/>
          <p:cNvPicPr/>
          <p:nvPr/>
        </p:nvPicPr>
        <p:blipFill>
          <a:blip r:embed="rId3"/>
          <a:stretch/>
        </p:blipFill>
        <p:spPr>
          <a:xfrm>
            <a:off x="5580000" y="260280"/>
            <a:ext cx="356400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-108360" y="212760"/>
            <a:ext cx="5866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 августа 1960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 запущен корабль – спутник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а «Восток», с собаками Белка и Стрелка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месте с ними 40 мышей, 2 крысы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личные мухи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тения и микроорганизмы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17 раз облетели вокруг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иземлились.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444840" y="4941720"/>
            <a:ext cx="5052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э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первый шимпанзе – астронавт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ущенный в космос 31.12.1961 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космодрома на мысе Канавера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and_0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"/>
          <p:cNvGrpSpPr/>
          <p:nvPr/>
        </p:nvGrpSpPr>
        <p:grpSpPr>
          <a:xfrm>
            <a:off x="179280" y="476280"/>
            <a:ext cx="4732920" cy="5878080"/>
            <a:chOff x="179280" y="476280"/>
            <a:chExt cx="4732920" cy="5878080"/>
          </a:xfrm>
        </p:grpSpPr>
        <p:pic>
          <p:nvPicPr>
            <p:cNvPr id="142" name="Picture 5" descr="gagarin100"/>
            <p:cNvPicPr/>
            <p:nvPr/>
          </p:nvPicPr>
          <p:blipFill>
            <a:blip r:embed="rId2"/>
            <a:stretch/>
          </p:blipFill>
          <p:spPr>
            <a:xfrm>
              <a:off x="1106280" y="476280"/>
              <a:ext cx="2781360" cy="38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179280" y="4370760"/>
              <a:ext cx="47329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вершение века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2 апреля 1961 г.</a:t>
              </a: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Юрий Алексеевич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агарин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ый человек в космосе!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pic>
        <p:nvPicPr>
          <p:cNvPr id="144" name="Picture 21" descr="kosmos-1204"/>
          <p:cNvPicPr/>
          <p:nvPr/>
        </p:nvPicPr>
        <p:blipFill>
          <a:blip r:embed="rId3"/>
          <a:stretch/>
        </p:blipFill>
        <p:spPr>
          <a:xfrm>
            <a:off x="5315040" y="1557360"/>
            <a:ext cx="382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reshkova"/>
          <p:cNvPicPr/>
          <p:nvPr/>
        </p:nvPicPr>
        <p:blipFill>
          <a:blip r:embed="rId2"/>
          <a:stretch/>
        </p:blipFill>
        <p:spPr>
          <a:xfrm>
            <a:off x="539640" y="260280"/>
            <a:ext cx="3003840" cy="37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t_9"/>
          <p:cNvPicPr/>
          <p:nvPr/>
        </p:nvPicPr>
        <p:blipFill>
          <a:blip r:embed="rId3"/>
          <a:stretch/>
        </p:blipFill>
        <p:spPr>
          <a:xfrm>
            <a:off x="179280" y="4365720"/>
            <a:ext cx="3672000" cy="226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878280" y="981000"/>
            <a:ext cx="526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июня 1963 г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биту спутника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 космический корабль «Восток-6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вые в мире пилотируемый женщиной –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кой Советского Союза космонавтом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ешковой Валентиной Владимировной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38:04Z</dcterms:created>
  <dc:creator>student</dc:creator>
  <dc:description/>
  <dc:language>en-US</dc:language>
  <cp:lastModifiedBy>Owner</cp:lastModifiedBy>
  <dcterms:modified xsi:type="dcterms:W3CDTF">2011-07-20T22:24:34Z</dcterms:modified>
  <cp:revision>44</cp:revision>
  <dc:subject/>
  <dc:title>12 АПРЕЛЯ День космонавтики</dc:title>
</cp:coreProperties>
</file>