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A21-0B49-4650-83E9-1F297B7B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44B-A786-4386-B1B9-58DA2806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839-14CC-4C46-B533-7F6E4F30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086-D181-4CD4-A1C7-C88FA002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C50-2103-48C1-851C-BBE74E41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3A5-AC9B-4288-8151-9723F4CA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5E1-5104-4ACD-AA92-15CA6A25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BF2-6B1F-4B61-8952-1384993C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1D2-83A6-4447-89A2-73D27BF0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759-B7CC-4789-9CCC-F50BA1D4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7C7-E1D6-4CD8-B5A2-7826DD80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77F-B286-4C6E-A208-59872F3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324F-C178-4E29-B6B3-094E68132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388620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–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торая по яркости после Венеры планета Солнечной системы.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если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неру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ожн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идеть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льк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утром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ечером,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то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Юпитер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ногд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сверкает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всю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32763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Юпитер — пятая планета Солнечной системы по расстоянию до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800600"/>
            <a:ext cx="182880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07648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19720" y="33526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Из-за медленного, величественного перемещения этой планеты древние греки дали ей имя своего верховного бога Зевса</a:t>
            </a: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;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в римском пантеоне ему соответствовал Юпи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24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Дважды Юпитер сыграл важную роль в истории астрономии. Он стал первой планетой, у которой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ыли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открыты спутники. В 1610 г. Галилей, направив т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лескоп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 Юпитер, заметил рядом с планетой четыре звёздочки, не видимые простым гл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471040"/>
            <a:ext cx="266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ыстрое и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 хорошо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мет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но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</a:t>
            </a: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мещение галилеевых спутников Юпитера – Ио, Европы, Ганимеда и Каллисто – делает их удобными “небесными часами”, и моряки долгое время пользовались ими, чтобы определять положение корабля в открытом м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3961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1828800" cy="1773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636800" y="617688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743200" y="2133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720" y="3962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0720" y="4572000"/>
            <a:ext cx="190476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09680" y="6324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Comic Sans MS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320" y="4819680"/>
            <a:ext cx="8991360" cy="2038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43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Юпитер - это планета – гигант которая содержи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себе более 2/3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й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нашей планетной системы. Масса Юпитера равна 318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мным. Его объем в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1300 раз больше, чем у Земли. Средняя плотность Юпитер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330 кг/м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^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, что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сравнимо с плотностью воды и в четыре раза меньше, чем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отность Земли.</a:t>
            </a: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 Видимая поверхность планеты в 120 раз превосходит площадь Земли. Юпитер представляет собой гигантский шар из водорода, практически его химический состав совпадает с солнечным. А вот температура на Юпитере ужасающе низкая:-140 С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04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Юпитер быстро вращается (период вращения 9 ч. 55 мин. 29 с.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3657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10080" y="3886560"/>
            <a:ext cx="35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Из-за действия центробежных сил планета заметно расплющилась, и её полярный радиус стал на 4400 км меньше экваториального, равного 71400 км. Магнитное поле Юпитера в 12 раз сильнее зе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353040" cy="1967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496600"/>
            <a:ext cx="4648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питер преподносит много сюрпризов: он генерирует мощные полярные сияния, сильные радиошумы, возле него межпланетные аппараты наблюдают пылевые бури – потоки мелких твердых частиц, выброшенных в  результате электромагнитных процессов в магнитосфере Юпитера. Мелкие частицы, которые получают электрический заряд  при облучении солнечным ветром, обладают очень интересной динамикой: являясь промежуточным случаем между макро и микротелами, они примерно одинаково реагируют и на гравитационные и на электромагнит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252520"/>
            <a:ext cx="4800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Именно из таких мелких каменных частиц, в основном состоит кольцо Юпитера, открытое в марте 1979 года. Его главная часть имеет радиус 123-129 тыс. км. Это плоское кольцо около 30км толщиной и очень разреженное – оно отражает лишь несколько тысячных долей процента падающего света. Более слабые пылевые структуры тянутся от главного кольца к поверхности Юпитера и образуют над кольцом толстое гало, простирающееся до ближайших спутников. Увидеть кольцо Юпитера с Земли практически невозможно: оно очень тонкое и постоянно повернуто к наблюдателю ребром из-за малого  наклона оси вращения Юпитера к плоскости его орби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1875 -0.55 E">
                                      <p:cBhvr>
                                        <p:cTn id="18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752480" y="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-108000"/>
            <a:ext cx="35812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самый близкий к Юпитеру галилеев спутник, он удален от центр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ланеты на 422 тыс. км, т. е. чуть дальше, чем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а от Земл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щения Ио горазд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короч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унного месяца 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авля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го 42,5 ч. Для набл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юдателя 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лескоп эт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мы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седлив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утник: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актически кажды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день И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дна на новом месте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ебега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одной стороны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Юпитера н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По массе и радиусу (1815км) Ио похожа на Луну. Самая сенсационная особенность Ио заключается в том, что она вулканически активна! Основной выбрасываемый  газ – диоксид серы, замерзающий потом на поверхности в виде твердого белого вещества. Доминирующим оранжевым цветом спутник обязан соединениям серы. Вулканически активные области Ио нагреты до 300</a:t>
            </a:r>
            <a:r>
              <a:rPr b="0" lang="ru-RU" sz="16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7916 1.11111E-006 E">
                                      <p:cBhvr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95840"/>
            <a:ext cx="35053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Ганимед является крупнейшим спутником планет в Солнечной системе, его радиус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вен  2631 км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отность мал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 сравнению с Ио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и Европой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сего 1930кг/м3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да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енность от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Юпитера составляет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1,07 млн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м. Всю поверхность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анимеда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жно разделить на дв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группы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ервая, занимающая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60%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ерритории, представл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яет собой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транные полосы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льд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рожденные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активными геологическими процессами 3,5 млрд. лет назад; вторая, занимающая остальные 40%, представляет собой древнюю мощную ледяную кору, покрытую многочисленными метеоритными кратерами, нужно также отметить, что эта кора было частична разломлена и обновлена теми же процессами, что и упомянутые вы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17880"/>
            <a:ext cx="3581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Это второй по величине спутник в системе Юпитера, его радиус 2400км. Сред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алилеевых спутн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ов Каллист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ый дальний: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стояние о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Юпитера 1,88 млн. к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ери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ращения составляет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16,7 суток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лот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-ледяно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то мала –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830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кг/м3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рхност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ллис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то д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ела насыщена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те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оритным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ратерами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м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ый цвет Каллисто – результат силикатных и других примесей. Каллисто – самое кратерированное тело Солнечной системы из всех известных. Огромной силы удар метеорита вызвал образование гигантской структуры, окружённой кольцевыми волнами , - Вальхаллы. В центре её находится кратер диаметром 350 км , а в радиусе 2000 км от него концентрическими кругами располагаются горные хреб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45720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320" y="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352b35"/>
                  </a:solidFill>
                  <a:miter/>
                </a:ln>
                <a:gradFill rotWithShape="0">
                  <a:gsLst>
                    <a:gs pos="0">
                      <a:srgbClr val="e78c31"/>
                    </a:gs>
                    <a:gs pos="100000">
                      <a:srgbClr val="ffec9b"/>
                    </a:gs>
                  </a:gsLst>
                  <a:lin ang="5400000"/>
                </a:gradFill>
                <a:latin typeface="Comic Sans MS"/>
              </a:rPr>
              <a:t>юпитер</a:t>
            </a:r>
            <a:endParaRPr b="1" lang="en-US" sz="6000" spc="1" strike="noStrike">
              <a:ln w="9360">
                <a:solidFill>
                  <a:srgbClr val="352b35"/>
                </a:solidFill>
                <a:miter/>
              </a:ln>
              <a:gradFill rotWithShape="0">
                <a:gsLst>
                  <a:gs pos="0">
                    <a:srgbClr val="e78c31"/>
                  </a:gs>
                  <a:gs pos="100000">
                    <a:srgbClr val="ffec9b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572000" cy="443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8680" y="545400"/>
            <a:ext cx="35053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вропа имеет радиус чуть  меньше, чем у Ио – 1569км. Из гал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евых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путн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иков у Европы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ая светлая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рхность с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явными признаками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одяного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ьда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еству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положение о том,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что под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дяной коркой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ущ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еству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дный океан, а под ним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твердо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ликатное ядро.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Плотность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Европы очень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высока – 3500кг/м3. Этот спутник удален от Юпитера на 67100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Геологическая история Европы не имеет ничего общего с историей соседних спутников. Европа одно из самых гладких тел в солнечной системе: на ней нет возвышенностей более ста метров высотой. Вся ледяная поверхность спутника покрыта сетью полос огромной протяжен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11111E-006 L 0.1625 0.27778 E">
                                      <p:cBhvr>
                                        <p:cTn id="2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6:13Z</dcterms:modified>
  <cp:revision>16</cp:revision>
  <dc:subject/>
  <dc:title>Спутники Юпи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4000000000001024140</vt:lpwstr>
  </property>
  <property fmtid="{D5CDD505-2E9C-101B-9397-08002B2CF9AE}" pid="3" name="Version">
    <vt:r8>1</vt:r8>
  </property>
</Properties>
</file>