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72B1-3D4C-4828-BA03-1C50A1F9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24E1-FA58-4149-B9D7-B2CDEC85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1874-8815-4B52-8B15-1B298A7F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FEFE-F8AD-46C2-A065-D44B0B72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4605-841A-4FE5-B3AA-EAA9F89D9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FA4D-91CC-42AC-8B36-2F08E5E8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E2D2-24A8-4DFA-B219-580C47F1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EE75-00F0-426C-BCBA-AC4AA1BD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989A-2F65-458F-9B73-CBBF2D2F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798D-20FF-4D49-B873-DF1BA0B9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20AB-F630-42ED-A1F6-128F466F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4DBD-A2CC-472C-81DC-74B7AEB3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2E4C-8E27-487B-98AE-32A5315E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49AE-8219-4E66-A32C-B0AE5914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0217-56D8-42BE-9CE6-C6595000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05C3-62B1-46F6-9999-9D04A52FB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9165-A8A4-4F92-9C37-0CAE8A60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09DC-40B1-4B42-967A-AC73631B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9648-256C-4FCE-A9A2-994CE963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8233-8D00-4D93-9A15-E9232C2E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545E-DA4F-4E1D-A3AA-9B8717DF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07A1-5C3D-4AA5-8AD9-53E7467A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AE18-7AAA-4396-8252-76CEBE09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BC00-0709-4370-89DE-967F5DB7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1485-2C7C-46CC-8EAE-99A8AE16E87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62DE-B4C2-4AD8-8A2B-C4A5E7DC310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Планеты  Солнечной  системы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">
            <a:hlinkClick r:id="rId1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Нептун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тки  составляют  около  16  ча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поверхности  около  -21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ет  8 спутников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Тритон  движется  в  обратную  сторону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Плутон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дна  из  маленьких  планет (меньше  Луны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ет  1  спутник – Хар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Планета  и  спутник  близки  по  своим  размерам,  их  часто  называют двойной  планет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Итоговый  тест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 Ближайшая  к  Солнцу  планет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р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н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рку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 Сколько  спутников  имеет  Марс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е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 Марса  нет  спут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 Какие  из  планет  Солнечной  системы  пригодны  для  жизн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р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рку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ем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  Сколько  планет  входит  в  состав  Солнечной  систем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сем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в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с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  Какая  из  планет  Солнечной  системы  самая  больша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Юпи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тур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р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  У  какой  из  планет  наибольшее количество  спутнико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тур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Юпи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р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  Какой  по  счету  от  солнца  идет  Земл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тор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тверт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ет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тветы  на  тест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 Мерку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 Д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 Зем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  Дев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  Юпи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  Сатур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  Трет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0800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еркурий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Ближайшая  к  Солнцу  план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амая  маленькая  планет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диаметр – 4880 км (1/3  земного  диаметра), масса  в  20  раз  меньше  земно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тмосфера  отсутству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колеблется  от  -180  до  50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тки  составляют  приблизительно  60  земных,  а  год  около  3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Венера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лижайшая  к  Земле  план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кружена  мощной атмосферой,  состоящей  в  основном  из  углекислого  газа  (9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нь  составляет  около  117 земных  сут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поверхности  планеты  и  нижних  слоев  атмосферы  около  48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тоянные  вет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риод  обращения  вокруг  оси  около  243  суток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по  часовой  стрелк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Земля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Планета,  на  которой  мы  жив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тмосфера  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да  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путник  один - Лу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Марс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едняя  с  Землёй  план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ньше  Земли  примерно  в 2  раза  по  диаметру  и  примерно  в  9  раз  по  мас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иод  обращения  вокруг  Солнца  около  2  земных  лет,  а  вокруг своей  оси примерно  как  на  Зем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пература  колеблется  от  0  до -100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Имеет 2 спутни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 Фобос (страх)  и  Деймос (ужа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Юпитер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амая  большая плане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больше  Земли  в  1310  раз  по  диаметру  и  в  318  раз  по  масс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пература  составляет  около  -14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тмосфера  состоит  из  смеси  газов водорода, гелия,  метана  и  амми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тки  составляют  приблизительно  9ч 55м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  тени  жарче,  чем  на  освещенном  Солнцем  мес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еет  16  спутников (Ио, Европа, Ганимед,  Каллисто – самые  крупны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Сатурн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Окружен  7  кольцами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состоящими  из  отдельных  частиц  и  пы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тки  составляют  около  10ч 15м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поверхности  планеты  около  -170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ет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3  спут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амый  крупный  спутник – Титан – окружен  плотной  атмосфер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Уран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д  равен  приблизительно  84  г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ращается,  как  бы  лёжа  на  бо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пература  около  -130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еет  15  спутников (самые  крупные:  Миранда,  Ариэль,  Титан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15:40:28Z</dcterms:created>
  <dc:creator>User</dc:creator>
  <dc:description/>
  <dc:language>en-US</dc:language>
  <cp:lastModifiedBy>Name</cp:lastModifiedBy>
  <dcterms:modified xsi:type="dcterms:W3CDTF">2010-09-23T12:06:10Z</dcterms:modified>
  <cp:revision>8</cp:revision>
  <dc:subject/>
  <dc:title>Спутники план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03000000000001024140</vt:lpwstr>
  </property>
</Properties>
</file>