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B41-19D9-4C29-9D98-A99FC108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4B5-3A3C-440C-B394-4E1C73CC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C55-43F4-47CA-8144-85A6956E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AC8-D125-48A7-86CE-49EA2F85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35A3-84AC-48CC-A9DE-30BDD501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4961-DA1F-4689-A5A0-F7F92876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1954-C36D-432E-82AE-3F24A4AB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8936-B94F-4F53-9128-9766C12A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5B4D-1404-410E-B842-3BABCB40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4DA7-36DE-4090-9859-EED7B08A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E0E5-63E0-43D4-AC7E-618BAAF3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728-DEAE-4556-82FA-893FCAFD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990B-F3D0-4912-9DCE-7E3E7C94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1766-0A0A-4A94-B128-EAD231EF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E5B4-9A6F-4956-9C4E-DE75559A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F0D6-F104-4E29-98C8-7F4A7AB0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48B0-4F72-4B0E-8109-C84E9294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28A-B158-4A06-A383-9BB3B8CE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9BA-84D9-4703-8440-678ECF34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3E1-A2C7-4D96-8531-13B5A306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242-2DF4-4186-B223-847B99A2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C46-692C-4A6E-96DA-5D27785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795-4677-4BA9-86F0-3A00AD95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3CB5-95FC-4116-891A-74DE554C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F912-373D-459A-BCE5-14404587F2D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1534-85A9-4950-9EF8-B9E9A68AEBC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Планеты  Солнечной  системы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епту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6  ча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около  -21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8 спутников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Тритон  движется  в  обратную  сторон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Плутон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на  из  маленьких  планет (меньше  Лун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1  спутник – Хар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  и  спутник  близки  по  своим  размерам,  их  часто  называют двойной  планет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Итоговый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Ближайшая  к  Солнцу  план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Сколько  спутников  имеет  Мар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 Марса  нет  спутн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Какие  из  планет  Солнечной  системы  пригодны  для  жизн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Сколько  планет  входит  в  состав  Солнечной  систе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ем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с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Какая  из  планет  Солнечной  системы  самая  больша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У  какой  из  планет  наибольшее количество  спут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Какой  по  счету  от  солнца  идет  Зем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то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твер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тветы  на  тест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 Мерку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 Д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 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 Дев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 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  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  Тре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еркурий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Ближайшая  к  Солнцу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ая  маленькая  планет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диаметр – 4880 км (1/3  земного  диаметра), масса  в  20  раз  меньше  земн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отсутству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-180  до  50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60  земных,  а  год  около  3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Венера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лижайшая  к  Земле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ружена  мощной атмосферой,  состоящей  в  основном  из  углекислого  газа  (9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нь  составляет  около  117 земных  су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и  нижних  слоев  атмосферы  около  48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оянные  в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иод  обращения  вокруг  оси  около  243  суток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по  часовой  стрелк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Земл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Планета,  на  которой  мы  жив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а 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путник  один - Л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Марс 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няя  с  Землёй  пла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ньше  Земли  примерно  в 2  раза  по  диаметру  и  примерно  в  9  раз  по  м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иод  обращения  вокруг  Солнца  около  2  земных  лет,  а  вокруг своей  оси примерно  как  на  Зем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колеблется  от  0  до -10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меет 2 спутни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 Фобос (страх)  и  Деймос (ужа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Юпитер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амая  большая плане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больше  Земли  в  1310  раз  по  диаметру  и  в  318  раз  по  масс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составляет  около  -140 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тмосфера  состоит  из  смеси  газов водорода, гелия,  метана  и  амми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тки  составляют  приблизительно  9ч 55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  тени  жарче,  чем  на  освещенном  Солнцем  ме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6  спутников (Ио, Европа, Ганимед,  Каллисто – самые  круп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Сатурн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Окружен  7  кольцами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состоящими  из  отдельных  частиц  и 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тки  составляют  около  10ч 15м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пература  поверхности  планеты  около  -17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меет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3  спут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Самый  крупный  спутник – Титан – окружен  плотной  атмосфер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ан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 равен  приблизительно  84 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Вращается,  как  бы  лёжа  на  бо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пература  около  -130 граду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еет  15  спутников (самые  крупные:  Миранда,  Ариэль,  Тита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40:28Z</dcterms:created>
  <dc:creator>User</dc:creator>
  <dc:description/>
  <dc:language>en-US</dc:language>
  <cp:lastModifiedBy>Name</cp:lastModifiedBy>
  <dcterms:modified xsi:type="dcterms:W3CDTF">2010-09-23T12:06:10Z</dcterms:modified>
  <cp:revision>8</cp:revision>
  <dc:subject/>
  <dc:title>Спутники пла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3000000000001024140</vt:lpwstr>
  </property>
</Properties>
</file>