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CA9-C572-4741-A4FE-3D03E481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ACB-862F-4F2A-A81E-6FFA655B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6EC-D237-4988-9840-A25A5373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BDF-2FB5-487A-B443-C1563ED2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ED1D-E3E4-4314-8F6C-A77FD1A2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DF6D-34B2-44BC-92A3-51DD30CE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7461-220B-4FF0-B827-8CB40D86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77B6-6B93-41EE-B485-0F45BC3D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D848-090F-4E7D-9329-0FA4B538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3D1F-4B43-4AF3-A09D-9B6D0B63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D00A-DA43-47B2-8D49-71DEB62E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49FC-06C9-456B-AA31-06C983C7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D326-1E40-40A7-8698-92DA04C5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EBB3-8021-4128-A071-14B0905B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2F9D-EE09-4D38-A40C-62712175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FCE3-1B41-448E-94BB-487D42A4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8956-2B87-41EF-A31F-54E66DF4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DA6-F9E5-4B95-9AF0-D6A65395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45B-BA43-4C23-8DD2-60DAD1D4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E9B-F467-4B82-897B-52907296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DE5-F9F4-48F5-9F7A-FF20B335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A97-58DA-4BB6-B35F-BEDEF9C1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D20-53D8-4771-B458-5AE282E8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515-383F-409A-BB47-CAA5A12E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A644-C64A-419A-B795-66BF8BDFAA0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257D-741B-4438-AE4C-9DF75EC6F55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Планеты  Солнечной  системы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Непту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6  ч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около  -21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8 спутников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Тритон  движется  в  обратную  сторон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Плутон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а  из  маленьких  планет (меньше  Лун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1  спутник – Ха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  и  спутник  близки  по  своим  размерам,  их  часто  называют двойной  планет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тоговый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Ближайшая  к  Солнцу  план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Сколько  спутников  имеет  Мар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 Марса  нет  спу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Какие  из  планет  Солнечной  системы  пригодны  для  жиз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Сколько  планет  входит  в  состав  Солнечной  систем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ем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с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Какая  из  планет  Солнечной  системы  самая  больш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У  какой  из  планет  наибольшее количество  спутник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Какой  по  счету  от  солнца  идет  Зем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твер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тветы  на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еркурий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Ближайшая  к  Солнцу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ая  маленькая  планет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диаметр – 4880 км (1/3  земного  диаметра), масса  в  20  раз  меньше  земн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отсутству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-180  до  50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60  земных,  а  год  около  3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Венера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лижайшая  к  Земле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ружена  мощной атмосферой,  состоящей  в  основном  из  углекислого  газа  (9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нь  составляет  около  117 земных  су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и  нижних  слоев  атмосферы  около  48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оянные  ве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иод  обращения  вокруг  оси  около  243  суток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по  часовой  стрелк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Земл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,  на  которой  мы  жив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путник  один - Лу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Марс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няя  с  Землёй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ьше  Земли  примерно  в 2  раза  по  диаметру  и  примерно  в  9  раз  по  м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иод  обращения  вокруг  Солнца  около  2  земных  лет,  а  вокруг своей  оси примерно  как  на 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0  до -10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меет 2 спутн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 Фобос (страх)  и  Деймос (ужа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Юпитер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амая  большая план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больше  Земли  в  1310  раз  по  диаметру  и  в  318  раз  по  масс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составляет  около  -14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мосфера  состоит  из  смеси  газов водорода, гелия,  метана  и  амми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9ч 55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 тени  жарче,  чем  на  освещенном  Солнцем  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6  спутников (Ио, Европа, Ганимед,  Каллисто – самые  круп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Сатурн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кружен  7  кольцами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состоящими  из  отдельных  частиц  и  пы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0ч 15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около  -17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3  спут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ый  крупный  спутник – Титан – окружен  плотной  атмосфе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Ура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 равен  приблизительно  84 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ращается,  как  бы  лёжа  на  б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около  -13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5  спутников (самые  крупные:  Миранда,  Ариэль,  Тита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40:28Z</dcterms:created>
  <dc:creator>User</dc:creator>
  <dc:description/>
  <dc:language>en-US</dc:language>
  <cp:lastModifiedBy>Name</cp:lastModifiedBy>
  <dcterms:modified xsi:type="dcterms:W3CDTF">2010-09-23T12:06:10Z</dcterms:modified>
  <cp:revision>8</cp:revision>
  <dc:subject/>
  <dc:title>Спутники план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3000000000001024140</vt:lpwstr>
  </property>
</Properties>
</file>