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8A75-3F74-4761-BFC4-2D05401A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86F-2D36-40BD-82ED-09EE1045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2F3-1636-479D-9C82-641A5454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0842-10B7-4B07-96C5-1B35A7A7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459B-BF32-481D-BC2C-F7E71556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CAFA-5130-49E0-8667-0925A006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2D63-AD8E-4E95-B1AA-CEB27AFE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1009-FE6F-4B18-B7F7-8A5EE7B1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9CFE-C438-46E5-9E26-5D4A42AE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1E94-2E40-49CB-B777-E2389F72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F7D8-0456-4C8E-812C-65DB3277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CE1A-1494-455E-B03E-AE6EF994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8B92-DC0E-46CA-AC4D-5C4EAAF4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D8C9-376C-4752-BB8E-0F2C8A7E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5B1E-65B7-4517-AF0E-39BD962B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F163-D60F-49F6-BE31-56634244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AB76-1F71-4B5D-91F2-1A5BE7CB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18DD-2F32-407F-B48E-CDF9A60A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8DD0-33EC-4B66-851D-86751CC9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3259-D94E-43C2-976F-E21778A4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7DF-0386-4F70-9907-4AEEB65F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E32-72D3-4E99-BB44-1F14768A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688-811A-4D15-AF6C-D0FCF0EB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DCDD-5968-4B32-8302-4010AC7F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F053-05F3-47DF-BC7B-0C7E685DB97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AFFB-92F9-4F1F-9820-2E5AEC03A7C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Планеты  Солнечной  системы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Нептун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около  16  ча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около  -21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8 спутников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Тритон  движется  в  обратную  сторон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Плутон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а  из  маленьких  планет (меньше  Лун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1  спутник – Хар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ланета  и  спутник  близки  по  своим  размерам,  их  часто  называют двойной  планет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Итоговый  тес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Ближайшая  к  Солнцу  плане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Сколько  спутников  имеет  Мар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е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 Марса  нет  спут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Какие  из  планет  Солнечной  системы  пригодны  для  жизн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 Сколько  планет  входит  в  состав  Солнечной  систем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ем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в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с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Какая  из  планет  Солнечной  системы  самая  больша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У  какой  из  планет  наибольшее количество  спутник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 Какой  по  счету  от  солнца  идет  Зем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тор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тверт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е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тветы  на  тес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Д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Зем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 Дев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 Тре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еркурий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Ближайшая  к  Солнцу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амая  маленькая  планет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диаметр – 4880 км (1/3  земного  диаметра), масса  в  20  раз  меньше  земно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мосфера  отсутству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колеблется  от  -180  до  50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приблизительно  60  земных,  а  год  около  3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Венера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лижайшая  к  Земле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кружена  мощной атмосферой,  состоящей  в  основном  из  углекислого  газа  (9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нь  составляет  около  117 земных  сут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планеты  и  нижних  слоев  атмосферы  около  48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оянные  вет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иод  обращения  вокруг  оси  около  243  суток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по  часовой  стрелк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Земл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ланета,  на  которой  мы  жив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мосфера 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а 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путник  один - Лу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Марс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едняя  с  Землёй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ньше  Земли  примерно  в 2  раза  по  диаметру  и  примерно  в  9  раз  по  м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иод  обращения  вокруг  Солнца  около  2  земных  лет,  а  вокруг своей  оси примерно  как  на  Зем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колеблется  от  0  до -10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меет 2 спутни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 Фобос (страх)  и  Деймос (ужа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Юпитер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амая  большая план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больше  Земли  в  1310  раз  по  диаметру  и  в  318  раз  по  масс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составляет  около  -14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тмосфера  состоит  из  смеси  газов водорода, гелия,  метана  и  амми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тки  составляют  приблизительно  9ч 55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  тени  жарче,  чем  на  освещенном  Солнцем  ме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 16  спутников (Ио, Европа, Ганимед,  Каллисто – самые  крупны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Сатурн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кружен  7  кольцами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состоящими  из  отдельных  частиц  и  пы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около  10ч 15м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планеты  около  -17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3  спут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амый  крупный  спутник – Титан – окружен  плотной  атмосфер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Уран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д  равен  приблизительно  84 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ращается,  как  бы  лёжа  на  бо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около  -13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 15  спутников (самые  крупные:  Миранда,  Ариэль,  Тита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5:40:28Z</dcterms:created>
  <dc:creator>User</dc:creator>
  <dc:description/>
  <dc:language>en-US</dc:language>
  <cp:lastModifiedBy>Name</cp:lastModifiedBy>
  <dcterms:modified xsi:type="dcterms:W3CDTF">2010-09-23T12:06:10Z</dcterms:modified>
  <cp:revision>8</cp:revision>
  <dc:subject/>
  <dc:title>Спутники план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03000000000001024140</vt:lpwstr>
  </property>
</Properties>
</file>