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D2F-98A8-4A14-991A-11F4AAE9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B136-425A-4499-83FF-CC0B0403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558-EB13-4694-96AB-F0CB3F65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41A-EBD6-4000-9EB2-E0F08E9F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DF04-9C95-4E02-9510-6FB7F68C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B5BC-6ADF-4402-A26A-4D44ABD5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244B-8C4A-4ACB-BEF5-5541ED0E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226F-5E36-4E72-B810-9809F742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17B9-E056-46C5-9A2F-86B0B958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3B5E-BDA6-459D-AC7D-4FCA4FDE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B0EA-BB0A-4122-BB3B-3890742B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CA7F-4E8F-4207-B10D-33787027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D2D1-F4BA-45E2-9E1A-49B5E84A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CE64-1A0A-428A-9CB2-8DBA0458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A32A-2550-44C9-B7AD-238F54E3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D12B-0D2C-4A76-952B-E311CAA4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BEA1-5137-4CA1-9627-9B40DAE6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DC5-F097-47C6-AEE9-56CBD44F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8F29-BED3-43E1-860F-23991CCB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0B2-C307-4F0F-BF7F-06EDEC2B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5D6-882C-4083-BC35-1F2DD8A1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CA47-A5C8-44E8-9CB2-4DCB56E4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03D-FB84-4DFE-9972-13C03CD4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C9A-C8AA-4DB0-9B8B-23D8020F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5A78-39BF-46AD-A17B-7EA4F9F3097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73B6-C891-4F88-B5A1-802D9D422B0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Планеты  Солнечной  системы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Непту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6  ча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около  -21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8 спутников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Тритон  движется  в  обратную  сторон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Плутон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а  из  маленьких  планет (меньше  Лун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1  спутник – Хар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  и  спутник  близки  по  своим  размерам,  их  часто  называют двойной  планет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тоговый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Ближайшая  к  Солнцу  плане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Сколько  спутников  имеет  Мар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 Марса  нет  спу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Какие  из  планет  Солнечной  системы  пригодны  для  жиз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Сколько  планет  входит  в  состав  Солнечной  систем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ем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с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Какая  из  планет  Солнечной  системы  самая  больш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У  какой  из  планет  наибольшее количество  спутник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Какой  по  счету  от  солнца  идет  Зем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тор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тверт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тветы  на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еркурий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Ближайшая  к  Солнцу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ая  маленькая  планет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диаметр – 4880 км (1/3  земного  диаметра), масса  в  20  раз  меньше  земн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отсутству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-180  до  50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60  земных,  а  год  около  3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Венера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лижайшая  к  Земле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кружена  мощной атмосферой,  состоящей  в  основном  из  углекислого  газа  (9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нь  составляет  около  117 земных  су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и  нижних  слоев  атмосферы  около  48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оянные  вет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иод  обращения  вокруг  оси  около  243  суток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по  часовой  стрелк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Земл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,  на  которой  мы  жив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путник  один - Лу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Марс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едняя  с  Землёй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ьше  Земли  примерно  в 2  раза  по  диаметру  и  примерно  в  9  раз  по  м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иод  обращения  вокруг  Солнца  около  2  земных  лет,  а  вокруг своей  оси примерно  как  на  Зем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0  до -10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меет 2 спутн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 Фобос (страх)  и  Деймос (ужа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Юпитер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амая  большая план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больше  Земли  в  1310  раз  по  диаметру  и  в  318  раз  по  масс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составляет  около  -14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мосфера  состоит  из  смеси  газов водорода, гелия,  метана  и  амми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9ч 55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 тени  жарче,  чем  на  освещенном  Солнцем  ме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6  спутников (Ио, Европа, Ганимед,  Каллисто – самые  крупны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Сатурн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кружен  7  кольцами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состоящими  из  отдельных  частиц  и  пы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0ч 15м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около  -17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3  спут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ый  крупный  спутник – Титан – окружен  плотной  атмосфер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Ура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д  равен  приблизительно  84 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ращается,  как  бы  лёжа  на  бо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около  -13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5  спутников (самые  крупные:  Миранда,  Ариэль,  Тита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40:28Z</dcterms:created>
  <dc:creator>User</dc:creator>
  <dc:description/>
  <dc:language>en-US</dc:language>
  <cp:lastModifiedBy>Name</cp:lastModifiedBy>
  <dcterms:modified xsi:type="dcterms:W3CDTF">2010-09-23T12:06:10Z</dcterms:modified>
  <cp:revision>8</cp:revision>
  <dc:subject/>
  <dc:title>Спутники план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03000000000001024140</vt:lpwstr>
  </property>
</Properties>
</file>