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gif" ContentType="image/gif"/>
  <Override PartName="/ppt/media/image13.jpeg" ContentType="image/jpeg"/>
  <Override PartName="/ppt/media/image20.gif" ContentType="image/gif"/>
  <Override PartName="/ppt/media/image8.jpeg" ContentType="image/jpeg"/>
  <Override PartName="/ppt/media/image2.gif" ContentType="image/gif"/>
  <Override PartName="/ppt/media/image6.jpeg" ContentType="image/jpeg"/>
  <Override PartName="/ppt/media/image21.gif" ContentType="image/gif"/>
  <Override PartName="/ppt/media/image19.gif" ContentType="image/gif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4.jpeg" ContentType="image/jpeg"/>
  <Override PartName="/ppt/media/image5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8D6E-29C3-402D-95B1-B84EB83E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FEB-8FB7-4F96-8B3E-120949AA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92FC-B387-42EE-BAC0-75B88D5D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C2E2-4B4C-4F5E-BAF1-0F787CD4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9B55-787A-4C4D-9A4A-5EF4008D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ED25-24E3-4E63-A95E-0E97CE01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1A63-6671-4305-936E-2B1A6558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6E62-B127-4ED7-B0F8-14AD84AF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1105-6507-432B-B74A-22ABFEED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3DB2-96E7-43BB-A61B-7798133C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64E7-9D03-476A-AA72-8C40C9A1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89CD-6AD4-404C-854A-35454662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84F5-D75C-4520-AA74-D6CD11B5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9E2D-222E-49A9-8134-4A78A08A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708F-B6D5-40EB-8E7E-8EE9BA1E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AFF5-141A-45FC-B627-B955AC15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42E8-C59D-408B-BA00-E64AB194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ECE5-A19B-45A2-A247-1B5C703B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055A-297D-44E1-86C2-11A29BE8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CECB-D566-4452-A4AF-AF991FB9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65D1-CD89-4B82-B0EB-9140D14E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53E-EA69-4493-B8F5-D9693F67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0516-4EE5-45E5-9C1A-2BCD2CF3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47E3-0561-4A72-8D08-42F410B1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E5C3-5603-4BB2-9C24-9753CCE1A19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3D1B-8B9F-4394-A12F-B85F89A6392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28600" y="1371600"/>
            <a:ext cx="89154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чему солнце светит днём , а 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вёзды - ночью?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5400" y="500040"/>
            <a:ext cx="442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a4"/>
                </a:solidFill>
                <a:latin typeface="Arial"/>
              </a:rPr>
              <a:t>Звезда Альдебар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9120" y="42372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Звезда Регу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1720" y="72864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Звезда Сириу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676520" y="0"/>
            <a:ext cx="60958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вездие ль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6933960" cy="4214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762120" y="228600"/>
            <a:ext cx="73911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звездие близнец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е- это огромный пылающий шар, это тоже звезда, которая нам кажется большой и яркой, т.к. она расположена ближе к Земл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066680" y="1828800"/>
            <a:ext cx="647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4920" y="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це очень горячее. Без нег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нашем космическом доме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ечной системе- темно 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лодно. Ученые, которые изучаю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це, говорят, что его поверх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поминает кипящую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шу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емпература такой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ши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»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6000 гр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743200" y="4191120"/>
            <a:ext cx="3276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762120" y="0"/>
            <a:ext cx="7467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тог уро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8623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нового узнали о Солнце и звёзда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0160" y="4233960"/>
            <a:ext cx="87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вам понравилось сегодня на урок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3504960" cy="3352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133720" y="0"/>
            <a:ext cx="624816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228600"/>
            <a:ext cx="7543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утешествие в космо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2438280" cy="373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89080" y="1033560"/>
            <a:ext cx="783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Скафандр-это специальная одеж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для космонав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1752480"/>
            <a:ext cx="2362320" cy="2438640"/>
          </a:xfrm>
          <a:prstGeom prst="rect">
            <a:avLst/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1828800"/>
            <a:ext cx="2819520" cy="28954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648320"/>
            <a:ext cx="3733920" cy="1981080"/>
          </a:xfrm>
          <a:prstGeom prst="rect">
            <a:avLst/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4952880"/>
            <a:ext cx="3504960" cy="16765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760" y="19512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 вы думаете какую форму имеют звёз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9080" y="320760"/>
            <a:ext cx="885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е всходит, освещает землю, начин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н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981080" y="2362320"/>
            <a:ext cx="5562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4572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А когда заходит солнце, начинается ночь. Ночью светят луна и звёзды, но их свет слабе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солнц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0-09-23T12:05:57Z</dcterms:modified>
  <cp:revision>9</cp:revision>
  <dc:subject/>
  <dc:title>Звезда Солнц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a000000000001024140</vt:lpwstr>
  </property>
  <property fmtid="{D5CDD505-2E9C-101B-9397-08002B2CF9AE}" pid="3" name="Version">
    <vt:r8>1</vt:r8>
  </property>
</Properties>
</file>