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9.gif" ContentType="image/gif"/>
  <Override PartName="/ppt/media/image13.jpeg" ContentType="image/jpeg"/>
  <Override PartName="/ppt/media/image20.gif" ContentType="image/gif"/>
  <Override PartName="/ppt/media/image8.jpeg" ContentType="image/jpeg"/>
  <Override PartName="/ppt/media/image2.gif" ContentType="image/gif"/>
  <Override PartName="/ppt/media/image6.jpeg" ContentType="image/jpeg"/>
  <Override PartName="/ppt/media/image21.gif" ContentType="image/gif"/>
  <Override PartName="/ppt/media/image19.gif" ContentType="image/gif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4.jpeg" ContentType="image/jpeg"/>
  <Override PartName="/ppt/media/image5.jpeg" ContentType="image/jpe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B15B-C1DC-40C4-8377-90B5FF23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57C9-8478-44CF-8D57-DD91257B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6165-3C78-4907-AD7A-30092EAC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6DA2-5E9A-496C-AD96-8990B806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D088-21C1-496E-95E1-FDA90BDD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B60A-84A6-40CF-8DF2-A17C72BA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4DC4-9F16-4D95-A66A-F08FDE15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BE6F-A74F-4DD8-B9F5-35A6133E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D210-6A56-4CBF-92FD-97D1F93A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C9C1-F0B9-41FF-9A14-0A16D1AB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D647-D336-4E55-86D0-88F58F4A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8570-4A08-4042-B868-D9BC1131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47D9-095E-417A-ABC1-93AE19C0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A334-3330-489E-99C0-55AFFD3B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EC91-931A-4CAD-A286-93EE78B5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DD66-8A4D-47EA-88F3-EBC89965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1BD0-9D9C-446B-8104-4AFFDCD5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B5B5-DA60-4456-BE8C-96009D91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1927-608D-45BF-A66B-D8C124DC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20E5-BADF-4B48-B37B-6F45B27B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4671-5718-41E7-8222-47ABF7BB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1307-CC59-4D8F-AB46-3281FFFF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B466-55DC-43AF-89FA-1B6E7086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DADF-2E31-4E40-9C45-05B493D6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692A-7C2B-473F-A437-F4B13E2F535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3187-4FF6-46A8-8DA4-39FC3FA77F6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28600" y="1371600"/>
            <a:ext cx="89154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чему солнце светит днём , а 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вёзды - ночью?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65400" y="500040"/>
            <a:ext cx="442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a4"/>
                </a:solidFill>
                <a:latin typeface="Arial"/>
              </a:rPr>
              <a:t>Звезда Альдебар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19120" y="42372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Звезда Регу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1720" y="728640"/>
            <a:ext cx="33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Звезда Сириу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676520" y="0"/>
            <a:ext cx="60958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вездие ль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62120" y="2133720"/>
            <a:ext cx="6933960" cy="4214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762120" y="228600"/>
            <a:ext cx="73911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звездие близнец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лнце- это огромный пылающий шар, это тоже звезда, которая нам кажется большой и яркой, т.к. она расположена ближе к Земл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066680" y="1828800"/>
            <a:ext cx="6477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4920" y="0"/>
            <a:ext cx="85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це очень горячее. Без нег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нашем космическом доме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ечной системе- темно 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олодно. Ученые, которые изучаю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це, говорят, что его поверх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поминает кипящую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шу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емпература такой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ши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»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6000 гр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743200" y="4191120"/>
            <a:ext cx="32767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762120" y="0"/>
            <a:ext cx="74674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тог уро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8623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нового узнали о Солнце и звёздах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0160" y="4233960"/>
            <a:ext cx="87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вам понравилось сегодня на урок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3504960" cy="3352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133720" y="0"/>
            <a:ext cx="624816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228600"/>
            <a:ext cx="7543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утешествие в космо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2438280" cy="3733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89080" y="1033560"/>
            <a:ext cx="783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Скафандр-это специальная одеж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для космонав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1752480"/>
            <a:ext cx="2362320" cy="2438640"/>
          </a:xfrm>
          <a:prstGeom prst="rect">
            <a:avLst/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1828800"/>
            <a:ext cx="2819520" cy="289548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648320"/>
            <a:ext cx="3733920" cy="1981080"/>
          </a:xfrm>
          <a:prstGeom prst="rect">
            <a:avLst/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4952880"/>
            <a:ext cx="3504960" cy="16765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760" y="19512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 вы думаете какую форму имеют звёз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89080" y="320760"/>
            <a:ext cx="885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лнце всходит, освещает землю, начина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н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981080" y="2362320"/>
            <a:ext cx="5562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4572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a4"/>
                </a:solidFill>
                <a:latin typeface="Arial"/>
              </a:rPr>
              <a:t>А когда заходит солнце, начинается ночь. Ночью светят луна и звёзды, но их свет слабе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a4"/>
                </a:solidFill>
                <a:latin typeface="Arial"/>
              </a:rPr>
              <a:t>солнц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0-09-23T12:05:57Z</dcterms:modified>
  <cp:revision>9</cp:revision>
  <dc:subject/>
  <dc:title>Звезда Солнц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a000000000001024140</vt:lpwstr>
  </property>
  <property fmtid="{D5CDD505-2E9C-101B-9397-08002B2CF9AE}" pid="3" name="Version">
    <vt:r8>1</vt:r8>
  </property>
</Properties>
</file>