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9.gif" ContentType="image/gif"/>
  <Override PartName="/ppt/media/image13.jpeg" ContentType="image/jpeg"/>
  <Override PartName="/ppt/media/image20.gif" ContentType="image/gif"/>
  <Override PartName="/ppt/media/image8.jpeg" ContentType="image/jpeg"/>
  <Override PartName="/ppt/media/image2.gif" ContentType="image/gif"/>
  <Override PartName="/ppt/media/image6.jpeg" ContentType="image/jpeg"/>
  <Override PartName="/ppt/media/image21.gif" ContentType="image/gif"/>
  <Override PartName="/ppt/media/image19.gif" ContentType="image/gif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4.jpeg" ContentType="image/jpeg"/>
  <Override PartName="/ppt/media/image5.jpeg" ContentType="image/jpe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EBE0-5A0E-4E8B-A93D-B467B4E8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EF51-D0E6-46DC-92AE-D9010CFB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24E1-8F04-4883-980B-60A50E49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F38C-6D79-4B5E-8800-B8B35274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66C73-1A35-4888-A3F6-27FBFCEF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1B88-DA35-43EF-B756-FF6E18CC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9E07-97D3-4E8E-B5EF-6887E706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81FE-1A19-459D-89E8-9006DE90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DEC5-E449-41CE-B08C-C85AFF3F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6633-D03E-44EF-8D0B-7D3D3A65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D94D-7215-4D1C-A75D-3946CF06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C256-9220-45B2-B67C-9646B2E6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4967-0A8C-4765-AB41-DD332528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9D78-F158-4C0F-9593-E7A03580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8415-E419-457E-A7F8-FA030451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3404-552A-4D99-888A-C5DDFA38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4E75-A302-40B1-A16D-B2E6A0EA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78D-62AB-434B-87B7-C4B8DDD9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3282-A537-4717-93E7-AD3C9604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AF44-BED7-4A27-9C69-4E41EA55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42B3-E3A5-4265-8255-E3412166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5DEB-AC89-48AE-A642-3BF71A9E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8454-A323-4970-948D-6FCB5073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1687-FCB3-4303-928C-4DEC4847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3D5F-510F-4D39-B8AC-2E438EBB2AA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DB03-E893-4014-8150-A11A84D28EE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28600" y="1371600"/>
            <a:ext cx="89154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чему солнце светит днём , а 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вёзды - ночью?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65400" y="500040"/>
            <a:ext cx="442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a4"/>
                </a:solidFill>
                <a:latin typeface="Arial"/>
              </a:rPr>
              <a:t>Звезда Альдебар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19120" y="42372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Звезда Регу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1720" y="728640"/>
            <a:ext cx="33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Звезда Сириу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676520" y="0"/>
            <a:ext cx="60958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вездие ль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62120" y="2133720"/>
            <a:ext cx="6933960" cy="4214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762120" y="228600"/>
            <a:ext cx="73911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звездие близнец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лнце- это огромный пылающий шар, это тоже звезда, которая нам кажется большой и яркой, т.к. она расположена ближе к Земл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066680" y="1828800"/>
            <a:ext cx="6477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4920" y="0"/>
            <a:ext cx="85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це очень горячее. Без нег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нашем космическом доме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ечной системе- темно 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олодно. Ученые, которые изучаю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це, говорят, что его поверх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поминает кипящую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шу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емпература такой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ши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»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6000 гр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743200" y="4191120"/>
            <a:ext cx="32767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762120" y="0"/>
            <a:ext cx="74674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тог уро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8623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нового узнали о Солнце и звёздах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0160" y="4233960"/>
            <a:ext cx="87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вам понравилось сегодня на урок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3504960" cy="3352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133720" y="0"/>
            <a:ext cx="624816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228600"/>
            <a:ext cx="7543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утешествие в космо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2438280" cy="3733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89080" y="1033560"/>
            <a:ext cx="783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Скафандр-это специальная одеж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для космонав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1752480"/>
            <a:ext cx="2362320" cy="2438640"/>
          </a:xfrm>
          <a:prstGeom prst="rect">
            <a:avLst/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1828800"/>
            <a:ext cx="2819520" cy="289548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648320"/>
            <a:ext cx="3733920" cy="1981080"/>
          </a:xfrm>
          <a:prstGeom prst="rect">
            <a:avLst/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4952880"/>
            <a:ext cx="3504960" cy="16765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760" y="19512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 вы думаете какую форму имеют звёз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89080" y="320760"/>
            <a:ext cx="885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лнце всходит, освещает землю, начина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н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981080" y="2362320"/>
            <a:ext cx="5562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4572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a4"/>
                </a:solidFill>
                <a:latin typeface="Arial"/>
              </a:rPr>
              <a:t>А когда заходит солнце, начинается ночь. Ночью светят луна и звёзды, но их свет слабе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a4"/>
                </a:solidFill>
                <a:latin typeface="Arial"/>
              </a:rPr>
              <a:t>солнц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0-09-23T12:05:57Z</dcterms:modified>
  <cp:revision>9</cp:revision>
  <dc:subject/>
  <dc:title>Звезда Солнц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a000000000001024140</vt:lpwstr>
  </property>
  <property fmtid="{D5CDD505-2E9C-101B-9397-08002B2CF9AE}" pid="3" name="Version">
    <vt:r8>1</vt:r8>
  </property>
</Properties>
</file>