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7AAE-AFD3-4479-A475-90998DCD70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5B62-12B9-4A81-89C9-F6CFB82106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B9CE-1789-4284-A8AC-E261571747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8148-3DE1-4378-8CB8-6E18B79CAD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77A6-9150-48BC-8695-EF95A16BAA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539E-8D06-40D1-A499-563FB251AB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4374-AE59-44B3-9A9C-A004CFC344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77F4-6226-4891-8CFC-B5457286A6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1A58-0F4A-4394-9D93-2405C45527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B049-9F19-4DDB-A5CA-BDBFC174DA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1CFB-5CE6-42B8-BF45-05D50F35BD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1175-3F21-4364-98CA-3C26264222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AED5-3173-4F85-850F-272568AC4F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76D11-D2EF-4A11-9212-5EFC8BE1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BEA22-DD29-4769-BA78-E8F557E0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848AD-1714-4A88-A985-C40DDE98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259A5-9511-4235-80A3-5C65B599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8D78-29FA-4C71-B61D-4B0E96D4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F0BA-8EC4-45DF-8D52-21FECB8A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D5B3-1C54-4E4B-9CA8-9BD74AAB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1FB0-53B6-408C-A4C9-6A92D9B8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30DE-28FA-4E55-9419-FB19B96A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F8B3-F77F-44F1-87B5-B0809B80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0586-1EA0-4C70-BDB8-6A8B3946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87DD-C515-4F3D-9BDD-45D57833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687C-6011-4C55-B4AA-D106F513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BEEE-B797-4D67-AECA-D9EB080E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1DF2-4649-426D-9A26-2EDB03C7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20EB-B8AE-48D7-9D39-E594A097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3A94-6A26-483A-B418-30A4AA4A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F506A-404C-4259-B198-D939B787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A5D2-CA12-4147-B3EA-1CD41853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6305B-FFCD-4F6C-8B32-24FBA1FC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3FCE-4B5D-49DC-835D-7DE8BCA5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5AD0C-EA80-498A-8875-0A029546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32C6C-9DB6-44B7-8EFB-62E2A15F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29D7E-B8FA-4921-A310-4549862D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585B-7A9C-43DE-A465-CA4D0A4D07A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01F1-4E52-49C5-A906-811BC38F95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учно – исследовательская работа по те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14520" y="1642680"/>
            <a:ext cx="44672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Малые планеты      солнечн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Линкевич Ю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ница 10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У гимназии №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ода Балтий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ч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пушнян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рда Анатол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G:\100MEDIA\IMG_0747.JPG"/>
          <p:cNvPicPr/>
          <p:nvPr/>
        </p:nvPicPr>
        <p:blipFill>
          <a:blip r:embed="rId1"/>
          <a:stretch/>
        </p:blipFill>
        <p:spPr>
          <a:xfrm>
            <a:off x="928800" y="207180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мая «таинственная» план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2960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у иногда называют </a:t>
            </a: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одной из самых таин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планет Солнечной систем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отный облачный покров окутывает ее поверх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Атмосфера на Венере была открыта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М. В. Ломоносо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блюд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6 июня 1761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хождение Вен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 диску Солнца, он заметил, что в начале прохож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гда Венера только небольшой частью нашл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лнечный диск,  возникл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тонкое как волос сияние»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круживш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асть диска планеты, еще не вступившей на солнечный диск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схождении Венеры с диск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появился на краю Солнца пупырь, который тем явствен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учинялся, чем ближе Венера к выхождению приходила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и наблюдения послужили доказательством нали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ы у Ве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[49]"/>
          <p:cNvPicPr/>
          <p:nvPr/>
        </p:nvPicPr>
        <p:blipFill>
          <a:blip r:embed="rId1"/>
          <a:stretch/>
        </p:blipFill>
        <p:spPr>
          <a:xfrm>
            <a:off x="7500960" y="1571760"/>
            <a:ext cx="1643040" cy="21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орма и размер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нер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76924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 тех пор пока для исследований Ве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спользовались только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оптические телескопы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давалось измерить лишь верхнюю границу радиу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лотного облачного покрова, закрывающего поверх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енеры. Появление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радиоинтерференционных методо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зволило перейти к исследованию ее тверд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верх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екторных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1,5 ± 0,1 к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ус верхней границы облак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20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i[49]"/>
          <p:cNvPicPr/>
          <p:nvPr/>
        </p:nvPicPr>
        <p:blipFill>
          <a:blip r:embed="rId1"/>
          <a:stretch/>
        </p:blipFill>
        <p:spPr>
          <a:xfrm>
            <a:off x="6500880" y="357120"/>
            <a:ext cx="2286000" cy="21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гура Ве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Фигура планеты близка к сферическ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экваториальной плоскости полуо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ллипсо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в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2,02 ± 0,1 км и 6050,99 ± 0,14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ая полуос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в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1, 54 ± 0,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 мас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ланет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щ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0 ± 120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вердой части Венеры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85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близи твердой поверхности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ваторе Венеры достига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,6 м/с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i[2]"/>
          <p:cNvPicPr/>
          <p:nvPr/>
        </p:nvPicPr>
        <p:blipFill>
          <a:blip r:embed="rId1"/>
          <a:stretch/>
        </p:blipFill>
        <p:spPr>
          <a:xfrm>
            <a:off x="6227640" y="333360"/>
            <a:ext cx="22878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рхность Ве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Поверхность Венеры преимуществ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равнинная, обнаружены и возвыш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области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а из них представляет собой  огро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вулканическое пла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чайшая вершина —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гора Максвел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 высота 12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пад высот вдоль экватора примерно 5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зшая точка на поверхности -на глубине 2,5 км от средн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в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 поверхности обнаружены кратеры, разломы и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изнаки протекавших на ней интенсивных тектониче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цессов. Отчетливо просматриваются и следы удар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мбардиро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Поверхность покрыта камнями и плитами различ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размеров; поверхностные породы близки по составу к зем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осадочным п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i[1]"/>
          <p:cNvPicPr/>
          <p:nvPr/>
        </p:nvPicPr>
        <p:blipFill>
          <a:blip r:embed="rId1"/>
          <a:stretch/>
        </p:blipFill>
        <p:spPr>
          <a:xfrm>
            <a:off x="6215040" y="549360"/>
            <a:ext cx="2455920" cy="25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которые физические и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имические параметр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н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яя плотнос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0,951 г/с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ы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ы пример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100 р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вышает массу атмосферы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Преобладающую долю атмосферы составля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глекислый газ ; азота водяного пара, кислород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В очень малых количествах имеются также примес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SO2, H2S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CO, HCl, H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лака Вене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стоят в основн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з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5-80-процен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рной кис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центрация водяного пар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еличивается с высот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стигая максимума на высоте около 50 км, где она в сто ра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ше, чем у твердой поверхности, то есть доля пара на э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оте приближается к одному процент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вл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л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00 ат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тность газа почти на два поряд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ше, чем в атмосфере Зем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i[1]"/>
          <p:cNvPicPr/>
          <p:nvPr/>
        </p:nvPicPr>
        <p:blipFill>
          <a:blip r:embed="rId1"/>
          <a:stretch/>
        </p:blipFill>
        <p:spPr>
          <a:xfrm>
            <a:off x="6500880" y="549360"/>
            <a:ext cx="242892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рс и его спут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арс, четвертая от Солнца, пла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олнеч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круг Марса обращаются два спутника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Фобо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х) 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еймо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жас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б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етает  Марс по орбите с радиус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350 км за 7 ч 39 м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м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етает Марс по орбите с радиус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3500 км за 30 ч 17 ми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а спутника имеют неправильную форму и всегда обращены к Мар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дной и той же сторон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х максимальные разм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6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лину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1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ирину у Фобо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у Дейм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равитационные поля спутников настолько слабые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мосферы они не име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оверхности обнаружены метеоритные крат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Фобо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упнейш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ер Стик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ет диамет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i[14]"/>
          <p:cNvPicPr/>
          <p:nvPr/>
        </p:nvPicPr>
        <p:blipFill>
          <a:blip r:embed="rId1"/>
          <a:stretch/>
        </p:blipFill>
        <p:spPr>
          <a:xfrm>
            <a:off x="6643800" y="21420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2960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и внутренне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оение Ма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Химический состав Марса типичен для планет Земной груп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конечно, существуют и специфические отлич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Здесь так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оисходило раннее перераспределение вещества  п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здействием гравитации, на что указывают сохранившие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еды первичной магматической деятельности. Несмотря,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ительно   низкую  температуру и низкую пло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ядр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арса богато железом и серой  невелико по размер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его радиус порядка 800-1000 км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 масса — около од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есятой всей массы план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ние яд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одолжалос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коло миллиарда л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пало с периодом раннего вулканизма. Еще такой же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ительности период заняло частичное плавление мантий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ликатов, сопровождавшееся интенсивными вулканическим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ктоническими явл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i[12]"/>
          <p:cNvPicPr/>
          <p:nvPr/>
        </p:nvPicPr>
        <p:blipFill>
          <a:blip r:embed="rId1"/>
          <a:stretch/>
        </p:blipFill>
        <p:spPr>
          <a:xfrm>
            <a:off x="6286680" y="214200"/>
            <a:ext cx="2500200" cy="1928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5646600" y="2003400"/>
            <a:ext cx="1843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и внутренне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оение Ма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ло 3 млрд. лет наз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вершилс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т период, и еще по крайней ме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чение миллиарда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одолж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обальны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ктонические процес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уже нач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епенное охлаждение планеты, продолжающеес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ы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нтия Ма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огащена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ернистым желез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етные количества которого обнаружены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следованных поверхностных породах, тогда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металлического жел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метно меньш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на других планетах Земной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Толщина литосферы Марс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— несколько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сотен к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включая примерно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0 к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ее к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i[12]"/>
          <p:cNvPicPr/>
          <p:nvPr/>
        </p:nvPicPr>
        <p:blipFill>
          <a:blip r:embed="rId1"/>
          <a:stretch/>
        </p:blipFill>
        <p:spPr>
          <a:xfrm>
            <a:off x="6500880" y="28584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тмосфера и вода на Марс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Атмосфера на Марсе разрежена  и состоит из углекислого газа и малых добав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азота, аргона и кисл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нтрация водяного пара невелика, и она меняется в зависимости от сез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уществование воды на Марсе — один из главных вопросов в изучении этой плане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2004 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арсоходы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Спирит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Оппортьюнит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казали наличие воды в проб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сианского грунта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сть все основания полагать, что воды на Марсе немал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и рельефа напоминают выглаженные ледниками учас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удя по хорошей сохранности этих форм, не успевших ни разрушиться, ни покры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следующими наслоениями, они имеют относительно недавнее происхожд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де же теперь марсианская вода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ода существует и сейчас в виде мерзлот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есьма низких температурах на поверхности Марса на любой открыт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рхности воды быстро образуется толстая корка льда, которая, через корот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емя заносится пылью и пес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агодаря низкой теплопроводимости льда под его толщей местами мо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таваться и жидкая вода и подледные потоки воды продолжают и теперь углуб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усла некоторых рек, мости льда под его толщей местами может оставатьс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жидкая вода и, подледные потоки воды продолжают и теперь углублять рус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которых р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380880"/>
            <a:ext cx="584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, размеры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масса Ма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713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е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7,99 млн.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нимально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олнца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7млн. 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арса вокруг Солнц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6,98 зем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ток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скор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битального дви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,13 км/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ваториальный радиу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ланеты раве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94 к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—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76,4 км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сса Ма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44 1023 к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95 г/см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i[12]"/>
          <p:cNvPicPr/>
          <p:nvPr/>
        </p:nvPicPr>
        <p:blipFill>
          <a:blip r:embed="rId1"/>
          <a:stretch/>
        </p:blipFill>
        <p:spPr>
          <a:xfrm>
            <a:off x="6500880" y="28584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алые планеты солнечной систем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123640" y="4266720"/>
            <a:ext cx="6867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Меркурий, Венера, Земля, Марс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, размеры и масса Ма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экватор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,76 м/с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днако раз в 15-17 лет происходит так называемое вели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противостояние, когда  эти две планеты сближаются примерно на 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млн. км; последнее такое сближение имело место в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1988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 время великих противостояний Марс выглядит самой яр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вездой на полуночном небе, оранжево-красного цвета, вслед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го его стали считать атрибутом бога вой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о новый уровень исследований Марса начался в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196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их целей стали использоваться космические аппараты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ачале облетали планету, а затем и опускались на ее поверх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С име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стественных спутника —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бос и Дейм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 атмосферы: СО2 , N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 СО,Н2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Участки поверхности Марса, покрытые кратерами, похожи на лу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матер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05nil042i"/>
          <p:cNvPicPr/>
          <p:nvPr/>
        </p:nvPicPr>
        <p:blipFill>
          <a:blip r:embed="rId1"/>
          <a:stretch/>
        </p:blipFill>
        <p:spPr>
          <a:xfrm>
            <a:off x="5145120" y="3357720"/>
            <a:ext cx="3998880" cy="3240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250920" y="1571760"/>
            <a:ext cx="806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ля, третья от Солнца большая планета Солнечной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агодаря своим уникальным,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единственным во Вселенной природным условиям, Земля стала местом, где возникла и получила развитие органическая жи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ля движется вокруг Солн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эллиптической орби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ло отличающей от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5083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а, размеры 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вижение Земл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82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По форме Земля близка к эллипсоид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сплюснутому у полюсов и растянутому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экваториальной зо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ди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ем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71,032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яр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56,777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кваториаль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78,160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емли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976·1024 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18 кг/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ем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ижется вокруг Солн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о средней скорост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,765 км/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эллипт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9,6 млн. к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иод одного обращ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орби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5,24 солнечных су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ащение Зем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круг собственной ос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,292115·10-5 рад/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и Зем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0,2 млн. км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, размеры 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движение Зем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уш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ставляет соответственно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9,2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 образуе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шес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материков и остро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а поднимается  над уровнем моря в среднем н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75 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ибольшая высот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848 м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Горы занимают свыш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1/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рхности суши. Пустыни покрывают около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оверх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ши, саванны и редколесья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леса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%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ледники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%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ыш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суши занято под сельскохозяйственными угодь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У Земли имеется единственный спутник — Лу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Ее орбита близка к окружности с радиусом около 384400 к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исхождение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современным космогоническ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лениям Земля образов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,6-4,7 млрд. лет наз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из захвачен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тяжением Солн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опланетного обла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но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,5 млрд. лет наз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озникли условия, благоприятные для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озникновения жиз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0755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нутреннее стро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Основную роль в исследовании внутреннего строения Земли играют сейсмические метод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основанные на исследовании распространения в ее толще упругих волн, возникающих при сейсм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событиях — при естественных землетрясениях и в результате взрыв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я условно разделяют на три области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ра, мантия и яд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й слой —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ко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имеет среднюю толщину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5 к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типы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земной ко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континентальный и океанический; в переходной зоне от материка к оке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а кора промежуточного ти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Толщина ко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еняется в довольно широких пределах: океаническая кора имеет толщину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редние плотности составляю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6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поверхности Зем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67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грани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85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базаль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а глубину примерно от 35 до 2885 км простирается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мант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отделяется от коры резкой границей глубже, которой скорости как продольных, так и попере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угих сейсмических волн, а также механическая плотность скачкообразно возрастаю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лотности в м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величиваются по мере возрастания глубины примерно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,3 до 9,7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кор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м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полагаются обширные литосферные плиты влияющий на облик Зем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е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д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жидким. По современным представлениям внешне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дро состо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 серы и желез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ах свыш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12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ейсмические методы обнаруживают наличие твердого внутреннего ядра,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ю которого приходи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7% массы Зем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центральной части Земли порядк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5000 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аксимальная 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оверхности приближается к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0 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инимальная составля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ко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90 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ff"/>
                </a:solidFill>
                <a:latin typeface="Arial"/>
              </a:rPr>
              <a:t>Плотность в центре Земли около </a:t>
            </a:r>
            <a:r>
              <a:rPr b="0" i="1" lang="ru-RU" sz="1400" spc="-1" strike="noStrike">
                <a:solidFill>
                  <a:srgbClr val="3333ff"/>
                </a:solidFill>
                <a:latin typeface="Arial"/>
              </a:rPr>
              <a:t>12,5 г/см3</a:t>
            </a:r>
            <a:r>
              <a:rPr b="1" i="1" lang="ru-RU" sz="1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 поверхностью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Земля окружена атм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жний ее сл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стирается в среднем до высоты 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км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мпература в тропосфере падает с увеличением высо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й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-55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ю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страт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здесь температура возрастает с увелич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оты. Выше находится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мез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над которой наблюдаются серебристые обла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громное значение имее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зон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слой озона, находящийся на высоте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ь выш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-8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ю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ион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томы и молекулы в этом слое интенсивно ионизируются под действием солнеч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диации, ультрафиолетового излучения. Если бы не озоновый слой, потоки излуч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ходили бы до поверхности Земли, производя разрушения в имеющихся там жи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рганизм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На расстояниях более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1000 км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газ настолько разрежен, что столкновения между молекул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ерестают играть существенную роль, а атомы ионизированы более чем наполов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ысоте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6 и 3,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диусов Земли находятся радиационные поя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витационное поле Земли с высокой точностью описывается законом всемирного тягот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ьютона. Земля обладает также магнитным и электрическим по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гнитное поле над поверхностью Земли складывается из постоянной«главной» и перем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ей; последнюю обычно относят к вариациям магнитного поля. Главное магнитное поле име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у, близкую к дипольно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тный дипольный мо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емли, равны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,98·1025 едини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ГС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ряженности магнитного пол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северном и южном магнитных полюсах рав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ответственн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58 и 0,68 Э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 на геомагнитном экваторе — около 0,4 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ическое поле над поверхностью Земли в среднем имеет напряженность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 В/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авлено вертикально вниз — это так называемо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«пол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сной погоды»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о это поле испытыв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чительные вари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Естественный спутник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тоянии 384 400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 орбиты к плоскости эклиптики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 °8 ¢43 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,35 .1022 к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радиус Луны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38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корение силы тяже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оверхности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,62 м/с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лотность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343 кг/м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дер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7,3 су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од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        29,5 су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Светит отраженным солнечным светом, визуальное сферическое альбедо </a:t>
            </a: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0,75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Поверхность Луны в основном гориста, покрыта многочисленными крат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ударного происхожд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нный грунт — регол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оверхности Лу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-400 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гнитное поле £ 4 г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Первый человек ступил на поверхность Луны 21 июля 196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l_533i"/>
          <p:cNvPicPr/>
          <p:nvPr/>
        </p:nvPicPr>
        <p:blipFill>
          <a:blip r:embed="rId1"/>
          <a:stretch/>
        </p:blipFill>
        <p:spPr>
          <a:xfrm>
            <a:off x="5715000" y="260280"/>
            <a:ext cx="3005280" cy="31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рхность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Луне даже невооруженным глазом различимы темны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носительно ровные участки, называемые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морями»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разделяющие их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етлые —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материки»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континенты»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долю последн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ходится немногим боле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3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лощади поверхности Лу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рхность 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териков» гориста, ее уровень выше, чем у «морей»,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ность средних высот достига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3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Уровень в круговых «морях»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йонах несколько повышенной плотности лунной породы обычно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на километр ниже, чем у «морей» неправильной формы и уступает 4 к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ксимальной высоте «материков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Поверхность Луны покрыта большим числом кольцевых структур — кольцев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горами и кратерами ударного происхо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Видимые на поверхности линейные структуры — борозд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разломы и складки — являются свидетельствами тектонических процессо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l_536i"/>
          <p:cNvPicPr/>
          <p:nvPr/>
        </p:nvPicPr>
        <p:blipFill>
          <a:blip r:embed="rId1"/>
          <a:stretch/>
        </p:blipFill>
        <p:spPr>
          <a:xfrm>
            <a:off x="6804000" y="404640"/>
            <a:ext cx="1771560" cy="27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6518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Луна движется вокруг Земли по почти эллиптической орбите со средней линей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скоростью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683 км/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инимальное расстоя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т Земл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3300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ксимально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5500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оскость орбит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уны наклонена к плоскости эклиптики на уго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°08'43'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иод орбитального движ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,32166 земных су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что совпадает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периодом осевого обращения Луны, благодаря этому Луна всегда обращена 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Земле одним и тем же полушари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з-за того что движение Луны по орбите не является равномерным, а также из-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аклона плоскости экватора к плоскости ее орбиты, с Земли можно наблюд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есколько более чем половину поверхн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Лун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уны относительно Солнца составля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9,53 сут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унный ден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унная ноч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лятся почти п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су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течение лунного дня поверхность Луны нагревается, а ночью охлаждаетс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 этом температура на поверхности Луны меняется от 400 до 100 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рку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Меркурий, ближайшая к Солнц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большая планета Солнечной систем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араметры движения план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ее расстоя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,387 астроном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иц (58 млн. км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88 су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вра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58,6 су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ий диаме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4878 к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,3·1023 кг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райне разрежена и состоит из 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r, Ne, 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Поверхность Меркурия по внешнему виду  подобна лунной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mht69(1)[1]"/>
          <p:cNvPicPr/>
          <p:nvPr/>
        </p:nvPicPr>
        <p:blipFill>
          <a:blip r:embed="rId1"/>
          <a:stretch/>
        </p:blipFill>
        <p:spPr>
          <a:xfrm>
            <a:off x="6659640" y="260280"/>
            <a:ext cx="2232000" cy="21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и состав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36280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тность лунных пород составляет в среднем 3,343 г/см3, что заметно уступ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редней плотности для Земли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меются и различия в минералогическом составе лунных и земных пород: содерж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ксидов уплотнение вещества с глубиной проявляется на Земле значительно заметне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м на железа в лунных базальтах н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5%,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а титана — н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3%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выше, чем в зем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«Морские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льты на Луне отличаются повышенным содержанием оксидов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алюми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каль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тносительно более высокой плотностью, что связывают с их глубин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схождением.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Для исследования строения Луны использовал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сейсмические мето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ерхностный слой — лунная кора имеет состав, близкий к составу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«материков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корой располагается верхняя мантия — слой толщиной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5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глубже — средняя мантия толщиной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нно в этом слое в результате частичного вплавления формировал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«морские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ль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ах порядк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600-8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полагаются глубокофокусные лунные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ейсмические очаг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е око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8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ончается литосфера и начинается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лунная астен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лавленный слой, в котором, могут распространяться только продольные сейсм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ны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рхней части астеносферы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00 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 глубин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80-157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исходит резкое изменение скорости продольных волн — зд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ходит граница пятой зоны — ядра Луны. Поверхностный довольно рыхлый слой Лу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стоит из пород, раздробленных постоянным потоком падающих на нее твердых тел — 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икрометеоритов и пыли до крупных частиц — многотонных метеоритов и астероид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 поверхностью Луны газовая атмосфера как таковая отсутствует, так как не мож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ерживаться Луной вследствие ее малой массы.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В результате даже легчайшие атомы п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редних тепловых скоростях способны преодолевать притяжение Луны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ические поля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Наиболее тщательно исследовалось гравитационное поле Луны, что объясняется не тольк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отребностями космонавтики, но и дает важную информацию об особенностях строения Лу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ти исследования выявили нецентральность гравитационного поля, обусловленн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однородностью плотности нед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скорение силы тяже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оверхности Луны состави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,623 м/с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тное пол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уны является весьма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лаб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составляе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1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агнитного поля Земл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ическое поле у поверхности Луны не измерялось, но существуют теорет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азания на то, что из-за значительного приливного воздействия со стороны Земли внут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ны должно произойти перераспределение электрических зарядов, приводящее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ю над ее поверхностью электрического поля с напряженностью в некоторых точк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ядка киловольта на мет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уна светит отраженным солнечным светом; визуальное сферическое альбедо равн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0,075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о есть Луна отражает все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падающих на нее солнечных световых луч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Отражение падающего от внешнего источника света довольно заметно преобладает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направлении к этому источнику; по этой причине Луна ярче всего в полнолу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обственное тепловое излучение Луны незначит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уски ракет на Лу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2 января 1959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в СССР было осуществлен запуск первой в мире автоматическ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жпланетной станции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Луна– 1 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ссой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1472 к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пролетела вблиз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уны на расстоянии меньше 6000 км от её поверхности и, выйдя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елиоцентрическую орбиту, стала первой в мире искусственной планет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лнечной систем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Сентябрь 1959 г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стоялся новый старт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–2 » .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чта фантастов сбылась: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зданный человеком аппарат впервые достиг другого небесного тел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октябре 1959 г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 космическое путешествие отправился следующ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унник –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 - 3 »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явились первые фотографии обратной стороны Лу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сентябре 1970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 -16 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вершила мягкую посадку в район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оря Изобилия, произвела и взятие образцов гру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ноябре 1970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17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оставила на её поверхность передвижн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ппарат  </a:t>
            </a:r>
            <a:r>
              <a:rPr b="1" lang="ru-RU" sz="1500" spc="-1" strike="noStrike">
                <a:solidFill>
                  <a:srgbClr val="ff6600"/>
                </a:solidFill>
                <a:latin typeface="Arial"/>
              </a:rPr>
              <a:t>« Луноход – 1 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феврале 1972 г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 экспедицию на Луну отправился следующий космическ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ппарат -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20»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Эта станция доставила на Землю образец лунного грунта из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труднодоступного горного район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1973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21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оставила внутрь кратера Лемонье у восточ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раницы Моря  Ясности </a:t>
            </a:r>
            <a:r>
              <a:rPr b="1" lang="ru-RU" sz="1500" spc="-1" strike="noStrike">
                <a:solidFill>
                  <a:srgbClr val="ff6600"/>
                </a:solidFill>
                <a:latin typeface="Arial"/>
              </a:rPr>
              <a:t>« Луноход – 2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.Возникли панорамы нашей Лу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лёты по программ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Аполло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м летательным аппаратом, доставившим человек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рхность Луны, был американский космический кораб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 Аполлон – 11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лёт состоялся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16 июля 1969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 кабинете кораб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лись 3 астронавта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 Армстронг Н. Армстронг, М. Коллин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Э. Олдр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1 июля в 5ч 56мин на поверхность Луны вступил первый челове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Армстронг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тем к нему присоединился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. Олдр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оставили на Луне телевизионные и фотокамеры, инстру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бора лунных камней, ранцевые системы жизнеобеспечен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ое снаряжени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Н. Армстронг: « Из лунной кабины небо казалось черным, но на Луне было светло, как днём, и поверхность её была рыжевато-коричневой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l_536i"/>
          <p:cNvPicPr/>
          <p:nvPr/>
        </p:nvPicPr>
        <p:blipFill>
          <a:blip r:embed="rId1"/>
          <a:stretch/>
        </p:blipFill>
        <p:spPr>
          <a:xfrm>
            <a:off x="7711920" y="0"/>
            <a:ext cx="1432080" cy="22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Это</a:t>
            </a: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интересно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Челов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есивший на Земле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800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бу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ить на Луне около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30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Попав на Луну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ив свою мускульную силу, он смо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ыгать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 6 р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ше или дальше, чем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мле, поднимать тяжести,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 6 р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ольшие, 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ыгая с высоты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5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е причинять себе вре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62000"/>
            <a:ext cx="8820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Меркурий движется вокруг Солнца по си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вытянутой эллиптической орби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олжительность солнечных сут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а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тояние Меркурия от Зем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2 до 217 млн.к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дняя скорость дви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круг Солнца 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7,89 км/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На Меркурии распределение масс не является стр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концентрическим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щение вокруг Солнца и его собственное вра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водят к тому, что длительность солнечных суток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нете равна трем звездным меркурианским суткам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вум меркурианским годам и состав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5,92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erkuri[1]"/>
          <p:cNvPicPr/>
          <p:nvPr/>
        </p:nvPicPr>
        <p:blipFill>
          <a:blip r:embed="rId1"/>
          <a:stretch/>
        </p:blipFill>
        <p:spPr>
          <a:xfrm>
            <a:off x="6588000" y="476280"/>
            <a:ext cx="2352960" cy="20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меры, форма и масса Мерку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По форме  планета близка к шару с экваториа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радиусом (2440 ± 2)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8 р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у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      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,8 раз мен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у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составляет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44 г/см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близи поверхности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7 м/с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ность полуос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кваториального эллипса составля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клонения геометрического центра планеты от цен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асс — порядка полутора километ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[24]"/>
          <p:cNvPicPr/>
          <p:nvPr/>
        </p:nvPicPr>
        <p:blipFill>
          <a:blip r:embed="rId1"/>
          <a:stretch/>
        </p:blipFill>
        <p:spPr>
          <a:xfrm>
            <a:off x="6786720" y="571680"/>
            <a:ext cx="19792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91908E-006 C -0.01336 -0.2874 -0.02656 -0.5748 -0.02222 -0.57087 C -0.01788 -0.56694 0.01841 -0.07006 0.02552 0.02335 C 0.03264 0.11676 0.02084 -0.01203 0.02066 -0.01064 C 0.02049 -0.00925 0.02223 0.01109 0.02396 0.03167 E">
                                      <p:cBhvr>
                                        <p:cTn id="8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мпература и рельеф    поверхности Мерку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8996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70c0"/>
                </a:solidFill>
                <a:latin typeface="Arial"/>
              </a:rPr>
              <a:t>Меркурий получает от центрального светила значительно большое количество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Из-за вытянутости орбиты поток энергии от Солнца варьируется примерно в два р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льшая продолжительность дня и ночи приводит к тому, что проявляются яркостные температуры на «дневной» и на «ночной» сторонах поверхности Меркурия (температура может изменяться примерно от 600 К до 100 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Поверхность Меркурия, покрытая раздробленным веществом базальтового типа, довольно темная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 наблюдениям с Земли, поверхность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Меркури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 целом похожа на поверхность Луны, хотя контраст между темными и светлыми участками выражен слабее. Наряду с кратерами есть холмы и до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[33]"/>
          <p:cNvPicPr/>
          <p:nvPr/>
        </p:nvPicPr>
        <p:blipFill>
          <a:blip r:embed="rId1"/>
          <a:stretch/>
        </p:blipFill>
        <p:spPr>
          <a:xfrm>
            <a:off x="6443640" y="333360"/>
            <a:ext cx="2448000" cy="18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тмосфера и физические по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д поверхностью Меркурия имеются следы весьма разреж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тмосферы, содержащей гелий, водород,  углекислый газ, углер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ислород и благородные га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Близость Солнца обусловливает ощутимое влияние на Мерку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солнечного ветра. Благодаря этой близости воздействие Солнц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Меркурий, должно приводить к возникновению над поверх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планеты электрического поля, напряженность которого может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примерно вдвое больше, чем у  «поля ясной погоды» над поверх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Земли, и отличается от последнего сравнительной стаби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 Меркурии имеется  магнитное по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i[35]"/>
          <p:cNvPicPr/>
          <p:nvPr/>
        </p:nvPicPr>
        <p:blipFill>
          <a:blip r:embed="rId1"/>
          <a:stretch/>
        </p:blipFill>
        <p:spPr>
          <a:xfrm>
            <a:off x="6804000" y="189000"/>
            <a:ext cx="2160720" cy="14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н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686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енера, вторая от Солнца и ближайшая  к Земле большая 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Солнеч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метры движения план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е расстояние от Солнца 0,72 а. 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        224,7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ащения                243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й радиус     6050 к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      4,9 . 1024 к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мосфера: CO2 (97%), N2 (ок. 3%), H2O (0,05%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си CO, SO2, HCl, H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а у поверхности    750 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вление 107 П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На поверхности Венеры обнаружены горы, кратеры, кам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Поверхностные породы Венеры близки по составу к земным осадочным п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а почти целиком состоит из углекислого газа (около 96%), а азота 3,2%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i[4]"/>
          <p:cNvPicPr/>
          <p:nvPr/>
        </p:nvPicPr>
        <p:blipFill>
          <a:blip r:embed="rId1"/>
          <a:stretch/>
        </p:blipFill>
        <p:spPr>
          <a:xfrm>
            <a:off x="6588000" y="2421000"/>
            <a:ext cx="2202120" cy="22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979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Венера движется вокруг Солнца по орби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располагающейся между орбитами Меркурия и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енера — единственная планета Солнечной системы, соб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ращение которой противоположно направлению ее обращения вокруг 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иод собственного вращения близок к 243 земным сут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-за  «обратного» направления вращения Венеры длительность солнечных суток на ней в 116,8 раз больше, чем на Земле, так что за один  венерианский год восход и заход Солнца на Венере происходит всего два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тояние от Венеры до Земли изменяется от 38 млн. км до 258 млн.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скорость движения по орбите 34,99 к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енера — наиболее яркое светило земного не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максимуме блеска она достигает -4,4 звезд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i[32]"/>
          <p:cNvPicPr/>
          <p:nvPr/>
        </p:nvPicPr>
        <p:blipFill>
          <a:blip r:embed="rId1"/>
          <a:stretch/>
        </p:blipFill>
        <p:spPr>
          <a:xfrm>
            <a:off x="6858000" y="260280"/>
            <a:ext cx="1604880" cy="19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103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0:13:09Z</dcterms:created>
  <dc:creator>саша</dc:creator>
  <dc:description/>
  <dc:language>en-US</dc:language>
  <cp:lastModifiedBy>Name</cp:lastModifiedBy>
  <dcterms:modified xsi:type="dcterms:W3CDTF">2010-09-23T12:06:05Z</dcterms:modified>
  <cp:revision>31</cp:revision>
  <dc:subject/>
  <dc:title>Малые плане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7000000000001024140</vt:lpwstr>
  </property>
</Properties>
</file>