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64A7-1E1D-41F0-8E75-2972A19126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A7F3-4E5E-4331-895D-A5E7948103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387B-B03F-4A84-A95C-57DCBF3128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65F5-C216-486A-81EA-0B925ED461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F4E2-859A-40F7-B5E5-FEFC138D82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2833E-4358-4318-A7E8-E1FDD75073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FA6C-0CBA-42A4-9FD7-8A521C41F3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A27E-013C-4027-84D2-4B2BA50E52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49C8-A36E-48C5-AEDB-ABFB2552AE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10C4-3E51-438C-9C92-90E6CA9E0F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7709-D343-414F-A04F-FCE5D78B62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A3E8-2E14-41C5-8E94-E57F6DD1A9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C6C2-9D30-4231-8F33-C9B33BB54E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BA50E-AAAB-40E7-9FF8-1FD8A1ED5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BFDCE-658C-4388-9959-83782992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3DBD8-4A54-4ACB-A9DC-A4E88D666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94F98-7E4E-4BE8-A916-3FC16C16C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D05A-2F18-4643-B77A-B417A0C2C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257ED-4679-46C4-9F46-649DA3B4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2C62-550C-4DDB-8D70-65D3DB97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A58D7-C537-46B3-A17B-3529C5FE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F83EB-0128-46A9-B089-9DBBE416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69F28-A68E-4AE3-AEA7-0BBF3675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30A2A-E7A9-48C7-A7F0-E4E98DAF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11954-3324-41BB-9E85-05A0417C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E7081-67FF-4903-93A5-11D85100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E0DE2-06B7-44E1-951C-C6B02ABC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F9D2-C05C-412D-BB2C-410FC53D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8DA5-9D4E-4AD9-B814-B785E5E08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E618-E11E-422D-8AEB-7026CADC2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C4633-DFB1-4F35-B912-25A58F16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FEA00-7A85-446D-AA52-F652F35E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63AB7-B546-44F9-96DC-DA13867B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D5BA1-18D5-44E6-9CF5-D61D8348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352F4-8147-4397-AABC-ABC240EE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45C64-1A17-4F36-9634-8D7FD658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D0D8B-255A-435F-A4DC-53A5452F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5241-62BA-44CF-9DF8-EC4E5732725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2855-079A-433A-A3A7-9986D9B4B87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учно – исследовательская работа по тем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214520" y="1642680"/>
            <a:ext cx="44672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Малые планеты      солнечной систем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полнил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 Линкевич Ю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еница 10 «А»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У гимназии №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рода Балтийс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учный руководит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опушнян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ерда Анатольев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G:\100MEDIA\IMG_0747.JPG"/>
          <p:cNvPicPr/>
          <p:nvPr/>
        </p:nvPicPr>
        <p:blipFill>
          <a:blip r:embed="rId1"/>
          <a:stretch/>
        </p:blipFill>
        <p:spPr>
          <a:xfrm>
            <a:off x="928800" y="2071800"/>
            <a:ext cx="2914560" cy="3886200"/>
          </a:xfrm>
          <a:prstGeom prst="rect">
            <a:avLst/>
          </a:prstGeom>
          <a:ln w="0">
            <a:noFill/>
          </a:ln>
        </p:spPr>
      </p:pic>
      <p:sp>
        <p:nvSpPr>
          <p:cNvPr id="116" name="">
            <a:hlinkClick r:id="rId2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амая «таинственная» план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571760"/>
            <a:ext cx="8229600" cy="43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енеру иногда называют </a:t>
            </a: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одной из самых таинств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планет Солнечной системы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лотный облачный покров окутывает ее поверхн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Атмосфера на Венере была открыта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М. В. Ломоносов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блюда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6 июня 1761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хождение Вен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 диску Солнца, он заметил, что в начале прохожд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гда Венера только небольшой частью нашла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лнечный диск,  возникл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«тонкое как волос сияние»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круживш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асть диска планеты, еще не вступившей на солнечный диск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 схождении Венеры с диска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«появился на краю Солнца пупырь, который тем явственн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учинялся, чем ближе Венера к выхождению приходила»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ти наблюдения послужили доказательством налич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тмосферы у Вен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i[49]"/>
          <p:cNvPicPr/>
          <p:nvPr/>
        </p:nvPicPr>
        <p:blipFill>
          <a:blip r:embed="rId1"/>
          <a:stretch/>
        </p:blipFill>
        <p:spPr>
          <a:xfrm>
            <a:off x="7500960" y="1571760"/>
            <a:ext cx="1643040" cy="214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орма и размеры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енеры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988640"/>
            <a:ext cx="876924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о тех пор пока для исследований Вен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использовались только </a:t>
            </a: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оптические телескопы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удавалось измерить лишь верхнюю границу радиу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лотного облачного покрова, закрывающего поверх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енеры. Появление </a:t>
            </a: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радиоинтерференционных методов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зволило перейти к исследованию ее тверд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верх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аекторных измерени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ставляе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51,5 ± 0,1 км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диус верхней границы облак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120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i[49]"/>
          <p:cNvPicPr/>
          <p:nvPr/>
        </p:nvPicPr>
        <p:blipFill>
          <a:blip r:embed="rId1"/>
          <a:stretch/>
        </p:blipFill>
        <p:spPr>
          <a:xfrm>
            <a:off x="6500880" y="357120"/>
            <a:ext cx="2286000" cy="21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игура Вен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Фигура планеты близка к сферическо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 экваториальной плоскости полуос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эллипсои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ав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52,02 ± 0,1 км и 6050,99 ± 0,14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ярная полуос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рав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51, 54 ± 0,1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нтр мас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ланет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меще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30 ± 120 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ъе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твердой части Венеры составляе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,859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ъ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ем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скорение свободного пад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близи твердой поверхности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кваторе Венеры достигае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,6 м/с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i[2]"/>
          <p:cNvPicPr/>
          <p:nvPr/>
        </p:nvPicPr>
        <p:blipFill>
          <a:blip r:embed="rId1"/>
          <a:stretch/>
        </p:blipFill>
        <p:spPr>
          <a:xfrm>
            <a:off x="6227640" y="333360"/>
            <a:ext cx="2287800" cy="23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верхность Вен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43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Поверхность Венеры преимуществен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равнинная, обнаружены и возвышен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области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дна из них представляет собой  огром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вулканическое плат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сочайшая вершина —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гора Максвел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—  высота 12 к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епад высот вдоль экватора примерно 5 к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изшая точка на поверхности -на глубине 2,5 км от средне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ров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На поверхности обнаружены кратеры, разломы и друг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ризнаки протекавших на ней интенсивных тектоническ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роцессов. Отчетливо просматриваются и следы удар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бомбардиров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Поверхность покрыта камнями и плитами различ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размеров; поверхностные породы близки по составу к зем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осадочным пород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i[1]"/>
          <p:cNvPicPr/>
          <p:nvPr/>
        </p:nvPicPr>
        <p:blipFill>
          <a:blip r:embed="rId1"/>
          <a:stretch/>
        </p:blipFill>
        <p:spPr>
          <a:xfrm>
            <a:off x="6215040" y="549360"/>
            <a:ext cx="2455920" cy="252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екоторые физические и 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химические параметры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ен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няя плотность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яе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0,951 г/см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сс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тмосферы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енеры примерн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100 ра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евышает массу атмосферы Зем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Преобладающую долю атмосферы составляет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глекислый газ ; азота водяного пара, кислорода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В очень малых количествах имеются также примес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SO2, H2S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CO, HCl, H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лака Венер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стоят в основно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з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75-80-процент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ерной кисл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нцентрация водяного пар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величивается с высот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остигая максимума на высоте около 50 км, где она в сто ра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ше, чем у твердой поверхности, то есть доля пара на эт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соте приближается к одному проценту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вле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ол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100 ат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тность газа почти на два поряд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ше, чем в атмосфере Земл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i[1]"/>
          <p:cNvPicPr/>
          <p:nvPr/>
        </p:nvPicPr>
        <p:blipFill>
          <a:blip r:embed="rId1"/>
          <a:stretch/>
        </p:blipFill>
        <p:spPr>
          <a:xfrm>
            <a:off x="6500880" y="549360"/>
            <a:ext cx="2428920" cy="209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арс и его спут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арс, четвертая от Солнца, план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олнечной сис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круг Марса обращаются два спутника: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Фобос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ах) и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Деймо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жас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бо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летает  Марс по орбите с радиусо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350 км за 7 ч 39 м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ймо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летает Марс по орбите с радиусо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3500 км за 30 ч 17 мин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а спутника имеют неправильную форму и всегда обращены к Марс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дной и той же стороно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Их максимальные разме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6 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длину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1 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ширину у Фобос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3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 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у Деймо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равитационные поля спутников настолько слабые, ч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тмосферы они не имею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 поверхности обнаружены метеоритные крате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Фобос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рупнейши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тер Стикн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меет диаметр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 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i[14]"/>
          <p:cNvPicPr/>
          <p:nvPr/>
        </p:nvPicPr>
        <p:blipFill>
          <a:blip r:embed="rId1"/>
          <a:stretch/>
        </p:blipFill>
        <p:spPr>
          <a:xfrm>
            <a:off x="6643800" y="214200"/>
            <a:ext cx="25002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229600" cy="129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став и внутренне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троение Марс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Химический состав Марса типичен для планет Земной групп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конечно, существуют и специфические отличия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 Здесь такж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оисходило раннее перераспределение вещества  по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оздействием гравитации, на что указывают сохранившие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леды первичной магматической деятельности. Несмотря,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тносительно   низкую  температуру и низкую плот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ядр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Марса богато железом и серой  невелико по размера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его радиус порядка 800-1000 км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а масса — около од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есятой всей массы плане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ормирование яд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продолжалос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коло миллиарда л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впало с периодом раннего вулканизма. Еще такой же п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ительности период заняло частичное плавление мантий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ликатов, сопровождавшееся интенсивными вулканическими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ктоническими явлени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i[12]"/>
          <p:cNvPicPr/>
          <p:nvPr/>
        </p:nvPicPr>
        <p:blipFill>
          <a:blip r:embed="rId1"/>
          <a:stretch/>
        </p:blipFill>
        <p:spPr>
          <a:xfrm>
            <a:off x="6286680" y="214200"/>
            <a:ext cx="2500200" cy="19288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5"/>
          <p:cNvSpPr/>
          <p:nvPr/>
        </p:nvSpPr>
        <p:spPr>
          <a:xfrm>
            <a:off x="5646600" y="2003400"/>
            <a:ext cx="1843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став и внутренне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троение Марс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коло 3 млрд. лет наза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завершился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т период, и еще по крайней мер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чение миллиарда л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родолжали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обальны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ктонические процесс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уже начало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епенное охлаждение планеты, продолжающееся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ны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нтия Мар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богащена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сернистым желез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метные количества которого обнаружены и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следованных поверхностных породах, тогда к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держание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металлического желе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заметно меньш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м на других планетах Земной групп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Толщина литосферы Марса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— несколько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сотен км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включая примерно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100 км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ее кор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i[12]"/>
          <p:cNvPicPr/>
          <p:nvPr/>
        </p:nvPicPr>
        <p:blipFill>
          <a:blip r:embed="rId1"/>
          <a:stretch/>
        </p:blipFill>
        <p:spPr>
          <a:xfrm>
            <a:off x="6500880" y="285840"/>
            <a:ext cx="2428920" cy="19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тмосфера и вода на Марс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48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ff"/>
                </a:solidFill>
                <a:latin typeface="Arial"/>
              </a:rPr>
              <a:t>Атмосфера на Марсе разрежена  и состоит из углекислого газа и малых добаво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ff"/>
                </a:solidFill>
                <a:latin typeface="Arial"/>
              </a:rPr>
              <a:t>азота, аргона и кислор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центрация водяного пара невелика, и она меняется в зависимости от сезо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уществование воды на Марсе — один из главных вопросов в изучении этой планет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2004 г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арсоходы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«Спирит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«Оппортьюнити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казали наличие воды в проба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рсианского грунта.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сть все основания полагать, что воды на Марсе немал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енности рельефа напоминают выглаженные ледниками участ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удя по хорошей сохранности этих форм, не успевших ни разрушиться, ни покрыть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следующими наслоениями, они имеют относительно недавнее происхождени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де же теперь марсианская вода?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ода существует и сейчас в виде мерзлоты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весьма низких температурах на поверхности Марса на любой открыт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верхности воды быстро образуется толстая корка льда, которая, через коротк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ремя заносится пылью и песк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лагодаря низкой теплопроводимости льда под его толщей местами мож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ставаться и жидкая вода и подледные потоки воды продолжают и теперь углубля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усла некоторых рек, мости льда под его толщей местами может оставаться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жидкая вода и, подледные потоки воды продолжают и теперь углублять рус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екоторых р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3640" y="380880"/>
            <a:ext cx="584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ижение, размеры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 масса Мар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8713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нее расстоя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т Солн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вно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27,99 млн. к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инимальное расстоя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т Солнца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7млн. к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иод обращ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Марса вокруг Солнц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86,98 зем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ток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няя скоро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битального движ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оставля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,13 км/с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кваториальный радиу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ланеты равен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394 к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ярны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—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376,4 км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сса Мар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оставляе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,44 1023 к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няя плотно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,95 г/см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i[12]"/>
          <p:cNvPicPr/>
          <p:nvPr/>
        </p:nvPicPr>
        <p:blipFill>
          <a:blip r:embed="rId1"/>
          <a:stretch/>
        </p:blipFill>
        <p:spPr>
          <a:xfrm>
            <a:off x="6500880" y="285840"/>
            <a:ext cx="2428920" cy="19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Малые планеты солнечной системы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123640" y="4266720"/>
            <a:ext cx="6867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Меркурий, Венера, Земля, Марс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ижение, размеры и масса Мар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корение свободного пад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экватор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,76 м/с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Однако раз в 15-17 лет происходит так называемое вели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противостояние, когда  эти две планеты сближаются примерно на 5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млн. км; последнее такое сближение имело место в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1988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о время великих противостояний Марс выглядит самой яр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вездой на полуночном небе, оранжево-красного цвета, вследств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его его стали считать атрибутом бога вой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чественно новый уровень исследований Марса начался в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196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г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этих целей стали использоваться космические аппараты, котор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ачале облетали планету, а затем и опускались на ее поверх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С имее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естественных спутника —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бос и Дейм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 атмосферы: СО2 , N2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, СО,Н2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Участки поверхности Марса, покрытые кратерами, похожи на лу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матери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ем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05nil042i"/>
          <p:cNvPicPr/>
          <p:nvPr/>
        </p:nvPicPr>
        <p:blipFill>
          <a:blip r:embed="rId1"/>
          <a:stretch/>
        </p:blipFill>
        <p:spPr>
          <a:xfrm>
            <a:off x="5145120" y="3357720"/>
            <a:ext cx="3998880" cy="324000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5"/>
          <p:cNvSpPr/>
          <p:nvPr/>
        </p:nvSpPr>
        <p:spPr>
          <a:xfrm>
            <a:off x="250920" y="1571760"/>
            <a:ext cx="8066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емля, третья от Солнца большая планета Солнечной систе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агодаря своим уникальным,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единственным во Вселенной природным условиям, Земля стала местом, где возникла и получила развитие органическая жизн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емля движется вокруг Солн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 эллиптической орбит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ло отличающей от окруж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-171360"/>
            <a:ext cx="5083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орма, размеры и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вижение Земли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6882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Arial"/>
              </a:rPr>
              <a:t>По форме Земля близка к эллипсоид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Arial"/>
              </a:rPr>
              <a:t>сплюснутому у полюсов и растянутому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333ff"/>
                </a:solidFill>
                <a:latin typeface="Arial"/>
              </a:rPr>
              <a:t>экваториальной зо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диу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Зем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371,032 к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лярны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356,777 к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кваториальны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378,160 к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с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Земли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,976·1024 к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лот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518 кг/м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емл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вижется вокруг Солн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о средней скоростью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9,765 км/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 эллиптиче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сстоя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т Солнц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9,6 млн. к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иод одного обращ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 орбит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65,24 солнечных суто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ращение Зем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округ собственной ос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,292115·10-5 рад/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лощад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верхности Зем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10,2 млн. км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05nil042i"/>
          <p:cNvPicPr/>
          <p:nvPr/>
        </p:nvPicPr>
        <p:blipFill>
          <a:blip r:embed="rId1"/>
          <a:stretch/>
        </p:blipFill>
        <p:spPr>
          <a:xfrm>
            <a:off x="6072120" y="357120"/>
            <a:ext cx="2587680" cy="209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рма, размеры и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движение Земл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Суш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оставляет соответственно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9,2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 образует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шест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материков и остров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на поднимается  над уровнем моря в среднем на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75 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ибольшая высота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848 м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Горы занимают свыше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1/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верхности суши. Пустыни покрывают около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поверхнос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ши, саванны и редколесья -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%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леса 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0%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ледники 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%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выше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суши занято под сельскохозяйственными угодьям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6600"/>
                </a:solidFill>
                <a:latin typeface="Arial"/>
              </a:rPr>
              <a:t>У Земли имеется единственный спутник — Лу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6600"/>
                </a:solidFill>
                <a:latin typeface="Arial"/>
              </a:rPr>
              <a:t>  </a:t>
            </a:r>
            <a:r>
              <a:rPr b="1" i="1" lang="en-US" sz="2200" spc="-1" strike="noStrike">
                <a:solidFill>
                  <a:srgbClr val="ff6600"/>
                </a:solidFill>
                <a:latin typeface="Arial"/>
              </a:rPr>
              <a:t>Ее орбита близка к окружности с радиусом около 384400 к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05nil042i"/>
          <p:cNvPicPr/>
          <p:nvPr/>
        </p:nvPicPr>
        <p:blipFill>
          <a:blip r:embed="rId1"/>
          <a:stretch/>
        </p:blipFill>
        <p:spPr>
          <a:xfrm>
            <a:off x="6072120" y="357120"/>
            <a:ext cx="2587680" cy="209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исхождение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ем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современным космогоническ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ставлениям Земля образовала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,6-4,7 млрд. лет наза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из захваченн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тяжением Солнц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топланетного обла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рно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,5 млрд. лет наза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озникли условия, благоприятные для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возникновения жиз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05nil042i"/>
          <p:cNvPicPr/>
          <p:nvPr/>
        </p:nvPicPr>
        <p:blipFill>
          <a:blip r:embed="rId1"/>
          <a:stretch/>
        </p:blipFill>
        <p:spPr>
          <a:xfrm>
            <a:off x="6072120" y="357120"/>
            <a:ext cx="2587680" cy="209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07552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нутреннее стро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Основную роль в исследовании внутреннего строения Земли играют сейсмические метод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основанные на исследовании распространения в ее толще упругих волн, возникающих при сейсмически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событиях — при естественных землетрясениях и в результате взрыв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емля условно разделяют на три области: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ра, мантия и ядр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ешний слой —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ко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имеет среднюю толщину порядк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5 км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новные типы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земной кор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континентальный и океанический; в переходной зоне от материка к океа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та кора промежуточного тип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Толщина кор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меняется в довольно широких пределах: океаническая кора имеет толщину порядк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0 к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Средние плотности составляю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,6 г/см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 поверхности Земл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,67 г/см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 гранит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,85 г/см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 базальт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На глубину примерно от 35 до 2885 км простирается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мант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Зем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а отделяется от коры резкой границей глубже, которой скорости как продольных, так и попереч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пругих сейсмических волн, а также механическая плотность скачкообразно возрастаю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Плотности в мант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величиваются по мере возрастания глубины примерно от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,3 до 9,7 г/см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В кор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в мант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асполагаются обширные литосферные плиты влияющий на облик Земл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ешнее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ядр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является жидким. По современным представлениям внешнее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ядро состои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з серы и желез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глубинах свыш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12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ейсмические методы обнаруживают наличие твердого внутреннего ядра, 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лю которого приходится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,7% массы Земл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центральной части Земли порядка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5000 °С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Максимальная температу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 поверхности приближается к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0 °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Минимальная составляе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кол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-90 °С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ff"/>
                </a:solidFill>
                <a:latin typeface="Arial"/>
              </a:rPr>
              <a:t>Плотность в центре Земли около </a:t>
            </a:r>
            <a:r>
              <a:rPr b="0" i="1" lang="ru-RU" sz="1400" spc="-1" strike="noStrike">
                <a:solidFill>
                  <a:srgbClr val="3333ff"/>
                </a:solidFill>
                <a:latin typeface="Arial"/>
              </a:rPr>
              <a:t>12,5 г/см3</a:t>
            </a:r>
            <a:r>
              <a:rPr b="1" i="1" lang="ru-RU" sz="14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д поверхностью Зем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686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Земля окружена атмосферо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ижний ее сло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остирается в среднем до высоты в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4 км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емпература в тропосфере падает с увеличением высот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ой от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4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-55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зывают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стратосферо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 здесь температура возрастает с увеличение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соты. Выше находится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мезосфе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над которой наблюдаются серебристые обла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громное значение имеет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озоносфе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слой озона, находящийся на высоте от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ласть выш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-8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зывают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ионосферо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томы и молекулы в этом слое интенсивно ионизируются под действием солнеч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радиации, ультрафиолетового излучения. Если бы не озоновый слой, потоки излуч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оходили бы до поверхности Земли, производя разрушения в имеющихся там жив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рганизма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На расстояниях более </a:t>
            </a:r>
            <a:r>
              <a:rPr b="1" lang="ru-RU" sz="1400" spc="-1" strike="noStrike">
                <a:solidFill>
                  <a:srgbClr val="ff6600"/>
                </a:solidFill>
                <a:latin typeface="Arial"/>
              </a:rPr>
              <a:t>1000 км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 газ настолько разрежен, что столкновения между молекула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перестают играть существенную роль, а атомы ионизированы более чем наполовин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высоте порядк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,6 и 3,7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адиусов Земли находятся радиационные пояс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авитационное поле Земли с высокой точностью описывается законом всемирного тягот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ьютона. Земля обладает также магнитным и электрическим поля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гнитное поле над поверхностью Земли складывается из постоянной«главной» и перемен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астей; последнюю обычно относят к вариациям магнитного поля. Главное магнитное поле име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уктуру, близкую к дипольной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гнитный дипольный момен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Земли, равный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7,98·1025 единиц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ГС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пряженности магнитного пол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 северном и южном магнитных полюсах равн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ответственн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0,58 и 0,68 Э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а на геомагнитном экваторе — около 0,4 Э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лектрическое поле над поверхностью Земли в среднем имеет напряженность окол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00 В/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правлено вертикально вниз — это так называемое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«пол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ясной погоды»,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о это поле испытыва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начительные вари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у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Естественный спутник Зем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ем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сстоянии 384 400 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клон орбиты к плоскости эклиптики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5 °8 ¢43 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са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7,35 .1022 к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ий радиус Луны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738 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корение силы тяже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поверхности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,62 м/с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я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лотность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343 кг/м3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дерически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 обращ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7,3 сут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одически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 обращения        29,5 сут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Светит отраженным солнечным светом, визуальное сферическое альбедо </a:t>
            </a: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0,75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Поверхность Луны в основном гориста, покрыта многочисленными крат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ударного происхожде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нный грунт — реголи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поверхности Лун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-400 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гнитное поле £ 4 гам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Первый человек ступил на поверхность Луны 21 июля 1969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l_533i"/>
          <p:cNvPicPr/>
          <p:nvPr/>
        </p:nvPicPr>
        <p:blipFill>
          <a:blip r:embed="rId1"/>
          <a:stretch/>
        </p:blipFill>
        <p:spPr>
          <a:xfrm>
            <a:off x="5715000" y="260280"/>
            <a:ext cx="3005280" cy="310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верхность Лу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Луне даже невооруженным глазом различимы темны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носительно ровные участки, называемые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«морями»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разделяющие их боле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ветлые —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«материки»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«континенты»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На долю последн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ходится немногим более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3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площади поверхности Лу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верхность «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атериков» гориста, ее уровень выше, чем у «морей»,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зность средних высот достигае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,3 к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Уровень в круговых «морях»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йонах несколько повышенной плотности лунной породы обычно боле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ем на километр ниже, чем у «морей» неправильной формы и уступает 4 к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аксимальной высоте «материков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ff"/>
                </a:solidFill>
                <a:latin typeface="Arial"/>
              </a:rPr>
              <a:t>Поверхность Луны покрыта большим числом кольцевых структур — кольцевы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ff"/>
                </a:solidFill>
                <a:latin typeface="Arial"/>
              </a:rPr>
              <a:t>горами и кратерами ударного происхожд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ff"/>
                </a:solidFill>
                <a:latin typeface="Arial"/>
              </a:rPr>
              <a:t>Видимые на поверхности линейные структуры — борозд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ff"/>
                </a:solidFill>
                <a:latin typeface="Arial"/>
              </a:rPr>
              <a:t>разломы и складки — являются свидетельствами тектонических процессов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l_536i"/>
          <p:cNvPicPr/>
          <p:nvPr/>
        </p:nvPicPr>
        <p:blipFill>
          <a:blip r:embed="rId1"/>
          <a:stretch/>
        </p:blipFill>
        <p:spPr>
          <a:xfrm>
            <a:off x="6804000" y="404640"/>
            <a:ext cx="1771560" cy="273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ижение Лу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65188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Луна движется вокруг Земли по почти эллиптической орбите со средней линейно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скоростью 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3683 км/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инимальное расстояни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от Земл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3300 к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аксимально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5500 к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лоскость орбит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Луны наклонена к плоскости эклиптики на угол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°08'43'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риод орбитального движе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7,32166 земных суто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что совпадает 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периодом осевого обращения Луны, благодаря этому Луна всегда обращена 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Земле одним и тем же полушарие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Из-за того что движение Луны по орбите не является равномерным, а также из-з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наклона плоскости экватора к плоскости ее орбиты, с Земли можно наблюда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несколько более чем половину поверхнос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Лун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риод обраще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Луны относительно Солнца составляе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9,53 суто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лунный ден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лунная ноч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длятся почти по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 суто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 течение лунного дня поверхность Луны нагревается, а ночью охлаждаетс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ри этом температура на поверхности Луны меняется от 400 до 100 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еркур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Меркурий, ближайшая к Солнц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большая планета Солнечной системы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араметры движения плане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нее расстоя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т Солнц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,387 астрономическ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диниц (58 млн. км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иод обращ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88 суто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иод вращ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58,6 сут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ний диамет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4878 к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сса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3,3·1023 кг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тмосфе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райне разрежена и состоит из 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Ar, Ne, 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Поверхность Меркурия по внешнему виду  подобна лунной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mht69(1)[1]"/>
          <p:cNvPicPr/>
          <p:nvPr/>
        </p:nvPicPr>
        <p:blipFill>
          <a:blip r:embed="rId1"/>
          <a:stretch/>
        </p:blipFill>
        <p:spPr>
          <a:xfrm>
            <a:off x="6659640" y="260280"/>
            <a:ext cx="2232000" cy="216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оение и состав Лу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362800" cy="530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лотность лунных пород составляет в среднем 3,343 г/см3, что заметно уступа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редней плотности для Земли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меются и различия в минералогическом составе лунных и земных пород: содерж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ксидов уплотнение вещества с глубиной проявляется на Земле значительно заметне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чем на железа в лунных базальтах на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25%,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а титана — на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13%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выше, чем в земных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«Морские»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зальты на Луне отличаются повышенным содержанием оксидов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алюми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кальц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относительно более высокой плотностью, что связывают с их глубинны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исхождением. 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Для исследования строения Луны использовалис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сейсмические метод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верхностный слой — лунная кора имеет состав, близкий к составу 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«материков»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 корой располагается верхняя мантия — слой толщиной окол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5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ще глубже — средняя мантия толщиной порядк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енно в этом слое в результате частичного вплавления формировалис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«морские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зальт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глубинах порядка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600-80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асполагаются глубокофокусные лунные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сейсмические очаг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глубине окол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80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кончается литосфера и начинается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лунная астеносфе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плавленный слой, в котором, могут распространяться только продольные сейсмическ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лны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ерхней части астеносферы порядк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200 К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а глубин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380-157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исходит резкое изменение скорости продольных волн — здес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ходит граница пятой зоны — ядра Луны. Поверхностный довольно рыхлый слой Лун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стоит из пород, раздробленных постоянным потоком падающих на нее твердых тел — о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икрометеоритов и пыли до крупных частиц — многотонных метеоритов и астероид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д поверхностью Луны газовая атмосфера как таковая отсутствует, так как не мож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держиваться Луной вследствие ее малой массы.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В результате даже легчайшие атомы пр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средних тепловых скоростях способны преодолевать притяжение Луны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изические поля Лу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Наиболее тщательно исследовалось гравитационное поле Луны, что объясняется не тольк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потребностями космонавтики, но и дает важную информацию об особенностях строения Лун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Эти исследования выявили нецентральность гравитационного поля, обусловленну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еоднородностью плотности нед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Ускорение силы тяжест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 поверхности Луны составил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1,623 м/с2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гнитное пол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Луны является весьма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слабы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составляет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0,1%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магнитного поля Земл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лектрическое поле у поверхности Луны не измерялось, но существуют теоретическ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казания на то, что из-за значительного приливного воздействия со стороны Земли внутр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уны должно произойти перераспределение электрических зарядов, приводящее 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зованию над ее поверхностью электрического поля с напряженностью в некоторых точка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рядка киловольта на мет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Луна светит отраженным солнечным светом; визуальное сферическое альбедо равн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0,075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то есть Луна отражает всег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7,5%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падающих на нее солнечных световых луче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Отражение падающего от внешнего источника света довольно заметно преобладает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направлении к этому источнику; по этой причине Луна ярче всего в полнолуни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Собственное тепловое излучение Луны незначитель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пуски ракет на Лун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1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2 января 1959 г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. в СССР было осуществлен запуск первой в мире автоматическо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ежпланетной станции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Луна– 1 »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ссой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1472 кг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пролетела вблизи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Луны на расстоянии меньше 6000 км от её поверхности и, выйдя 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гелиоцентрическую орбиту, стала первой в мире искусственной плането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олнечной систем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Сентябрь 1959 г.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остоялся новый старт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 –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 Луна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–2 » .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ечта фантастов сбылась: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озданный человеком аппарат впервые достиг другого небесного тел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В октябре 1959 г.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в космическое путешествие отправился следующи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лунник –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 Луна  - 3 ».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оявились первые фотографии обратной стороны Лун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В сентябре 1970 г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.  станция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 Луна  -16 »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овершила мягкую посадку в районе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оря Изобилия, произвела и взятие образцов грунт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В ноябре 1970 г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. станция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 Луна – 17 »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доставила на её поверхность передвижно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аппарат  </a:t>
            </a:r>
            <a:r>
              <a:rPr b="1" lang="ru-RU" sz="1500" spc="-1" strike="noStrike">
                <a:solidFill>
                  <a:srgbClr val="ff6600"/>
                </a:solidFill>
                <a:latin typeface="Arial"/>
              </a:rPr>
              <a:t>« Луноход – 1 »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В феврале 1972 г.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в экспедицию на Луну отправился следующий космически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аппарат -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 Луна – 20».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Эта станция доставила на Землю образец лунного грунта из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труднодоступного горного район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В 1973 г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. станция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 Луна – 21 »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доставила внутрь кратера Лемонье у восточно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границы Моря  Ясности </a:t>
            </a:r>
            <a:r>
              <a:rPr b="1" lang="ru-RU" sz="1500" spc="-1" strike="noStrike">
                <a:solidFill>
                  <a:srgbClr val="ff6600"/>
                </a:solidFill>
                <a:latin typeface="Arial"/>
              </a:rPr>
              <a:t>« Луноход – 2 »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.Возникли панорамы нашей Лун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лёты по программе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Аполлон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178560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ым летательным аппаратом, доставившим человека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ерхность Луны, был американский космический кораб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« Аполлон – 11»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олёт состоялся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16 июля 1969г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В кабинете кораб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ходились 3 астронавта –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. Армстронг Н. Армстронг, М. Коллин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 Э. Олдри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1 июля в 5ч 56мин на поверхность Луны вступил первый человек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. Армстронг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тем к нему присоединился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. Олдри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и оставили на Луне телевизионные и фотокамеры, инструмен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сбора лунных камней, ранцевые системы жизнеобеспечения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угое снаряжение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Н. Армстронг: « Из лунной кабины небо казалось черным, но на Луне было светло, как днём, и поверхность её была рыжевато-коричневой»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l_536i"/>
          <p:cNvPicPr/>
          <p:nvPr/>
        </p:nvPicPr>
        <p:blipFill>
          <a:blip r:embed="rId1"/>
          <a:stretch/>
        </p:blipFill>
        <p:spPr>
          <a:xfrm>
            <a:off x="7711920" y="0"/>
            <a:ext cx="1432080" cy="221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Это</a:t>
            </a: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интересно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Челове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весивший на Земле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800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буд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сить на Луне около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130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Попав на Луну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хранив свою мускульную силу, он смож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ыгать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в 6 ра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ыше или дальше, чем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емле, поднимать тяжести,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в 6 ра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большие, 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ыгая с высоты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15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не причинять себе вре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обенности дв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62000"/>
            <a:ext cx="8820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3333ff"/>
                </a:solidFill>
                <a:latin typeface="Arial"/>
              </a:rPr>
              <a:t>Меркурий движется вокруг Солнца по си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ff"/>
                </a:solidFill>
                <a:latin typeface="Arial"/>
              </a:rPr>
              <a:t>вытянутой эллиптической орби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должительность солнечных сут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вна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7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стояние Меркурия от Зем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2 до 217 млн.км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дняя скорость движ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округ Солнца —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7,89 км/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На Меркурии распределение масс не является стр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концентрическим</a:t>
            </a:r>
            <a:r>
              <a:rPr b="0" i="1" lang="ru-RU" sz="20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ращение вокруг Солнца и его собственное вращ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водят к тому, что длительность солнечных суток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ланете равна трем звездным меркурианским суткам 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вум меркурианским годам и составля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75,92 су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merkuri[1]"/>
          <p:cNvPicPr/>
          <p:nvPr/>
        </p:nvPicPr>
        <p:blipFill>
          <a:blip r:embed="rId1"/>
          <a:stretch/>
        </p:blipFill>
        <p:spPr>
          <a:xfrm>
            <a:off x="6588000" y="476280"/>
            <a:ext cx="2352960" cy="207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964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азмеры, форма и масса Меркур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По форме  планета близка к шару с экваториаль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радиусом (2440 ± 2)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ощадь поверхн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 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,8 ра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чем у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ъем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       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,8 раз меньш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чем у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няя плотно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составляет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,44 г/см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скорение свободного пад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близи поверхности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,7 м/с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ность полуос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экваториального эллипса составля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тклонения геометрического центра планеты от цент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асс — порядка полутора километр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i[24]"/>
          <p:cNvPicPr/>
          <p:nvPr/>
        </p:nvPicPr>
        <p:blipFill>
          <a:blip r:embed="rId1"/>
          <a:stretch/>
        </p:blipFill>
        <p:spPr>
          <a:xfrm>
            <a:off x="6786720" y="571680"/>
            <a:ext cx="197928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7.91908E-006 C -0.01336 -0.2874 -0.02656 -0.5748 -0.02222 -0.57087 C -0.01788 -0.56694 0.01841 -0.07006 0.02552 0.02335 C 0.03264 0.11676 0.02084 -0.01203 0.02066 -0.01064 C 0.02049 -0.00925 0.02223 0.01109 0.02396 0.03167 E">
                                      <p:cBhvr>
                                        <p:cTn id="83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емпература и рельеф    поверхности Меркур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589960" cy="40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70c0"/>
                </a:solidFill>
                <a:latin typeface="Arial"/>
              </a:rPr>
              <a:t>Меркурий получает от центрального светила значительно большое количество энерг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030a0"/>
                </a:solidFill>
                <a:latin typeface="Arial"/>
              </a:rPr>
              <a:t>Из-за вытянутости орбиты поток энергии от Солнца варьируется примерно в два ра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Большая продолжительность дня и ночи приводит к тому, что проявляются яркостные температуры на «дневной» и на «ночной» сторонах поверхности Меркурия (температура может изменяться примерно от 600 К до 100 К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Arial"/>
              </a:rPr>
              <a:t>Поверхность Меркурия, покрытая раздробленным веществом базальтового типа, довольно темная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 наблюдениям с Земли, поверхность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Меркурия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в целом похожа на поверхность Луны, хотя контраст между темными и светлыми участками выражен слабее. Наряду с кратерами есть холмы и дол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i[33]"/>
          <p:cNvPicPr/>
          <p:nvPr/>
        </p:nvPicPr>
        <p:blipFill>
          <a:blip r:embed="rId1"/>
          <a:stretch/>
        </p:blipFill>
        <p:spPr>
          <a:xfrm>
            <a:off x="6443640" y="333360"/>
            <a:ext cx="2448000" cy="188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тмосфера и физические пол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ад поверхностью Меркурия имеются следы весьма разрежен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тмосферы, содержащей гелий, водород,  углекислый газ, углерод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ислород и благородные га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Близость Солнца обусловливает ощутимое влияние на Меркур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солнечного ветра. Благодаря этой близости воздействие Солнца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Меркурий, должно приводить к возникновению над поверхност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планеты электрического поля, напряженность которого может бы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примерно вдвое больше, чем у  «поля ясной погоды» над поверхност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Земли, и отличается от последнего сравнительной стабиль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На Меркурии имеется  магнитное пол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i[35]"/>
          <p:cNvPicPr/>
          <p:nvPr/>
        </p:nvPicPr>
        <p:blipFill>
          <a:blip r:embed="rId1"/>
          <a:stretch/>
        </p:blipFill>
        <p:spPr>
          <a:xfrm>
            <a:off x="6804000" y="189000"/>
            <a:ext cx="2160720" cy="143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ен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868680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Венера, вторая от Солнца и ближайшая  к Земле большая план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Солнечной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араметры движения плане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ее расстояние от Солнца 0,72 а. 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 обращения        224,7 суто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ращения                243 суто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ий радиус     6050 к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сса       4,9 . 1024 к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тмосфера: CO2 (97%), N2 (ок. 3%), H2O (0,05%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си CO, SO2, HCl, HF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пература у поверхности    750 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вление 107 П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На поверхности Венеры обнаружены горы, кратеры, кам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Поверхностные породы Венеры близки по составу к земным осадочным пород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тмосфера почти целиком состоит из углекислого газа (около 96%), а азота 3,2%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i[4]"/>
          <p:cNvPicPr/>
          <p:nvPr/>
        </p:nvPicPr>
        <p:blipFill>
          <a:blip r:embed="rId1"/>
          <a:stretch/>
        </p:blipFill>
        <p:spPr>
          <a:xfrm>
            <a:off x="6588000" y="2421000"/>
            <a:ext cx="2202120" cy="220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ижение план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869796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Венера движется вокруг Солнца по орбит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располагающейся между орбитами Меркурия и Зем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Венера — единственная планета Солнечной системы, собствен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вращение которой противоположно направлению ее обращения вокруг  Солн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риод собственного вращения близок к 243 земным сутк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з-за  «обратного» направления вращения Венеры длительность солнечных суток на ней в 116,8 раз больше, чем на Земле, так что за один  венерианский год восход и заход Солнца на Венере происходит всего дваж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стояние от Венеры до Земли изменяется от 38 млн. км до 258 млн. к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яя скорость движения по орбите 34,99 км/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Венера — наиболее яркое светило земного неб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В максимуме блеска она достигает -4,4 звездной велич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i[32]"/>
          <p:cNvPicPr/>
          <p:nvPr/>
        </p:nvPicPr>
        <p:blipFill>
          <a:blip r:embed="rId1"/>
          <a:stretch/>
        </p:blipFill>
        <p:spPr>
          <a:xfrm>
            <a:off x="6858000" y="260280"/>
            <a:ext cx="1604880" cy="195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9577 L 0.25 0 L 0 0 Z">
                                      <p:cBhvr>
                                        <p:cTn id="103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10:13:09Z</dcterms:created>
  <dc:creator>саша</dc:creator>
  <dc:description/>
  <dc:language>en-US</dc:language>
  <cp:lastModifiedBy>Name</cp:lastModifiedBy>
  <dcterms:modified xsi:type="dcterms:W3CDTF">2010-09-23T12:06:05Z</dcterms:modified>
  <cp:revision>31</cp:revision>
  <dc:subject/>
  <dc:title>Малые плане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007000000000001024140</vt:lpwstr>
  </property>
</Properties>
</file>