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BFA-9814-4E41-9099-CA6FF19D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940-A8E6-49F4-BEAB-0ABD6FC5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3C3-68A5-4FD9-8C40-56ADD702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794-4AC5-4C91-87D0-FD904EFB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E8AC0-6BCA-4FD3-8476-4DDB3E2B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70AD3-AFA4-429C-B08D-D88CF330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F707D-9DB3-4C83-AF39-6530CD4A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E38F2-B64C-404C-B900-0BC8B9C0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69BB4-EFE2-44D4-B1D5-513469B8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C135A-FB82-4CE6-BBF6-C10DD4DE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F23A-4C35-4492-8E07-3713267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53C-09D9-4766-BF97-558E0E4A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84E56-273B-4883-A170-802252E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0492F-A38F-4C31-B037-A722223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65148-B419-4CB6-B2A7-4CCDA5B4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9B26D-B50D-4CA0-A191-21B8EF96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CBB3-3172-47CE-BD11-A47E2170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092-F939-43B3-BA32-B4604B54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07F-84F5-4D66-88AB-4AC431A6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638-7882-40A0-9268-4016046A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EBA-4AD6-463C-B640-50D777C2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046-765A-4AA2-A3CD-16193EB9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01F-91D5-41F5-BDCA-DA2D556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C97-0990-49CA-B6E5-6DC430F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0461-AD1C-4230-9C64-E7EA1E75AF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E63F-D1C3-449A-B3B4-D0F1586575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9520"/>
            <a:ext cx="77724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5091120"/>
            <a:ext cx="64008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втор: Махов Алекс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рембольская ОО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92360" y="1401840"/>
            <a:ext cx="561636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лачное неб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у Н.С. - за предоставленные фот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имоновой А.Н. - за помощь в подборке материала и выборе диза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03280" y="692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ем благода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знать какие бывают обл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ово их 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360" y="620640"/>
            <a:ext cx="575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И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3280" y="1904760"/>
            <a:ext cx="368316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ако представляет собой взвесь в воздухе мелких и мельчайших капелек воды. Наряду с водяными капельками в облаке могут находиться также мелкие кристаллики льда. Облако может целиком состоять из таких кристалл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321080" cy="37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403280" y="620640"/>
            <a:ext cx="63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лачное н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88000" y="1905120"/>
            <a:ext cx="3898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образуются близко от земной поверхности и представляют собой белесые или серые  однородные горизонтальные полосы (сло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54936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74508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4032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Имеют обычно вид покрывающих часть небосвода волнистых гряд. Их нижняя граница 2…5 км, толщина примерно такая же, как у слоистых облаков. Высококучевые облака состоят обычно целиком из ледяных кристалликов. Осадки из этих облаков не выпадают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04640"/>
            <a:ext cx="69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окуч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4248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19280" y="1988640"/>
            <a:ext cx="34052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и темно-серые, плотные, иногда почти черные, с размытой нижней границей. Эти облака могут обкладывать весь небосвод, покрывая его темными пятнами; именно с такими облаками мы и связываем представление о пасмурной пог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40464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исто-дожд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338004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0" y="1905120"/>
            <a:ext cx="3970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еплетение нежных белых нитей, тонкие белые полосы, которые, сливаясь, образуют силуэты перьев, хвостов и крыльев птиц, рыбьих скелетов и т.п. Высота нижней границы перистых облаков 6…10 км, толщина облаков порядка 1 км. Облака состоят из кристалликов и не дают осад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1640" y="620640"/>
            <a:ext cx="712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2428920"/>
            <a:ext cx="338472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бывают разны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сококуч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слоисто-дождев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ерис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лака состоят из мельчайших капелек воды и кристалликов ль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69228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лат В.Л. Оптические явления в природе. -  Москва: Просвещение, 197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расов Л.В. Физика в природе.- Москва: Просвещение, 198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тская энциклопедия, том 1. – Москва: Издательство Академии Педагогических наук, 195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ртович Б.Б., Криворучко Э.Н., Соловьёва Л.И. С любовью к природе. – Москва: Педагогика, 197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ждина Т.Д. Энциклопедия для малышей: Мир животных и растений -  Ярославль: Академия развития, 200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Юный натуралист», № 1, 200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32000" y="692280"/>
            <a:ext cx="6553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advTm="5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0:25:58Z</dcterms:created>
  <dc:creator>Ученик</dc:creator>
  <dc:description/>
  <dc:language>en-US</dc:language>
  <cp:lastModifiedBy>Name</cp:lastModifiedBy>
  <dcterms:modified xsi:type="dcterms:W3CDTF">2010-09-23T12:05:43Z</dcterms:modified>
  <cp:revision>14</cp:revision>
  <dc:subject/>
  <dc:title>Об обла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140</vt:lpwstr>
  </property>
</Properties>
</file>