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F39C-2CB0-4F58-A792-F7306F35C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CC5A-3306-4ED6-91A9-02C8E291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DD35-2018-433F-A7B5-C01533B1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0BC7-1779-4BF8-B318-976BD99D4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20E37-F48D-4E40-AB0A-FE3331648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91D4B-EFF1-41CB-863E-2266B003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203F6-31E6-4288-A426-89FF7F2A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17F9B-CC48-43BB-AEFA-5F12D46C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96E79-DDD7-4D16-B6AB-61A898E4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8DC35-BA8B-48D8-ACBF-BAE766DD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55835-69BA-4B01-BAA3-2EDA91F6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4C88-080A-494A-A953-B2EE4478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BC378-4C3D-48B3-B1C6-D214571B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30DC5-505E-488F-8DEE-A2F06E19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03F50-F2C0-4432-96D1-C81DE5D0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EC671-5214-4C73-88F3-92AF17DF9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65B3D-4784-4C63-B5FA-D3E74983F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3368-C634-4275-A522-2B8AE302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C93E-C2B6-4248-9746-AC4DB369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66E4-6BDD-4D0E-A83D-54B75FB9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1FDC-39A3-47F4-89F1-E6CA1202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5886-5631-458A-9919-14F8E514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7A14-18A1-4034-8D53-B0CAF907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2910-CDA4-40C6-A1B1-74F23A76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A20A-FB71-4A70-828B-CC1B4033C9B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72C0-C444-45E0-802A-A71F3089190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009520"/>
            <a:ext cx="77724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76360" y="5091120"/>
            <a:ext cx="640080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втор: Махов Алекс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рембольская ООШ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92360" y="1401840"/>
            <a:ext cx="5616360" cy="20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Облачное небо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6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имонову Н.С. - за предоставленные фотограф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имоновой А.Н. - за помощь в подборке материала и выборе дизай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03280" y="692280"/>
            <a:ext cx="6408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ражаем благодар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знать какие бывают обла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ово их стро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476360" y="620640"/>
            <a:ext cx="5759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ЕЛИ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5000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03280" y="1904760"/>
            <a:ext cx="3683160" cy="62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лако представляет собой взвесь в воздухе мелких и мельчайших капелек воды. Наряду с водяными капельками в облаке могут находиться также мелкие кристаллики льда. Облако может целиком состоять из таких кристалли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4321080" cy="3760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403280" y="620640"/>
            <a:ext cx="6337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лачное неб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 advTm="5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788000" y="1905120"/>
            <a:ext cx="3898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ни образуются близко от земной поверхности и представляют собой белесые или серые  однородные горизонтальные полосы (слои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42920" y="549360"/>
            <a:ext cx="7274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лоистые обла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26920" y="2421000"/>
            <a:ext cx="3745080" cy="2952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32000" y="1905120"/>
            <a:ext cx="4032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Имеют обычно вид покрывающих часть небосвода волнистых гряд. Их нижняя граница 2…5 км, толщина примерно такая же, как у слоистых облаков. Высококучевые облака состоят обычно целиком из ледяных кристалликов. Осадки из этих облаков не выпадают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16000" y="404640"/>
            <a:ext cx="6912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сококучев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9640" y="2492280"/>
            <a:ext cx="4248360" cy="3168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219280" y="1988640"/>
            <a:ext cx="340524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ни темно-серые, плотные, иногда почти черные, с размытой нижней границей. Эти облака могут обкладывать весь небосвод, покрывая его темными пятнами; именно с такими облаками мы и связываем представление о пасмурной погод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71640" y="404640"/>
            <a:ext cx="763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лоисто-дождев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187280" y="2205000"/>
            <a:ext cx="3380040" cy="3672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16000" y="1905120"/>
            <a:ext cx="3970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реплетение нежных белых нитей, тонкие белые полосы, которые, сливаясь, образуют силуэты перьев, хвостов и крыльев птиц, рыбьих скелетов и т.п. Высота нижней границы перистых облаков 6…10 км, толщина облаков порядка 1 км. Облака состоят из кристалликов и не дают осад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71640" y="620640"/>
            <a:ext cx="7129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еристые обла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55640" y="2428920"/>
            <a:ext cx="3384720" cy="2728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лака бывают разны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слоисты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высококучевы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слоисто-дождевы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перист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лака состоят из мельчайших капелек воды и кристалликов ль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124000" y="692280"/>
            <a:ext cx="4324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ы узнал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улат В.Л. Оптические явления в природе. -  Москва: Просвещение, 1974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расов Л.В. Физика в природе.- Москва: Просвещение, 1986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тская энциклопедия, том 1. – Москва: Издательство Академии Педагогических наук, 1958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партович Б.Б., Криворучко Э.Н., Соловьёва Л.И. С любовью к природе. – Москва: Педагогика, 1978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уждина Т.Д. Энциклопедия для малышей: Мир животных и растений -  Ярославль: Академия развития, 200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урнал «Юный натуралист», № 1, 2006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32000" y="692280"/>
            <a:ext cx="655308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нформационные ресурс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advTm="5000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0:25:58Z</dcterms:created>
  <dc:creator>Ученик</dc:creator>
  <dc:description/>
  <dc:language>en-US</dc:language>
  <cp:lastModifiedBy>Name</cp:lastModifiedBy>
  <dcterms:modified xsi:type="dcterms:W3CDTF">2010-09-23T12:05:43Z</dcterms:modified>
  <cp:revision>14</cp:revision>
  <dc:subject/>
  <dc:title>Об облака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02000000000001024140</vt:lpwstr>
  </property>
</Properties>
</file>