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D5F3-CA8D-4B22-8FE4-2E4CC146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18A0-9BBC-4BDC-8C7A-BF1C9C58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B9C4-D86E-4BB0-9099-F745AF2B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C70B-0067-4443-AB62-A75682DF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2AB1F-051C-4ED9-82D0-E9B1DA8D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510CF-582E-4A9C-A49F-C622B0DE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6FFB9-11D3-4951-838C-2B7FCAC2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15A04-AA79-474F-AD48-66523DAB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108BB-CB47-42CC-9E24-4F960D85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3B864-A5BE-4E7F-A0D5-D7FA3C0B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39905-8B54-4C28-B859-D0CF651B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FB98-36D1-449B-A663-D0779F19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8EEA9-66EE-40BE-9FA7-6DC3A6D7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2F103-3AE4-437C-992C-422D4B9E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6E924-D9E4-4D36-9D36-2FE6D4B8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6E393-4070-4462-8E49-B87B870B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4C96C-B714-4C32-88DB-9A0FCAD6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EAFE-8B2A-431F-A811-B8186C7E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EF0F-527A-4517-82AC-4E0C838B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108E-3B18-496B-BB69-D8D6CC15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ACE8-7B76-4DC9-88D6-D5C340A6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58FD-61C5-429C-A4B4-AB97DC2D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40CF-1784-4B72-AF9D-10342DC5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83E8-8184-4CAA-8AEA-389623F1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6D9C-F383-419A-BB89-A864B5CBE63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963F-49C9-40E2-B560-EE3895A5ADC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09520"/>
            <a:ext cx="77724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76360" y="5091120"/>
            <a:ext cx="64008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втор: Махов Алекс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рембольская ОО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92360" y="1401840"/>
            <a:ext cx="5616360" cy="20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Облачное небо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6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монову Н.С. - за предоставленные фотограф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моновой А.Н. - за помощь в подборке материала и выборе дизай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03280" y="692280"/>
            <a:ext cx="640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ражаем благодар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знать какие бывают обла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ово их стро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76360" y="620640"/>
            <a:ext cx="575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ЕЛИ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5000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03280" y="1904760"/>
            <a:ext cx="3683160" cy="62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лако представляет собой взвесь в воздухе мелких и мельчайших капелек воды. Наряду с водяными капельками в облаке могут находиться также мелкие кристаллики льда. Облако может целиком состоять из таких кристалли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4321080" cy="3760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403280" y="620640"/>
            <a:ext cx="633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лачное не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 advTm="5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88000" y="1905120"/>
            <a:ext cx="3898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ни образуются близко от земной поверхности и представляют собой белесые или серые  однородные горизонтальные полосы (сло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42920" y="549360"/>
            <a:ext cx="7274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оистые обла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3745080" cy="2952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32000" y="1905120"/>
            <a:ext cx="4032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Имеют обычно вид покрывающих часть небосвода волнистых гряд. Их нижняя граница 2…5 км, толщина примерно такая же, как у слоистых облаков. Высококучевые облака состоят обычно целиком из ледяных кристалликов. Осадки из этих облаков не выпадают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16000" y="404640"/>
            <a:ext cx="6912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сококучев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4248360" cy="3168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19280" y="1988640"/>
            <a:ext cx="340524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и темно-серые, плотные, иногда почти черные, с размытой нижней границей. Эти облака могут обкладывать весь небосвод, покрывая его темными пятнами; именно с такими облаками мы и связываем представление о пасмурной пого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71640" y="404640"/>
            <a:ext cx="763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оисто-дождев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87280" y="2205000"/>
            <a:ext cx="3380040" cy="3672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16000" y="1905120"/>
            <a:ext cx="3970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плетение нежных белых нитей, тонкие белые полосы, которые, сливаясь, образуют силуэты перьев, хвостов и крыльев птиц, рыбьих скелетов и т.п. Высота нижней границы перистых облаков 6…10 км, толщина облаков порядка 1 км. Облака состоят из кристалликов и не дают осад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71640" y="620640"/>
            <a:ext cx="7129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еристые обла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55640" y="2428920"/>
            <a:ext cx="3384720" cy="2728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лака бывают разны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слоист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высококучев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слоисто-дождев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ерист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лака состоят из мельчайших капелек воды и кристалликов ль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124000" y="692280"/>
            <a:ext cx="4324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ы узна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лат В.Л. Оптические явления в природе. -  Москва: Просвещение, 1974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расов Л.В. Физика в природе.- Москва: Просвещение, 198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тская энциклопедия, том 1. – Москва: Издательство Академии Педагогических наук, 1958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партович Б.Б., Криворучко Э.Н., Соловьёва Л.И. С любовью к природе. – Москва: Педагогика, 197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уждина Т.Д. Энциклопедия для малышей: Мир животных и растений -  Ярославль: Академия развития, 200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урнал «Юный натуралист», № 1, 200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32000" y="692280"/>
            <a:ext cx="65530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формационные ресур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advTm="5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0:25:58Z</dcterms:created>
  <dc:creator>Ученик</dc:creator>
  <dc:description/>
  <dc:language>en-US</dc:language>
  <cp:lastModifiedBy>Name</cp:lastModifiedBy>
  <dcterms:modified xsi:type="dcterms:W3CDTF">2010-09-23T12:05:43Z</dcterms:modified>
  <cp:revision>14</cp:revision>
  <dc:subject/>
  <dc:title>Об облака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2000000000001024140</vt:lpwstr>
  </property>
</Properties>
</file>