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E320-F316-45FA-848B-E2E5C91A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F501-E3A9-4CA9-9033-680EFA83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ABCE-4A33-45AB-9FD4-8D3F0B78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0B7E-A911-490D-9615-7D051A12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67E94-9995-419B-B9DC-24E9C2E1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27F7D-3B3C-4AE0-AD61-73825281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FEC14-D728-4814-A9DC-616EC439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2417E-C343-48F9-B002-53D61AD2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B9422-7758-4001-8682-5148EFC6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7BC30-9A87-4730-AF26-64E90762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76550-A812-4C0B-A2CF-16002596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5DB9-7D61-429B-956A-3F16F16E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02D12-10B5-4691-948B-13F37CB7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7B8BF-80E3-435D-A309-A17422C8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4FEA1-8F17-4BB1-A4BB-D49BCEFE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78B8F-B554-4920-A3F4-C2D15193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C31AB-3DE1-4148-ABC7-299FE9C3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BCB0-7691-459D-BFC1-78D6F0C1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901F-3E5D-4DA7-8C79-37E55854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CA9F-46DF-4E42-905B-24A816FA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F66-3602-40BA-949E-77885D17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1AFF-EBCD-4D36-A3A4-2995CE52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B495-5F0E-4E10-B43C-15624C53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BE23-9A1A-470A-B7A9-50770D3A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5B44-29A3-4099-8290-9CB49C0F265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E915-EA2E-4134-BAD3-2A7189115A4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09520"/>
            <a:ext cx="77724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76360" y="5091120"/>
            <a:ext cx="64008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втор: Махов Алекс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рембольская ОО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92360" y="1401840"/>
            <a:ext cx="5616360" cy="20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Облачное небо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6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монову Н.С. - за предоставленные фотограф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моновой А.Н. - за помощь в подборке материала и выборе дизай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03280" y="692280"/>
            <a:ext cx="640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ражаем благодар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знать какие бывают обла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во их стро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76360" y="620640"/>
            <a:ext cx="575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ЕЛИ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5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03280" y="1904760"/>
            <a:ext cx="3683160" cy="62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лако представляет собой взвесь в воздухе мелких и мельчайших капелек воды. Наряду с водяными капельками в облаке могут находиться также мелкие кристаллики льда. Облако может целиком состоять из таких кристалл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4321080" cy="3760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403280" y="620640"/>
            <a:ext cx="633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лачное не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 advTm="5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88000" y="1905120"/>
            <a:ext cx="3898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и образуются близко от земной поверхности и представляют собой белесые или серые  однородные горизонтальные полосы (сло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42920" y="549360"/>
            <a:ext cx="7274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истые обл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3745080" cy="2952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32000" y="1905120"/>
            <a:ext cx="4032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Имеют обычно вид покрывающих часть небосвода волнистых гряд. Их нижняя граница 2…5 км, толщина примерно такая же, как у слоистых облаков. Высококучевые облака состоят обычно целиком из ледяных кристалликов. Осадки из этих облаков не выпадают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16000" y="404640"/>
            <a:ext cx="6912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ококуче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4248360" cy="3168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19280" y="1988640"/>
            <a:ext cx="340524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и темно-серые, плотные, иногда почти черные, с размытой нижней границей. Эти облака могут обкладывать весь небосвод, покрывая его темными пятнами; именно с такими облаками мы и связываем представление о пасмурной пого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71640" y="404640"/>
            <a:ext cx="76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исто-дожде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87280" y="2205000"/>
            <a:ext cx="3380040" cy="3672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16000" y="1905120"/>
            <a:ext cx="3970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плетение нежных белых нитей, тонкие белые полосы, которые, сливаясь, образуют силуэты перьев, хвостов и крыльев птиц, рыбьих скелетов и т.п. Высота нижней границы перистых облаков 6…10 км, толщина облаков порядка 1 км. Облака состоят из кристалликов и не дают осад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71640" y="620640"/>
            <a:ext cx="712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еристые обл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5640" y="2428920"/>
            <a:ext cx="3384720" cy="2728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лака бывают разны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лоист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высококучев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лоисто-дождев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ерист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лака состоят из мельчайших капелек воды и кристалликов ль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24000" y="692280"/>
            <a:ext cx="432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узна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лат В.Л. Оптические явления в природе. -  Москва: Просвещение, 1974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расов Л.В. Физика в природе.- Москва: Просвещение, 198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тская энциклопедия, том 1. – Москва: Издательство Академии Педагогических наук, 1958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партович Б.Б., Криворучко Э.Н., Соловьёва Л.И. С любовью к природе. – Москва: Педагогика, 197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уждина Т.Д. Энциклопедия для малышей: Мир животных и растений -  Ярославль: Академия развития, 200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урнал «Юный натуралист», № 1, 200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32000" y="692280"/>
            <a:ext cx="65530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формационные ресур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advTm="5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0:25:58Z</dcterms:created>
  <dc:creator>Ученик</dc:creator>
  <dc:description/>
  <dc:language>en-US</dc:language>
  <cp:lastModifiedBy>Name</cp:lastModifiedBy>
  <dcterms:modified xsi:type="dcterms:W3CDTF">2010-09-23T12:05:43Z</dcterms:modified>
  <cp:revision>14</cp:revision>
  <dc:subject/>
  <dc:title>Об облак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2000000000001024140</vt:lpwstr>
  </property>
</Properties>
</file>