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251-DAB0-4A21-82CE-DD75D58D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AA7-0070-49C5-84C2-1EB905E4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666-53C3-49DF-A220-10256478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0F3-10EA-4AD0-A2FF-F2ED7AC6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36444-CE4D-4923-A98D-716843B4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A6AD3-75A5-4B87-BDA9-195FA231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A479A-F99B-4AC2-BDBB-99DF62D5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3CD25-33F5-4ED0-BD3C-48DB8CA8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E78BA-4A17-4036-B188-B00B095E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DBF50-70FD-4C40-8AF1-DF2CD25D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4D6F7-5EF1-4A3F-9DD0-2B0FD1CF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E8F-096F-4589-8403-7CFB1391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DB0F3-0195-45E9-A1AA-E5B52719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DA18F-79E5-41E7-9EF3-10D41D9F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FC782-75B7-4796-82BA-B23D9A1E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87F11-3B08-47A7-804F-820D8B7F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550F4-E156-4909-B5A4-5F15C22C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103-37C9-4552-B977-611D7FF1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DC4-575E-4B66-BDED-161AA4C1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164-9EBB-4F7A-8440-C07C5F71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01E-4374-45F9-AF18-3293AE3A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541-6125-4089-AF40-B6233967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288-DC7C-4DD8-AF6E-9410BDE2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4F2-E9A0-4041-93C0-35F3BC30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A877-C7B0-4C81-9A83-9A0AFABE9F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A74F-A59C-4624-80AE-4AAA2C0A19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95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5091120"/>
            <a:ext cx="64008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 Махов Алекс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ембольская О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1401840"/>
            <a:ext cx="56163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лачное неб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у Н.С. - за предоставленные фот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ой А.Н. - за помощь в подборке материала и выборе диза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6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ем благода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какие бывают обл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их 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360" y="620640"/>
            <a:ext cx="57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3280" y="1904760"/>
            <a:ext cx="368316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ако представляет собой взвесь в воздухе мелких и мельчайших капелек воды. Наряду с водяными капельками в облаке могут находиться также мелкие кристаллики льда. Облако может целиком состоять из таких кристалл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321080" cy="37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403280" y="620640"/>
            <a:ext cx="63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лачное н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образуются близко от земной поверхности и представляют собой белесые или серые  однородные горизонтальные полосы (сло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54936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74508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1905120"/>
            <a:ext cx="4032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Имеют обычно вид покрывающих часть небосвода волнистых гряд. Их нижняя граница 2…5 км, толщина примерно такая же, как у слоистых облаков. Высококучевые облака состоят обычно целиком из ледяных кристалликов. Осадки из этих облаков не выпадают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0464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окуч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4052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темно-серые, плотные, иногда почти черные, с размытой нижней границей. Эти облака могут обкладывать весь небосвод, покрывая его темными пятнами; именно с такими облаками мы и связываем представление о пасмурной пог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о-дожд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338004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0" y="1905120"/>
            <a:ext cx="397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плетение нежных белых нитей, тонкие белые полосы, которые, сливаясь, образуют силуэты перьев, хвостов и крыльев птиц, рыбьих скелетов и т.п. Высота нижней границы перистых облаков 6…10 км, толщина облаков порядка 1 км. Облака состоят из кристалликов и не дают оса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640" y="62064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2428920"/>
            <a:ext cx="3384720" cy="2728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бывают разн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окуч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о-дожд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ис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состоят из мельчайших капелек воды и кристалликов 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4000" y="69228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лат В.Л. Оптические явления в природе. -  Москва: Просвещение, 197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расов Л.В. Физика в природе.- Москва: Просвещение, 198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ская энциклопедия, том 1. – Москва: Издательство Академии Педагогических наук, 195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ртович Б.Б., Криворучко Э.Н., Соловьёва Л.И. С любовью к природе. – Москва: Педагогика, 19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дина Т.Д. Энциклопедия для малышей: Мир животных и растений -  Ярославль: Академия развития, 200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Юный натуралист», № 1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32000" y="692280"/>
            <a:ext cx="6553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5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0:25:58Z</dcterms:created>
  <dc:creator>Ученик</dc:creator>
  <dc:description/>
  <dc:language>en-US</dc:language>
  <cp:lastModifiedBy>Name</cp:lastModifiedBy>
  <dcterms:modified xsi:type="dcterms:W3CDTF">2010-09-23T12:05:43Z</dcterms:modified>
  <cp:revision>14</cp:revision>
  <dc:subject/>
  <dc:title>Об обла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140</vt:lpwstr>
  </property>
</Properties>
</file>