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F89-6BFF-4634-BBBC-CA78A032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251-96B4-4745-A798-E209D917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12C-F75C-48FE-A4FA-65479897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2C7-4510-48AD-9E8E-05A7FE48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4CC3-330F-4E11-9A7D-ABE19DC4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3F02-917C-49AC-816F-7EC626A1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28FC-DD92-49BC-A949-7002A049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CE20-6141-470A-AF32-DBD1F914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2B5A-69FC-4D93-A369-EDE5E105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E4AF-812C-424B-A3CB-BA552CA2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4C07-0E29-411A-A327-A3084875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451-B12B-4DE4-A593-E334802B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B0FD-9855-4F4B-AE49-46ADA84D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F7D5-12B4-4A1D-A2EF-D68949F0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9036-FAD3-428E-9B8C-71058681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04F3-A896-4302-90B8-97563019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087C-E61A-495A-9F04-222B12EE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3C6-BA28-4686-B550-C6940347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98C-70C3-40D0-B781-374A3BD7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D05B-1DAB-4CBF-BCB1-AD5BFA97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500-DDF8-4FE8-93A8-E053D9F4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F96-780D-4B7C-8486-66212B30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90A-7EE0-4609-AA95-5170C475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890-C1EE-4601-A361-968540BF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20C8-E967-4A26-AE4F-C33B3117226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C5A6-8DC7-4BAE-B8F8-51F392EB66B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66200"/>
            <a:ext cx="7772400" cy="60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400" spc="-1" strike="noStrike">
                <a:solidFill>
                  <a:srgbClr val="000000"/>
                </a:solidFill>
                <a:latin typeface="Old English Text MT"/>
              </a:rPr>
              <a:t>Планета Земля</a:t>
            </a:r>
            <a:br>
              <a:rPr sz="12400"/>
            </a:br>
            <a:endParaRPr b="0" lang="en-US" sz="1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637160"/>
            <a:ext cx="6400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кология – наука о природном доме. Экология изучает взаимное влияние организмов друг с другом и с неживой прир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езультате деятельности человека наш природный дом оказался в опасности.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ая больш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з планет зем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емля вращается вокруг своей оси, делая один оборот за 24 часа. А вокруг солнца – за 1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еет атмосферу. У Земли есть спутник – Лу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539640" y="1341360"/>
            <a:ext cx="813600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69360"/>
            <a:ext cx="79549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ные цепи тянутся на многие тысячи километров. Самые высокие горы – более молодые. Они с заостренными снежными  вершин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ревние горы сегодня невысокие. Такими они стали под действием ветра, дождя, снега и ль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2012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Земле свыше 96 % вод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океаны (Тихий, Атлантический, Индийский, Северный Ледовитый), много морей, рек, озер, болот, подземных вод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240" y="304560"/>
            <a:ext cx="800244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на времен года происходит благодаря наклону земной оси. Солнце поднимается зимой не так высоко. А чем выше Солнце в небе, тем больше дают тепла его лучи. Поэтому зимой холоднее, чем ле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39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и природных зон можно выделить несколько, которые занимают большую ее часть. Их распространение зависит от климата, больше всего от распространения тепла и вла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тундра, тайга, пустыня, джунгли, лес (смешанный, широколиственный, влажный тропический), равни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витие жизни на Земле началось около 3,5 млрд. лет назад. Ученые делят живую природу на бактерии, простейшие, грибы, растения, животны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ивые существа заселили все природные зоны, почву и даже воду. Роль человека – сохранить их. Главный закон для нас – не навредить живой природе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1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7:26:30Z</dcterms:created>
  <dc:creator>*</dc:creator>
  <dc:description/>
  <dc:language>en-US</dc:language>
  <cp:lastModifiedBy>Name</cp:lastModifiedBy>
  <dcterms:modified xsi:type="dcterms:W3CDTF">2010-09-23T12:06:07Z</dcterms:modified>
  <cp:revision>17</cp:revision>
  <dc:subject/>
  <dc:title>Планета Зем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6000000000001024140</vt:lpwstr>
  </property>
</Properties>
</file>