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74BC-2B15-4504-BBBD-54A5302B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44ED-4C12-43FA-A615-D3C92B40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07D-175E-47C4-BB2B-B0E43223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40A4-9F15-4777-A949-1BB39BDB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0E54-CCB0-4C77-9AB9-69ED992D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D418-C824-4B80-904C-8A82BC45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5AB5-63C9-4F02-BCD1-14CDA4F9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81EC-3A8C-4B17-8DAF-0B6D04C7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8524-C604-4354-872C-5DB92B74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6307-3B0B-46A9-A321-F30978CF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1A94-7C0B-4FE5-85EA-C425EB74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6C9-A417-4C1C-AD45-1F1AEBE9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FFAD-249F-4216-B26D-8CF3803C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B28A-D338-4E58-A82C-21CCF437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84FB-42BB-44F1-BB1E-2AA2EC7A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2EDF-6229-4EBF-9964-35D4F782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366A-7784-43E9-872D-526856D9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FD6-AE34-4F82-A5A8-4378A246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A35-E28D-4795-A9F9-19CC96BB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2AD-68D8-45EF-9AF7-CD709F87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E85F-CC5F-4E2A-A74F-705809B9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FB00-7339-4162-9B07-418A2112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1D6-F8A1-40CF-850B-64319678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468-CD9E-409C-BC5A-2126C6CD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2DE1-65B4-4F05-B4F3-C4A7F2A6575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E424-EAE1-4ADE-9154-F24B66FA375B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66200"/>
            <a:ext cx="7772400" cy="60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400" spc="-1" strike="noStrike">
                <a:solidFill>
                  <a:srgbClr val="000000"/>
                </a:solidFill>
                <a:latin typeface="Old English Text MT"/>
              </a:rPr>
              <a:t>Планета Земля</a:t>
            </a:r>
            <a:br>
              <a:rPr sz="12400"/>
            </a:br>
            <a:endParaRPr b="0" lang="en-US" sz="1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637160"/>
            <a:ext cx="64008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кология – наука о природном доме. Экология изучает взаимное влияние организмов друг с другом и с неживой природ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езультате деятельности человека наш природный дом оказался в опасности.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амая больша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з планет земной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5444640"/>
            <a:ext cx="8459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емля вращается вокруг своей оси, делая один оборот за 24 часа. А вокруг солнца – за 1 год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еет атмосферу. У Земли есть спутник – Лун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22" b="0"/>
          <a:stretch/>
        </p:blipFill>
        <p:spPr>
          <a:xfrm>
            <a:off x="539640" y="1341360"/>
            <a:ext cx="8136000" cy="39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8680" y="369360"/>
            <a:ext cx="79549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522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орные цепи тянутся на многие тысячи километров. Самые высокие горы – более молодые. Они с заостренными снежными  вершин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ревние горы сегодня невысокие. Такими они стали под действием ветра, дождя, снега и льд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20120" cy="37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Земле свыше 96 % воды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то океаны (Тихий, Атлантический, Индийский, Северный Ледовитый), много морей, рек, озер, болот, подземных вод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2012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2240" y="304560"/>
            <a:ext cx="800244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ремена г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мена времен года происходит благодаря наклону земной оси. Солнце поднимается зимой не так высоко. А чем выше Солнце в небе, тем больше дают тепла его лучи. Поэтому зимой холоднее, чем лет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39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r>
              <a:rPr b="0" lang="en-US" sz="6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реди природных зон можно выделить несколько, которые занимают большую ее часть. Их распространение зависит от климата, больше всего от распространения тепла и влаг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761080" cy="384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то тундра, тайга, пустыня, джунгли, лес (смешанный, широколиственный, влажный тропический), равни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азвитие жизни на Земле началось около 3,5 млрд. лет назад. Ученые делят живую природу на бактерии, простейшие, грибы, растения, животны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39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Живые существа заселили все природные зоны, почву и даже воду. Роль человека – сохранить их. Главный закон для нас – не навредить живой природе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1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07:26:30Z</dcterms:created>
  <dc:creator>*</dc:creator>
  <dc:description/>
  <dc:language>en-US</dc:language>
  <cp:lastModifiedBy>Name</cp:lastModifiedBy>
  <dcterms:modified xsi:type="dcterms:W3CDTF">2010-09-23T12:06:07Z</dcterms:modified>
  <cp:revision>17</cp:revision>
  <dc:subject/>
  <dc:title>Планета Зем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6000000000001024140</vt:lpwstr>
  </property>
</Properties>
</file>