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104-90A2-4810-97AE-F49D3FB96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9670-C666-43A7-9A25-A0547B66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883D-ACE9-4792-B9E6-632B1622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2052-7EFE-4DDE-AF8F-E0065633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15B1-883C-42C2-911D-6D39B8BB8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9D54-B3B2-4C0D-8B38-BC2CFC61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4DA8-C837-4926-B584-2532B510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7506-A744-46F3-8964-52A47E99C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16D3-47A3-4A24-864B-05F73D8E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4234-1B77-4150-8949-C37BAEDD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9AD5-AC70-4B6A-9CAC-3C29F2C6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B4FF-2DF2-44C5-927A-A19377BE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BC188-6719-49D1-9440-DF0450A0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C62CE-BC0E-4194-ADF1-96C5F81E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C4B3-DAF4-4D3F-951D-F2FA1F00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6193-82F4-459F-B9BD-5DA4C8AD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4B0C-6A8B-4A08-957F-37A0EF81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198E-3C5C-4681-A45B-9D5E754B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D23-DECC-470E-BF03-9C9D6BFA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852-7070-473A-BADE-503F8F52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24D-596F-4DA9-B13C-97F918BBC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4AF-FE8F-4A72-B939-9C634A56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0391-AF0B-43D9-B598-CDA3FDCA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3F38-3248-4204-8463-63831FD1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1009-FB20-42FF-A52D-B33BC6A8C36C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F7FE-0766-4B8B-90E3-F10A17FC8C99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466200"/>
            <a:ext cx="7772400" cy="60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400" spc="-1" strike="noStrike">
                <a:solidFill>
                  <a:srgbClr val="000000"/>
                </a:solidFill>
                <a:latin typeface="Old English Text MT"/>
              </a:rPr>
              <a:t>Планета Земля</a:t>
            </a:r>
            <a:br>
              <a:rPr sz="12400"/>
            </a:br>
            <a:endParaRPr b="0" lang="en-US" sz="1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58920" y="4637160"/>
            <a:ext cx="64008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">
            <a:hlinkClick r:id="rId1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кология – наука о природном доме. Экология изучает взаимное влияние организмов друг с другом и с неживой природой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результате деятельности человека наш природный дом оказался в опасности.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993080" cy="3816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амая больша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из планет зем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5444640"/>
            <a:ext cx="8459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Земля вращается вокруг своей оси, делая один оборот за 24 часа. А вокруг солнца – за 1 год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еет атмосферу. У Земли есть спутник – Лун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22" b="0"/>
          <a:stretch/>
        </p:blipFill>
        <p:spPr>
          <a:xfrm>
            <a:off x="539640" y="1341360"/>
            <a:ext cx="8136000" cy="395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8680" y="369360"/>
            <a:ext cx="795492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360" y="52290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Горные цепи тянутся на многие тысячи километров. Самые высокие горы – более молодые. Они с заостренными снежными  вершинам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ревние горы сегодня невысокие. Такими они стали под действием ветра, дождя, снега и льда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620120" cy="3745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537372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На Земле свыше 96 % воды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Это океаны (Тихий, Атлантический, Индийский, Северный Ледовитый), много морей, рек, озер, болот, подземных вод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620120" cy="374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52240" y="304560"/>
            <a:ext cx="8002440" cy="86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Времена г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1280" y="544500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мена времен года происходит благодаря наклону земной оси. Солнце поднимается зимой не так высоко. А чем выше Солнце в небе, тем больше дают тепла его лучи. Поэтому зимой холоднее, чем летом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632720" cy="392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r>
              <a:rPr b="0" lang="en-US" sz="6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5300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реди природных зон можно выделить несколько, которые занимают большую ее часть. Их распространение зависит от климата, больше всего от распространения тепла и влаг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761080" cy="3840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Природные зоны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Это тундра, тайга, пустыня, джунгли, лес (смешанный, широколиственный, влажный тропический), равнины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777080" cy="388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544464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Развитие жизни на Земле началось около 3,5 млрд. лет назад. Ученые делят живую природу на бактерии, простейшие, грибы, растения, животные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7993080" cy="39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Живая природа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55893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Живые существа заселили все природные зоны, почву и даже воду. Роль человека – сохранить их. Главный закон для нас – не навредить живой природе!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064720" cy="4162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6T07:26:30Z</dcterms:created>
  <dc:creator>*</dc:creator>
  <dc:description/>
  <dc:language>en-US</dc:language>
  <cp:lastModifiedBy>Name</cp:lastModifiedBy>
  <dcterms:modified xsi:type="dcterms:W3CDTF">2010-09-23T12:06:07Z</dcterms:modified>
  <cp:revision>17</cp:revision>
  <dc:subject/>
  <dc:title>Планета Земл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6000000000001024140</vt:lpwstr>
  </property>
</Properties>
</file>