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F23F-BEEF-4F3F-A036-D543DCC9F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D7FC-F70E-4941-847E-0ED34F33D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8B44-9CB1-49F3-B642-26A505A94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7992-8494-4004-B199-D27D77F53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BC762-FE76-4D32-BE38-BDA4D578F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260E2-AB4A-4603-99EC-57C16AD83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11C7F-1322-47D3-969E-DA1FADF4F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8A2E3-227A-4F87-B009-FC0A87731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FF7E2-5C6D-4131-9B50-A1DBEE3F1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C07CE-9309-4128-9794-25FB005D4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3D2EE-3F90-4E0B-9407-EE3E6DA82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F223-903E-4D01-BC4B-80C2CE86B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AE7B7-EB6D-47E9-AB33-2B72127EB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99533-EE02-486D-9BB9-786CF222F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A6C25-E4BC-4EB2-B54B-9E291CA83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D1E9D-F9FA-421F-B0C7-41B040129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59BFA-DE40-46D2-9DA9-1C3543C1A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B6E0-C927-4CA6-920E-EC8B3BEBC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1B16-E454-46B6-A197-7C0278927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9B7A-1498-446A-90F5-40D290E4F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BE04-7991-4605-A2F5-306F23091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BBB6-5F47-46D2-8A5A-4951C06F6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59A2-035C-4491-8EDF-7A7A5A34B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D4CF-20F5-428C-AEB1-558FD8C2F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051B1-B9E1-42D3-B13A-AB857811779A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768AB-47DA-4361-A2DB-EB94BA93EF43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900igr.net/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640" y="466200"/>
            <a:ext cx="7772400" cy="60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400" spc="-1" strike="noStrike">
                <a:solidFill>
                  <a:srgbClr val="000000"/>
                </a:solidFill>
                <a:latin typeface="Old English Text MT"/>
              </a:rPr>
              <a:t>Планета Земля</a:t>
            </a:r>
            <a:br>
              <a:rPr sz="12400"/>
            </a:br>
            <a:endParaRPr b="0" lang="en-US" sz="1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258920" y="4637160"/>
            <a:ext cx="6400800" cy="17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6" name="">
            <a:hlinkClick r:id="rId1"/>
          </p:cNvPr>
          <p:cNvSpPr/>
          <p:nvPr/>
        </p:nvSpPr>
        <p:spPr>
          <a:xfrm>
            <a:off x="3924360" y="6477120"/>
            <a:ext cx="129528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fdfdf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Экология</a:t>
            </a:r>
            <a:endParaRPr b="0" lang="en-US" sz="6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360" y="537372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Экология – наука о природном доме. Экология изучает взаимное влияние организмов друг с другом и с неживой природой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В результате деятельности человека наш природный дом оказался в опасности.  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11280" y="1484280"/>
            <a:ext cx="7993080" cy="3816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9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Самая большая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из планет земной группы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000" y="5444640"/>
            <a:ext cx="84596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Земля вращается вокруг своей оси, делая один оборот за 24 часа. А вокруг солнца – за 1 год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Имеет атмосферу. У Земли есть спутник – Луна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22" b="0"/>
          <a:stretch/>
        </p:blipFill>
        <p:spPr>
          <a:xfrm>
            <a:off x="539640" y="1341360"/>
            <a:ext cx="8136000" cy="3959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8680" y="369360"/>
            <a:ext cx="7954920" cy="6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Горы</a:t>
            </a:r>
            <a:endParaRPr b="0" lang="en-US" sz="6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4360" y="522900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Горные цепи тянутся на многие тысячи километров. Самые высокие горы – более молодые. Они с заостренными снежными  вершинами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Древние горы сегодня невысокие. Такими они стали под действием ветра, дождя, снега и льда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900000" y="1268280"/>
            <a:ext cx="7620120" cy="3745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Вода</a:t>
            </a:r>
            <a:endParaRPr b="0" lang="en-US" sz="6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537372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На Земле свыше 96 % воды.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Это океаны (Тихий, Атлантический, Индийский, Северный Ледовитый), много морей, рек, озер, болот, подземных вод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620120" cy="3744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52240" y="304560"/>
            <a:ext cx="8002440" cy="86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Времена года</a:t>
            </a:r>
            <a:endParaRPr b="0" lang="en-US" sz="6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11280" y="544500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Смена времен года происходит благодаря наклону земной оси. Солнце поднимается зимой не так высоко. А чем выше Солнце в небе, тем больше дают тепла его лучи. Поэтому зимой холоднее, чем летом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826920" y="1413000"/>
            <a:ext cx="7632720" cy="3924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Природные зоны</a:t>
            </a:r>
            <a:r>
              <a:rPr b="0" lang="en-US" sz="66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530064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Среди природных зон можно выделить несколько, которые занимают большую ее часть. Их распространение зависит от климата, больше всего от распространения тепла и влаги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979640" y="1413000"/>
            <a:ext cx="5761080" cy="3840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Природные зоны</a:t>
            </a:r>
            <a:endParaRPr b="0" lang="en-US" sz="6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544464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Это тундра, тайга, пустыня, джунгли, лес (смешанный, широколиственный, влажный тропический), равнины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755640" y="1484280"/>
            <a:ext cx="7777080" cy="388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Живая природа</a:t>
            </a:r>
            <a:endParaRPr b="0" lang="en-US" sz="6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544464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Развитие жизни на Земле началось около 3,5 млрд. лет назад. Ученые делят живую природу на бактерии, простейшие, грибы, растения, животные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11280" y="1413000"/>
            <a:ext cx="7993080" cy="3925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Живая природа</a:t>
            </a:r>
            <a:endParaRPr b="0" lang="en-US" sz="6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5589360"/>
            <a:ext cx="82296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Живые существа заселили все природные зоны, почву и даже воду. Роль человека – сохранить их. Главный закон для нас – не навредить живой природе!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539640" y="1484280"/>
            <a:ext cx="8064720" cy="4162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6T07:26:30Z</dcterms:created>
  <dc:creator>*</dc:creator>
  <dc:description/>
  <dc:language>en-US</dc:language>
  <cp:lastModifiedBy>Name</cp:lastModifiedBy>
  <dcterms:modified xsi:type="dcterms:W3CDTF">2010-09-23T12:06:07Z</dcterms:modified>
  <cp:revision>17</cp:revision>
  <dc:subject/>
  <dc:title>Планета Земл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e06000000000001024140</vt:lpwstr>
  </property>
</Properties>
</file>