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9C8B-8724-4463-9137-3CD565F7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810-C866-420D-9118-2B5EE046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2E84-0A1B-420E-8B9A-E7C52A60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369-AB5D-41E0-953D-E82B8277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81DC-51C8-42D5-A57C-20F69561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585F-C25E-4C83-91EA-8ABF27F0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B090-B4CA-4008-9EF0-B1F4563D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298A-7C1B-4AF1-B450-BD286AAD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C426-820C-4AD2-B630-489A8C77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D1C7-26AA-47D4-BFED-E95AA003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67D5-9405-4551-B58E-5B3A6A5F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B0B-06FC-47A1-B10B-9C6A4E4C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E0DC-0A61-411B-8BD4-344D638D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3B2A-7ABD-4C02-B35C-A7ABFA59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D4B5-0DDC-4871-A6B3-9C483EBD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D7BF-4FC6-4B9A-B570-F7C18D2B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F3E5-CCA8-4592-9D90-EE211AEE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6CCF-1512-4B78-9E7D-5E3D45B6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BB7-69EA-4783-BBBB-7CF7C462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CDC-9F8A-4378-8BF6-486EE8F4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928-C0EC-4426-8245-DD33BF9D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1A09-CB58-40D1-92F3-60DBE17E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7DD-A089-4857-888A-B60A0827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4DD-4240-4FDC-A099-FFA8DC78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4074-6CDF-4616-B16A-F137262F684F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58A1-3BA7-4554-8765-7EC96B3CC9BF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66200"/>
            <a:ext cx="7772400" cy="60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400" spc="-1" strike="noStrike">
                <a:solidFill>
                  <a:srgbClr val="000000"/>
                </a:solidFill>
                <a:latin typeface="Old English Text MT"/>
              </a:rPr>
              <a:t>Планета Земля</a:t>
            </a:r>
            <a:br>
              <a:rPr sz="12400"/>
            </a:br>
            <a:endParaRPr b="0" lang="en-US" sz="1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637160"/>
            <a:ext cx="64008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кология – наука о природном доме. Экология изучает взаимное влияние организмов друг с другом и с неживой природ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езультате деятельности человека наш природный дом оказался в опасности.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мая больша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з планет земной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5444640"/>
            <a:ext cx="8459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емля вращается вокруг своей оси, делая один оборот за 24 часа. А вокруг солнца – за 1 год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еет атмосферу. У Земли есть спутник – Лун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22" b="0"/>
          <a:stretch/>
        </p:blipFill>
        <p:spPr>
          <a:xfrm>
            <a:off x="539640" y="1341360"/>
            <a:ext cx="8136000" cy="39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8680" y="369360"/>
            <a:ext cx="79549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522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рные цепи тянутся на многие тысячи километров. Самые высокие горы – более молодые. Они с заостренными снежными  вершин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ревние горы сегодня невысокие. Такими они стали под действием ветра, дождя, снега и льд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20120" cy="37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Земле свыше 96 % вод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то океаны (Тихий, Атлантический, Индийский, Северный Ледовитый), много морей, рек, озер, болот, подземных вод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2012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2240" y="304560"/>
            <a:ext cx="800244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ремена г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мена времен года происходит благодаря наклону земной оси. Солнце поднимается зимой не так высоко. А чем выше Солнце в небе, тем больше дают тепла его лучи. Поэтому зимой холоднее, чем лет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39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r>
              <a:rPr b="0" lang="en-US" sz="6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реди природных зон можно выделить несколько, которые занимают большую ее часть. Их распространение зависит от климата, больше всего от распространения тепла и влаг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761080" cy="384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то тундра, тайга, пустыня, джунгли, лес (смешанный, широколиственный, влажный тропический), равни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азвитие жизни на Земле началось около 3,5 млрд. лет назад. Ученые делят живую природу на бактерии, простейшие, грибы, растения, животны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39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Живые существа заселили все природные зоны, почву и даже воду. Роль человека – сохранить их. Главный закон для нас – не навредить живой природе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1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7:26:30Z</dcterms:created>
  <dc:creator>*</dc:creator>
  <dc:description/>
  <dc:language>en-US</dc:language>
  <cp:lastModifiedBy>Name</cp:lastModifiedBy>
  <dcterms:modified xsi:type="dcterms:W3CDTF">2010-09-23T12:06:07Z</dcterms:modified>
  <cp:revision>17</cp:revision>
  <dc:subject/>
  <dc:title>Планета Зем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6000000000001024140</vt:lpwstr>
  </property>
</Properties>
</file>