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EF60-E943-4B0B-AB64-8C2AA7362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3F02-41D3-4820-A86D-CB0D1F8D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D0B6-67AE-4C2B-A50E-A1F2F4A54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77A2-414F-41C4-9C84-F81D3E530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4334-E2CB-4184-A8F8-3A97877DC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F936-F51E-43DF-A54D-7FD2BCAF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E30D-3ACD-440E-9D5D-E45C4A70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47FF-BD1A-415D-949B-248C4D40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282E-DF7B-4559-AC10-2C406F19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D10E-6F4E-4BD8-B4C3-12A769F7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48B36-5E51-4910-91E8-8B42700C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CDF9-6CFC-4E8F-B301-7A4410B2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4B86-7785-4AC1-B947-2EB6CD3F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3C62-2F07-46F3-80B2-87FC9F37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0582-6FD0-4AD8-BA83-B4D9E106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CF32-6FEA-4344-AF82-1EBA9F7D9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39E82-AC46-4444-8645-8656850AB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761A-E9AA-4A12-95AC-CB52E8AB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7922-B482-41B0-A61D-96D9FDCD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35A7-BB8B-4E3C-8A0E-E3FA05C2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2652-7D84-47AD-94B9-D7F4E8F9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10B9-A15C-4BFB-8C8D-3F22410B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B826-1F8B-445B-B83A-7091BF2C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8CA7-7FCB-4AE1-8620-FA68F46F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F7F9-2660-4EC5-913D-AB4FE20403BF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1D4F-305C-44FE-BB53-3A979134A22E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466200"/>
            <a:ext cx="7772400" cy="60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400" spc="-1" strike="noStrike">
                <a:solidFill>
                  <a:srgbClr val="000000"/>
                </a:solidFill>
                <a:latin typeface="Old English Text MT"/>
              </a:rPr>
              <a:t>Планета Земля</a:t>
            </a:r>
            <a:br>
              <a:rPr sz="12400"/>
            </a:br>
            <a:endParaRPr b="0" lang="en-US" sz="1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58920" y="4637160"/>
            <a:ext cx="640080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">
            <a:hlinkClick r:id="rId1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53737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Экология – наука о природном доме. Экология изучает взаимное влияние организмов друг с другом и с неживой природой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езультате деятельности человека наш природный дом оказался в опасности.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7993080" cy="381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амая больша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из планет земной групп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5444640"/>
            <a:ext cx="84596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Земля вращается вокруг своей оси, делая один оборот за 24 часа. А вокруг солнца – за 1 год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Имеет атмосферу. У Земли есть спутник – Лун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22" b="0"/>
          <a:stretch/>
        </p:blipFill>
        <p:spPr>
          <a:xfrm>
            <a:off x="539640" y="1341360"/>
            <a:ext cx="8136000" cy="395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8680" y="369360"/>
            <a:ext cx="79549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Горы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5229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Горные цепи тянутся на многие тысячи километров. Самые высокие горы – более молодые. Они с заостренными снежными  вершинам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ревние горы сегодня невысокие. Такими они стали под действием ветра, дождя, снега и льд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620120" cy="374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53737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 Земле свыше 96 % воды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Это океаны (Тихий, Атлантический, Индийский, Северный Ледовитый), много морей, рек, озер, болот, подземных вод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620120" cy="374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52240" y="304560"/>
            <a:ext cx="800244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Времена г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1280" y="544500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мена времен года происходит благодаря наклону земной оси. Солнце поднимается зимой не так высоко. А чем выше Солнце в небе, тем больше дают тепла его лучи. Поэтому зимой холоднее, чем лето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632720" cy="392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Природные зоны</a:t>
            </a:r>
            <a:r>
              <a:rPr b="0" lang="en-US" sz="6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5300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реди природных зон можно выделить несколько, которые занимают большую ее часть. Их распространение зависит от климата, больше всего от распространения тепла и влаг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761080" cy="384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Природные зоны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54446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Это тундра, тайга, пустыня, джунгли, лес (смешанный, широколиственный, влажный тропический), равнины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777080" cy="388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Живая прир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54446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Развитие жизни на Земле началось около 3,5 млрд. лет назад. Ученые делят живую природу на бактерии, простейшие, грибы, растения, животны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993080" cy="3925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Живая прир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558936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Живые существа заселили все природные зоны, почву и даже воду. Роль человека – сохранить их. Главный закон для нас – не навредить живой природе!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064720" cy="416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07:26:30Z</dcterms:created>
  <dc:creator>*</dc:creator>
  <dc:description/>
  <dc:language>en-US</dc:language>
  <cp:lastModifiedBy>Name</cp:lastModifiedBy>
  <dcterms:modified xsi:type="dcterms:W3CDTF">2010-09-23T12:06:07Z</dcterms:modified>
  <cp:revision>17</cp:revision>
  <dc:subject/>
  <dc:title>Планета Земл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06000000000001024140</vt:lpwstr>
  </property>
</Properties>
</file>