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8194-7476-4175-9F83-74F11A3E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BAE7-97CD-4A1C-BB9F-22806C2A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CBF8-BE08-44B7-BAE4-0ED2526C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D331-B0F4-4FE3-A593-0756E736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8E53-5CE2-4BF9-ABEB-65D573D2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D7DB-7889-4DB9-A8F2-FE7DCAB3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DC52-ECD4-4999-A671-8584602A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2861-F9B5-4B87-82B4-69B02DA6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D180-62D2-4E82-99BD-84111357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E968-33DE-4823-87EF-29C3AB67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C52C-4FF1-4D96-BD8E-6246BBBD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D75B-9703-489B-9FA4-BD804717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61C8-5AE2-42B1-917A-005EBE4C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A5CF-D635-4442-8F56-8F26A1A7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2DEC-BDE7-4213-A011-30843094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3E20-A656-405C-BE9E-59DC891C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C0BC-8261-4779-B9A3-017E3705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3A8F-1C66-4C24-822D-AB52533A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1F2-265B-40FC-BECF-4819198E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5EB-6E22-46B1-B26B-CA617E15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DBC9-B8E5-464D-AF5D-7AFF3D3F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348F-F188-4F75-B6E3-525807BC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EE80-14EC-49A1-BCDC-F4A1F00C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814-4289-4C3B-A3A6-09BDEA17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8E8A-58AE-404E-89B3-C791BA36BCB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0EE1-33FE-41A8-86FD-220B86E0EB3E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66200"/>
            <a:ext cx="7772400" cy="60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400" spc="-1" strike="noStrike">
                <a:solidFill>
                  <a:srgbClr val="000000"/>
                </a:solidFill>
                <a:latin typeface="Old English Text MT"/>
              </a:rPr>
              <a:t>Планета Земля</a:t>
            </a:r>
            <a:br>
              <a:rPr sz="12400"/>
            </a:br>
            <a:endParaRPr b="0" lang="en-US" sz="1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4637160"/>
            <a:ext cx="64008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кология – наука о природном доме. Экология изучает взаимное влияние организмов друг с другом и с неживой природ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езультате деятельности человека наш природный дом оказался в опасности.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амая больша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из планет земной групп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5444640"/>
            <a:ext cx="8459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емля вращается вокруг своей оси, делая один оборот за 24 часа. А вокруг солнца – за 1 год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меет атмосферу. У Земли есть спутник – Лун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22" b="0"/>
          <a:stretch/>
        </p:blipFill>
        <p:spPr>
          <a:xfrm>
            <a:off x="539640" y="1341360"/>
            <a:ext cx="8136000" cy="39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8680" y="369360"/>
            <a:ext cx="79549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5229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орные цепи тянутся на многие тысячи километров. Самые высокие горы – более молодые. Они с заостренными снежными  вершина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ревние горы сегодня невысокие. Такими они стали под действием ветра, дождя, снега и льд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620120" cy="37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Земле свыше 96 % воды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Это океаны (Тихий, Атлантический, Индийский, Северный Ледовитый), много морей, рек, озер, болот, подземных вод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20120" cy="37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2240" y="304560"/>
            <a:ext cx="800244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ремена г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мена времен года происходит благодаря наклону земной оси. Солнце поднимается зимой не так высоко. А чем выше Солнце в небе, тем больше дают тепла его лучи. Поэтому зимой холоднее, чем лет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632720" cy="39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r>
              <a:rPr b="0" lang="en-US" sz="6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реди природных зон можно выделить несколько, которые занимают большую ее часть. Их распространение зависит от климата, больше всего от распространения тепла и влаг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761080" cy="384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то тундра, тайга, пустыня, джунгли, лес (смешанный, широколиственный, влажный тропический), равнин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77080" cy="38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азвитие жизни на Земле началось около 3,5 млрд. лет назад. Ученые делят живую природу на бактерии, простейшие, грибы, растения, животны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392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Живые существа заселили все природные зоны, почву и даже воду. Роль человека – сохранить их. Главный закон для нас – не навредить живой природе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1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07:26:30Z</dcterms:created>
  <dc:creator>*</dc:creator>
  <dc:description/>
  <dc:language>en-US</dc:language>
  <cp:lastModifiedBy>Name</cp:lastModifiedBy>
  <dcterms:modified xsi:type="dcterms:W3CDTF">2010-09-23T12:06:07Z</dcterms:modified>
  <cp:revision>17</cp:revision>
  <dc:subject/>
  <dc:title>Планета Зем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6000000000001024140</vt:lpwstr>
  </property>
</Properties>
</file>