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BD0-7E5D-428B-ADE0-D4CF3035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74C3-2F54-484B-A53D-00818010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22F3-DFED-4EDA-A6FE-D1D1B1ED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4E22-6D10-4384-9761-BC2FC426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18C1-20C6-4A42-BE3D-1986CB2C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67DF-816D-43C9-8D9F-EB07162B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2972-0FDB-49A8-8159-9243F3CF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307E-71F1-4ED1-AA11-3004D042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2613-F524-4958-A994-CDD487C6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C5A1-CA20-47F1-A73C-8798F293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7654-10E1-494F-A455-8CD8AADE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FE1B-381E-4968-A0AD-BBBC3BA6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8C3A-3049-47F4-9D39-BE294CF2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9EB3-E193-4FFB-BF9F-A49D0EC8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F11F-63ED-4A4C-B448-29CA8A10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8D8C-B548-497E-8EE9-1E69C3EE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ED71-C957-4F12-ABF3-A884A57C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EB7A-AF39-4925-8325-38E40DDC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D94A-FDA0-4958-8598-5846D8EB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4A6-9F2C-40C2-AD08-D4ED6197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FA2-D08E-4A05-9564-20327FE4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DD9-C17F-4C28-BA83-4542B6E5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EFA-0078-4D2F-A7E1-F31B8BB4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71C-7274-4E48-A4F6-9F29E789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0A0F-CB43-4B5C-A9FE-42FBBCE02A9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478A-BEBA-42C5-B39C-CEFB927B3BC3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66200"/>
            <a:ext cx="7772400" cy="60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400" spc="-1" strike="noStrike">
                <a:solidFill>
                  <a:srgbClr val="000000"/>
                </a:solidFill>
                <a:latin typeface="Old English Text MT"/>
              </a:rPr>
              <a:t>Планета Земля</a:t>
            </a:r>
            <a:br>
              <a:rPr sz="12400"/>
            </a:br>
            <a:endParaRPr b="0" lang="en-US" sz="1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637160"/>
            <a:ext cx="64008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кология – наука о природном доме. Экология изучает взаимное влияние организмов друг с другом и с неживой природ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езультате деятельности человека наш природный дом оказался в опасности.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мая больша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з планет земной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5444640"/>
            <a:ext cx="8459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емля вращается вокруг своей оси, делая один оборот за 24 часа. А вокруг солнца – за 1 год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еет атмосферу. У Земли есть спутник – Лун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22" b="0"/>
          <a:stretch/>
        </p:blipFill>
        <p:spPr>
          <a:xfrm>
            <a:off x="539640" y="1341360"/>
            <a:ext cx="8136000" cy="39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8680" y="369360"/>
            <a:ext cx="79549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522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рные цепи тянутся на многие тысячи километров. Самые высокие горы – более молодые. Они с заостренными снежными  вершин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ревние горы сегодня невысокие. Такими они стали под действием ветра, дождя, снега и льд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20120" cy="37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Земле свыше 96 % вод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то океаны (Тихий, Атлантический, Индийский, Северный Ледовитый), много морей, рек, озер, болот, подземных вод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2012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2240" y="304560"/>
            <a:ext cx="800244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ремена г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мена времен года происходит благодаря наклону земной оси. Солнце поднимается зимой не так высоко. А чем выше Солнце в небе, тем больше дают тепла его лучи. Поэтому зимой холоднее, чем лет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39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r>
              <a:rPr b="0" lang="en-US" sz="6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реди природных зон можно выделить несколько, которые занимают большую ее часть. Их распространение зависит от климата, больше всего от распространения тепла и влаг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761080" cy="384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то тундра, тайга, пустыня, джунгли, лес (смешанный, широколиственный, влажный тропический), равни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азвитие жизни на Земле началось около 3,5 млрд. лет назад. Ученые делят живую природу на бактерии, простейшие, грибы, растения, животны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39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Живые существа заселили все природные зоны, почву и даже воду. Роль человека – сохранить их. Главный закон для нас – не навредить живой природе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1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7:26:30Z</dcterms:created>
  <dc:creator>*</dc:creator>
  <dc:description/>
  <dc:language>en-US</dc:language>
  <cp:lastModifiedBy>Name</cp:lastModifiedBy>
  <dcterms:modified xsi:type="dcterms:W3CDTF">2010-09-23T12:06:07Z</dcterms:modified>
  <cp:revision>17</cp:revision>
  <dc:subject/>
  <dc:title>Планета Зем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6000000000001024140</vt:lpwstr>
  </property>
</Properties>
</file>