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34.gif" ContentType="image/gif"/>
  <Override PartName="/ppt/media/image18.png" ContentType="image/png"/>
  <Override PartName="/ppt/media/image6.jpeg" ContentType="image/jpeg"/>
  <Override PartName="/ppt/media/image3.gif" ContentType="image/gif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800-C310-4264-88B7-CB4577D4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04C-8DC3-44D4-9510-8A8A7AD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CBB-FB71-494D-AF5C-C19A3614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0F6-5587-4F27-A8D2-576E2D00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7A4-022C-40EF-87A5-1E55F908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3BE-E8D0-40F5-8877-CB46C4EB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326-6788-4242-9C70-2953A62A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B3A-74DB-4C9E-BF9F-CAE40851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2D8-6ACA-4BCA-ABBA-16866D4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912-650D-442C-836E-085EBAB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377-0B87-40DC-B731-A8FF2F0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C33-2586-4380-B5B7-1D206F34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DA47-05EF-4518-ACD1-798528339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4606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Arial"/>
              </a:rPr>
              <a:t>Урок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981000"/>
            <a:ext cx="47131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Тема: Система «Земля-Лу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16720" y="6583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КС модернезируется, 20.09.2006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544500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1890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3300"/>
                </a:solidFill>
                <a:latin typeface="Arial"/>
              </a:rPr>
              <a:t>В течение кратких моментов полного солнечного затмения наступает темнота и становятся видны внешние части Солнца - хромосфера и корона, свет которых обычно тонет в ярком свете фото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76640"/>
            <a:ext cx="385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ое затмение 29 марта 2006г. Фото космонавтов ВалерияТокарева и Уильяма Макартур с МК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762440" cy="216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26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ловие наступления солнечного затмения - в момент новолуния Луна пересекает эклипт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238104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266920" cy="2571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350028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Полное солнечное затмение 29 марта 2006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227640" y="4365720"/>
            <a:ext cx="2486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360" y="0"/>
            <a:ext cx="3682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унные 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438640" cy="2094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2924280"/>
            <a:ext cx="27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мение Луны 16 июля 2000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06560" y="765000"/>
            <a:ext cx="6337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иды лунного затмения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 частно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ень Земли закрывает ча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полно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нь Земли закрывает полностью Лу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унное затмение происходит в полнолунии или близкой точке с  максимальной продолжительностью  1 час 44 м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ватый цвет диска Луны объясняется тем, что через атмосферу лучше всего проходят красные и оранжевые лу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381024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3213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Схема наступления лун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572000" y="3573360"/>
            <a:ext cx="37148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еты Солнеч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3898800" cy="46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Земн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большие размеры и м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ьшая средняя пло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дленное осевое в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ло (нет) спу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вердая поверх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38098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052640"/>
            <a:ext cx="3888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еты – гиганты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ие размеры и масс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ая средняя плотность  (сравнима с Н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ыстрое осевое вращени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ольшое число спутник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щные Н-Не атмосфер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5595840"/>
            <a:ext cx="828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 и масса планеты указывают на действующую силу тяжести и способность планеты удерживать атмосферу (при 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моле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V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парабо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для Земли =11,2 км/с)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отность атмосферы и ее химический состав определяют степень поглощения в ней излучений идущих от Солнца и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ение вокруг оси - это смена дня и ночи (сутки), выравнивание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пература на поверхности зависит от удаленности от Солнца и наличия атмосфер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356000" y="3141720"/>
            <a:ext cx="4581720" cy="21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35640" y="4869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Юпит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48690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4869000"/>
            <a:ext cx="12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Уран      Непт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3970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осмическая э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425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 октября 1957г  запущен первый ИСЗ (“Спутник-1”, СССР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апреля 1961г  первый полет человека в космос (Ю.А.Гагарин, СССР, КК “Восток”)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78920" y="549360"/>
            <a:ext cx="8502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Наблюдение за телами Солнечной системы кроме оптических, последние более 40 лет осуществляется различными КА. У истоков начала космической эры стоит Рос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190880" cy="143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236000" y="2133720"/>
            <a:ext cx="1190520" cy="16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2133720"/>
            <a:ext cx="119088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00360" y="2133720"/>
            <a:ext cx="1282680" cy="1396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6450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Первый космонавт планеты 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Юрий Алексеевич Гагарин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34 – 196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3645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 теории реактивного движения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Константин Эдуардович Циолковский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857-193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364500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сновоположник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отечественной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смонавтики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Сергей Павлович Королев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7-196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8360" y="3789360"/>
            <a:ext cx="21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Конструктор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реактивных двигателей  </a:t>
            </a: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Валентин Павлович Глушко</a:t>
            </a:r>
            <a:r>
              <a:rPr b="0" lang="en-US" sz="1000" spc="-1" strike="noStrike">
                <a:solidFill>
                  <a:srgbClr val="cc3300"/>
                </a:solidFill>
                <a:latin typeface="Times New Roman"/>
              </a:rPr>
              <a:t> (1908-199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95280" y="4653000"/>
            <a:ext cx="1104840" cy="159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08000" y="450864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003640" y="4581360"/>
            <a:ext cx="17146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164360" y="5229360"/>
            <a:ext cx="1409760" cy="952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63388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2.04.1961. Байконур. Ракета-носитель 8К72 ( "Восток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"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)  перед стартом. 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308640"/>
            <a:ext cx="15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Первый ИСЗ. Шар диаметром 58 см и весом 83,6 кг</a:t>
            </a:r>
            <a:r>
              <a:rPr b="0" lang="en-US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6308640"/>
            <a:ext cx="22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17.11.</a:t>
            </a: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9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70, АМС  "Луна-17" доставила на Луну  "Луноход-1"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6308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ff"/>
                </a:solidFill>
                <a:latin typeface="Times New Roman"/>
              </a:rPr>
              <a:t>15.11.1988, советский МТКК "Буран" на земле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209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51280" y="476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емля – третья планета от Солнца, достаточно массивна и удерживает возле себя атмосфер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496040" cy="4562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5133960"/>
            <a:ext cx="2286000" cy="172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805360"/>
            <a:ext cx="18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Которая состоит и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92720" y="14130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140360" y="5229360"/>
            <a:ext cx="2857320" cy="1628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020000" y="5394240"/>
            <a:ext cx="2124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Редкое явление – перламутровые облака.  Фото в Антарктиде Рене Бейкер на  антарктической станции Моусон  вечером 25 июля 2006г.   Температура воздуха в области облаков -87°С,  скорость ветра 230 км/ч.</a:t>
            </a:r>
            <a:r>
              <a:rPr b="0" lang="ru-RU" sz="1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6600ff"/>
                </a:solidFill>
                <a:latin typeface="Times New Roman"/>
              </a:rPr>
              <a:t>Состоят из кристалликов льда на высоте 20-30к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5327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ые движения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9079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692280"/>
            <a:ext cx="5545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ижение вокруг Солн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о эллиптической (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лизка к круговой,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е=0.0167) со средней скоростью 29,8к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диус орбиты Земли -149,6 млн км – принят за одну астрономическую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риод обращения по орбите составляет 365,256 суток или один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7636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ращение вокруг ос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мена времени суток. Ось вращения все время // сама себе и наклонена к плоскости орбиты под углом 66°34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114720" cy="2171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133640" cy="25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Вследствие этого происходит смена времен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360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орм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343320" cy="346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08360" y="765000"/>
            <a:ext cx="52563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К 1684г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И. Ньютон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доказал, что Земля сжата по полюсам (эллипсо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ие размера впервые проведены в 240г до НЭ в Египт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ратосфе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ндиозные измерения от Северного Ледовитого океана до Дуная проведены в России в 1816-1855гг под руководство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.Я.Струв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же выяснено, что форма Земли имеет более сложную фигуру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грушевидная форм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ваториальный радиус 637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ярный радиус 6356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редний радиус 6371 к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е составляет 0,00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жати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 = (a-b)/a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де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– большая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 малая полуось эллип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4869000"/>
            <a:ext cx="864216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Зная размер Земли, можно определить ее массу и среднюю плотность, считая приближенно Землю ша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F=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g=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M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m)/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=(g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/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5,9736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г þ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</a:rPr>
              <a:t>с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/V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=5,515кг/м</a:t>
            </a:r>
            <a:r>
              <a:rPr b="0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024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Луна – спутник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1341360"/>
            <a:ext cx="558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уна повернута к Земле одной стороной, светит отраженным светом, имеет пепельный цвет и вид фазы (освещенной части) зависит от взаимного расположения Солнца, Земли и Луны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Фаза - отношение площади освещенной части видимого диска Луны ко всей его площад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или толщины освещенной части диска к ее диаметр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22920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365720"/>
            <a:ext cx="521964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Если вид серпа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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(мысленно подставить палочку и получить букву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р</a:t>
            </a:r>
            <a:r>
              <a:rPr b="0" lang="ru-RU" sz="1400" spc="-1" strike="noStrike">
                <a:solidFill>
                  <a:srgbClr val="663300"/>
                </a:solidFill>
                <a:latin typeface="Arial"/>
              </a:rPr>
              <a:t>) - месяц молодой (Луна раст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Если вид серпа  Луны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Wingdings 2"/>
                <a:ea typeface="Wingdings 2"/>
              </a:rPr>
              <a:t>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-  месяц старый (Луна убывает)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цикл смены фаз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нод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составляет примерно 29,5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   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Полный оборот вокруг Земли (</a:t>
            </a:r>
            <a:r>
              <a:rPr b="1" lang="ru-RU" sz="1400" spc="-1" strike="noStrike">
                <a:solidFill>
                  <a:srgbClr val="0099ff"/>
                </a:solidFill>
                <a:latin typeface="Arial"/>
              </a:rPr>
              <a:t>сидерический месяц</a:t>
            </a:r>
            <a:r>
              <a:rPr b="0" lang="ru-RU" sz="1400" spc="-1" strike="noStrike">
                <a:solidFill>
                  <a:srgbClr val="0099ff"/>
                </a:solidFill>
                <a:latin typeface="Arial"/>
              </a:rPr>
              <a:t>) Луна совершает примерно за 27,3 сут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уна быстро перемещается по небу с запада на восток:   360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:27,3≈13</a:t>
            </a:r>
            <a:r>
              <a:rPr b="1" lang="ru-RU" sz="12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/су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ждые сутки кульминация запаздывает на  24час : 27,3≈50 мин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0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Единственный естественный спутник Земли, удаленный в среднем от Земли на 384400км (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  <a:ea typeface="Arial"/>
              </a:rPr>
              <a:t>±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  <a:ea typeface="Arial"/>
              </a:rPr>
              <a:t>21000км)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Из-за большого размера систему Земля-Луна называют двойной планетой и центр масс находится на расстоянии 4671км от центра Земли (именно он движутся вокруг Солнца по эллиптической орбит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48360" y="5143680"/>
            <a:ext cx="3809880" cy="1714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29973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=384400к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= 0,0549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R=1738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48000" y="-360"/>
            <a:ext cx="281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тм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549360"/>
            <a:ext cx="500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US" sz="1400" spc="-1" strike="noStrike">
                <a:solidFill>
                  <a:srgbClr val="6600ff"/>
                </a:solidFill>
                <a:latin typeface="Arial"/>
              </a:rPr>
              <a:t>Затмение - явление, при котором свет от небесного тела временно затемняется другим телом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может быть для нашей Солнечной системы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проход планетарного спутника (например Луны), в тени планеты так, что на него не попадает свет (например Солнца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затемнение всего светила (например Солнца) или его части проходящим перед ним  спутником (например Луной - солнечное затмени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500280"/>
            <a:ext cx="87138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В течение месяца, благоприятного для затмений может произойти одно солнечное, или два солнечных и лунное затмение. Следующее необходимое для затмений расположение лунной орбиты произойдет только через пол года (177-178 суток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Максимальное число затмений в году - семь (например 1982г - четыре частных солнечных и три полных лунных) затмения Луны и четыре частных затмения Солнца, хотя одно из солнечных затмений было очень небольшим. Теоретически возможно, что в два последовательных новолуния произойдут солнечные затмения, а между ними - лунное затмение. Однако лунные затмения в два последовательных полнолуния невозмож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27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тмения повторяются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 (египетское -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арос</a:t>
            </a:r>
            <a:r>
              <a:rPr b="0" lang="ru-RU" sz="1400" spc="-1" strike="noStrike">
                <a:solidFill>
                  <a:srgbClr val="6600ff"/>
                </a:solidFill>
                <a:latin typeface="Arial"/>
              </a:rPr>
              <a:t>), что связано с поворотом плоскости  лунной орбиты. Малый сарос составляет 6585,32 сут (18 лет 10,32 дней). За это время происходит 70-71 затмение (42-43 солнечных и 28 лунных) и в следующем саросе затмения повторяются в этом же порядке. В любой серии сароса  каждое затмение происходит приблизительно на 8 часов позже и почти на 120° долготы западнее предыдущего затмения. Большой сарос составляет 19756 сут (54г 34 сут) - повторение почти одинаковых затмений, который меняется в течение 1000 лет другой сер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961080" cy="1998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1640" y="2708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Схема солнечного зат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2997360"/>
            <a:ext cx="896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Орбита Луны наклонена к плоскости орбиты Земли на 5,1°, поэтому время от времени эти три тела оказываются в соединении. Тогда происходит затм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4114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лнечное зат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62864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907920"/>
            <a:ext cx="5148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ды солнечного затмен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частное-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ывает часть солнечного диска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2. кольцевое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закрывает полностью Солнце, когда диаметр Луны меньше солнечног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3. полн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центральное)- закрывает полностью Солнце, когда диаметр Луны больше солнечного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Солнечное затмение происходит в новолуние или близкой точке орбиты, максимальная длительность 7 мин 40сек. Тень прочерчивает по поверхности Земли изогнутую траекторию максимальной ширины в 264 км (полутени около 6000км), двигаясь со скоростью 1 км/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cc3300"/>
                </a:solidFill>
                <a:latin typeface="Arial"/>
              </a:rPr>
              <a:t>Частные затмения могут происходить и тогда, когда полное затмение не наблюдается ни в одной точке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708360" cy="490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093000"/>
            <a:ext cx="40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овательность фаз кольцеобразного солнечного затмения 24 декабря 1973г (период 1,5 ч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03640" y="393372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1:08:26Z</dcterms:created>
  <dc:creator>Анатолий</dc:creator>
  <dc:description/>
  <dc:language>en-US</dc:language>
  <cp:lastModifiedBy>Name</cp:lastModifiedBy>
  <dcterms:modified xsi:type="dcterms:W3CDTF">2010-09-23T12:05:58Z</dcterms:modified>
  <cp:revision>64</cp:revision>
  <dc:subject/>
  <dc:title>Солнечное затм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0c000000000001024140</vt:lpwstr>
  </property>
</Properties>
</file>