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34.gif" ContentType="image/gif"/>
  <Override PartName="/ppt/media/image18.png" ContentType="image/png"/>
  <Override PartName="/ppt/media/image6.jpeg" ContentType="image/jpeg"/>
  <Override PartName="/ppt/media/image3.gif" ContentType="image/gif"/>
  <Override PartName="/ppt/media/image2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BBC1-BB15-4B52-B274-382C6E38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5D1B-ECA2-4F48-851D-635D7371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4A8-ED4F-419F-B570-C4700E88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A017-27FA-4EFD-B191-C1CFBE0A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FF38-AA7C-4B3D-B5E4-C00229CE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A09-55BC-4583-9DF6-00C17BB3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62C-AE56-4282-B9F7-25591485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76E4-935A-4D2E-AC9C-0386DAC8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760F-62C2-47C0-8DD1-36321DFD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59BC-697B-49D7-B6A0-7A224900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00E-1F00-46C6-B0CE-3F6A0F16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F680-89C2-4C91-9B3E-831EA700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A396-876C-4A78-9B37-6C0D164AFA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46069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Урок 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981000"/>
            <a:ext cx="47131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Тема: Система «Земля-Лу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16720" y="658332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КС модернезируется, 20.09.2006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360" y="544500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189000"/>
            <a:ext cx="55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3300"/>
                </a:solidFill>
                <a:latin typeface="Arial"/>
              </a:rPr>
              <a:t>В течение кратких моментов полного солнечного затмения наступает темнота и становятся видны внешние части Солнца - хромосфера и корона, свет которых обычно тонет в ярком свете фотосф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76640"/>
            <a:ext cx="3851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лное затмение 29 марта 2006г. Фото космонавтов ВалерияТокарева и Уильяма Макартур с МК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211640" y="1268280"/>
            <a:ext cx="4762440" cy="2162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2637000"/>
            <a:ext cx="43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ловие наступления солнечного затмения - в момент новолуния Луна пересекает эклипт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857680" cy="2133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203640" y="4076640"/>
            <a:ext cx="2381040" cy="2571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79280" y="4076640"/>
            <a:ext cx="2266920" cy="2571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3500280"/>
            <a:ext cx="51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Полное солнечное затмение 29 марта 2006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6227640" y="4365720"/>
            <a:ext cx="24861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0360" y="0"/>
            <a:ext cx="3682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унные зат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438640" cy="2094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2924280"/>
            <a:ext cx="27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тмение Луны 16 июля 2000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06560" y="765000"/>
            <a:ext cx="633744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иды лунного затмения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част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ень Земли закрывает часть Лу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полно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нь Земли закрывает полностью Лу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Лунное затмение происходит в полнолунии или близкой точке с  максимальной продолжительностью  1 час 4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сноватый цвет диска Луны объясняется тем, что через атмосферу лучше всего проходят красные и оранжевые лу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3810240" cy="1619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40000" y="3213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Схема наступления лунного зат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572000" y="3573360"/>
            <a:ext cx="37148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Планеты Солнеч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3898800" cy="464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Земная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большие размеры и м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льшая средняя плот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дленное осевое в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ло (нет) спутн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вердая поверх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38098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76720" y="1052640"/>
            <a:ext cx="3888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ланеты – гиганты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ие размеры и масс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лая средняя плотность  (сравнима с Н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)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ыстрое осевое вращени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ое число спутник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ьц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щные Н-Не атмосфер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5595840"/>
            <a:ext cx="828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ер и масса планеты указывают на действующую силу тяжести и способность планеты удерживать атмосферу (при V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моле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V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парабо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для Земли =11,2 км/с)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отность атмосферы и ее химический состав определяют степень поглощения в ней излучений идущих от Солнца и из косм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щение вокруг оси - это смена дня и ночи (сутки), выравнивание темпера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мпература на поверхности зависит от удаленности от Солнца и наличия атмосфер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356000" y="3141720"/>
            <a:ext cx="4581720" cy="2114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35640" y="48690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Юпит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486900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Сатур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5080" y="4869000"/>
            <a:ext cx="12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Уран      Непту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3970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осмическая э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4250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 октября 1957г  запущен первый ИСЗ (“Спутник-1”, СССР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2 апреля 1961г  первый полет человека в космос (Ю.А.Гагарин, СССР, КК “Восток”)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78920" y="549360"/>
            <a:ext cx="85028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Наблюдение за телами Солнечной системы кроме оптических, последние более 40 лет осуществляется различными КА. У истоков начала космической эры стоит Росс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1190880" cy="1438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236000" y="2133720"/>
            <a:ext cx="1190520" cy="163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39640" y="2133720"/>
            <a:ext cx="1190880" cy="1428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00360" y="2133720"/>
            <a:ext cx="1282680" cy="1396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3645000"/>
            <a:ext cx="18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Первый космонавт планеты  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Юрий Алексеевич Гагарин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34 – 196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3645000"/>
            <a:ext cx="1800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сновоположник теории реактивного движения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Константин Эдуардович Циолковский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857-193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3645000"/>
            <a:ext cx="20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сновоположник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течественной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космонавтики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Сергей Павлович Королев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07-196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48360" y="3789360"/>
            <a:ext cx="21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Конструктор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реактивных двигателей 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Валентин Павлович Глушко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08-199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395280" y="4653000"/>
            <a:ext cx="1104840" cy="1590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1908000" y="450864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5003640" y="4581360"/>
            <a:ext cx="1714680" cy="16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7164360" y="5229360"/>
            <a:ext cx="1409760" cy="952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79640" y="63388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2.04.1961. Байконур. Ракета-носитель 8К72 ( "Восток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"</a:t>
            </a: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)  перед стартом. 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6308640"/>
            <a:ext cx="151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Первый ИСЗ. Шар диаметром 58 см и весом 83,6 кг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6308640"/>
            <a:ext cx="223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17.11.</a:t>
            </a: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9</a:t>
            </a: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70, АМС  "Луна-17" доставила на Луну  "Луноход-1"</a:t>
            </a:r>
            <a:r>
              <a:rPr b="0" lang="ru-RU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630864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5.11.1988, советский МТКК "Буран" на земле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08360" y="-360"/>
            <a:ext cx="2098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51280" y="4762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емля – третья планета от Солнца, достаточно массивна и удерживает возле себя атмосфер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496040" cy="4562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763640" y="5133960"/>
            <a:ext cx="2286000" cy="1724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805360"/>
            <a:ext cx="18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Которая состоит из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292720" y="141300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4140360" y="5229360"/>
            <a:ext cx="2857320" cy="1628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020000" y="5394240"/>
            <a:ext cx="212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Редкое явление – перламутровые облака.  Фото в Антарктиде Рене Бейкер на  антарктической станции Моусон  вечером 25 июля 2006г.   Температура воздуха в области облаков -87°С,  скорость ветра 230 км/ч.</a:t>
            </a:r>
            <a:r>
              <a:rPr b="0" lang="ru-RU" sz="10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Состоят из кристалликов льда на высоте 20-30к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5327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сновные движения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90792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692280"/>
            <a:ext cx="5545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вижение вокруг Солнц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о эллиптической (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близка к круговой,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е=0.0167) со средней скоростью 29,8км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адиус орбиты Земли -149,6 млн км – принят за одну астрономическую еди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ериод обращения по орбите составляет 365,256 суток или один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59280" y="32846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76360" y="378936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ращение вокруг ос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Смена времени суток. Ось вращения все время // сама себе и наклонена к плоскости орбиты под углом 66°34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3114720" cy="2171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1133640" cy="2543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1600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следствие этого происходит смена времен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36003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орма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3343320" cy="3467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08360" y="765000"/>
            <a:ext cx="52563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К 1684г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. Ньютон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доказал, что Земля сжата по полюсам (эллипсои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ределение размера впервые проведены в 240г до НЭ в Египте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ратосфе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ндиозные измерения от Северного Ледовитого океана до Дуная проведены в России в 1816-1855гг под руководство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.Я.Струв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зже выяснено, что форма Земли имеет более сложную фигуру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еои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грушевидная форм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кваториальный радиус 6378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ярный радиус 6356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редний радиус 6371 к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жатие составляет 0,003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422100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жати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 = (a-b)/a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д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– большая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– малая полуось эллип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4869000"/>
            <a:ext cx="864216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Зная размер Земли, можно определить ее массу и среднюю плотность, считая приближенно Землю ш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F=m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g=G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M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m)/R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=(g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)/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≈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,9736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4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г þ</a:t>
            </a:r>
            <a:r>
              <a:rPr b="0" lang="ru-RU" sz="2400" spc="-1" strike="noStrike" baseline="-25000">
                <a:solidFill>
                  <a:srgbClr val="0000ff"/>
                </a:solidFill>
                <a:latin typeface="Arial"/>
              </a:rPr>
              <a:t>ср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/V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=5,515кг/м</a:t>
            </a:r>
            <a:r>
              <a:rPr b="0" lang="ru-RU" sz="2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402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Луна – спутник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1341360"/>
            <a:ext cx="558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уна повернута к Земле одной стороной, светит отраженным светом, имеет пепельный цвет и вид фазы (освещенной части) зависит от взаимного расположения Солнца, Земли и Луны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Фаза - отношение площади освещенной части видимого диска Луны ко всей его площад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или толщины освещенной части диска к ее диаметру)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3229200" cy="2857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365720"/>
            <a:ext cx="521964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Если вид серпа Луны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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(мысленно подставить палочку и получить букву </a:t>
            </a: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р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) - месяц молодой (Луна растет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Если вид серпа  Луны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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-  месяц старый (Луна убывает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Полный цикл смены фаз (</a:t>
            </a: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синодический месяц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) составляет примерно 29,5 сут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   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Полный оборот вокруг Земли (</a:t>
            </a: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сидерический месяц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) Луна совершает примерно за 27,3 сут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уна быстро перемещается по небу с запада на восток:   360</a:t>
            </a:r>
            <a:r>
              <a:rPr b="1" lang="ru-RU" sz="12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:27,3≈13</a:t>
            </a:r>
            <a:r>
              <a:rPr b="1" lang="ru-RU" sz="12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/су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ждые сутки кульминация запаздывает на  24час : 27,3≈50 мин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20640"/>
            <a:ext cx="896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Единственный естественный спутник Земли, удаленный в среднем от Земли на 384400км (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±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21000км)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Из-за большого размера систему Земля-Луна называют двойной планетой и центр масс находится на расстоянии 4671км от центра Земли (именно он движутся вокруг Солнца по эллиптической орбит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148360" y="270828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148360" y="5143680"/>
            <a:ext cx="3809880" cy="1714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92360" y="299736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=384400к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= 0,0549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=1738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48000" y="-360"/>
            <a:ext cx="2819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т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549360"/>
            <a:ext cx="5003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</a:rPr>
              <a:t>Затмение - явление, при котором свет от небесного тела временно затемняется другим телом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может быть для нашей Солнечной системы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проход планетарного спутника (например Луны), в тени планеты так, что на него не попадает свет (например Солнца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затемнение всего светила (например Солнца) или его части проходящим перед ним  спутником (например Луной - солнечное затмени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3500280"/>
            <a:ext cx="87138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В течение месяца, благоприятного для затмений может произойти одно солнечное, или два солнечных и лунное затмение. Следующее необходимое для затмений расположение лунной орбиты произойдет только через пол года (177-178 суток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Максимальное число затмений в году - семь (например 1982г - четыре частных солнечных и три полных лунных) затмения Луны и четыре частных затмения Солнца, хотя одно из солнечных затмений было очень небольшим. Теоретически возможно, что в два последовательных новолуния произойдут солнечные затмения, а между ними - лунное затмение. Однако лунные затмения в два последовательных полнолуния невозмож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2772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тмения повторяются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 (египетское -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арос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), что связано с поворотом плоскости  лунной орбиты. Малый сарос составляет 6585,32 сут (18 лет 10,32 дней). За это время происходит 70-71 затмение (42-43 солнечных и 28 лунных) и в следующем саросе затмения повторяются в этом же порядке. В любой серии сароса  каждое затмение происходит приблизительно на 8 часов позже и почти на 120° долготы западнее предыдущего затмения. Большой сарос составляет 19756 сут (54г 34 сут) - повторение почти одинаковых затмений, который меняется в течение 1000 лет другой сер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961080" cy="1998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71640" y="270828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Схема солнечного зат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997360"/>
            <a:ext cx="896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Орбита Луны наклонена к плоскости орбиты Земли на 5,1°, поэтому время от времени эти три тела оказываются в соединении. Тогда происходит затм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40000" y="0"/>
            <a:ext cx="4114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лнечное затм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162864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907920"/>
            <a:ext cx="51483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иды солнечного затмения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частное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крывает часть солнечного диска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2. кольцевое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закрывает полностью Солнце, когда диаметр Луны меньше солнечног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3. полн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центральное)- закрывает полностью Солнце, когда диаметр Луны больше солнечного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 </a:t>
            </a: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Солнечное затмение происходит в новолуние или близкой точке орбиты, максимальная длительность 7 мин 40сек. Тень прочерчивает по поверхности Земли изогнутую траекторию максимальной ширины в 264 км (полутени около 6000км), двигаясь со скоростью 1 км/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Частные затмения могут происходить и тогда, когда полное затмение не наблюдается ни в одной точке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3708360" cy="4902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6093000"/>
            <a:ext cx="40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овательность фаз кольцеобразного солнечного затмения 24 декабря 1973г (период 1,5 ч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03640" y="3933720"/>
            <a:ext cx="3810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01:08:26Z</dcterms:created>
  <dc:creator>Анатолий</dc:creator>
  <dc:description/>
  <dc:language>en-US</dc:language>
  <cp:lastModifiedBy>Name</cp:lastModifiedBy>
  <dcterms:modified xsi:type="dcterms:W3CDTF">2010-09-23T12:05:58Z</dcterms:modified>
  <cp:revision>64</cp:revision>
  <dc:subject/>
  <dc:title>Солнечное затм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0c000000000001024140</vt:lpwstr>
  </property>
</Properties>
</file>