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gif" ContentType="image/gif"/>
  <Override PartName="/ppt/media/image15.jpeg" ContentType="image/jpeg"/>
  <Override PartName="/ppt/media/image24.jpeg" ContentType="image/jpeg"/>
  <Override PartName="/ppt/media/image20.jpeg" ContentType="image/jpeg"/>
  <Override PartName="/ppt/media/image19.jpeg" ContentType="image/jpeg"/>
  <Override PartName="/ppt/media/image10.jpeg" ContentType="image/jpeg"/>
  <Override PartName="/ppt/media/image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png" ContentType="image/png"/>
  <Override PartName="/ppt/media/image14.jpeg" ContentType="image/jpeg"/>
  <Override PartName="/ppt/media/image34.gif" ContentType="image/gif"/>
  <Override PartName="/ppt/media/image18.png" ContentType="image/png"/>
  <Override PartName="/ppt/media/image6.jpeg" ContentType="image/jpeg"/>
  <Override PartName="/ppt/media/image3.gif" ContentType="image/gif"/>
  <Override PartName="/ppt/media/image2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27.jpeg" ContentType="image/jpeg"/>
  <Override PartName="/ppt/media/image17.gif" ContentType="image/gif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9452-C0BF-48E0-8BCB-2FB80BC7E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ED1A-B93D-485B-92E4-4992744A6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1799-9A5D-49C5-A6AD-DC8D42B0C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A049-6FA6-4718-87E2-1711CE338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8C76-1BF2-452D-A8C6-8F424A1AC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DEE7-717F-4DBE-93A9-3F18F6225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C19D-7BE9-43A3-8BB8-E1C05B62A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7E63-1D36-43F4-B209-78D4D9414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DB8C-9D93-4D67-8520-B0215E947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A7B7-8BAF-4CB4-BE62-BEEF0DAA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59E2-E0AC-49BA-8960-A04D6D51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22EF-E4F3-4A2D-BF1A-ED8774B1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B12A0-9BA8-43E2-8A86-00EA8A9CDF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gif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png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339640" y="0"/>
            <a:ext cx="46069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8080"/>
                </a:solidFill>
                <a:latin typeface="Arial"/>
              </a:rPr>
              <a:t>Урок 1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95640" y="981000"/>
            <a:ext cx="47131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Тема: Система «Земля-Лу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516720" y="6583320"/>
            <a:ext cx="26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КС модернезируется, 20.09.2006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2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4360" y="5445000"/>
            <a:ext cx="532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19640" y="189000"/>
            <a:ext cx="5545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3300"/>
                </a:solidFill>
                <a:latin typeface="Arial"/>
              </a:rPr>
              <a:t>В течение кратких моментов полного солнечного затмения наступает темнота и становятся видны внешние части Солнца - хромосфера и корона, свет которых обычно тонет в ярком свете фотосфе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276640"/>
            <a:ext cx="3851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лное затмение 29 марта 2006г. Фото космонавтов ВалерияТокарева и Уильяма Макартур с МКС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211640" y="1268280"/>
            <a:ext cx="4762440" cy="21621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0" y="2637000"/>
            <a:ext cx="435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словие наступления солнечного затмения - в момент новолуния Луна пересекает эклиптик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395280" y="189000"/>
            <a:ext cx="2857680" cy="2133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3203640" y="4076640"/>
            <a:ext cx="2381040" cy="25718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179280" y="4076640"/>
            <a:ext cx="2266920" cy="25718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835280" y="3500280"/>
            <a:ext cx="511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Полное солнечное затмение 29 марта 2006 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6227640" y="4365720"/>
            <a:ext cx="248616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700360" y="0"/>
            <a:ext cx="36828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Лунные затм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79280" y="765000"/>
            <a:ext cx="2438640" cy="2094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0" y="2924280"/>
            <a:ext cx="2771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Затмение Луны 16 июля 2000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806560" y="765000"/>
            <a:ext cx="6337440" cy="24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Виды лунного затмения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. частно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тень Земли закрывает часть Лу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. полное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ень Земли закрывает полностью Лун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  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Лунное затмение происходит в полнолунии или близкой точке с  максимальной продолжительностью  1 час 44 м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расноватый цвет диска Луны объясняется тем, что через атмосферу лучше всего проходят красные и оранжевые луч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79280" y="3573360"/>
            <a:ext cx="3810240" cy="16192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340000" y="3213000"/>
            <a:ext cx="34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Times New Roman"/>
              </a:rPr>
              <a:t>Схема наступления лунного затм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4572000" y="3573360"/>
            <a:ext cx="371484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Планеты Солнечной 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3898800" cy="464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Земная групп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ебольшие размеры и масс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большая средняя плотнос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едленное осевое вращ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ало (нет) спутник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твердая поверхнос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50920" y="3141720"/>
            <a:ext cx="3809880" cy="21430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076720" y="1052640"/>
            <a:ext cx="388800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ланеты – гиганты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ольшие размеры и масса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алая средняя плотность  (сравнима с Н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)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ыстрое осевое вращение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ольшое число спутников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льца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щные Н-Не атмосфере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5595840"/>
            <a:ext cx="828036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мер и масса планеты указывают на действующую силу тяжести и способность планеты удерживать атмосферу (при V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Arial"/>
              </a:rPr>
              <a:t>молек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&lt;V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Arial"/>
              </a:rPr>
              <a:t>парабол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(для Земли =11,2 км/с)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лотность атмосферы и ее химический состав определяют степень поглощения в ней излучений идущих от Солнца и из космос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ращение вокруг оси - это смена дня и ночи (сутки), выравнивание температур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емпература на поверхности зависит от удаленности от Солнца и наличия атмосферы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356000" y="3141720"/>
            <a:ext cx="4581720" cy="2114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435640" y="4869000"/>
            <a:ext cx="86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Юпите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32720" y="486900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Сатур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885080" y="4869000"/>
            <a:ext cx="12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Уран      Непту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71280" y="0"/>
            <a:ext cx="39704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Космическая э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9280" y="1125000"/>
            <a:ext cx="842508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4 октября 1957г  запущен первый ИСЗ (“Спутник-1”, СССР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12 апреля 1961г  первый полет человека в космос (Ю.А.Гагарин, СССР, КК “Восток”).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178920" y="549360"/>
            <a:ext cx="85028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Наблюдение за телами Солнечной системы кроме оптических, последние более 40 лет осуществляется различными КА. У истоков начала космической эры стоит Росс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003640" y="2133720"/>
            <a:ext cx="1190880" cy="1438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7236000" y="2133720"/>
            <a:ext cx="1190520" cy="1638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539640" y="2133720"/>
            <a:ext cx="1190880" cy="14284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2700360" y="2133720"/>
            <a:ext cx="1282680" cy="1396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50920" y="3645000"/>
            <a:ext cx="180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Первый космонавт планеты   </a:t>
            </a:r>
            <a:r>
              <a:rPr b="1" lang="en-US" sz="1000" spc="-1" strike="noStrike">
                <a:solidFill>
                  <a:srgbClr val="cc3300"/>
                </a:solidFill>
                <a:latin typeface="Times New Roman"/>
              </a:rPr>
              <a:t>Юрий Алексеевич Гагарин</a:t>
            </a: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 (1934 – 196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56000" y="3645000"/>
            <a:ext cx="1800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Основоположник теории реактивного движения </a:t>
            </a:r>
            <a:r>
              <a:rPr b="1" lang="en-US" sz="1000" spc="-1" strike="noStrike">
                <a:solidFill>
                  <a:srgbClr val="cc3300"/>
                </a:solidFill>
                <a:latin typeface="Times New Roman"/>
              </a:rPr>
              <a:t>Константин Эдуардович Циолковский</a:t>
            </a: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 (1857-1935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16360" y="3645000"/>
            <a:ext cx="2016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Основоположник</a:t>
            </a:r>
            <a:r>
              <a:rPr b="1" lang="en-US" sz="10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отечественной</a:t>
            </a:r>
            <a:r>
              <a:rPr b="1" lang="en-US" sz="10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космонавтики</a:t>
            </a:r>
            <a:r>
              <a:rPr b="1" lang="en-US" sz="1000" spc="-1" strike="noStrike">
                <a:solidFill>
                  <a:srgbClr val="cc3300"/>
                </a:solidFill>
                <a:latin typeface="Times New Roman"/>
              </a:rPr>
              <a:t> Сергей Павлович Королев</a:t>
            </a: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 (1907-1966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48360" y="3789360"/>
            <a:ext cx="219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Конструктор</a:t>
            </a:r>
            <a:r>
              <a:rPr b="1" lang="en-US" sz="10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 реактивных двигателей  </a:t>
            </a:r>
            <a:r>
              <a:rPr b="1" lang="en-US" sz="1000" spc="-1" strike="noStrike">
                <a:solidFill>
                  <a:srgbClr val="cc3300"/>
                </a:solidFill>
                <a:latin typeface="Times New Roman"/>
              </a:rPr>
              <a:t>Валентин Павлович Глушко</a:t>
            </a: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 (1908-199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395280" y="4653000"/>
            <a:ext cx="1104840" cy="15904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7"/>
          <a:stretch/>
        </p:blipFill>
        <p:spPr>
          <a:xfrm>
            <a:off x="1908000" y="4508640"/>
            <a:ext cx="2571840" cy="1714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8"/>
          <a:stretch/>
        </p:blipFill>
        <p:spPr>
          <a:xfrm>
            <a:off x="5003640" y="4581360"/>
            <a:ext cx="1714680" cy="1619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9"/>
          <a:stretch/>
        </p:blipFill>
        <p:spPr>
          <a:xfrm>
            <a:off x="7164360" y="5229360"/>
            <a:ext cx="1409760" cy="9522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979640" y="6338880"/>
            <a:ext cx="259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00ff"/>
                </a:solidFill>
                <a:latin typeface="Times New Roman"/>
              </a:rPr>
              <a:t>12.04.1961. Байконур. Ракета-носитель 8К72 ( "Восток</a:t>
            </a:r>
            <a:r>
              <a:rPr b="0" lang="en-US" sz="1000" spc="-1" strike="noStrike">
                <a:solidFill>
                  <a:srgbClr val="6600ff"/>
                </a:solidFill>
                <a:latin typeface="Arial"/>
              </a:rPr>
              <a:t>"</a:t>
            </a:r>
            <a:r>
              <a:rPr b="0" lang="en-US" sz="1000" spc="-1" strike="noStrike">
                <a:solidFill>
                  <a:srgbClr val="6600ff"/>
                </a:solidFill>
                <a:latin typeface="Times New Roman"/>
              </a:rPr>
              <a:t>)  перед стартом. </a:t>
            </a:r>
            <a:r>
              <a:rPr b="0" lang="en-US" sz="1000" spc="-1" strike="noStrike">
                <a:solidFill>
                  <a:srgbClr val="6600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9280" y="6308640"/>
            <a:ext cx="151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00ff"/>
                </a:solidFill>
                <a:latin typeface="Times New Roman"/>
              </a:rPr>
              <a:t>Первый ИСЗ. Шар диаметром 58 см и весом 83,6 кг</a:t>
            </a:r>
            <a:r>
              <a:rPr b="0" lang="en-US" sz="1000" spc="-1" strike="noStrike">
                <a:solidFill>
                  <a:srgbClr val="6600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716360" y="6308640"/>
            <a:ext cx="2233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600ff"/>
                </a:solidFill>
                <a:latin typeface="Times New Roman"/>
              </a:rPr>
              <a:t>17.11.</a:t>
            </a:r>
            <a:r>
              <a:rPr b="0" lang="en-US" sz="1000" spc="-1" strike="noStrike">
                <a:solidFill>
                  <a:srgbClr val="6600ff"/>
                </a:solidFill>
                <a:latin typeface="Times New Roman"/>
              </a:rPr>
              <a:t>19</a:t>
            </a:r>
            <a:r>
              <a:rPr b="0" lang="ru-RU" sz="1000" spc="-1" strike="noStrike">
                <a:solidFill>
                  <a:srgbClr val="6600ff"/>
                </a:solidFill>
                <a:latin typeface="Times New Roman"/>
              </a:rPr>
              <a:t>70, АМС  "Луна-17" доставила на Луну  "Луноход-1"</a:t>
            </a:r>
            <a:r>
              <a:rPr b="0" lang="ru-RU" sz="1000" spc="-1" strike="noStrike">
                <a:solidFill>
                  <a:srgbClr val="6600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6308640"/>
            <a:ext cx="165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00ff"/>
                </a:solidFill>
                <a:latin typeface="Times New Roman"/>
              </a:rPr>
              <a:t>15.11.1988, советский МТКК "Буран" на земле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708360" y="-360"/>
            <a:ext cx="2098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Зем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51280" y="476280"/>
            <a:ext cx="439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Земля – третья планета от Солнца, достаточно массивна и удерживает возле себя атмосфер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79280" y="549360"/>
            <a:ext cx="4496040" cy="45622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1763640" y="5133960"/>
            <a:ext cx="2286000" cy="17240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5805360"/>
            <a:ext cx="18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Times New Roman"/>
              </a:rPr>
              <a:t>Которая состоит из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5292720" y="1413000"/>
            <a:ext cx="2714760" cy="36194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4140360" y="5229360"/>
            <a:ext cx="2857320" cy="16286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7020000" y="5394240"/>
            <a:ext cx="21240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600ff"/>
                </a:solidFill>
                <a:latin typeface="Times New Roman"/>
              </a:rPr>
              <a:t>Редкое явление – перламутровые облака.  Фото в Антарктиде Рене Бейкер на  антарктической станции Моусон  вечером 25 июля 2006г.   Температура воздуха в области облаков -87°С,  скорость ветра 230 км/ч.</a:t>
            </a:r>
            <a:r>
              <a:rPr b="0" lang="ru-RU" sz="1000" spc="-1" strike="noStrike">
                <a:solidFill>
                  <a:srgbClr val="6600ff"/>
                </a:solidFill>
                <a:latin typeface="Arial"/>
              </a:rPr>
              <a:t>  </a:t>
            </a:r>
            <a:r>
              <a:rPr b="0" lang="ru-RU" sz="1000" spc="-1" strike="noStrike">
                <a:solidFill>
                  <a:srgbClr val="6600ff"/>
                </a:solidFill>
                <a:latin typeface="Times New Roman"/>
              </a:rPr>
              <a:t>Состоят из кристалликов льда на высоте 20-30км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834920" y="0"/>
            <a:ext cx="532764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Основные движения Зем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564000" y="907920"/>
            <a:ext cx="504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419640" y="692280"/>
            <a:ext cx="554508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Движение вокруг Солнц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по эллиптической (</a:t>
            </a: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близка к круговой,</a:t>
            </a: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 е=0.0167) со средней скоростью 29,8км/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Радиус орбиты Земли -149,6 млн км – принят за одну астрономическую единиц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Период обращения по орбите составляет 365,256 суток или один г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859280" y="328464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476360" y="3789360"/>
            <a:ext cx="309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Вращение вокруг оси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Смена времени суток. Ось вращения все время // сама себе и наклонена к плоскости орбиты под углом 66°34'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179280" y="836640"/>
            <a:ext cx="3114720" cy="21715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179280" y="3573360"/>
            <a:ext cx="1133640" cy="25434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116000" y="6308640"/>
            <a:ext cx="59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Вследствие этого происходит смена времен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916000" y="0"/>
            <a:ext cx="360036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Форма Зем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50920" y="549360"/>
            <a:ext cx="3343320" cy="34671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708360" y="765000"/>
            <a:ext cx="525636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К 1684г </a:t>
            </a: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И. Ньютон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доказал, что Земля сжата по полюсам (эллипсоид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пределение размера впервые проведены в 240г до НЭ в Египте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Эратосфен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рандиозные измерения от Северного Ледовитого океана до Дуная проведены в России в 1816-1855гг под руководством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.Я.Струв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зже выяснено, что форма Земли имеет более сложную фигуру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геои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грушевидная форма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кваториальный радиус 6378 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лярный радиус 6356 к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редний радиус 6371 к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жатие составляет 0,003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71640" y="4221000"/>
            <a:ext cx="75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жатие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е = (a-b)/a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, где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– большая,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– малая полуось эллипс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0920" y="4869000"/>
            <a:ext cx="8642160" cy="16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Times New Roman"/>
              </a:rPr>
              <a:t>Зная размер Земли, можно определить ее массу и среднюю плотность, считая приближенно Землю ша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F=m</a:t>
            </a:r>
            <a:r>
              <a:rPr b="1" lang="ru-RU" sz="2400" spc="-1" strike="noStrike" baseline="30000">
                <a:solidFill>
                  <a:srgbClr val="0000ff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g=G</a:t>
            </a:r>
            <a:r>
              <a:rPr b="1" lang="ru-RU" sz="2400" spc="-1" strike="noStrike" baseline="30000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(M</a:t>
            </a:r>
            <a:r>
              <a:rPr b="1" lang="ru-RU" sz="2400" spc="-1" strike="noStrike" baseline="30000">
                <a:solidFill>
                  <a:srgbClr val="0000ff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m)/R</a:t>
            </a:r>
            <a:r>
              <a:rPr b="1" lang="ru-RU" sz="2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=(g</a:t>
            </a:r>
            <a:r>
              <a:rPr b="1" lang="ru-RU" sz="2400" spc="-1" strike="noStrike" baseline="30000">
                <a:solidFill>
                  <a:srgbClr val="0000ff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ru-RU" sz="2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)/G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≈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5,9736</a:t>
            </a:r>
            <a:r>
              <a:rPr b="1" lang="ru-RU" sz="2400" spc="-1" strike="noStrike" baseline="30000">
                <a:solidFill>
                  <a:srgbClr val="0000ff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1" lang="ru-RU" sz="2400" spc="-1" strike="noStrike" baseline="30000">
                <a:solidFill>
                  <a:srgbClr val="0000ff"/>
                </a:solidFill>
                <a:latin typeface="Arial"/>
              </a:rPr>
              <a:t>24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кг þ</a:t>
            </a:r>
            <a:r>
              <a:rPr b="0" lang="ru-RU" sz="2400" spc="-1" strike="noStrike" baseline="-25000">
                <a:solidFill>
                  <a:srgbClr val="0000ff"/>
                </a:solidFill>
                <a:latin typeface="Arial"/>
              </a:rPr>
              <a:t>ср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=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/V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=5,515кг/м</a:t>
            </a:r>
            <a:r>
              <a:rPr b="0" lang="ru-RU" sz="24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10920" y="-360"/>
            <a:ext cx="4402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Луна – спутник Зем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1341360"/>
            <a:ext cx="5580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Луна повернута к Земле одной стороной, светит отраженным светом, имеет пепельный цвет и вид фазы (освещенной части) зависит от взаимного расположения Солнца, Земли и Луны.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Фаза - отношение площади освещенной части видимого диска Луны ко всей его площад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или толщины освещенной части диска к ее диаметру).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79280" y="1341360"/>
            <a:ext cx="3229200" cy="28576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4365720"/>
            <a:ext cx="5219640" cy="23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663300"/>
                </a:solidFill>
                <a:latin typeface="Arial"/>
              </a:rPr>
              <a:t>Если вид серпа Луны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Wingdings 2"/>
                <a:ea typeface="Wingdings 2"/>
              </a:rPr>
              <a:t>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663300"/>
                </a:solidFill>
                <a:latin typeface="Arial"/>
              </a:rPr>
              <a:t>(мысленно подставить палочку и получить букву </a:t>
            </a:r>
            <a:r>
              <a:rPr b="1" lang="ru-RU" sz="1400" spc="-1" strike="noStrike">
                <a:solidFill>
                  <a:srgbClr val="663300"/>
                </a:solidFill>
                <a:latin typeface="Arial"/>
              </a:rPr>
              <a:t>р</a:t>
            </a:r>
            <a:r>
              <a:rPr b="0" lang="ru-RU" sz="1400" spc="-1" strike="noStrike">
                <a:solidFill>
                  <a:srgbClr val="663300"/>
                </a:solidFill>
                <a:latin typeface="Arial"/>
              </a:rPr>
              <a:t>) - месяц молодой (Луна растет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cc3300"/>
                </a:solidFill>
                <a:latin typeface="Arial"/>
              </a:rPr>
              <a:t>Если вид серпа  Луны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ff0000"/>
                </a:solidFill>
                <a:latin typeface="Wingdings 2"/>
                <a:ea typeface="Wingdings 2"/>
              </a:rPr>
              <a:t>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cc3300"/>
                </a:solidFill>
                <a:latin typeface="Arial"/>
              </a:rPr>
              <a:t>-  месяц старый (Луна убывает)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ru-RU" sz="1400" spc="-1" strike="noStrike">
                <a:solidFill>
                  <a:srgbClr val="0099ff"/>
                </a:solidFill>
                <a:latin typeface="Arial"/>
              </a:rPr>
              <a:t>Полный цикл смены фаз (</a:t>
            </a:r>
            <a:r>
              <a:rPr b="1" lang="ru-RU" sz="1400" spc="-1" strike="noStrike">
                <a:solidFill>
                  <a:srgbClr val="0099ff"/>
                </a:solidFill>
                <a:latin typeface="Arial"/>
              </a:rPr>
              <a:t>синодический месяц</a:t>
            </a:r>
            <a:r>
              <a:rPr b="0" lang="ru-RU" sz="1400" spc="-1" strike="noStrike">
                <a:solidFill>
                  <a:srgbClr val="0099ff"/>
                </a:solidFill>
                <a:latin typeface="Arial"/>
              </a:rPr>
              <a:t>) составляет примерно 29,5 суток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ff"/>
                </a:solidFill>
                <a:latin typeface="Arial"/>
              </a:rPr>
              <a:t>   </a:t>
            </a:r>
            <a:r>
              <a:rPr b="0" lang="ru-RU" sz="1400" spc="-1" strike="noStrike">
                <a:solidFill>
                  <a:srgbClr val="0099ff"/>
                </a:solidFill>
                <a:latin typeface="Arial"/>
              </a:rPr>
              <a:t>Полный оборот вокруг Земли (</a:t>
            </a:r>
            <a:r>
              <a:rPr b="1" lang="ru-RU" sz="1400" spc="-1" strike="noStrike">
                <a:solidFill>
                  <a:srgbClr val="0099ff"/>
                </a:solidFill>
                <a:latin typeface="Arial"/>
              </a:rPr>
              <a:t>сидерический месяц</a:t>
            </a:r>
            <a:r>
              <a:rPr b="0" lang="ru-RU" sz="1400" spc="-1" strike="noStrike">
                <a:solidFill>
                  <a:srgbClr val="0099ff"/>
                </a:solidFill>
                <a:latin typeface="Arial"/>
              </a:rPr>
              <a:t>) Луна совершает примерно за 27,3 суток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Луна быстро перемещается по небу с запада на восток:   360</a:t>
            </a:r>
            <a:r>
              <a:rPr b="1" lang="ru-RU" sz="1200" spc="-1" strike="noStrike" baseline="30000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:27,3≈13</a:t>
            </a:r>
            <a:r>
              <a:rPr b="1" lang="ru-RU" sz="1200" spc="-1" strike="noStrike" baseline="30000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/су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Каждые сутки кульминация запаздывает на  24час : 27,3≈50 мин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620640"/>
            <a:ext cx="8964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6600ff"/>
                </a:solidFill>
                <a:latin typeface="Arial"/>
              </a:rPr>
              <a:t>Единственный естественный спутник Земли, удаленный в среднем от Земли на 384400км (</a:t>
            </a:r>
            <a:r>
              <a:rPr b="0" lang="en-US" sz="1400" spc="-1" strike="noStrike">
                <a:solidFill>
                  <a:srgbClr val="6600ff"/>
                </a:solidFill>
                <a:latin typeface="Arial"/>
                <a:ea typeface="Arial"/>
              </a:rPr>
              <a:t>±</a:t>
            </a:r>
            <a:r>
              <a:rPr b="0" lang="ru-RU" sz="1400" spc="-1" strike="noStrike">
                <a:solidFill>
                  <a:srgbClr val="6600ff"/>
                </a:solidFill>
                <a:latin typeface="Arial"/>
                <a:ea typeface="Arial"/>
              </a:rPr>
              <a:t>21000км)</a:t>
            </a:r>
            <a:r>
              <a:rPr b="0" lang="ru-RU" sz="1400" spc="-1" strike="noStrike">
                <a:solidFill>
                  <a:srgbClr val="6600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ff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6600ff"/>
                </a:solidFill>
                <a:latin typeface="Arial"/>
              </a:rPr>
              <a:t>Из-за большого размера систему Земля-Луна называют двойной планетой и центр масс находится на расстоянии 4671км от центра Земли (именно он движутся вокруг Солнца по эллиптической орбите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5148360" y="2708280"/>
            <a:ext cx="3809880" cy="23814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5148360" y="5143680"/>
            <a:ext cx="3809880" cy="17143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492360" y="2997360"/>
            <a:ext cx="151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=384400км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= 0,0549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R=1738к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348000" y="-360"/>
            <a:ext cx="28195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Затм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140360" y="549360"/>
            <a:ext cx="500364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1" i="1" lang="en-US" sz="1400" spc="-1" strike="noStrike">
                <a:solidFill>
                  <a:srgbClr val="6600ff"/>
                </a:solidFill>
                <a:latin typeface="Arial"/>
              </a:rPr>
              <a:t>Затмение - явление, при котором свет от небесного тела временно затемняется другим телом</a:t>
            </a:r>
            <a:r>
              <a:rPr b="0" lang="en-US" sz="1400" spc="-1" strike="noStrike">
                <a:solidFill>
                  <a:srgbClr val="6600ff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Это может быть для нашей Солнечной системы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) проход планетарного спутника (например Луны), в тени планеты так, что на него не попадает свет (например Солнца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) затемнение всего светила (например Солнца) или его части проходящим перед ним  спутником (например Луной - солнечное затмение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0920" y="3500280"/>
            <a:ext cx="8713800" cy="19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В течение месяца, благоприятного для затмений может произойти одно солнечное, или два солнечных и лунное затмение. Следующее необходимое для затмений расположение лунной орбиты произойдет только через пол года (177-178 суток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Максимальное число затмений в году - семь (например 1982г - четыре частных солнечных и три полных лунных) затмения Луны и четыре частных затмения Солнца, хотя одно из солнечных затмений было очень небольшим. Теоретически возможно, что в два последовательных новолуния произойдут солнечные затмения, а между ними - лунное затмение. Однако лунные затмения в два последовательных полнолуния невозможн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5427720"/>
            <a:ext cx="9144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Затмения повторяются</a:t>
            </a:r>
            <a:r>
              <a:rPr b="0" lang="ru-RU" sz="1400" spc="-1" strike="noStrike">
                <a:solidFill>
                  <a:srgbClr val="6600ff"/>
                </a:solidFill>
                <a:latin typeface="Arial"/>
              </a:rPr>
              <a:t> (египетское -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арос</a:t>
            </a:r>
            <a:r>
              <a:rPr b="0" lang="ru-RU" sz="1400" spc="-1" strike="noStrike">
                <a:solidFill>
                  <a:srgbClr val="6600ff"/>
                </a:solidFill>
                <a:latin typeface="Arial"/>
              </a:rPr>
              <a:t>), что связано с поворотом плоскости  лунной орбиты. Малый сарос составляет 6585,32 сут (18 лет 10,32 дней). За это время происходит 70-71 затмение (42-43 солнечных и 28 лунных) и в следующем саросе затмения повторяются в этом же порядке. В любой серии сароса  каждое затмение происходит приблизительно на 8 часов позже и почти на 120° долготы западнее предыдущего затмения. Большой сарос составляет 19756 сут (54г 34 сут) - повторение почти одинаковых затмений, который меняется в течение 1000 лет другой сери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79280" y="692280"/>
            <a:ext cx="3961080" cy="1998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971640" y="270828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ff"/>
                </a:solidFill>
                <a:latin typeface="Arial"/>
              </a:rPr>
              <a:t>Схема солнечного затм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9280" y="2997360"/>
            <a:ext cx="896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Орбита Луны наклонена к плоскости орбиты Земли на 5,1°, поэтому время от времени эти три тела оказываются в соединении. Тогда происходит затме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340000" y="0"/>
            <a:ext cx="41148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Солнечное затм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627280" y="1628640"/>
            <a:ext cx="46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95640" y="907920"/>
            <a:ext cx="514836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Виды солнечного затмения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частное-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акрывает часть солнечного диска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,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2. кольцевое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закрывает полностью Солнце, когда диаметр Луны меньше солнечного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,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3. полно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центральное)- закрывает полностью Солнце, когда диаметр Луны больше солнечного. 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 </a:t>
            </a:r>
            <a:r>
              <a:rPr b="0" i="1" lang="en-US" sz="1800" spc="-1" strike="noStrike">
                <a:solidFill>
                  <a:srgbClr val="cc3300"/>
                </a:solidFill>
                <a:latin typeface="Arial"/>
              </a:rPr>
              <a:t> </a:t>
            </a:r>
            <a:r>
              <a:rPr b="0" i="1" lang="en-US" sz="1400" spc="-1" strike="noStrike">
                <a:solidFill>
                  <a:srgbClr val="cc3300"/>
                </a:solidFill>
                <a:latin typeface="Arial"/>
              </a:rPr>
              <a:t>Солнечное затмение происходит в новолуние или близкой точке орбиты, максимальная длительность 7 мин 40сек. Тень прочерчивает по поверхности Земли изогнутую траекторию максимальной ширины в 264 км (полутени около 6000км), двигаясь со скоростью 1 км/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3300"/>
                </a:solidFill>
                <a:latin typeface="Arial"/>
              </a:rPr>
              <a:t>     </a:t>
            </a:r>
            <a:r>
              <a:rPr b="0" i="1" lang="en-US" sz="1400" spc="-1" strike="noStrike">
                <a:solidFill>
                  <a:srgbClr val="cc3300"/>
                </a:solidFill>
                <a:latin typeface="Arial"/>
              </a:rPr>
              <a:t>Частные затмения могут происходить и тогда, когда полное затмение не наблюдается ни в одной точке Земл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79280" y="981000"/>
            <a:ext cx="3708360" cy="49021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0" y="6093000"/>
            <a:ext cx="406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следовательность фаз кольцеобразного солнечного затмения 24 декабря 1973г (период 1,5 ч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5003640" y="3933720"/>
            <a:ext cx="381024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8T01:08:26Z</dcterms:created>
  <dc:creator>Анатолий</dc:creator>
  <dc:description/>
  <dc:language>en-US</dc:language>
  <cp:lastModifiedBy>Name</cp:lastModifiedBy>
  <dcterms:modified xsi:type="dcterms:W3CDTF">2010-09-23T12:05:58Z</dcterms:modified>
  <cp:revision>64</cp:revision>
  <dc:subject/>
  <dc:title>Солнечное затмени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a0c000000000001024140</vt:lpwstr>
  </property>
</Properties>
</file>