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18.png" ContentType="image/png"/>
  <Override PartName="/ppt/media/image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D8C-2A28-4297-8027-61561535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5D8-B594-4895-8EBA-3C0FD3B1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157-2C8E-4765-8845-2892FA89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763-E5EE-487F-B985-210DBA91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CFE-E4EC-41D7-AED1-C24CE99B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064-AC43-4FAF-93E6-C2F86A4A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239-21FC-4712-9D97-4EE130B4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E6C6-D34D-49AA-9459-12E41168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DDD-5808-4303-B701-9917B6AA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1C4-7CEC-4B80-9F31-B84C353F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E9A-5B59-40BC-B3FB-E12FEFB0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6FB-8544-475A-B6C0-62DD73C1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7437-0D5A-4CA0-8199-48EA6C38D7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606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Урок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981000"/>
            <a:ext cx="47131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Тема: Система «Земля-Л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6583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КС модернезируется, 20.09.200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890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76640"/>
            <a:ext cx="385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ое затмение 29 марта 2006г. Фото космонавтов ВалерияТокарева и Уильяма Макартур с МК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762440" cy="216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6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23810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266920" cy="257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4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3682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унные 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438640" cy="20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924280"/>
            <a:ext cx="27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мение Луны 16 июля 2000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06560" y="765000"/>
            <a:ext cx="6337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иды лунного затмения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част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нь Земли закрывает ча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полно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ь Земли закрывает полностью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унное затмение происходит в полнолунии или близкой точке с  максимальной продолжительностью  1 час 4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ватый цвет диска Луны объясняется тем, что через атмосферу лучше всего проходят красные и оранжевые лу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81024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3213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Схема наступления лун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еты Солнеч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3898800" cy="46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ем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большие размеры и м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ая средняя пло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ленное осевое в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ло (нет) спу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вердая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052640"/>
            <a:ext cx="3888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еты – гигант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размеры и м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ая средняя плотность  (сравнима с Н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строе осевое вращ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число спутник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щные Н-Не атмосфер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9584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 и масса планеты указывают на действующую силу тяжести и способность планеты удерживать атмосферу (при 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моле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парабо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для Земли =11,2 км/с)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отность атмосферы и ее химический состав определяют степень поглощения в ней излучений идущих от Солнца и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ение вокруг оси - это смена дня и ночи (сутки), выравнивание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пература на поверхности зависит от удаленности от Солнца и наличия атмосфер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58172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35640" y="486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Юпит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4869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486900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Уран      Непт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970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смическая э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октября 1957г  запущен первый ИСЗ (“Спутник-1”, СССР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апреля 1961г  первый полет человека в космос (Ю.А.Гагарин, СССР, КК “Восток”)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78920" y="549360"/>
            <a:ext cx="8502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Наблюдение за телами Солнечной системы кроме оптических, последние более 40 лет осуществляется различными КА. У истоков начала космической эры стоит Рос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2133720"/>
            <a:ext cx="119052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11908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1282680" cy="139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6450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Первый космонавт планеты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Юрий Алексеевич Гагарин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34 –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645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 теории реактивного движения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Константин Эдуардович Циолковский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857-193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течественной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смонавтики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Сергей Павлович Королев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7-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3789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нструктор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реактивных двигателей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Валентин Павлович Глушко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8-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10484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08000" y="45086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03640" y="4581360"/>
            <a:ext cx="17146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164360" y="5229360"/>
            <a:ext cx="1409760" cy="95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63388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2.04.1961. Байконур. Ракета-носитель 8К72 ( "Восток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"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)  перед стартом. 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0864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Первый ИСЗ. Шар диаметром 58 см и весом 83,6 кг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308640"/>
            <a:ext cx="22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17.11.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9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70, АМС  "Луна-17" доставила на Луну  "Луноход-1"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630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5.11.1988, советский МТКК "Буран" на земл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209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1280" y="476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емля – третья планета от Солнца, достаточно массивна и удерживает возле себя атмосфер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96040" cy="456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51339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05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Которая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20000" y="5394240"/>
            <a:ext cx="212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Редкое явление – перламутровые облака.  Фото в Антарктиде Рене Бейкер на  антарктической станции Моусон  вечером 25 июля 2006г.   Температура воздуха в области облаков -87°С,  скорость ветра 230 км/ч.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Состоят из кристалликов льда на высоте 20-30к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3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движения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92280"/>
            <a:ext cx="5545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ижение вокруг Солн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эллиптической (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лизка к круговой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е=0.0167) со средней скоростью 29,8к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диус орбиты Земли -149,6 млн км – принят за одну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иод обращения по орбите составляет 365,256 суток или один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7636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ращение вокруг ос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мена времени суток. Ось вращения все время // сама себе и наклонена к плоскости орбиты под углом 66°34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133640" cy="25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следствие этого происходит смена време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орм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343320" cy="34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08360" y="765000"/>
            <a:ext cx="525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К 1684г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. Ньютон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доказал, что Земля сжата по полюсам (эллипсо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размера впервые проведены в 240г до НЭ в Египт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ратосфе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ндиозные измерения от Северного Ледовитого океана до Дуная проведены в России в 1816-1855гг под руководство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.Я.Стру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же выяснено, что форма Земли имеет более сложную фигуру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грушевидная фор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ваториальный радиус 637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ярный радиус 6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ий радиус 6371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е составляет 0,00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жати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 = (a-b)/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большая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 малая полуось эллип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869000"/>
            <a:ext cx="86421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Зная размер Земли, можно определить ее массу и среднюю плотность, считая приближенно Землю ш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F=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g=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m)/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=(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/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,9736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г þ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</a:rPr>
              <a:t>с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/V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5,515кг/м</a:t>
            </a:r>
            <a:r>
              <a:rPr b="0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02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уна –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341360"/>
            <a:ext cx="55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на повернута к Земле одной стороной, светит отраженным светом, имеет пепельный цвет и вид фазы (освещенной части) зависит от взаимного расположения Солнца, Земли и Луны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Фаза - отношение площади освещенной части видимого диска Луны ко всей его площад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или толщины освещенной части диска к ее диаметр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2292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365720"/>
            <a:ext cx="52196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Если вид серпа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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(мысленно подставить палочку и получить букву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) - месяц молодой (Луна раст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Если вид серпа 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-  месяц старый (Луна убывает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цикл смены фаз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нод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составляет примерно 29,5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   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оборот вокруг Земли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дер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Луна совершает примерно за 27,3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уна быстро перемещается по небу с запада на восток:   360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27,3≈13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/с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ждые сутки кульминация запаздывает на  24час : 27,3≈50 мин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0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Единственный естественный спутник Земли, удаленный в среднем от Земли на 384400км (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±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21000км)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Из-за большого размера систему Земля-Луна называют двойной планетой и центр масс находится на расстоянии 4671км от центра Земли (именно он движутся вокруг Солнца по эллиптической орбит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48360" y="5143680"/>
            <a:ext cx="380988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2997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=384400к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= 0,0549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=1738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500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500280"/>
            <a:ext cx="87138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27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тмения повторяются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(египетское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арос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), что связано с поворотом плоскости  лунной орбиты. Малый сарос составляет 6585,32 сут (18 лет 10,32 дней). За это время происходит 70-71 затмение (42-43 солнечных и 28 лунных) и в следующем саросе затмения повторяются в этом же порядке. В любой серии сароса  каждое затмение происходит приблизительно на 8 часов позже и почти на 120° долготы западнее предыдущего затмения. Большой сарос составляет 19756 сут (54г 34 сут) - повторение почти одинаковых затмений, который меняется в течение 1000 лет другой се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961080" cy="19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2708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Схема солнеч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114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лнечное зат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907920"/>
            <a:ext cx="5148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солнечного затмен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частно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. кольцевое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крывает полностью Солнце, когда диаметр Луны меньше солнечн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. пол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центральное)- закрывает полностью Солнце, когда диаметр Луны больше солнечного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708360" cy="490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093000"/>
            <a:ext cx="40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1:08:26Z</dcterms:created>
  <dc:creator>Анатолий</dc:creator>
  <dc:description/>
  <dc:language>en-US</dc:language>
  <cp:lastModifiedBy>Name</cp:lastModifiedBy>
  <dcterms:modified xsi:type="dcterms:W3CDTF">2010-09-23T12:05:58Z</dcterms:modified>
  <cp:revision>64</cp:revision>
  <dc:subject/>
  <dc:title>Солнечное затм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4140</vt:lpwstr>
  </property>
</Properties>
</file>