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5D4-987C-474F-85A1-AD3F3F34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6EA-9E76-451C-AAB9-05DA4FF0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D68-D524-41BA-8C2F-94F94EFD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9B3-FED9-4086-8004-05799EEB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FA29-AE82-42F9-AC0E-B6FBF40E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3E5F-01AB-4D01-AA35-A1C2FD70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4786-4DA1-421D-B7C2-0087BDAA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E84C-2F43-475F-9CA0-C3CC8DDA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E686-5EF3-422C-B0D4-8477CB5F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6525-A90E-4D10-9518-C07ED903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55E4-3455-4A45-9FAD-C84C1F73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13D-4716-40D1-982C-EC0513C8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11C4-F221-465B-90D8-0291CE8C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608E-1580-4FEE-939A-2E3CC6F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5FAC-56E4-4370-B954-D49DA410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8BC8-2900-4349-A198-9EF917FD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84E0-BC7F-4B6C-BC96-E99AAEF6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9D1-8B9C-433F-BB6D-6529944F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017-A95A-43C3-9232-53BB1CFC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08F-126E-46EA-BAD3-B0495ABD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7B4-9BF0-4341-9F65-A9CBB47D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107-083C-4E41-8B39-3EE6A6C1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47B-DDE1-403C-B0AE-5774EE49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7F2-C7A1-481A-932E-0D0BC71D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4A14-B89C-4C99-8852-36B3DAA0D2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C90F-952B-4426-B3CD-05871301A5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Наша Галак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5635800"/>
            <a:ext cx="6769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 Вахромовой Алены (11 класс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ировой Гульназ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Шаровые скопления сильно выделяются на звездном фоне благодаря значительному числу звезд и четкой сферической форме. Диаметр шаровых скоплений составляет от 20 до 100 п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522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аровое скопление в созвездии Центав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одводные кораллы? Очарованные замки? Космические змеи?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действительности эти таинственные темные колонны -очень плотные газопылевые облака туманности М16 Орел в созвездии Зме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Большая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туманность Ориона. Это диффузная туманност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альная часть Туманности Орион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уманность Курительная Трубк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859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Кошачий Глаз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86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Эскимос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руговорот газа и пыли в Галактик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964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емная туманность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хема расположения Туманности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дним из самых примечательных объектов звездного неба является Млечный Путь. Древние греки называли его  «молочный круг». Уже первые наблюдения в телескоп проведенные Галилеем, показали, что Млечный Путь – это скопление очень далеких и слабых звезд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в созвездии Ли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 Галактики в инфракрасных луча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ращение Галактики происходит по часовой стрелке, если смотреть на Галактику со стороны ее северного полюса, находящегося в созвездии Волосы Вероники. Угловая скорость вращения зависит от расстояния от центра и убывает по мере удаления от центра. Солнце движется со скоростью 200 км \с вокруг центра Галактики и делает полный оборот вокруг центра за 220 миллионов ле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25592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арта Млечного Пу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057880" cy="47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собенно эффектно выглядит Млечный Путь в южном полушари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5661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Южная часть Млечного 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начале 20 века стало очевидным, что почти все видимое вещество во Вселенной сосредоточено в гигантских звездно-газовых островах с характерным размером от нескольких парсеков до нескольких десятков килопарсеков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олнце вместе с окружающими его звездами также входят в состав спиральной галактики, всегда обозначаемой с заглавной буквы: Галактика. Когда мы говорим о Солнце, как об объекте Солнечной системы, мы тоже пишем его с большой букв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511308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6674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лактика состоит из диска, гала и короны. Центральная, наиболее компактная область Галактики называется ядром. Центральная, наиболее плотная часть гало в пределах нескольких тысяч световых лет от центра Галактики называется бал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Галактика излучает во всех диапазонах электромагнитного излуче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353440" cy="3579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47640" y="57340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ечный Путь в различных диапазонах длин вол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пределение звезд в Галактике имеет две ярко выраженные особенности :очень высокую концентрацию звезд в галактической плоскости и большую концентрацию в центре Галактик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42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8000" y="61657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рно так выглядит наша Галактика сб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6438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римерно так выглядит наша Галактика сверху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Галактике каждая третья звезда -двойная, имеются системы из трех и более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вестны и более сложные объекты -звездные скопления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звездные скопления встречаются вблизи галактической плоскос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5640" y="2000160"/>
            <a:ext cx="4968720" cy="315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95640" y="5300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М50 в созвездии Единор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00244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скопления состоят из сотен или тысяч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х масса невелика (100-1000 масс Солнца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672000" y="6491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Плея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22:03Z</dcterms:created>
  <dc:creator>Авдонин Александр Петрович</dc:creator>
  <dc:description/>
  <dc:language>en-US</dc:language>
  <cp:lastModifiedBy>Name</cp:lastModifiedBy>
  <dcterms:modified xsi:type="dcterms:W3CDTF">2010-09-23T12:05:45Z</dcterms:modified>
  <cp:revision>13</cp:revision>
  <dc:subject/>
  <dc:title>Млечный Пу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c000000000001024140</vt:lpwstr>
  </property>
</Properties>
</file>