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806-7866-4BB8-A4AC-95EDA021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E934-DF71-4314-B996-CD566192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8C0B-D109-461C-B961-2349402A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DCD-8E62-4374-A0C2-8C3D5DDA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8FAB-67D1-4084-BE00-5D6318C1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D702-9B58-45D0-9587-D6EE4521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1BD1-476B-4DC6-8D4B-A6F416CE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1DC3-F82C-4643-AE4C-9B99E051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E769-F206-4AE0-A9EB-F4207169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1090-F711-4FCA-AC55-7E3361F6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590A-57B3-4AF6-8933-F781E9B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2BF-D621-40AF-8F45-3C2FEA66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3BDD-48F4-4A88-8984-108492C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6273-DE8F-45BB-99F2-4562B200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2FB6-FE87-4DEA-BDAE-06924C3E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AB61-1159-4D9C-8539-AE1E6206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C536-10EA-4048-A173-B652C2E9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1EB-7798-4B7E-A157-949B019B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922-83DF-41A9-A04C-C59C3D42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8C6-C6F4-45A3-B5B9-26C70F74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7D7-EA96-487C-A53B-3539FE0F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1F3-16C4-4AE4-BC47-03B0A50E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71F-52C2-48D8-863D-AA7B1C9C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D9B-9C14-4EF6-8FB9-49C333C2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E2E3-2729-457A-9CCB-7BF9FD8E2F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A303-F91F-4696-80E3-70C906EAB4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4760"/>
            <a:ext cx="82296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Наша Галак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5635800"/>
            <a:ext cx="6769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 Вахромовой Алены (11 класс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ировой Гульназ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Шаровые скопления сильно выделяются на звездном фоне благодаря значительному числу звезд и четкой сферической форме. Диаметр шаровых скоплений составляет от 20 до 100 пк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522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аровое скопление в созвездии Центав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одводные кораллы? Очарованные замки? Космические змеи?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действительности эти таинственные темные колонны -очень плотные газопылевые облака туманности М16 Орел в созвездии Зме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Большая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 туманность Ориона. Это диффузная туманность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альная часть Туманности Орион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уманность Курительная Трубк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85952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Кошачий Глаз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86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Эскимос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руговорот газа и пыли в Галактик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964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емная туманность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хема расположения Туманности Конская Голов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дним из самых примечательных объектов звездного неба является Млечный Путь. Древние греки называли его  «молочный круг». Уже первые наблюдения в телескоп проведенные Галилеем, показали, что Млечный Путь – это скопление очень далеких и слабых звезд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ланетарная туманность в созвездии Ли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-7920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Центр Галактики в инфракрасных лучах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ращение Галактики происходит по часовой стрелке, если смотреть на Галактику со стороны ее северного полюса, находящегося в созвездии Волосы Вероники. Угловая скорость вращения зависит от расстояния от центра и убывает по мере удаления от центра. Солнце движется со скоростью 200 км \с вокруг центра Галактики и делает полный оборот вокруг центра за 220 миллионов лет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4255920" cy="40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Карта Млечного Пу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8057880" cy="479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Особенно эффектно выглядит Млечный Путь в южном полушари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411280" y="5661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Южная часть Млечного Пу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18440" cy="18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начале 20 века стало очевидным, что почти все видимое вещество во Вселенной сосредоточено в гигантских звездно-газовых островах с характерным размером от нескольких парсеков до нескольких десятков килопарсеков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Солнце вместе с окружающими его звездами также входят в состав спиральной галактики, всегда обозначаемой с заглавной буквы: Галактика. Когда мы говорим о Солнце, как об объекте Солнечной системы, мы тоже пишем его с большой букв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5113080" cy="285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6674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алактика состоит из диска, гала и короны. Центральная, наиболее компактная область Галактики называется ядром. Центральная, наиболее плотная часть гало в пределах нескольких тысяч световых лет от центра Галактики называется бал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Галактика излучает во всех диапазонах электромагнитного излуче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353440" cy="3579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57340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лечный Путь в различных диапазонах длин вол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пределение звезд в Галактике имеет две ярко выраженные особенности :очень высокую концентрацию звезд в галактической плоскости и большую концентрацию в центре Галактик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42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8000" y="61657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рно так выглядит наша Галактика сбо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438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Примерно так выглядит наша Галактика сверху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 Галактике каждая третья звезда -двойная, имеются системы из трех и более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звестны и более сложные объекты -звездные скопления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звездные скопления встречаются вблизи галактической плоскости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95640" y="2000160"/>
            <a:ext cx="4968720" cy="31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195640" y="530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М50 в созвездии Единоро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00244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Рассеянные скопления состоят из сотен или тысяч звезд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х масса невелика (100-1000 масс Солнца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6491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еянное скопление Плея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0:22:03Z</dcterms:created>
  <dc:creator>Авдонин Александр Петрович</dc:creator>
  <dc:description/>
  <dc:language>en-US</dc:language>
  <cp:lastModifiedBy>Name</cp:lastModifiedBy>
  <dcterms:modified xsi:type="dcterms:W3CDTF">2010-09-23T12:05:45Z</dcterms:modified>
  <cp:revision>13</cp:revision>
  <dc:subject/>
  <dc:title>Млечный Пу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c000000000001024140</vt:lpwstr>
  </property>
</Properties>
</file>