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A4A-4E46-4B08-AB7D-8DB6B923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F00-F7EA-4005-9D82-3F1BB9AD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569-434B-4B94-9D45-980ABB0F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069-CC33-4133-B179-74AA1D67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82E9-C5B9-4088-BF6A-4EB9E7E6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6EB1-76CF-4E36-9A44-B6C2A13D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4A3F-E048-49D9-8066-C9E88EE8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406A-2A03-4866-A8AA-54D60784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C390-A92D-44E8-A97B-C522257B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3748-CC02-4B1C-A464-EE395B8C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9E33-EEDA-40DD-B469-E33C802D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7AF-8C81-4625-AC7C-30F586DB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69A1-7532-4D18-9D98-A3273085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1202-F495-4677-9FB9-2184DFE5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B279-4D9C-4F30-88CE-C0A4F222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ABCA-8C5E-4A22-9B39-95A5981C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60FC-3489-4780-9580-4C54EDEA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6E4-820A-43BC-B416-C4851700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B94-BD20-45F0-969A-74B5AC5F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F43-3BAD-4BB4-A436-73565479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8F8-AD28-4A05-8B8C-32CBD71A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D52-C45F-4A85-BBE7-34EBFE89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1C3-A460-42DE-BB46-0DCF0C6E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1A7-5286-419B-B6E9-378341ED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9DF8-84BE-4661-BB29-807710BE7E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9809-0E9E-4CF1-B2A9-CC5E72AE85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Наша Галак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5635800"/>
            <a:ext cx="6769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 Вахромовой Алены (11 класс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ировой Гульназ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Шаровые скопления сильно выделяются на звездном фоне благодаря значительному числу звезд и четкой сферической форме. Диаметр шаровых скоплений составляет от 20 до 100 п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522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аровое скопление в созвездии Центав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одводные кораллы? Очарованные замки? Космические змеи?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действительности эти таинственные темные колонны -очень плотные газопылевые облака туманности М16 Орел в созвездии Зме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Большая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туманность Ориона. Это диффузная туманност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альная часть Туманности Орион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уманность Курительная Трубк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859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Кошачий Глаз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86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Эскимо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руговорот газа и пыли в Галактик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964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емная туманность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хема расположения Туманности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ним из самых примечательных объектов звездного неба является Млечный Путь. Древние греки называли его  «молочный круг». Уже первые наблюдения в телескоп проведенные Галилеем, показали, что Млечный Путь – это скопление очень далеких и слабых звезд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в созвездии Ли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 Галактики в инфракрасных луча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ращение Галактики происходит по часовой стрелке, если смотреть на Галактику со стороны ее северного полюса, находящегося в созвездии Волосы Вероники. Угловая скорость вращения зависит от расстояния от центра и убывает по мере удаления от центра. Солнце движется со скоростью 200 км \с вокруг центра Галактики и делает полный оборот вокруг центра за 220 миллионов ле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25592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рта Млечного Пу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5788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собенно эффектно выглядит Млечный Путь в южном полушар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5661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Южная часть Млечного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начале 20 века стало очевидным, что почти все видимое вещество во Вселенной сосредоточено в гигантских звездно-газовых островах с характерным размером от нескольких парсеков до нескольких десятков килопарсеков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олнце вместе с окружающими его звездами также входят в состав спиральной галактики, всегда обозначаемой с заглавной буквы: Галактика. Когда мы говорим о Солнце, как об объекте Солнечной системы, мы тоже пишем его с большой букв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511308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лактика состоит из диска, гала и короны. Центральная, наиболее компактная область Галактики называется ядром. Центральная, наиболее плотная часть гало в пределах нескольких тысяч световых лет от центра Галактики называется бал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Галактика излучает во всех диапазонах электромагнитного излуче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353440" cy="357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7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ечный Путь в различных диапазонах длин вол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пределение звезд в Галактике имеет две ярко выраженные особенности :очень высокую концентрацию звезд в галактической плоскости и большую концентрацию в центре Галактик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42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8000" y="61657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рно так выглядит наша Галактика сб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438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римерно так выглядит наша Галактика сверху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Галактике каждая третья звезда -двойная, имеются системы из трех и более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вестны и более сложные объекты -звездные скопления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звездные скопления встречаются вблизи галактической плоскос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5640" y="2000160"/>
            <a:ext cx="496872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95640" y="530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М50 в созвездии Единор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00244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скопления состоят из сотен или тысяч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х масса невелика (100-1000 масс Солнца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Плея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22:03Z</dcterms:created>
  <dc:creator>Авдонин Александр Петрович</dc:creator>
  <dc:description/>
  <dc:language>en-US</dc:language>
  <cp:lastModifiedBy>Name</cp:lastModifiedBy>
  <dcterms:modified xsi:type="dcterms:W3CDTF">2010-09-23T12:05:45Z</dcterms:modified>
  <cp:revision>13</cp:revision>
  <dc:subject/>
  <dc:title>Млечный Пу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c000000000001024140</vt:lpwstr>
  </property>
</Properties>
</file>