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DDB4-5C16-4AAA-8D30-BE632AD5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9C31-7A0C-41B9-AB67-4A775DF1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D114-C543-40E0-B791-FA985388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E8C-43A2-4282-91A0-AEA5EB35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3244-6BF0-4A8E-9855-D6C162B9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D834-1A33-4BCF-A1CE-E39F1231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544F-332A-4E25-BFBE-8EA4ACB4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BD58-E9D1-499C-ABB2-996B23F1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55EE-BE4C-4B57-A824-5A66844A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B70F-3C47-4768-906F-82EB193E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966C-894A-4012-829B-D7FFC63C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D931-3B5E-4713-91EE-1829A6DA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4005-C9BB-436F-AE7E-B6817CD4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7FA9-AEC7-4661-9D8D-B01647FB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4754-C722-4921-BE4F-E684BD61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B895-11BC-4929-99AF-A45800C2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0325-F0B7-4301-98E8-01562C7D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C64-3963-4CB6-B2F9-CE464AA2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9D3B-DA46-4F6F-BBAB-B0960965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2F84-2824-4792-9F08-315A2767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040-BACB-497D-AA5A-994944E9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D5B-B7AE-4D85-84A6-FAE5F8B4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9A1F-89A0-4C93-9EB6-60C77C88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553E-5318-4124-86DA-9BE98EC0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C6BE-F8E2-4FF0-9694-6960C981718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F65B-4339-43C4-993B-B7C5B6A87A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7476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Наша Галактик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5635800"/>
            <a:ext cx="676908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 Вахромовой Алены (11 класс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кировой Гульназ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Шаровые скопления сильно выделяются на звездном фоне благодаря значительному числу звезд и четкой сферической форме. Диаметр шаровых скоплений составляет от 20 до 100 пк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484360" y="52293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аровое скопление в созвездии Центав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одводные кораллы? Очарованные замки? Космические змеи?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действительности эти таинственные темные колонны -очень плотные газопылевые облака туманности М16 Орел в созвездии Зме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Большая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туманность Ориона. Это диффузная туманност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Центральная часть Туманности Орион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уманность Курительная Трубк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859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Кошачий Глаз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86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Эскимос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471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Круговорот газа и пыли в Галактике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964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емная туманность Конская Голов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-9216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Схема расположения Туманности Конская Голов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Одним из самых примечательных объектов звездного неба является Млечный Путь. Древние греки называли его  «молочный круг». Уже первые наблюдения в телескоп проведенные Галилеем, показали, что Млечный Путь – это скопление очень далеких и слабых звезд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в созвездии Лир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-7920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Центр Галактики в инфракрасных лучах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ращение Галактики происходит по часовой стрелке, если смотреть на Галактику со стороны ее северного полюса, находящегося в созвездии Волосы Вероники. Угловая скорость вращения зависит от расстояния от центра и убывает по мере удаления от центра. Солнце движется со скоростью 200 км \с вокруг центра Галактики и делает полный оборот вокруг центра за 220 миллионов лет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4255920" cy="406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Карта Млечного Пут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8057880" cy="479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Особенно эффектно выглядит Млечный Путь в южном полушари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5661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Южная часть Млечного Пу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18440" cy="18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начале 20 века стало очевидным, что почти все видимое вещество во Вселенной сосредоточено в гигантских звездно-газовых островах с характерным размером от нескольких парсеков до нескольких десятков килопарсеков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Солнце вместе с окружающими его звездами также входят в состав спиральной галактики, всегда обозначаемой с заглавной буквы: Галактика. Когда мы говорим о Солнце, как об объекте Солнечной системы, мы тоже пишем его с большой букв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5113080" cy="2857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66748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алактика состоит из диска, гала и короны. Центральная, наиболее компактная область Галактики называется ядром. Центральная, наиболее плотная часть гало в пределах нескольких тысяч световых лет от центра Галактики называется балд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Галактика излучает во всех диапазонах электромагнитного излучен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8353440" cy="3579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47640" y="57340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лечный Путь в различных диапазонах длин вол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пределение звезд в Галактике имеет две ярко выраженные особенности :очень высокую концентрацию звезд в галактической плоскости и большую концентрацию в центре Галактик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7920000" cy="4426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08000" y="616572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мерно так выглядит наша Галактика сбо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6438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римерно так выглядит наша Галактика сверху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Галактике каждая третья звезда -двойная, имеются системы из трех и более звезд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звестны и более сложные объекты -звездные скопления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сеянные звездные скопления встречаются вблизи галактической плоскост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95640" y="2000160"/>
            <a:ext cx="4968720" cy="3157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195640" y="5300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еянное скопление М50 в созвездии Единор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00244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сеянные скопления состоят из сотен или тысяч звезд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х масса невелика (100-1000 масс Солнца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672000" y="64911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еянное скопление Плея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0:22:03Z</dcterms:created>
  <dc:creator>Авдонин Александр Петрович</dc:creator>
  <dc:description/>
  <dc:language>en-US</dc:language>
  <cp:lastModifiedBy>Name</cp:lastModifiedBy>
  <dcterms:modified xsi:type="dcterms:W3CDTF">2010-09-23T12:05:45Z</dcterms:modified>
  <cp:revision>13</cp:revision>
  <dc:subject/>
  <dc:title>Млечный Пу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c000000000001024140</vt:lpwstr>
  </property>
</Properties>
</file>