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7E2-5304-4925-AE39-B0F168D1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17C-A272-4A7D-8164-5CF4BF48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7859-7B37-4548-AF68-C28971A5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FBD3-04ED-4FBB-A3C6-14198C12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89DD-6065-439E-8A24-6264E5C1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03A2-1FA3-4D0F-A9E7-5CC0A944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0934-9322-4427-95F0-EA8F9040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4D99-CE66-48EF-A4AD-5E1D2637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8912-244F-41FD-AB1F-75BFBA3D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9C96-C344-4644-83B8-2FF0E0F3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276B-700A-42E3-8A45-0584EC89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410-EB8A-4CDC-A3E9-E175DED8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748C-F3B8-4FBF-A6A3-2F839D50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AF0D-BA32-477F-82E0-2ED79FA6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FD16-87F0-4E48-864C-5669FA92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16D5-E1FA-4163-B6EB-90DF97B8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22F0-DB4E-4010-AF2C-CC85F178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371-D12A-453C-BAB8-61C18B42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24F-0240-4400-9516-C5BC7EA6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4DC6-84EC-4AC5-96D7-4BF3C241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522-EC17-4BD0-B9A5-742DDEEC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B00-54AB-409B-9DD5-AD4D222D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7D5A-AC0F-4964-9E78-01C1925F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E0BC-5091-4624-8259-14720305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BE25-BA83-48A5-BB61-9F53E1CCDE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8938-C369-41E0-8113-16302BBAD5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7476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Наша Галактик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5635800"/>
            <a:ext cx="67690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 Вахромовой Алены (11 класс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ировой Гульназ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Шаровые скопления сильно выделяются на звездном фоне благодаря значительному числу звезд и четкой сферической форме. Диаметр шаровых скоплений составляет от 20 до 100 пк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5229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аровое скопление в созвездии Центав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одводные кораллы? Очарованные замки? Космические змеи?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действительности эти таинственные темные колонны -очень плотные газопылевые облака туманности М16 Орел в созвездии Зме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Большая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туманность Ориона. Это диффузная туманност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нтральная часть Туманности Орион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уманность Курительная Трубк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859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Кошачий Глаз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86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Эскимос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руговорот газа и пыли в Галактик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964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емная туманность Конская Голо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-9216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хема расположения Туманности Конская Голо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дним из самых примечательных объектов звездного неба является Млечный Путь. Древние греки называли его  «молочный круг». Уже первые наблюдения в телескоп проведенные Галилеем, показали, что Млечный Путь – это скопление очень далеких и слабых звезд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в созвездии Ли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-7920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нтр Галактики в инфракрасных лучах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ращение Галактики происходит по часовой стрелке, если смотреть на Галактику со стороны ее северного полюса, находящегося в созвездии Волосы Вероники. Угловая скорость вращения зависит от расстояния от центра и убывает по мере удаления от центра. Солнце движется со скоростью 200 км \с вокруг центра Галактики и делает полный оборот вокруг центра за 220 миллионов ле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4255920" cy="40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арта Млечного Пут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8057880" cy="479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собенно эффектно выглядит Млечный Путь в южном полушари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5661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Южная часть Млечного П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1844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начале 20 века стало очевидным, что почти все видимое вещество во Вселенной сосредоточено в гигантских звездно-газовых островах с характерным размером от нескольких парсеков до нескольких десятков килопарсеков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олнце вместе с окружающими его звездами также входят в состав спиральной галактики, всегда обозначаемой с заглавной буквы: Галактика. Когда мы говорим о Солнце, как об объекте Солнечной системы, мы тоже пишем его с большой букв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5113080" cy="2857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66748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алактика состоит из диска, гала и короны. Центральная, наиболее компактная область Галактики называется ядром. Центральная, наиболее плотная часть гало в пределах нескольких тысяч световых лет от центра Галактики называется балд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Галактика излучает во всех диапазонах электромагнитного излуче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353440" cy="3579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47640" y="57340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лечный Путь в различных диапазонах длин вол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пределение звезд в Галактике имеет две ярко выраженные особенности :очень высокую концентрацию звезд в галактической плоскости и большую концентрацию в центре Галактик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7920000" cy="4426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08000" y="616572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мерно так выглядит наша Галактика сб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6438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римерно так выглядит наша Галактика сверху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Галактике каждая третья звезда -двойная, имеются системы из трех и более звезд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звестны и более сложные объекты -звездные скопления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сеянные звездные скопления встречаются вблизи галактической плоскост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95640" y="2000160"/>
            <a:ext cx="4968720" cy="3157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195640" y="5300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еянное скопление М50 в созвездии Единор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00244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сеянные скопления состоят из сотен или тысяч звезд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х масса невелика (100-1000 масс Солнца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672000" y="6491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еянное скопление Плея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0:22:03Z</dcterms:created>
  <dc:creator>Авдонин Александр Петрович</dc:creator>
  <dc:description/>
  <dc:language>en-US</dc:language>
  <cp:lastModifiedBy>Name</cp:lastModifiedBy>
  <dcterms:modified xsi:type="dcterms:W3CDTF">2010-09-23T12:05:45Z</dcterms:modified>
  <cp:revision>13</cp:revision>
  <dc:subject/>
  <dc:title>Млечный Пу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c000000000001024140</vt:lpwstr>
  </property>
</Properties>
</file>