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77B-3EA7-4B6F-B48E-3755F4F8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CEE-04D5-46F5-B250-2EFBD1C4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34E-92A1-405C-928A-91A2728A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A17-E3F7-47D5-8D67-7CBEC7E5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2A2F-0D77-4C8A-8DF2-68FA25E2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C6DC-90F9-4A73-A2ED-1B6B422D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D358-B0F3-4E0E-A62E-EEC1535F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40C2-6B10-40FA-B197-16610E00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54DC-1A00-4F85-AAB8-BA34104D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9F7D-6EDC-40F7-A001-F3B5860C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E645-D165-4D60-8C43-E301A63F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5C2-9C98-4340-913F-702D7169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5264-8FA2-427F-942B-7B298349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EEB3-1880-409C-9157-A4360A0C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9D0F-987E-44EB-BECA-1C3D19AB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9E99-F54B-4B1C-A322-CD33C3AC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2E91-79BF-4290-93A2-BF13ECE6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E7A-89DA-41BE-9826-97E08F1F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766-419D-4E26-8978-2A534576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078-746D-414D-A30B-88FCFA35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603-8691-4868-A421-CDB39F54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5C7-5BF6-426E-ABF7-55957C42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177-8251-4FFC-A456-D5DC7969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157-7EDD-4058-88F8-15CDF812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1F4B-C0A8-4BA7-A205-8CFF39BCEB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26AA-0754-43CA-B69E-1FFEFDA7F7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7476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Наша Галактик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5635800"/>
            <a:ext cx="6769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 Вахромовой Алены (11 класс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ировой Гульназ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Шаровые скопления сильно выделяются на звездном фоне благодаря значительному числу звезд и четкой сферической форме. Диаметр шаровых скоплений составляет от 20 до 100 пк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5229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аровое скопление в созвездии Центав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одводные кораллы? Очарованные замки? Космические змеи?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действительности эти таинственные темные колонны -очень плотные газопылевые облака туманности М16 Орел в созвездии Зме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Большая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туманность Ориона. Это диффузная туманност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альная часть Туманности Орион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уманность Курительная Трубк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859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Кошачий Глаз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86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Эскимос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руговорот газа и пыли в Галактик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964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емная туманность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хема расположения Туманности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дним из самых примечательных объектов звездного неба является Млечный Путь. Древние греки называли его  «молочный круг». Уже первые наблюдения в телескоп проведенные Галилеем, показали, что Млечный Путь – это скопление очень далеких и слабых звезд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в созвездии Ли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 Галактики в инфракрасных луча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ращение Галактики происходит по часовой стрелке, если смотреть на Галактику со стороны ее северного полюса, находящегося в созвездии Волосы Вероники. Угловая скорость вращения зависит от расстояния от центра и убывает по мере удаления от центра. Солнце движется со скоростью 200 км \с вокруг центра Галактики и делает полный оборот вокруг центра за 220 миллионов ле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425592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арта Млечного Пу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057880" cy="479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собенно эффектно выглядит Млечный Путь в южном полушари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5661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Южная часть Млечного П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начале 20 века стало очевидным, что почти все видимое вещество во Вселенной сосредоточено в гигантских звездно-газовых островах с характерным размером от нескольких парсеков до нескольких десятков килопарсеков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олнце вместе с окружающими его звездами также входят в состав спиральной галактики, всегда обозначаемой с заглавной буквы: Галактика. Когда мы говорим о Солнце, как об объекте Солнечной системы, мы тоже пишем его с большой букв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5113080" cy="2857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6674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лактика состоит из диска, гала и короны. Центральная, наиболее компактная область Галактики называется ядром. Центральная, наиболее плотная часть гало в пределах нескольких тысяч световых лет от центра Галактики называется балд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Галактика излучает во всех диапазонах электромагнитного излуче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353440" cy="3579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47640" y="57340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ечный Путь в различных диапазонах длин вол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пределение звезд в Галактике имеет две ярко выраженные особенности :очень высокую концентрацию звезд в галактической плоскости и большую концентрацию в центре Галактик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920000" cy="442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08000" y="616572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мерно так выглядит наша Галактика сб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6438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римерно так выглядит наша Галактика сверху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Галактике каждая третья звезда -двойная, имеются системы из трех и более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звестны и более сложные объекты -звездные скопления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звездные скопления встречаются вблизи галактической плоскос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95640" y="2000160"/>
            <a:ext cx="4968720" cy="3157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195640" y="5300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М50 в созвездии Единор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00244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скопления состоят из сотен или тысяч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х масса невелика (100-1000 масс Солнца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672000" y="6491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Плея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22:03Z</dcterms:created>
  <dc:creator>Авдонин Александр Петрович</dc:creator>
  <dc:description/>
  <dc:language>en-US</dc:language>
  <cp:lastModifiedBy>Name</cp:lastModifiedBy>
  <dcterms:modified xsi:type="dcterms:W3CDTF">2010-09-23T12:05:45Z</dcterms:modified>
  <cp:revision>13</cp:revision>
  <dc:subject/>
  <dc:title>Млечный Пу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c000000000001024140</vt:lpwstr>
  </property>
</Properties>
</file>