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36.gif" ContentType="image/gif"/>
  <Override PartName="/ppt/media/image27.jpeg" ContentType="image/jpeg"/>
  <Override PartName="/ppt/media/image6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3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gif" ContentType="image/gif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2B7C-F75D-470E-9A7F-6AE91EC34B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8E7E-0DA4-4D13-BE83-47795A532E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9AA-ADB8-41A4-8690-B986F855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5F0-F659-4A57-B6AE-26DFFEB2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2B4B-29E4-434D-9C0C-7B2A1D32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51B-A8AD-471E-B30B-330361BE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828E-246B-4CC8-99DA-8145088C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644D-1B5C-4001-849B-7CB1A8FB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9025-5247-434E-A381-9B4F4FFD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CA53-24C1-4EAF-9D4A-F95DF87C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2174-9566-4661-998F-5F747FBA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5539-23BC-4DD6-B51A-D7329DC1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B0F1-7056-4C8E-9C9E-BE6F8BD5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96A-08E6-47CE-B9EB-EBDF47F2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3F98-B357-405F-9C34-52EB067E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E6E8-D4CB-4099-9220-9ECDF28F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E066-7681-4651-BA66-D79EC30C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086B-4382-4F1F-9CF6-766BBC59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6DE4-F06C-46B2-9A96-619FE1DB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08D-3DD2-40D9-81BE-C26E1B04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F78-5BC9-4656-A615-2D69D592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0B1-52BE-4737-A79A-EC028902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F804-D177-496B-90C8-566CC2F3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D3D-1C46-4393-9F0D-189BBF18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6D8-9321-49A9-B763-F6823DF9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7BF-1933-49BA-9F89-49753388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B3FF-3182-4C6B-9669-3514FDAC93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87C4-4688-4BA1-9D6D-D98D06D556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vestinginrussia.ru/upload/mipim/regions_rus.gif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eskavkaz.ru/wp-content/uploads/2010/01/th_533251537358371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295280" y="32004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вропейская Россия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143000" y="4343400"/>
            <a:ext cx="74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щая характеристика </a:t>
            </a:r>
            <a:endParaRPr b="0" i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8406"/>
                </a:moveTo>
                <a:lnTo>
                  <a:pt x="9425" y="8406"/>
                </a:lnTo>
                <a:lnTo>
                  <a:pt x="13846" y="3794"/>
                </a:lnTo>
                <a:lnTo>
                  <a:pt x="13846" y="17806"/>
                </a:lnTo>
                <a:lnTo>
                  <a:pt x="9425" y="13194"/>
                </a:lnTo>
                <a:lnTo>
                  <a:pt x="4995" y="13194"/>
                </a:lnTo>
                <a:close/>
              </a:path>
              <a:path fill="darken" w="24003" h="21600">
                <a:moveTo>
                  <a:pt x="15500" y="10800"/>
                </a:moveTo>
                <a:lnTo>
                  <a:pt x="19008" y="10800"/>
                </a:lnTo>
              </a:path>
              <a:path fill="darken" w="24003" h="21600">
                <a:moveTo>
                  <a:pt x="15500" y="8406"/>
                </a:moveTo>
                <a:lnTo>
                  <a:pt x="19008" y="5639"/>
                </a:lnTo>
              </a:path>
              <a:path fill="darken" w="24003" h="21600">
                <a:moveTo>
                  <a:pt x="15500" y="13194"/>
                </a:moveTo>
                <a:lnTo>
                  <a:pt x="19008" y="15961"/>
                </a:lnTo>
              </a:path>
            </a:pathLst>
          </a:custGeom>
          <a:solidFill>
            <a:srgbClr val="93d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1981080" y="990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ькина Татьяна Александровна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БОУ СОШ № 63 г.Красноя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ьшая протяженность территории в меридиональном напр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изация – черная и цветная металлургия, химическая 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юге – граница с крупнейшим государством С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i?id=213127632-02"/>
          <p:cNvPicPr/>
          <p:nvPr/>
        </p:nvPicPr>
        <p:blipFill>
          <a:blip r:embed="rId1"/>
          <a:stretch/>
        </p:blipFill>
        <p:spPr>
          <a:xfrm>
            <a:off x="7162920" y="4724280"/>
            <a:ext cx="1820880" cy="19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i?id=214836696-03"/>
          <p:cNvPicPr/>
          <p:nvPr/>
        </p:nvPicPr>
        <p:blipFill>
          <a:blip r:embed="rId2"/>
          <a:stretch/>
        </p:blipFill>
        <p:spPr>
          <a:xfrm>
            <a:off x="685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i?id=52659417-05"/>
          <p:cNvPicPr/>
          <p:nvPr/>
        </p:nvPicPr>
        <p:blipFill>
          <a:blip r:embed="rId3"/>
          <a:stretch/>
        </p:blipFill>
        <p:spPr>
          <a:xfrm>
            <a:off x="2971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i?id=136495886-05"/>
          <p:cNvPicPr/>
          <p:nvPr/>
        </p:nvPicPr>
        <p:blipFill>
          <a:blip r:embed="rId4"/>
          <a:stretch/>
        </p:blipFill>
        <p:spPr>
          <a:xfrm>
            <a:off x="4952880" y="54864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12"/>
          <p:cNvSpPr txBox="1"/>
          <p:nvPr/>
        </p:nvSpPr>
        <p:spPr>
          <a:xfrm>
            <a:off x="304920" y="38088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аль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добное транспортно-географическое располо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орошая освоенность террит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пасы бурого угля, железных ру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лодородные почв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304920" y="5335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о-Черноземны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Picture 8" descr="Картинка 2 из 169"/>
          <p:cNvPicPr/>
          <p:nvPr/>
        </p:nvPicPr>
        <p:blipFill>
          <a:blip r:embed="rId1"/>
          <a:stretch/>
        </p:blipFill>
        <p:spPr>
          <a:xfrm>
            <a:off x="3886200" y="1635120"/>
            <a:ext cx="4876920" cy="3102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i?id=94746187-00"/>
          <p:cNvPicPr/>
          <p:nvPr/>
        </p:nvPicPr>
        <p:blipFill>
          <a:blip r:embed="rId2"/>
          <a:stretch/>
        </p:blipFill>
        <p:spPr>
          <a:xfrm>
            <a:off x="4876920" y="5181480"/>
            <a:ext cx="2288880" cy="13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i?id=5374160-01"/>
          <p:cNvPicPr/>
          <p:nvPr/>
        </p:nvPicPr>
        <p:blipFill>
          <a:blip r:embed="rId3"/>
          <a:stretch/>
        </p:blipFill>
        <p:spPr>
          <a:xfrm>
            <a:off x="7331040" y="5029200"/>
            <a:ext cx="1459080" cy="15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Развито льноводств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Специализация – деревообрабатывающая и целлюлозно-бумажная промышленнос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Автомобилестроение, самолетостро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Не имеет участков государственной границ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Картинка 5 из 177"/>
          <p:cNvPicPr/>
          <p:nvPr/>
        </p:nvPicPr>
        <p:blipFill>
          <a:blip r:embed="rId1"/>
          <a:stretch/>
        </p:blipFill>
        <p:spPr>
          <a:xfrm>
            <a:off x="152280" y="4038480"/>
            <a:ext cx="3505320" cy="2664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6"/>
          <p:cNvSpPr txBox="1"/>
          <p:nvPr/>
        </p:nvSpPr>
        <p:spPr>
          <a:xfrm>
            <a:off x="609480" y="45720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лго-Вятский район</a:t>
            </a:r>
            <a:endParaRPr b="1" lang="en-US" sz="24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7" name="Picture 8" descr="Картинка 15 из 177"/>
          <p:cNvPicPr/>
          <p:nvPr/>
        </p:nvPicPr>
        <p:blipFill>
          <a:blip r:embed="rId2"/>
          <a:stretch/>
        </p:blipFill>
        <p:spPr>
          <a:xfrm>
            <a:off x="152280" y="18288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Картинка 47 из 177"/>
          <p:cNvPicPr/>
          <p:nvPr/>
        </p:nvPicPr>
        <p:blipFill>
          <a:blip r:embed="rId3"/>
          <a:stretch/>
        </p:blipFill>
        <p:spPr>
          <a:xfrm>
            <a:off x="1981080" y="198108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1. Состав рай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акие административно-территориальные и природные единицы входят в состав рай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2. ФГП и ЭГ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о отношению к другим странам, регионам, основным хозяйственным центрам, транспортным магистралям, внешним рын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3. Природно-ресурсный потенциа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условия жизни населения и ведения хозяйства, природные ресурсы (полезные ископаемые, водные, лесные, агроклиматические и д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h13"/>
          <p:cNvPicPr/>
          <p:nvPr/>
        </p:nvPicPr>
        <p:blipFill>
          <a:blip r:embed="rId1"/>
          <a:stretch/>
        </p:blipFill>
        <p:spPr>
          <a:xfrm>
            <a:off x="7238880" y="457200"/>
            <a:ext cx="1181160" cy="9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4. Население и трудов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степень и характер заселенности территории, динамика (естественное и механическое движение), структура, этнический состав, особенности труда и занят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5. История освоения территории и формирования хозяйственного компл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ag00029_"/>
          <p:cNvPicPr/>
          <p:nvPr/>
        </p:nvPicPr>
        <p:blipFill>
          <a:blip r:embed="rId1"/>
          <a:stretch/>
        </p:blipFill>
        <p:spPr>
          <a:xfrm>
            <a:off x="7162920" y="228600"/>
            <a:ext cx="1428480" cy="113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6. Хозяй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доля различных отраслей хозяйства, отрасли специализации и их территориальная организация, основные хозяйственные узлы, транспортная се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7. Основные проблемы и перспективы развития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8. Вывод об экономическом развитии реги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h41"/>
          <p:cNvPicPr/>
          <p:nvPr/>
        </p:nvPicPr>
        <p:blipFill>
          <a:blip r:embed="rId1"/>
          <a:stretch/>
        </p:blipFill>
        <p:spPr>
          <a:xfrm>
            <a:off x="6858000" y="152280"/>
            <a:ext cx="1905120" cy="122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_x0015_ 4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№ 2, с. 217 (письмен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зентация Центрального экономиче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02"/>
          <p:cNvPicPr/>
          <p:nvPr/>
        </p:nvPicPr>
        <p:blipFill>
          <a:blip r:embed="rId1"/>
          <a:stretch/>
        </p:blipFill>
        <p:spPr>
          <a:xfrm>
            <a:off x="5867280" y="609480"/>
            <a:ext cx="3124440" cy="27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ькина Татьяна Александровна –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БОУ СОШ № 63 г.Краснояр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 rot="5400000">
            <a:off x="-1790640" y="293364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ed301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ced301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1752480" y="5715000"/>
            <a:ext cx="58676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работу </a:t>
            </a:r>
            <a:endParaRPr b="0" lang="en-US" sz="2400" spc="1" strike="noStrike">
              <a:ln cap="sq" w="28440">
                <a:solidFill>
                  <a:srgbClr val="0000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6" descr="b6"/>
          <p:cNvPicPr/>
          <p:nvPr/>
        </p:nvPicPr>
        <p:blipFill>
          <a:blip r:embed="rId3"/>
          <a:stretch/>
        </p:blipFill>
        <p:spPr>
          <a:xfrm>
            <a:off x="3352680" y="1752480"/>
            <a:ext cx="2398680" cy="338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Изображение 819"/>
          <p:cNvPicPr/>
          <p:nvPr/>
        </p:nvPicPr>
        <p:blipFill>
          <a:blip r:embed="rId4"/>
          <a:stretch/>
        </p:blipFill>
        <p:spPr>
          <a:xfrm>
            <a:off x="7515360" y="0"/>
            <a:ext cx="117612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447920" y="22860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228600" y="838080"/>
            <a:ext cx="7238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4"/>
          <p:cNvSpPr/>
          <p:nvPr/>
        </p:nvSpPr>
        <p:spPr>
          <a:xfrm rot="20245200">
            <a:off x="924840" y="533448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39040" y="152388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 rot="1457400">
            <a:off x="8020800" y="12204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 rot="1434000">
            <a:off x="2915280" y="28206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 rot="20380800">
            <a:off x="8087040" y="58680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 rot="1633800">
            <a:off x="4501440" y="5868720"/>
            <a:ext cx="61920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 rot="20301600">
            <a:off x="8316360" y="297216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 rot="1189800">
            <a:off x="176400" y="4420440"/>
            <a:ext cx="2977200" cy="70380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промышлен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и сельскохозяйствен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 rot="20686800">
            <a:off x="2604960" y="5943960"/>
            <a:ext cx="159516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социальная</a:t>
            </a:r>
            <a:r>
              <a:rPr b="1" lang="ru-RU" sz="2000" spc="-1" strike="noStrike">
                <a:solidFill>
                  <a:srgbClr val="ced30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982320" y="4952880"/>
            <a:ext cx="1360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 rot="1189800">
            <a:off x="5804640" y="1906200"/>
            <a:ext cx="3329280" cy="39888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 -Чернозем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629280" y="6172200"/>
            <a:ext cx="136044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 rot="21374400">
            <a:off x="320760" y="281916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810760" y="609588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20637000">
            <a:off x="5878440" y="5029560"/>
            <a:ext cx="246060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Кавказ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933600">
            <a:off x="5891400" y="403884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1177200">
            <a:off x="7341120" y="3658320"/>
            <a:ext cx="136044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19806000">
            <a:off x="2525040" y="1754640"/>
            <a:ext cx="180072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21374400">
            <a:off x="4054680" y="312372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348920" y="3581280"/>
            <a:ext cx="114228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0c20"/>
                </a:solidFill>
                <a:latin typeface="Times New Roman"/>
              </a:rPr>
              <a:t>Юж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675600" y="2438280"/>
            <a:ext cx="181152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волж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5" descr="97"/>
          <p:cNvPicPr/>
          <p:nvPr/>
        </p:nvPicPr>
        <p:blipFill>
          <a:blip r:embed="rId1"/>
          <a:stretch/>
        </p:blipFill>
        <p:spPr>
          <a:xfrm>
            <a:off x="228600" y="152280"/>
            <a:ext cx="582480" cy="582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6"/>
          <p:cNvSpPr/>
          <p:nvPr/>
        </p:nvSpPr>
        <p:spPr>
          <a:xfrm rot="686400">
            <a:off x="208800" y="1676880"/>
            <a:ext cx="198828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устаревши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197520" y="3809880"/>
            <a:ext cx="205992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воору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 rot="933600">
            <a:off x="6399720" y="2590920"/>
            <a:ext cx="1549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коем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492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Картинка 1 из 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47800"/>
            <a:ext cx="9051840" cy="51102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8"/>
          <p:cNvSpPr/>
          <p:nvPr/>
        </p:nvSpPr>
        <p:spPr>
          <a:xfrm>
            <a:off x="990720" y="78487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1981080" y="75438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2819520" y="75438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380988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952880" y="777240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57150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6858000" y="7467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77724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8"/>
          <p:cNvSpPr txBox="1"/>
          <p:nvPr/>
        </p:nvSpPr>
        <p:spPr>
          <a:xfrm>
            <a:off x="914400" y="5335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38160">
                  <a:solidFill>
                    <a:srgbClr val="3a5047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Западного региона </a:t>
            </a:r>
            <a:endParaRPr b="0" lang="en-US" sz="2400" spc="1" strike="noStrike">
              <a:ln cap="sq" w="38160">
                <a:solidFill>
                  <a:srgbClr val="3a5047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0696E-006 C 0.00208 -0.00856 0.00052 -0.00347 0.0059 -0.01458 C 0.00712 -0.01712 0.00764 -0.02337 0.00833 -0.02568 C 0.00885 -0.02753 0.01007 -0.02869 0.01076 -0.03054 C 0.01128 -0.03216 0.01163 -0.03378 0.01198 -0.0354 C 0.01458 -0.08513 0.01406 -0.06362 0.01198 -0.14944 C 0.01198 -0.15036 0.00989 -0.16864 0.00955 -0.17026 C 0.00885 -0.17349 0.00712 -0.17974 0.00712 -0.17974 C 0.00538 -0.19778 0.00243 -0.21721 -0.00243 -0.23433 C -0.00695 -0.25006 -0.00295 -0.22994 -0.00729 -0.25052 C -0.00955 -0.26116 -0.01094 -0.27643 -0.0158 -0.28568 C -0.01823 -0.29887 -0.02344 -0.31113 -0.02535 -0.32432 C -0.02795 -0.3419 -0.03281 -0.36086 -0.03854 -0.37729 C -0.0408 -0.39209 -0.04531 -0.40782 -0.04948 -0.42216 C -0.05122 -0.42795 -0.05226 -0.42795 -0.05313 -0.4335 C -0.05556 -0.44923 -0.05538 -0.45131 -0.05677 -0.46565 C -0.05781 -0.47583 -0.05903 -0.48485 -0.06146 -0.49457 C -0.06233 -0.49781 -0.06389 -0.50405 -0.06389 -0.50405 C -0.06354 -0.51215 -0.06406 -0.52024 -0.06268 -0.52811 C -0.06094 -0.53806 -0.05139 -0.54476 -0.04705 -0.55217 C -0.04566 -0.55795 -0.04636 -0.55749 -0.04219 -0.56188 C -0.03993 -0.56419 -0.03507 -0.56836 -0.03507 -0.56836 C -0.02865 -0.56628 -0.01094 -0.56512 -0.01094 -0.55078 E">
                                      <p:cBhvr>
                                        <p:cTn id="15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3472E-006 C -0.0033 -0.01318 -0.0099 -0.02706 -0.01562 -0.03863 C -0.02031 -0.06361 -0.01319 -0.02868 -0.01927 -0.04996 C -0.02153 -0.05806 -0.02187 -0.06755 -0.02396 -0.07564 C -0.02934 -0.09692 -0.03316 -0.11543 -0.0349 -0.1381 C -0.03455 -0.22114 -0.0349 -0.30396 -0.03368 -0.387 C -0.03368 -0.39047 -0.03125 -0.39671 -0.03125 -0.39671 C -0.0309 -0.40504 -0.03229 -0.42031 -0.02882 -0.43026 C -0.02726 -0.43465 -0.02483 -0.43858 -0.02396 -0.44321 C -0.02222 -0.45293 -0.0217 -0.46264 -0.01927 -0.47213 C -0.01806 -0.48323 -0.01649 -0.48994 -0.00955 -0.49618 C -0.00382 -0.49456 -0.00069 -0.49156 0.00486 -0.48971 C 0.00625 -0.486 0.00747 -0.47999 0.00972 -0.47698 E">
                                      <p:cBhvr>
                                        <p:cTn id="15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91117E-006 C -0.01476 -0.00672 -0.03038 -0.00486 -0.04566 -0.00648 C -0.05503 -0.00903 -0.06424 -0.01296 -0.07344 -0.01597 C -0.07882 -0.01782 -0.08472 -0.02175 -0.09028 -0.02245 C -0.09792 -0.02337 -0.10555 -0.0236 -0.11319 -0.02406 C -0.15503 -0.03517 -0.19861 -0.03285 -0.24097 -0.03378 C -0.24757 -0.03517 -0.25382 -0.03656 -0.26024 -0.03864 C -0.26597 -0.04373 -0.26979 -0.04581 -0.27587 -0.04974 C -0.27917 -0.06269 -0.24635 -0.06547 -0.23976 -0.0657 C -0.20243 -0.06663 -0.16493 -0.06686 -0.1276 -0.06732 C -0.09149 -0.06686 -0.05538 -0.0657 -0.01944 -0.0657 C 0.025 -0.0657 0.0691 -0.06616 0.11337 -0.06732 C 0.11754 -0.06732 0.12535 -0.07218 0.12535 -0.07218 C 0.12986 -0.09022 0.11771 -0.10641 0.10851 -0.11729 C 0.09896 -0.12862 0.10486 -0.12515 0.09757 -0.12839 C 0.08924 -0.13602 0.08125 -0.14319 0.0724 -0.14921 C 0.06684 -0.15291 0.0592 -0.1536 0.05313 -0.15569 C 0.04635 -0.158 0.03941 -0.15985 0.03264 -0.16216 C 0.02899 -0.16332 0.02552 -0.16656 0.0217 -0.16702 C 0.00642 -0.1691 0.01372 -0.16795 -3.88889E-006 -0.17026 C -0.0224 -0.17974 -0.04549 -0.18391 -0.06875 -0.18622 C -0.07917 -0.18969 -0.09045 -0.18969 -0.10121 -0.19108 C -0.11302 -0.19432 -0.12535 -0.19478 -0.13733 -0.19594 C -0.16805 -0.20958 -0.22049 -0.20311 -0.24687 -0.2038 C -0.27726 -0.20588 -0.26406 -0.20403 -0.28194 -0.2119 C -0.28542 -0.21675 -0.28871 -0.21861 -0.29028 -0.22485 C -0.28993 -0.22855 -0.29028 -0.23272 -0.28906 -0.23595 C -0.28854 -0.23757 -0.28663 -0.23827 -0.28542 -0.23757 C -0.28299 -0.23619 -0.28108 -0.22439 -0.27951 -0.21999 E">
                                      <p:cBhvr>
                                        <p:cTn id="16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59033E-006 C 0.00191 -0.00764 -0.00121 -0.02406 -0.00121 -0.02406 C -0.00278 -0.0509 -0.00746 -0.07634 -0.01076 -0.10271 C -0.01111 -0.11011 -0.01146 -0.11775 -0.01198 -0.12515 C -0.01267 -0.13463 -0.01423 -0.13695 -0.01684 -0.14458 C -0.02344 -0.16401 -0.02535 -0.18807 -0.03976 -0.20079 C -0.04323 -0.20727 -0.04896 -0.20958 -0.05416 -0.21351 C -0.06666 -0.22277 -0.05677 -0.21791 -0.0651 -0.22161 C -0.07604 -0.23179 -0.08837 -0.23549 -0.10121 -0.23919 C -0.11458 -0.24312 -0.1276 -0.24752 -0.14097 -0.25053 C -0.14548 -0.25145 -0.14965 -0.25469 -0.15416 -0.25538 C -0.16285 -0.25677 -0.19062 -0.25816 -0.19514 -0.25839 C -0.2375 -0.25631 -0.22986 -0.26926 -0.22413 -0.25053 C -0.22153 -0.24174 -0.2217 -0.24359 -0.2217 -0.23757 E">
                                      <p:cBhvr>
                                        <p:cTn id="1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38793E-008 C -0.00191 -0.01735 -0.00642 -0.02822 -0.01215 -0.04326 C -0.01806 -0.05898 -0.02222 -0.07633 -0.02656 -0.09299 C -0.02934 -0.10409 -0.0342 -0.11427 -0.03733 -0.12514 C -0.04167 -0.14041 -0.04271 -0.15799 -0.04948 -0.17164 C -0.05174 -0.18344 -0.05399 -0.19685 -0.05903 -0.20703 C -0.06215 -0.22808 -0.07188 -0.24705 -0.08073 -0.26486 C -0.08212 -0.2674 -0.08333 -0.27018 -0.08438 -0.27296 C -0.0849 -0.27434 -0.0849 -0.2762 -0.08559 -0.27758 C -0.08785 -0.28267 -0.08993 -0.28799 -0.09288 -0.29216 C -0.0941 -0.29378 -0.09531 -0.29516 -0.09636 -0.29701 C -0.09983 -0.30349 -0.10226 -0.31159 -0.10608 -0.31783 C -0.10816 -0.3213 -0.11146 -0.32362 -0.11337 -0.32732 C -0.11823 -0.3375 -0.12274 -0.34767 -0.12778 -0.35785 C -0.12934 -0.36109 -0.13247 -0.36225 -0.1349 -0.36433 C -0.1408 -0.36965 -0.14583 -0.3752 -0.15191 -0.38029 C -0.15608 -0.38376 -0.15799 -0.38792 -0.16267 -0.39001 C -0.16667 -0.39787 -0.17622 -0.40273 -0.18316 -0.40458 C -0.19045 -0.41059 -0.19948 -0.41591 -0.20729 -0.42054 C -0.21007 -0.42216 -0.21302 -0.42216 -0.21563 -0.42378 C -0.22222 -0.42748 -0.22917 -0.43211 -0.23611 -0.43488 C -0.23906 -0.43604 -0.24601 -0.43766 -0.24826 -0.43974 C -0.25365 -0.44437 -0.25052 -0.44251 -0.25781 -0.4446 C -0.26215 -0.44853 -0.26667 -0.44899 -0.27118 -0.45269 C -0.27674 -0.45732 -0.28229 -0.46264 -0.28802 -0.46703 C -0.29254 -0.4705 -0.29792 -0.47212 -0.30243 -0.47513 C -0.31076 -0.48068 -0.31858 -0.48693 -0.32778 -0.48947 C -0.35521 -0.50775 -0.39132 -0.49109 -0.4217 -0.48785 C -0.425 -0.4867 -0.43247 -0.48438 -0.4349 -0.48323 C -0.43733 -0.48207 -0.44219 -0.47999 -0.44219 -0.47999 C -0.44809 -0.46958 -0.44948 -0.46287 -0.44948 -0.44945 E">
                                      <p:cBhvr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65556E-006 C -0.00121 -0.01088 -0.00069 -0.01342 -0.00729 -0.0192 C -0.0092 -0.02684 -0.01319 -0.03285 -0.01545 -0.04025 C -0.01822 -0.04858 -0.02066 -0.05645 -0.02413 -0.06431 C -0.02534 -0.06755 -0.02812 -0.07009 -0.02881 -0.0738 C -0.03055 -0.0805 -0.03281 -0.08582 -0.03611 -0.09161 C -0.03854 -0.10155 -0.03524 -0.09068 -0.04079 -0.10109 C -0.04513 -0.10873 -0.04913 -0.11728 -0.05312 -0.12515 C -0.05763 -0.13417 -0.06093 -0.14319 -0.06493 -0.15244 C -0.06736 -0.158 -0.06961 -0.16332 -0.07239 -0.16864 C -0.07447 -0.17303 -0.07951 -0.18136 -0.07951 -0.18136 C -0.08142 -0.18992 -0.08663 -0.19917 -0.09149 -0.20542 C -0.09409 -0.21606 -0.10208 -0.23017 -0.10711 -0.23919 C -0.12552 -0.27134 -0.13802 -0.28569 -0.16736 -0.29864 C -0.17152 -0.30049 -0.17621 -0.2998 -0.18055 -0.30026 C -0.18906 -0.30095 -0.19739 -0.30142 -0.2059 -0.30188 C -0.22847 -0.30142 -0.25086 -0.30118 -0.27343 -0.30026 C -0.28628 -0.2998 -0.29826 -0.2917 -0.31076 -0.28892 C -0.31753 -0.2873 -0.32447 -0.28684 -0.33125 -0.28569 C -0.42482 -0.28684 -0.43211 -0.28684 -0.49149 -0.29216 C -0.49513 -0.29933 -0.49739 -0.31136 -0.48784 -0.31136 E">
                                      <p:cBhvr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80615E-007 C -0.00312 -0.0155 -0.00555 -0.02845 -0.01441 -0.04025 C -0.01736 -0.05181 -0.02534 -0.05783 -0.03246 -0.06431 C -0.04982 -0.0798 -0.06944 -0.08605 -0.08906 -0.09484 C -0.09548 -0.09785 -0.10173 -0.10224 -0.10833 -0.10456 C -0.11215 -0.10571 -0.11927 -0.10756 -0.11927 -0.10756 C -0.12934 -0.1145 -0.13941 -0.12029 -0.14948 -0.12699 C -0.15972 -0.13416 -0.16927 -0.14342 -0.17969 -0.15105 C -0.18941 -0.15822 -0.19653 -0.17187 -0.20712 -0.17673 C -0.21406 -0.18598 -0.22361 -0.19084 -0.23125 -0.19917 C -0.24236 -0.21096 -0.2533 -0.22947 -0.26614 -0.2378 C -0.27986 -0.24659 -0.29184 -0.25353 -0.30712 -0.257 C -0.31493 -0.26139 -0.32239 -0.26324 -0.33021 -0.2681 C -0.33594 -0.27596 -0.34028 -0.28383 -0.34566 -0.29216 C -0.35885 -0.31228 -0.34253 -0.28637 -0.35555 -0.30349 C -0.36076 -0.31066 -0.3625 -0.3139 -0.36979 -0.31645 C -0.37951 -0.32477 -0.38889 -0.33565 -0.4 -0.3405 C -0.41111 -0.33888 -0.42083 -0.33495 -0.43125 -0.33079 C -0.43854 -0.32801 -0.45156 -0.32801 -0.45659 -0.32755 C -0.50364 -0.3146 -0.55885 -0.33588 -0.60712 -0.33888 C -0.63316 -0.33842 -0.65955 -0.33726 -0.68541 -0.33726 C -0.68663 -0.33726 -0.68784 -0.33842 -0.68923 -0.33888 C -0.69062 -0.33958 -0.69236 -0.34027 -0.69392 -0.3405 C -0.70347 -0.34189 -0.71319 -0.34259 -0.72274 -0.34374 C -0.73281 -0.3449 -0.76302 -0.34837 -0.75295 -0.34675 C -0.7493 -0.34629 -0.74583 -0.34559 -0.74219 -0.34513 C -0.73507 -0.34235 -0.7276 -0.3405 -0.72048 -0.33726 C -0.71944 -0.33194 -0.72066 -0.32547 -0.71805 -0.32107 C -0.71719 -0.31968 -0.71562 -0.32223 -0.71441 -0.32269 C -0.71284 -0.32339 -0.71111 -0.32362 -0.70955 -0.32431 C -0.7 -0.32801 -0.71389 -0.325 -0.69271 -0.32755 C -0.69548 -0.33033 -0.69878 -0.33241 -0.70121 -0.33565 C -0.70225 -0.33703 -0.70243 -0.33935 -0.70347 -0.3405 C -0.70416 -0.3412 -0.70503 -0.3405 -0.7059 -0.3405 E">
                                      <p:cBhvr>
                                        <p:cTn id="17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2961 C 0.00052 -0.0495 0.00035 -0.06917 -0.00034 -0.08906 C -0.00104 -0.11127 -0.01284 -0.13116 -0.02187 -0.14851 C -0.02725 -0.15892 -0.03211 -0.16863 -0.0401 -0.17581 C -0.04618 -0.18876 -0.05798 -0.19593 -0.0677 -0.2031 C -0.07378 -0.2075 -0.07934 -0.21351 -0.08576 -0.21744 C -0.09583 -0.22369 -0.10677 -0.22693 -0.11718 -0.23202 C -0.12847 -0.23757 -0.13906 -0.24474 -0.15086 -0.24798 C -0.15937 -0.25353 -0.1684 -0.257 -0.17743 -0.26093 C -0.19687 -0.26949 -0.21562 -0.28106 -0.23524 -0.28962 C -0.24496 -0.29378 -0.25573 -0.29609 -0.26527 -0.30095 C -0.29114 -0.3139 -0.31805 -0.32478 -0.34479 -0.33472 C -0.35034 -0.3368 -0.35955 -0.33866 -0.36527 -0.3412 C -0.38923 -0.3523 -0.41354 -0.36179 -0.43889 -0.36526 C -0.48368 -0.38978 -0.57448 -0.38376 -0.61111 -0.38446 C -0.62586 -0.38677 -0.63784 -0.38839 -0.6533 -0.38931 C -0.67882 -0.38862 -0.72083 -0.41638 -0.72083 -0.37798 E">
                                      <p:cBhvr>
                                        <p:cTn id="18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ерите пары: экономический район и соответствующее ему опреде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230480"/>
          <a:ext cx="9144000" cy="5635440"/>
        </p:xfrm>
        <a:graphic>
          <a:graphicData uri="http://schemas.openxmlformats.org/drawingml/2006/table">
            <a:tbl>
              <a:tblPr/>
              <a:tblGrid>
                <a:gridCol w="2776680"/>
                <a:gridCol w="63673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 райо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Централь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Хорошо развита нефте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Центрально-Чернозем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Лидер судостроения в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Северо-Запад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Старый горнопромышленны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евер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Центр лесной и рыбн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еверо-Кавказ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Район точного машиностроения и легк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волж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 Наиболее этнически пестрый район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Уральский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) Главное богатство – черноземы и железная 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60"/>
          <p:cNvSpPr/>
          <p:nvPr/>
        </p:nvSpPr>
        <p:spPr>
          <a:xfrm>
            <a:off x="853560" y="7086600"/>
            <a:ext cx="4201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1626120" y="7086600"/>
            <a:ext cx="3985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2538360" y="7162920"/>
            <a:ext cx="4017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3"/>
          <p:cNvSpPr/>
          <p:nvPr/>
        </p:nvSpPr>
        <p:spPr>
          <a:xfrm>
            <a:off x="3458880" y="7238880"/>
            <a:ext cx="3909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4"/>
          <p:cNvSpPr/>
          <p:nvPr/>
        </p:nvSpPr>
        <p:spPr>
          <a:xfrm>
            <a:off x="4592520" y="7238880"/>
            <a:ext cx="40788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5"/>
          <p:cNvSpPr/>
          <p:nvPr/>
        </p:nvSpPr>
        <p:spPr>
          <a:xfrm>
            <a:off x="5334120" y="7162920"/>
            <a:ext cx="4507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6"/>
          <p:cNvSpPr/>
          <p:nvPr/>
        </p:nvSpPr>
        <p:spPr>
          <a:xfrm>
            <a:off x="6067080" y="7162920"/>
            <a:ext cx="5083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3979 C 0.00764 -0.04487 0.01267 -0.04487 0.01979 -0.04603 C 0.02951 -0.05459 0.04253 -0.05459 0.05365 -0.05575 C 0.07187 -0.06431 0.09115 -0.06801 0.11024 -0.07171 C 0.11962 -0.0761 0.10538 -0.06986 0.12101 -0.07495 C 0.12344 -0.07587 0.1283 -0.07818 0.1283 -0.07818 C 0.1316 -0.08466 0.13837 -0.09831 0.14271 -0.10224 C 0.16007 -0.13694 0.1559 -0.19338 0.1559 -0.22924 E">
                                      <p:cBhvr>
                                        <p:cTn id="1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979 C 0.01875 -0.04117 0.02552 -0.04094 0.03889 -0.05089 C 0.05486 -0.06269 0.03959 -0.05158 0.04983 -0.06384 C 0.05243 -0.06685 0.05816 -0.07171 0.05816 -0.07171 C 0.06198 -0.07934 0.06007 -0.07472 0.06302 -0.08628 C 0.06389 -0.08998 0.06632 -0.09276 0.06788 -0.096 C 0.06875 -0.09762 0.07032 -0.10062 0.07032 -0.10062 C 0.07292 -0.11728 0.07604 -0.1337 0.07865 -0.15059 C 0.079 -0.17511 0.07917 -0.19986 0.07986 -0.22438 C 0.08038 -0.23872 0.08229 -0.26764 0.08229 -0.26764 C 0.08334 -0.37266 0.08455 -0.40574 0.08229 -0.5052 C 0.08195 -0.52024 0.075 -0.53574 0.06302 -0.53574 E">
                                      <p:cBhvr>
                                        <p:cTn id="19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-0.02752 C -0.01059 -0.03354 -0.01285 -0.04071 -0.01823 -0.04533 C -0.0217 -0.05227 -0.0276 -0.0569 -0.03021 -0.06453 C -0.03125 -0.06754 -0.03177 -0.07101 -0.03264 -0.07425 C -0.03299 -0.07587 -0.03385 -0.07888 -0.03385 -0.07864 C -0.03698 -0.10432 -0.03264 -0.06708 -0.03629 -0.11751 C -0.03663 -0.12329 -0.03906 -0.13092 -0.03976 -0.13671 C -0.04115 -0.13139 -0.04097 -0.13347 -0.04097 -0.13023 E">
                                      <p:cBhvr>
                                        <p:cTn id="19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959E-006 C -0.00086 -0.0111 -0.00138 -0.0266 -0.00607 -0.03678 C -0.00885 -0.04303 -0.01267 -0.05089 -0.01441 -0.05783 C -0.01736 -0.06963 -0.01892 -0.08235 -0.02048 -0.09461 C -0.02361 -0.14828 -0.02118 -0.09993 -0.02291 -0.20865 C -0.02343 -0.24451 -0.02534 -0.27782 -0.02882 -0.31298 C -0.02916 -0.31737 -0.03072 -0.33357 -0.03246 -0.33704 C -0.03836 -0.34883 -0.04375 -0.36109 -0.05052 -0.37243 C -0.0559 -0.38145 -0.05781 -0.38839 -0.0651 -0.39487 C -0.07187 -0.40759 -0.08316 -0.42077 -0.09392 -0.42702 C -0.09757 -0.4291 -0.10121 -0.43118 -0.10486 -0.43326 C -0.10711 -0.43465 -0.10954 -0.43535 -0.11197 -0.4365 C -0.11319 -0.43697 -0.11562 -0.43812 -0.11562 -0.43812 C -0.13454 -0.43581 -0.12447 -0.4365 -0.14583 -0.4365 E">
                                      <p:cBhvr>
                                        <p:cTn id="20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-0.0273 C -0.02049 -0.04025 -0.04045 -0.04187 -0.05 -0.04997 C -0.05608 -0.05529 -0.06215 -0.06061 -0.06823 -0.06593 C -0.07257 -0.06986 -0.0757 -0.07495 -0.08021 -0.07865 C -0.08646 -0.09114 -0.10122 -0.09507 -0.1092 -0.10595 C -0.11788 -0.11774 -0.12639 -0.13209 -0.13681 -0.14134 C -0.14392 -0.15568 -0.15608 -0.17025 -0.16701 -0.17997 C -0.17379 -0.19385 -0.16441 -0.17696 -0.17292 -0.18621 C -0.17795 -0.192 -0.18195 -0.20033 -0.18629 -0.20727 C -0.19531 -0.22184 -0.18438 -0.20356 -0.1934 -0.21513 C -0.19688 -0.21976 -0.20313 -0.2304 -0.20556 -0.23618 C -0.20885 -0.24381 -0.21076 -0.25075 -0.21632 -0.25538 C -0.21719 -0.25908 -0.21806 -0.26371 -0.21997 -0.26671 C -0.22205 -0.26995 -0.22726 -0.27643 -0.22726 -0.27643 C -0.22986 -0.28684 -0.22639 -0.27574 -0.23195 -0.28429 C -0.2382 -0.29378 -0.24115 -0.30604 -0.24774 -0.31483 C -0.25052 -0.32547 -0.25625 -0.33588 -0.26215 -0.34374 C -0.2651 -0.35485 -0.26076 -0.34051 -0.26823 -0.35485 C -0.26962 -0.35762 -0.26927 -0.36156 -0.27049 -0.36456 C -0.27326 -0.3722 -0.27656 -0.37914 -0.27899 -0.387 C -0.28646 -0.41175 -0.28802 -0.43997 -0.29705 -0.46403 C -0.29757 -0.46866 -0.29948 -0.48277 -0.29948 -0.48647 C -0.29948 -0.51053 -0.29896 -0.53458 -0.29826 -0.55864 C -0.29792 -0.56697 -0.29445 -0.5753 -0.29219 -0.58293 C -0.28976 -0.59149 -0.28906 -0.60144 -0.2875 -0.61023 C -0.28472 -0.62665 -0.28195 -0.64793 -0.27292 -0.65996 C -0.2691 -0.67476 -0.26493 -0.68772 -0.25972 -0.7016 C -0.2592 -0.70322 -0.25938 -0.70507 -0.25851 -0.70646 C -0.25417 -0.71386 -0.24896 -0.71756 -0.2441 -0.72404 C -0.24045 -0.73861 -0.24288 -0.72727 -0.24288 -0.75943 E">
                                      <p:cBhvr>
                                        <p:cTn id="20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-0.00532 C -0.02327 -0.02498 -0.04375 -0.03539 -0.06407 -0.04071 C -0.07084 -0.04695 -0.07882 -0.05065 -0.08681 -0.05343 C -0.09341 -0.05921 -0.1007 -0.06523 -0.10851 -0.068 C -0.11528 -0.07702 -0.11059 -0.07194 -0.12431 -0.07911 L -0.12431 -0.07888 C -0.1349 -0.08905 -0.14844 -0.09345 -0.16042 -0.09854 C -0.16893 -0.10224 -0.17709 -0.10663 -0.18577 -0.10964 C -0.1915 -0.11357 -0.19757 -0.11727 -0.20382 -0.11936 C -0.21233 -0.12722 -0.20834 -0.12421 -0.2158 -0.12884 C -0.21823 -0.1337 -0.22136 -0.1374 -0.22431 -0.14179 C -0.22691 -0.14573 -0.23264 -0.15313 -0.23264 -0.1529 C -0.23542 -0.16331 -0.2316 -0.15174 -0.23993 -0.16423 C -0.24983 -0.17904 -0.23837 -0.16747 -0.24705 -0.17557 C -0.24896 -0.1832 -0.25417 -0.18852 -0.25799 -0.19477 C -0.26476 -0.20541 -0.26875 -0.22276 -0.27726 -0.23016 C -0.28282 -0.2408 -0.28959 -0.25005 -0.29775 -0.25746 C -0.30278 -0.26856 -0.29948 -0.2637 -0.30851 -0.2718 C -0.31094 -0.27388 -0.3158 -0.27827 -0.3158 -0.27804 C -0.31875 -0.28429 -0.32344 -0.29007 -0.32778 -0.29424 C -0.33299 -0.30464 -0.33802 -0.31899 -0.34584 -0.32639 C -0.35052 -0.32431 -0.35087 -0.32037 -0.35556 -0.31829 C -0.36563 -0.31991 -0.36198 -0.31991 -0.36632 -0.31991 E">
                                      <p:cBhvr>
                                        <p:cTn id="20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4279 C -0.01076 -0.05297 -0.02587 -0.0525 -0.03837 -0.05713 C -0.05486 -0.06315 -0.07101 -0.06847 -0.08767 -0.07332 C -0.09583 -0.07564 -0.10278 -0.08119 -0.11059 -0.08443 C -0.12326 -0.08975 -0.13646 -0.09229 -0.14913 -0.09738 C -0.17691 -0.10848 -0.2033 -0.12051 -0.23229 -0.12306 C -0.2375 -0.12491 -0.24254 -0.1263 -0.24792 -0.12792 C -0.25122 -0.12884 -0.25764 -0.13115 -0.25764 -0.13115 C -0.2658 -0.13671 -0.27622 -0.13925 -0.28524 -0.14226 C -0.28733 -0.14295 -0.28941 -0.14318 -0.29132 -0.14388 C -0.29375 -0.1448 -0.29861 -0.14712 -0.29861 -0.14712 C -0.31771 -0.16446 -0.33038 -0.19708 -0.3408 -0.22414 C -0.34271 -0.22923 -0.34358 -0.23525 -0.34549 -0.24034 C -0.3467 -0.25052 -0.34844 -0.26069 -0.35035 -0.27064 C -0.35174 -0.28891 -0.35191 -0.30742 -0.35521 -0.32523 C -0.3566 -0.33287 -0.35938 -0.33865 -0.36129 -0.34628 C -0.36215 -0.34952 -0.36354 -0.35577 -0.36354 -0.35577 C -0.36927 -0.40943 -0.36736 -0.46426 -0.37326 -0.51792 C -0.37361 -0.53088 -0.37413 -0.5436 -0.37448 -0.55655 C -0.37517 -0.58339 -0.37274 -0.62595 -0.38524 -0.65116 C -0.3901 -0.66088 -0.40208 -0.66296 -0.40938 -0.66412 C -0.4158 -0.66204 -0.4125 -0.6625 -0.4191 -0.6625 E">
                                      <p:cBhvr>
                                        <p:cTn id="21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расль специализации – гидроэнерг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ращивается озимая и яровая пшеница, ячмень, рис, бахчевые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и выпускаемой продукции машиностроения – самолеты, автомобили, троллей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а нефтяная, нефтехимическая и химическая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533520" y="533520"/>
            <a:ext cx="7991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волж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6" descr="i?id=111663938-03"/>
          <p:cNvPicPr/>
          <p:nvPr/>
        </p:nvPicPr>
        <p:blipFill>
          <a:blip r:embed="rId1"/>
          <a:stretch/>
        </p:blipFill>
        <p:spPr>
          <a:xfrm>
            <a:off x="6324480" y="1219320"/>
            <a:ext cx="2514600" cy="1487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территории района крупнейший в России рыбо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южной части располагается крупный металлургический 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ывается нефть, газ, уголь, руды черных и цветн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304920" y="609480"/>
            <a:ext cx="853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64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верный экономический район</a:t>
            </a:r>
            <a:endParaRPr b="1" lang="en-US" sz="2400" spc="1" strike="noStrike">
              <a:ln cap="sq" w="64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Picture 6" descr="i?id=54657940-05"/>
          <p:cNvPicPr/>
          <p:nvPr/>
        </p:nvPicPr>
        <p:blipFill>
          <a:blip r:embed="rId1"/>
          <a:stretch/>
        </p:blipFill>
        <p:spPr>
          <a:xfrm>
            <a:off x="457200" y="509112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?id=141024909-03"/>
          <p:cNvPicPr/>
          <p:nvPr/>
        </p:nvPicPr>
        <p:blipFill>
          <a:blip r:embed="rId2"/>
          <a:stretch/>
        </p:blipFill>
        <p:spPr>
          <a:xfrm>
            <a:off x="3276720" y="4952880"/>
            <a:ext cx="3047760" cy="1729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?id=215139013-02"/>
          <p:cNvPicPr/>
          <p:nvPr/>
        </p:nvPicPr>
        <p:blipFill>
          <a:blip r:embed="rId3"/>
          <a:stretch/>
        </p:blipFill>
        <p:spPr>
          <a:xfrm>
            <a:off x="6629400" y="5105520"/>
            <a:ext cx="1943280" cy="1465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изводство зерноуборочных комбайно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электровозов, атомных реак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ногоотраслевое сельское хозяйство, развитая пищевая промышлен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стрый национальный соста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креационное хозяй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04920" y="380880"/>
            <a:ext cx="82296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веро-Кавказский район</a:t>
            </a:r>
            <a:endParaRPr b="1" i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6" descr="Картинка 8 из 14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495680"/>
            <a:ext cx="3044880" cy="2239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i?id=95522092-07"/>
          <p:cNvPicPr/>
          <p:nvPr/>
        </p:nvPicPr>
        <p:blipFill>
          <a:blip r:embed="rId3"/>
          <a:stretch/>
        </p:blipFill>
        <p:spPr>
          <a:xfrm>
            <a:off x="6781680" y="13716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i?id=23187549-01"/>
          <p:cNvPicPr/>
          <p:nvPr/>
        </p:nvPicPr>
        <p:blipFill>
          <a:blip r:embed="rId4"/>
          <a:stretch/>
        </p:blipFill>
        <p:spPr>
          <a:xfrm>
            <a:off x="6781680" y="2819520"/>
            <a:ext cx="1679760" cy="125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ой по площади райо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ая численность населе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Выгодное ЭГП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Бедная база минеральных ресурс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Развито трудоемкое и наукоемкое машиностроен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Мясомолочное животновод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762120" y="304920"/>
            <a:ext cx="7010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веро-Западный район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0" name="Picture 6" descr="Картинка 3 из 1370"/>
          <p:cNvPicPr/>
          <p:nvPr/>
        </p:nvPicPr>
        <p:blipFill>
          <a:blip r:embed="rId1"/>
          <a:stretch/>
        </p:blipFill>
        <p:spPr>
          <a:xfrm>
            <a:off x="228600" y="1676520"/>
            <a:ext cx="2817720" cy="20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i?id=72815785-02"/>
          <p:cNvPicPr/>
          <p:nvPr/>
        </p:nvPicPr>
        <p:blipFill>
          <a:blip r:embed="rId2"/>
          <a:stretch/>
        </p:blipFill>
        <p:spPr>
          <a:xfrm>
            <a:off x="228600" y="3886200"/>
            <a:ext cx="1905120" cy="1359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i?id=5537117-01"/>
          <p:cNvPicPr/>
          <p:nvPr/>
        </p:nvPicPr>
        <p:blipFill>
          <a:blip r:embed="rId3"/>
          <a:stretch/>
        </p:blipFill>
        <p:spPr>
          <a:xfrm>
            <a:off x="1447920" y="5411880"/>
            <a:ext cx="1920600" cy="127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3352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амый крупный по численности нас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Бедная природно-ресурсная б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ощная научная база и высококвалифицированные трудовые 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дна из отраслей промышленности - лег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380880" y="228600"/>
            <a:ext cx="8286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ый экономический район</a:t>
            </a:r>
            <a:endParaRPr b="1" lang="en-US" sz="2400" spc="1" strike="noStrike">
              <a:ln cap="sq"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Picture 7" descr="Картинка 4 из 5791"/>
          <p:cNvPicPr/>
          <p:nvPr/>
        </p:nvPicPr>
        <p:blipFill>
          <a:blip r:embed="rId1"/>
          <a:stretch/>
        </p:blipFill>
        <p:spPr>
          <a:xfrm>
            <a:off x="617220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i?id=190628789-01"/>
          <p:cNvPicPr/>
          <p:nvPr/>
        </p:nvPicPr>
        <p:blipFill>
          <a:blip r:embed="rId2"/>
          <a:stretch/>
        </p:blipFill>
        <p:spPr>
          <a:xfrm>
            <a:off x="380880" y="1752480"/>
            <a:ext cx="1703520" cy="1279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i?id=6079555-01"/>
          <p:cNvPicPr/>
          <p:nvPr/>
        </p:nvPicPr>
        <p:blipFill>
          <a:blip r:embed="rId3"/>
          <a:stretch/>
        </p:blipFill>
        <p:spPr>
          <a:xfrm>
            <a:off x="2286000" y="1447920"/>
            <a:ext cx="1589040" cy="118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i?id=105478296-07"/>
          <p:cNvPicPr/>
          <p:nvPr/>
        </p:nvPicPr>
        <p:blipFill>
          <a:blip r:embed="rId4"/>
          <a:stretch/>
        </p:blipFill>
        <p:spPr>
          <a:xfrm>
            <a:off x="4191120" y="2133720"/>
            <a:ext cx="1714320" cy="1222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1:18:55Z</dcterms:created>
  <dc:creator>Оськина</dc:creator>
  <dc:description/>
  <cp:keywords/>
  <dc:language>en-US</dc:language>
  <cp:lastModifiedBy>Олег</cp:lastModifiedBy>
  <dcterms:modified xsi:type="dcterms:W3CDTF">2012-03-25T11:21:29Z</dcterms:modified>
  <cp:revision>148</cp:revision>
  <dc:subject>экономические районы</dc:subject>
  <dc:title>западный рег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