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777-AC94-42F0-9F25-065F4582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5B6-4206-43FF-97F9-75CA0DE9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D3B-9696-4E95-BC83-71429D40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FA6-C734-4E6B-94F5-42B52C85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AF9B-36D8-4B52-88CE-5CDC6FB8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FC7E-2692-4F4E-A3C0-859CA0F2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6661-17FA-42E3-BBC4-1D0C2439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D827-B182-4C46-8240-906868E9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0A5E-736D-411A-8DE3-91EDE9F8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5240-4E36-4659-ACA0-452612CF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5457-BCF7-4E86-A1CE-1E3FDF18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19FB-8FC4-4646-AF19-BD2D399F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7980-D476-499E-AE70-1452EE2C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D0F4-BD9B-4A1B-966A-6B7955A3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1430-7FC2-4899-AA1E-7C98BF4E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1D94-F8A1-453E-9A35-DF80401C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116E-72A7-4E7B-B094-63047331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EDC84-41AF-4FC2-A468-49E0D4CD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9F17-FA14-4F97-AE56-EAB9B6A2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74A4E-C90B-4E2F-8FAB-FBDB4A8C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59A79-4DEE-4232-89BF-CDEA992C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8C253-5256-4FB1-88B8-877454A5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144-FDD3-49F1-B33E-B56F51AD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17EFE-2394-4641-91AB-95D53509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49395-80A0-4BC4-A15D-D5977455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5F122-C8C9-4211-9CCD-F76A3D85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EF44D-3105-4E0D-90E8-E5ABCDE3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26EDF-F802-44CC-A383-19046F86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660F4-5096-4A9F-9D6D-C62312D6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D7A91-4BB2-4DC5-B9F1-88D6ED10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E088D-FE88-4DEE-B731-F3AE730E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66FC3-4DB5-4FD8-BF68-5C5B4B87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40B4E-EFC4-490D-8FD5-85B762EB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795-F779-4440-B293-51B59FFF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0B8F2-EBB0-4104-87A0-296B48A9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3D7EB-EB7A-47D9-B442-B872AB15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18D80-D0AE-4E0D-8F20-19865843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EF09D-0700-4033-8CF7-D9A8B476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9A422-08CF-4E70-B09B-ACC457D5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9657D-66BD-41CF-AF68-45170E86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470E0-DD60-423E-8BD1-5A05D82B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445B3-0301-43F4-88F0-E885801C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9C1BC-76CD-4688-88E8-D6F753AB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FBFB-4B2A-4892-9F40-B53A1481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71E-B598-4652-8F02-ED757A86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EF55-8129-4FB0-87A4-CE8F40BC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E7A-A304-4DBE-BFAA-6901224B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11F-CEB0-492A-9C9E-E160BC02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9E39-8AEB-4AD0-8157-EB4F5F735CAF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E97D-F755-48F2-B5B0-A2EAC325DB19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23A6-0715-41FC-AAEE-28C8E2B8DD4C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10AC-D183-4DF6-A049-994C8D7AB6FD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img.mota.ru/upload/wallpapers/2009/11/07/16/04/59/nature_049-1152x864.jpg" TargetMode="External"/><Relationship Id="rId4" Type="http://schemas.openxmlformats.org/officeDocument/2006/relationships/hyperlink" Target="http://img.mota.ru/upload/wallpapers/2009/11/07/16/04/59/nature_049-1152x864.jpg" TargetMode="External"/><Relationship Id="rId5" Type="http://schemas.openxmlformats.org/officeDocument/2006/relationships/hyperlink" Target="http://img.mota.ru/upload/wallpapers/2009/11/07/16/04/59/nature_049-1152x864.jpg" TargetMode="External"/><Relationship Id="rId6" Type="http://schemas.openxmlformats.org/officeDocument/2006/relationships/hyperlink" Target="http://img.mota.ru/upload/wallpapers/2009/11/07/16/04/59/nature_049-1152x864.jpg" TargetMode="External"/><Relationship Id="rId7" Type="http://schemas.openxmlformats.org/officeDocument/2006/relationships/hyperlink" Target="http://img.mota.ru/upload/wallpapers/2009/11/07/16/04/59/nature_049-1152x864.jpg" TargetMode="External"/><Relationship Id="rId8" Type="http://schemas.openxmlformats.org/officeDocument/2006/relationships/hyperlink" Target="http://img.mota.ru/upload/wallpapers/2009/11/07/16/04/59/nature_049-1152x864.jpg" TargetMode="External"/><Relationship Id="rId9" Type="http://schemas.openxmlformats.org/officeDocument/2006/relationships/hyperlink" Target="http://img.mota.ru/upload/wallpapers/2009/11/07/16/04/59/nature_049-1152x864.jpg" TargetMode="External"/><Relationship Id="rId10" Type="http://schemas.openxmlformats.org/officeDocument/2006/relationships/hyperlink" Target="http://img.mota.ru/upload/wallpapers/2009/11/07/16/04/59/nature_049-1152x864.jpg" TargetMode="External"/><Relationship Id="rId11" Type="http://schemas.openxmlformats.org/officeDocument/2006/relationships/hyperlink" Target="http://img.mota.ru/upload/wallpapers/2009/11/07/16/04/59/nature_049-1152x864.jpg" TargetMode="External"/><Relationship Id="rId12" Type="http://schemas.openxmlformats.org/officeDocument/2006/relationships/hyperlink" Target="http://img.mota.ru/upload/wallpapers/2009/11/07/16/04/59/nature_049-1152x864.jpg" TargetMode="External"/><Relationship Id="rId13" Type="http://schemas.openxmlformats.org/officeDocument/2006/relationships/hyperlink" Target="http://img.mota.ru/upload/wallpapers/2009/11/07/16/04/59/nature_049-1152x864.jpg" TargetMode="External"/><Relationship Id="rId14" Type="http://schemas.openxmlformats.org/officeDocument/2006/relationships/hyperlink" Target="http://img.mota.ru/upload/wallpapers/2009/11/07/16/04/59/nature_049-1152x864.jpg" TargetMode="External"/><Relationship Id="rId15" Type="http://schemas.openxmlformats.org/officeDocument/2006/relationships/hyperlink" Target="http://img.mota.ru/upload/wallpapers/2009/11/07/16/04/59/nature_049-1152x864.jpg" TargetMode="External"/><Relationship Id="rId16" Type="http://schemas.openxmlformats.org/officeDocument/2006/relationships/hyperlink" Target="http://img.mota.ru/upload/wallpapers/2009/11/07/16/04/59/nature_049-1152x864.jpg" TargetMode="External"/><Relationship Id="rId17" Type="http://schemas.openxmlformats.org/officeDocument/2006/relationships/hyperlink" Target="http://img.mota.ru/upload/wallpapers/2009/11/07/16/04/59/nature_049-1152x864.jpg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harmonyvl.ru/pricing/img/forest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hyperlink" Target="http://img1.liveinternet.ru/images/attach/c/1/48/906/48906883_kaban.jpg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Презентация</a:t>
            </a:r>
            <a:r>
              <a:rPr b="0" lang="ru-RU" sz="5000" spc="-1" strike="noStrike">
                <a:solidFill>
                  <a:srgbClr val="d4d4d6"/>
                </a:solidFill>
                <a:latin typeface="Georgia"/>
              </a:rPr>
              <a:t> </a:t>
            </a: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у уроку географии в 8 классе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00280" y="4857840"/>
            <a:ext cx="54295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иходеева Г.Н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БОУ СОШ № 18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станицы Ивановской Красноармейского района           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Краснодарского края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33160" y="2714760"/>
            <a:ext cx="78548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Зона смешанных 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широколиственно-хвойных лесов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029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Проверочная работа.</a:t>
            </a:r>
            <a:br>
              <a:rPr sz="3200"/>
            </a:b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5a6378"/>
                </a:solidFill>
                <a:latin typeface="Georgia"/>
              </a:rPr>
              <a:t>Установить соответствие.</a:t>
            </a:r>
            <a:endParaRPr b="0" lang="en-US" sz="32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60036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израстают только хвойные деревь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сположены серые лесные почв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ильно изменены хозяйственной деятельностью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лимат мягкий, лето продолжительно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нимает наибольшую площадь Росс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00720" y="1676520"/>
            <a:ext cx="400032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Характерно очаговое расселени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Численность животных сильно сокращен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уровые климатические услович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т ярко выраженных надпойменных террас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лабая заболачиваемость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6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714240" y="2022840"/>
            <a:ext cx="7858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B%D0%B5%D1%81%D0%B0%20%D1%80%D0%BE%D1%81%D1%81%D0%B8%D0%B8%20%D1%84%D0%BE%D1%82%D0%BE&amp;stype=image&amp;noreask=1&amp;lr=35 -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а Росс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5"/>
              </a:rPr>
              <a:t>img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7"/>
              </a:rPr>
              <a:t>mota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9"/>
              </a:rPr>
              <a:t>ru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1"/>
              </a:rPr>
              <a:t>upload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3"/>
              </a:rPr>
              <a:t>wallpapers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4"/>
              </a:rPr>
              <a:t>/2009/11/07/16/04/59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5"/>
              </a:rPr>
              <a:t>nature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6"/>
              </a:rPr>
              <a:t>_049-1152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7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pg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категория Леса и дере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6%D0%B8%D0%B2%D0%BE%D1%82%D0%BD%D1%8B%D0%B5%20%D0%BB%D0%B5%D1%81%D0%BE%D0%B2%20%D1%80%D0%BE%D1%81%D1%81%D0%B8%D0%B8&amp;stype=image&amp;noreask=1&amp;lr=35   -  Животные лесо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1000080" y="1071720"/>
            <a:ext cx="7143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дравствуй, лес, дремучий л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ный сказок и чуде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о чем шумишь листво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оч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ной, грозов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ам шепчешь на зар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ь в росе, как в сереб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 в глуши твоей та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за зверь? Какая пт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открой, не утаи!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же видишь, мы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. Погорел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http://bm.img.com.ua/img/prikol/images/large/3/4/66543_61142.jpg"/>
          <p:cNvPicPr/>
          <p:nvPr/>
        </p:nvPicPr>
        <p:blipFill>
          <a:blip r:embed="rId2"/>
          <a:stretch/>
        </p:blipFill>
        <p:spPr>
          <a:xfrm>
            <a:off x="428760" y="471492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www.drmahaki.com/wp/wp-content/uploads/2006/03/Lavizan.JPG"/>
          <p:cNvPicPr/>
          <p:nvPr/>
        </p:nvPicPr>
        <p:blipFill>
          <a:blip r:embed="rId3"/>
          <a:stretch/>
        </p:blipFill>
        <p:spPr>
          <a:xfrm>
            <a:off x="6429240" y="4786200"/>
            <a:ext cx="2357640" cy="1822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http://im8-tub-ru.yandex.net/i?id=42083839-40-7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840" y="1071720"/>
            <a:ext cx="1857240" cy="17143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2431800" y="3960"/>
            <a:ext cx="26373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СТВЕННЫЙ Л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631440" y="14040"/>
            <a:ext cx="108612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i044.radikal.ru/1005/59/1ce92d7f0968.jpg"/>
          <p:cNvPicPr/>
          <p:nvPr/>
        </p:nvPicPr>
        <p:blipFill>
          <a:blip r:embed="rId2"/>
          <a:stretch/>
        </p:blipFill>
        <p:spPr>
          <a:xfrm>
            <a:off x="1143000" y="1357200"/>
            <a:ext cx="7286760" cy="464364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2" descr=""/>
          <p:cNvPicPr/>
          <p:nvPr/>
        </p:nvPicPr>
        <p:blipFill>
          <a:blip r:embed="rId2"/>
          <a:stretch/>
        </p:blipFill>
        <p:spPr>
          <a:xfrm>
            <a:off x="1133640" y="281160"/>
            <a:ext cx="7608600" cy="798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http://www.miller-mccune.com/wp-content/uploads/2010/01/mmw_oldgrowth.jpg"/>
          <p:cNvPicPr/>
          <p:nvPr/>
        </p:nvPicPr>
        <p:blipFill>
          <a:blip r:embed="rId3"/>
          <a:stretch/>
        </p:blipFill>
        <p:spPr>
          <a:xfrm>
            <a:off x="1000080" y="1428840"/>
            <a:ext cx="7358040" cy="442908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1071720" y="23400"/>
            <a:ext cx="70722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, точно терем распи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ловый, золотой, багря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елой, пестрою сте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ит над светлою поля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езы желтою резьб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лестят в лазури голуб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вышки, елочки темнею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между кленами сине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 там, то здесь в листве сквоз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веты в небо, что око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 пахнет дубом и со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лето высох он от солн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сень тихою вд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упает в пестрый терем с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2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444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http://www.nikblo.ru/P/p60.jpg"/>
          <p:cNvPicPr/>
          <p:nvPr/>
        </p:nvPicPr>
        <p:blipFill>
          <a:blip r:embed="rId3"/>
          <a:stretch/>
        </p:blipFill>
        <p:spPr>
          <a:xfrm>
            <a:off x="1214280" y="1500120"/>
            <a:ext cx="6929640" cy="46609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500040" y="857160"/>
          <a:ext cx="8001000" cy="5426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4874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айг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ошная полоса. Занимает большую площад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имеет сплошного распростран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ренный рельеф, нет надпойменных терра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й рельеф: моренный рельеф, пологие котловины, надпойменные терр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овые климатические 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приятные климатические услов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ными и грунтовыми водами. Заболочение. Многолетняя мерзлота. &gt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ями и грунтовыми водами. Заболочена меньше. Нет многолетней мерзл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листые  почвы + мерзлотно-таеж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ново-подзолистые серые лесные почв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породы деревье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венные + хвойные поро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видов млекопитающих. Пушные звери (соболь, норка, куница, белка, выдра). Семеноядные птицы. Очаговое рас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ные звери (лисица, белка, куница, енотовидная собака, горностай, лесной хорь). Много семеноядных птиц. Сильно истреблены человек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0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опромысловое хозяйство. Разведение молочного и мясо-молочного крупного рогатого скота. Юг – земледелие (рожь, ячмень, лен, картофель, овощи, кормовые травы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тая сеть городских и сельских поселений. Выборочное земледельческое освоение (рожь, ячмень, пшеница, сахарная свекла, картофель, кормовые травы, ягоды). Мясо-молочное животноводство и свиноводство, птицеводство, пчеловодство. Пригородный тип с/х. Лесопромысловое хозяйство развито слабе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450720" y="493560"/>
            <a:ext cx="8321760" cy="725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www.tvoyrebenok.ru/images/animals/116.1.jpg"/>
          <p:cNvPicPr/>
          <p:nvPr/>
        </p:nvPicPr>
        <p:blipFill>
          <a:blip r:embed="rId3"/>
          <a:stretch/>
        </p:blipFill>
        <p:spPr>
          <a:xfrm rot="19429200">
            <a:off x="1571400" y="1428840"/>
            <a:ext cx="1752480" cy="1643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Картинка 3 из 1299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43200" y="1428840"/>
            <a:ext cx="220356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http://basik.ru/images/2415/47.jpg"/>
          <p:cNvPicPr/>
          <p:nvPr/>
        </p:nvPicPr>
        <p:blipFill>
          <a:blip r:embed="rId6"/>
          <a:stretch/>
        </p:blipFill>
        <p:spPr>
          <a:xfrm rot="1873800">
            <a:off x="6588000" y="1456920"/>
            <a:ext cx="1881360" cy="1411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http://stat17.privet.ru/lr/0a04a181344c883dbe796cb728191892"/>
          <p:cNvPicPr/>
          <p:nvPr/>
        </p:nvPicPr>
        <p:blipFill>
          <a:blip r:embed="rId7"/>
          <a:stretch/>
        </p:blipFill>
        <p:spPr>
          <a:xfrm>
            <a:off x="2143080" y="5000760"/>
            <a:ext cx="2006640" cy="13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http://www.ebftour.ru/images/load/Image/18(42).jpg"/>
          <p:cNvPicPr/>
          <p:nvPr/>
        </p:nvPicPr>
        <p:blipFill>
          <a:blip r:embed="rId8"/>
          <a:stretch/>
        </p:blipFill>
        <p:spPr>
          <a:xfrm rot="20124000">
            <a:off x="1285920" y="3428640"/>
            <a:ext cx="1996920" cy="1500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http://stat16.privet.ru/lr/0b0b93eabfaf370a8211f11b7540ae40"/>
          <p:cNvPicPr/>
          <p:nvPr/>
        </p:nvPicPr>
        <p:blipFill>
          <a:blip r:embed="rId9"/>
          <a:stretch/>
        </p:blipFill>
        <p:spPr>
          <a:xfrm rot="1383000">
            <a:off x="6286320" y="3285720"/>
            <a:ext cx="2038320" cy="135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http://www.forumimage.ru/uploads/20091030/125688203656458484.jpg"/>
          <p:cNvPicPr/>
          <p:nvPr/>
        </p:nvPicPr>
        <p:blipFill>
          <a:blip r:embed="rId10"/>
          <a:stretch/>
        </p:blipFill>
        <p:spPr>
          <a:xfrm>
            <a:off x="4214880" y="2857680"/>
            <a:ext cx="1473120" cy="221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6" descr="http://www.peaceinpractice.iinet.net.au/images/wolfs.jpg"/>
          <p:cNvPicPr/>
          <p:nvPr/>
        </p:nvPicPr>
        <p:blipFill>
          <a:blip r:embed="rId11"/>
          <a:stretch/>
        </p:blipFill>
        <p:spPr>
          <a:xfrm>
            <a:off x="4952880" y="5000760"/>
            <a:ext cx="2106720" cy="158256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493560" y="706320"/>
            <a:ext cx="839484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428760" y="2071800"/>
          <a:ext cx="8215200" cy="3933720"/>
        </p:xfrm>
        <a:graphic>
          <a:graphicData uri="http://schemas.openxmlformats.org/drawingml/2006/table">
            <a:tbl>
              <a:tblPr/>
              <a:tblGrid>
                <a:gridCol w="2214360"/>
                <a:gridCol w="6000840"/>
              </a:tblGrid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р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войно-витаминная мука, лекарственны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уч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Щепа для производства картона и древесных пл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убильные вещества, наполнители строительных бло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тв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иломатериалы, шпалы, крепления для шахт, опоры для линий связи и электропередачи. целлюлоза. бумага, этиловый спирт, мебель, фанера, кормовые дрожжи, строения, спички, карандаши, лыжи, музыкальные инструмен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Пень и кор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ифоль, скипидар, камфара, фурфуро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7:06:36Z</dcterms:created>
  <dc:creator>пользователь</dc:creator>
  <dc:description/>
  <dc:language>en-US</dc:language>
  <cp:lastModifiedBy>КарМаН</cp:lastModifiedBy>
  <dcterms:modified xsi:type="dcterms:W3CDTF">2012-03-20T02:00:49Z</dcterms:modified>
  <cp:revision>80</cp:revision>
  <dc:subject/>
  <dc:title>Слайд 1</dc:title>
</cp:coreProperties>
</file>