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5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ECA0-0F08-4AD3-A605-0D9F1CB50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972B-49C6-4E92-9EDD-670F3C404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5AFA-7F11-4B34-AE32-EEC84B76A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2290-8CDF-4381-B43A-654673456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530C5-CBFF-4C52-8A15-9C4864203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AFB7E-4D85-4966-AE21-74037FA0A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43970-43B3-4B72-9A3B-36F202B6B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214B1-1F2A-4AB0-BE9C-60B412891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88D11-1153-4E94-9B65-A2E2DD820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50AF4-B019-42F5-8498-AC1FF3E81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706D5-1603-4813-AD23-79FFFFB36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EDBE-931F-4F01-B12E-EB21998BC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CA9CB-42C7-4860-8E93-52350AE4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19C46-148C-40E7-90B2-698B2F35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4DEEF-A7B6-4A59-8811-EB6217E5A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48226-1611-4DE7-88F8-C280CBCE5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2CC77-4668-44CC-8487-C83C06234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001F7-91ED-4844-A89F-362A88186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193FD-5D05-4B7E-8213-F8BFC8ACF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4619E-E5A7-4FDD-8E45-3198E7C4C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D6EA6-8CE7-432C-840B-7692EA0B0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8B304-CBFD-47EF-9919-AE7A56F30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46F0-36D3-4A6C-BA8F-6F98A8203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4918B-8446-45BD-A9F5-61E41D5D1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40CE5-BEB5-46B7-B47A-49AA1605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6B563-6E71-4B56-A6AF-B2997132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C3CA5-752F-4DCA-8625-F4F46BE8E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52D45-61EA-4668-B0B2-1FBDC824D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BC5F0-5CAC-4B9E-BB6F-ADED8F0CB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3BBED-6DF2-4422-814E-9D538A81D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EF160-CBEA-4EB7-9C0E-DA6A7A824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A3381-997C-4FEE-B9D3-8B99D8773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A5207-0A1C-468F-A5EA-223C75435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5918-2F09-4425-97CE-8596595CA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4F6D3-130B-4BED-8798-3F97C9DC1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34755-AB5B-411F-9124-BD344162B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B3244-47AE-4B71-B093-AD9CB4CCB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386E4-CFD6-4721-8F12-7178538E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E3029-07CD-4043-83DD-EAF93EC5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A3058-599C-4BA9-B2AA-B20E9881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143B8-3C00-464D-A6E8-7D01305C6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23B9A-4DC8-438B-85AB-767C1D139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2601E-59D2-44CE-87C0-2D65A634D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D3A1-D8B8-4398-9FC5-E4B36BAC1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B586-1134-46C1-BA3A-AB43C6426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C798-EE5E-491D-9A46-3B5C36C8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57BE-3838-487B-86BA-9AE23064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8DD4-3C26-4D89-8826-15176224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Georgia"/>
              </a:rPr>
              <a:t>Click to edit the title text format</a:t>
            </a: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5e7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5e72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5e72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BEDF5-2FCD-4949-B0B6-8D6975F86A44}" type="slidenum">
              <a:rPr b="0" lang="ru-RU" sz="1200" spc="-1" strike="noStrike">
                <a:solidFill>
                  <a:srgbClr val="565e72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4d6"/>
                </a:solidFill>
                <a:latin typeface="Georgia"/>
              </a:rPr>
              <a:t>Click to edit the title text format</a:t>
            </a:r>
            <a:endParaRPr b="0" lang="en-US" sz="5000" spc="-1" strike="noStrike">
              <a:solidFill>
                <a:srgbClr val="d4d4d6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acacc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acacc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acacc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DDB2C-0F42-485D-B43E-AD6C9FC4FE6F}" type="slidenum">
              <a:rPr b="0" lang="ru-RU" sz="1200" spc="-1" strike="noStrike">
                <a:solidFill>
                  <a:srgbClr val="cacacc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4d6"/>
                </a:solidFill>
                <a:latin typeface="Georgia"/>
              </a:rPr>
              <a:t>Click to edit the title text format</a:t>
            </a:r>
            <a:endParaRPr b="0" lang="en-US" sz="5000" spc="-1" strike="noStrike">
              <a:solidFill>
                <a:srgbClr val="d4d4d6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acacc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acacc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acacc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DC898-1DFA-49FA-8293-2669430BCBBA}" type="slidenum">
              <a:rPr b="0" lang="ru-RU" sz="1200" spc="-1" strike="noStrike">
                <a:solidFill>
                  <a:srgbClr val="cacacc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Georgia"/>
              </a:rPr>
              <a:t>Click to edit the title text format</a:t>
            </a: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5e7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5e72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5e72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9664B-D62B-4473-B6F9-FAF64ADA63E6}" type="slidenum">
              <a:rPr b="0" lang="ru-RU" sz="1200" spc="-1" strike="noStrike">
                <a:solidFill>
                  <a:srgbClr val="565e72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hyperlink" Target="http://img.mota.ru/upload/wallpapers/2009/11/07/16/04/59/nature_049-1152x864.jpg" TargetMode="External"/><Relationship Id="rId4" Type="http://schemas.openxmlformats.org/officeDocument/2006/relationships/hyperlink" Target="http://img.mota.ru/upload/wallpapers/2009/11/07/16/04/59/nature_049-1152x864.jpg" TargetMode="External"/><Relationship Id="rId5" Type="http://schemas.openxmlformats.org/officeDocument/2006/relationships/hyperlink" Target="http://img.mota.ru/upload/wallpapers/2009/11/07/16/04/59/nature_049-1152x864.jpg" TargetMode="External"/><Relationship Id="rId6" Type="http://schemas.openxmlformats.org/officeDocument/2006/relationships/hyperlink" Target="http://img.mota.ru/upload/wallpapers/2009/11/07/16/04/59/nature_049-1152x864.jpg" TargetMode="External"/><Relationship Id="rId7" Type="http://schemas.openxmlformats.org/officeDocument/2006/relationships/hyperlink" Target="http://img.mota.ru/upload/wallpapers/2009/11/07/16/04/59/nature_049-1152x864.jpg" TargetMode="External"/><Relationship Id="rId8" Type="http://schemas.openxmlformats.org/officeDocument/2006/relationships/hyperlink" Target="http://img.mota.ru/upload/wallpapers/2009/11/07/16/04/59/nature_049-1152x864.jpg" TargetMode="External"/><Relationship Id="rId9" Type="http://schemas.openxmlformats.org/officeDocument/2006/relationships/hyperlink" Target="http://img.mota.ru/upload/wallpapers/2009/11/07/16/04/59/nature_049-1152x864.jpg" TargetMode="External"/><Relationship Id="rId10" Type="http://schemas.openxmlformats.org/officeDocument/2006/relationships/hyperlink" Target="http://img.mota.ru/upload/wallpapers/2009/11/07/16/04/59/nature_049-1152x864.jpg" TargetMode="External"/><Relationship Id="rId11" Type="http://schemas.openxmlformats.org/officeDocument/2006/relationships/hyperlink" Target="http://img.mota.ru/upload/wallpapers/2009/11/07/16/04/59/nature_049-1152x864.jpg" TargetMode="External"/><Relationship Id="rId12" Type="http://schemas.openxmlformats.org/officeDocument/2006/relationships/hyperlink" Target="http://img.mota.ru/upload/wallpapers/2009/11/07/16/04/59/nature_049-1152x864.jpg" TargetMode="External"/><Relationship Id="rId13" Type="http://schemas.openxmlformats.org/officeDocument/2006/relationships/hyperlink" Target="http://img.mota.ru/upload/wallpapers/2009/11/07/16/04/59/nature_049-1152x864.jpg" TargetMode="External"/><Relationship Id="rId14" Type="http://schemas.openxmlformats.org/officeDocument/2006/relationships/hyperlink" Target="http://img.mota.ru/upload/wallpapers/2009/11/07/16/04/59/nature_049-1152x864.jpg" TargetMode="External"/><Relationship Id="rId15" Type="http://schemas.openxmlformats.org/officeDocument/2006/relationships/hyperlink" Target="http://img.mota.ru/upload/wallpapers/2009/11/07/16/04/59/nature_049-1152x864.jpg" TargetMode="External"/><Relationship Id="rId16" Type="http://schemas.openxmlformats.org/officeDocument/2006/relationships/hyperlink" Target="http://img.mota.ru/upload/wallpapers/2009/11/07/16/04/59/nature_049-1152x864.jpg" TargetMode="External"/><Relationship Id="rId17" Type="http://schemas.openxmlformats.org/officeDocument/2006/relationships/hyperlink" Target="http://img.mota.ru/upload/wallpapers/2009/11/07/16/04/59/nature_049-1152x864.jpg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hyperlink" Target="http://www.harmonyvl.ru/pricing/img/forest.jpg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hyperlink" Target="http://img1.liveinternet.ru/images/attach/c/1/48/906/48906883_kaban.jpg" TargetMode="External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image" Target="../media/image22.jpe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21428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60b5cc"/>
                </a:solidFill>
                <a:latin typeface="Georgia"/>
              </a:rPr>
              <a:t>Презентация</a:t>
            </a:r>
            <a:r>
              <a:rPr b="0" lang="ru-RU" sz="5000" spc="-1" strike="noStrike">
                <a:solidFill>
                  <a:srgbClr val="d4d4d6"/>
                </a:solidFill>
                <a:latin typeface="Georgia"/>
              </a:rPr>
              <a:t> </a:t>
            </a:r>
            <a:r>
              <a:rPr b="0" lang="ru-RU" sz="5000" spc="-1" strike="noStrike">
                <a:solidFill>
                  <a:srgbClr val="60b5cc"/>
                </a:solidFill>
                <a:latin typeface="Georgia"/>
              </a:rPr>
              <a:t>у уроку географии в 8 классе</a:t>
            </a:r>
            <a:endParaRPr b="0" lang="en-US" sz="5000" spc="-1" strike="noStrike">
              <a:solidFill>
                <a:srgbClr val="d4d4d6"/>
              </a:solidFill>
              <a:latin typeface="Georgi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500280" y="4857840"/>
            <a:ext cx="542952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Лиходеева Г.Н.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учитель географии 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МБОУ СОШ № 18 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станицы Ивановской Красноармейского района            </a:t>
            </a:r>
            <a:endParaRPr b="0" lang="en-US" sz="14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Краснодарского края </a:t>
            </a:r>
            <a:endParaRPr b="0" lang="en-US" sz="1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533160" y="2714760"/>
            <a:ext cx="7854840" cy="17143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Georgia"/>
              </a:rPr>
              <a:t>Зона смешанных </a:t>
            </a: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Georgia"/>
              </a:rPr>
              <a:t>широколиственно-хвойных лесов</a:t>
            </a: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0293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a6378"/>
                </a:solidFill>
                <a:latin typeface="Georgia"/>
              </a:rPr>
              <a:t>Проверочная работа.</a:t>
            </a:r>
            <a:br>
              <a:rPr sz="3200"/>
            </a:br>
            <a:r>
              <a:rPr b="1" lang="ru-RU" sz="3200" spc="-1" strike="noStrike">
                <a:solidFill>
                  <a:srgbClr val="5a6378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5a6378"/>
                </a:solidFill>
                <a:latin typeface="Georgia"/>
              </a:rPr>
              <a:t>Установить соответствие.</a:t>
            </a:r>
            <a:endParaRPr b="0" lang="en-US" sz="32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60036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9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Georgia"/>
              </a:rPr>
              <a:t>I</a:t>
            </a:r>
            <a:r>
              <a:rPr b="1" lang="ru-RU" sz="1600" spc="-1" strike="noStrike">
                <a:solidFill>
                  <a:srgbClr val="ff0000"/>
                </a:solidFill>
                <a:latin typeface="Georgia"/>
              </a:rPr>
              <a:t> вариант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Тайга –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Смешанный лес-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Произрастают только хвойные деревья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Расположены серые лесные почвы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Сильно изменены хозяйственной деятельностью человека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Климат мягкий, лето продолжительное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Занимает наибольшую площадь России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00720" y="1676520"/>
            <a:ext cx="4000320" cy="457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7000"/>
          </a:bodyPr>
          <a:p>
            <a:pPr marL="264600" indent="-264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Georgia"/>
              </a:rPr>
              <a:t>II</a:t>
            </a:r>
            <a:r>
              <a:rPr b="1" lang="ru-RU" sz="1600" spc="-1" strike="noStrike">
                <a:solidFill>
                  <a:srgbClr val="ff0000"/>
                </a:solidFill>
                <a:latin typeface="Georgia"/>
              </a:rPr>
              <a:t> вариант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Тайга –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Смешанный лес-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Характерно очаговое расселение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Численность животных сильно сокращена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Суровые климатические услович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Нет ярко выраженных надпойменных террас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Слабая заболачиваемость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advTm="6000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1" descr=""/>
          <p:cNvPicPr/>
          <p:nvPr/>
        </p:nvPicPr>
        <p:blipFill>
          <a:blip r:embed="rId2"/>
          <a:stretch/>
        </p:blipFill>
        <p:spPr>
          <a:xfrm>
            <a:off x="450720" y="701640"/>
            <a:ext cx="8321760" cy="115092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1"/>
          <p:cNvSpPr/>
          <p:nvPr/>
        </p:nvSpPr>
        <p:spPr>
          <a:xfrm>
            <a:off x="714240" y="2022840"/>
            <a:ext cx="785844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ages.yandex.ru/yandsearch?text=%D0%BB%D0%B5%D1%81%D0%B0%20%D1%80%D0%BE%D1%81%D1%81%D0%B8%D0%B8%20%D1%84%D0%BE%D1%82%D0%BE&amp;stype=image&amp;noreask=1&amp;lr=35 -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са Росси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Ф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3"/>
              </a:rPr>
              <a:t>http</a:t>
            </a:r>
            <a:r>
              <a:rPr b="0" lang="ru-RU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4"/>
              </a:rPr>
              <a:t>://</a:t>
            </a:r>
            <a:r>
              <a:rPr b="0" lang="en-US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5"/>
              </a:rPr>
              <a:t>img</a:t>
            </a:r>
            <a:r>
              <a:rPr b="0" lang="ru-RU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6"/>
              </a:rPr>
              <a:t>.</a:t>
            </a:r>
            <a:r>
              <a:rPr b="0" lang="en-US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7"/>
              </a:rPr>
              <a:t>mota</a:t>
            </a:r>
            <a:r>
              <a:rPr b="0" lang="ru-RU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8"/>
              </a:rPr>
              <a:t>.</a:t>
            </a:r>
            <a:r>
              <a:rPr b="0" lang="en-US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9"/>
              </a:rPr>
              <a:t>ru</a:t>
            </a:r>
            <a:r>
              <a:rPr b="0" lang="ru-RU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0"/>
              </a:rPr>
              <a:t>/</a:t>
            </a:r>
            <a:r>
              <a:rPr b="0" lang="en-US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1"/>
              </a:rPr>
              <a:t>upload</a:t>
            </a:r>
            <a:r>
              <a:rPr b="0" lang="ru-RU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2"/>
              </a:rPr>
              <a:t>/</a:t>
            </a:r>
            <a:r>
              <a:rPr b="0" lang="en-US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3"/>
              </a:rPr>
              <a:t>wallpapers</a:t>
            </a:r>
            <a:r>
              <a:rPr b="0" lang="ru-RU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4"/>
              </a:rPr>
              <a:t>/2009/11/07/16/04/59/</a:t>
            </a:r>
            <a:r>
              <a:rPr b="0" lang="en-US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5"/>
              </a:rPr>
              <a:t>nature</a:t>
            </a:r>
            <a:r>
              <a:rPr b="0" lang="ru-RU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6"/>
              </a:rPr>
              <a:t>_049-1152</a:t>
            </a:r>
            <a:r>
              <a:rPr b="0" lang="en-US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7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4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pg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   категория Леса и дерев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ages.yandex.ru/yandsearch?text=%D0%B6%D0%B8%D0%B2%D0%BE%D1%82%D0%BD%D1%8B%D0%B5%20%D0%BB%D0%B5%D1%81%D0%BE%D0%B2%20%D1%80%D0%BE%D1%81%D1%81%D0%B8%D0%B8&amp;stype=image&amp;noreask=1&amp;lr=35   -  Животные лесов Ро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Прямоугольник 1"/>
          <p:cNvSpPr/>
          <p:nvPr/>
        </p:nvSpPr>
        <p:spPr>
          <a:xfrm>
            <a:off x="1000080" y="1071720"/>
            <a:ext cx="71438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дравствуй, лес, дремучий лес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лный сказок и чудес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ы о чем шумишь листвою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очь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емной, грозовою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 нам шепчешь на зар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есь в росе, как в серебр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то в глуши твоей таит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 за зверь? Какая птиц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се открой, не утаи!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ы же видишь, мы сво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. Погорело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6" descr="http://bm.img.com.ua/img/prikol/images/large/3/4/66543_61142.jpg"/>
          <p:cNvPicPr/>
          <p:nvPr/>
        </p:nvPicPr>
        <p:blipFill>
          <a:blip r:embed="rId2"/>
          <a:stretch/>
        </p:blipFill>
        <p:spPr>
          <a:xfrm>
            <a:off x="428760" y="4714920"/>
            <a:ext cx="1714320" cy="16430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http://www.drmahaki.com/wp/wp-content/uploads/2006/03/Lavizan.JPG"/>
          <p:cNvPicPr/>
          <p:nvPr/>
        </p:nvPicPr>
        <p:blipFill>
          <a:blip r:embed="rId3"/>
          <a:stretch/>
        </p:blipFill>
        <p:spPr>
          <a:xfrm>
            <a:off x="6429240" y="4786200"/>
            <a:ext cx="2357640" cy="18226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9" descr="http://im8-tub-ru.yandex.net/i?id=42083839-40-7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85840" y="1071720"/>
            <a:ext cx="1857240" cy="1714320"/>
          </a:xfrm>
          <a:prstGeom prst="rect">
            <a:avLst/>
          </a:prstGeom>
          <a:ln w="0">
            <a:noFill/>
          </a:ln>
        </p:spPr>
      </p:pic>
    </p:spTree>
  </p:cSld>
  <p:transition advTm="6000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2431800" y="3960"/>
            <a:ext cx="263736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ЛИСТВЕННЫЙ ЛЕ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631440" y="14040"/>
            <a:ext cx="1086120" cy="28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8" descr="http://i044.radikal.ru/1005/59/1ce92d7f0968.jpg"/>
          <p:cNvPicPr/>
          <p:nvPr/>
        </p:nvPicPr>
        <p:blipFill>
          <a:blip r:embed="rId2"/>
          <a:stretch/>
        </p:blipFill>
        <p:spPr>
          <a:xfrm>
            <a:off x="1143000" y="1357200"/>
            <a:ext cx="7286760" cy="4643640"/>
          </a:xfrm>
          <a:prstGeom prst="rect">
            <a:avLst/>
          </a:prstGeom>
          <a:ln w="0">
            <a:noFill/>
          </a:ln>
        </p:spPr>
      </p:pic>
    </p:spTree>
  </p:cSld>
  <p:transition advTm="6000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Заголовок 2" descr=""/>
          <p:cNvPicPr/>
          <p:nvPr/>
        </p:nvPicPr>
        <p:blipFill>
          <a:blip r:embed="rId2"/>
          <a:stretch/>
        </p:blipFill>
        <p:spPr>
          <a:xfrm>
            <a:off x="1133640" y="281160"/>
            <a:ext cx="7608600" cy="7984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http://www.miller-mccune.com/wp-content/uploads/2010/01/mmw_oldgrowth.jpg"/>
          <p:cNvPicPr/>
          <p:nvPr/>
        </p:nvPicPr>
        <p:blipFill>
          <a:blip r:embed="rId3"/>
          <a:stretch/>
        </p:blipFill>
        <p:spPr>
          <a:xfrm>
            <a:off x="1000080" y="1428840"/>
            <a:ext cx="7358040" cy="4429080"/>
          </a:xfrm>
          <a:prstGeom prst="rect">
            <a:avLst/>
          </a:prstGeom>
          <a:ln w="0">
            <a:noFill/>
          </a:ln>
        </p:spPr>
      </p:pic>
    </p:spTree>
  </p:cSld>
  <p:transition advTm="6000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1"/>
          <p:cNvSpPr/>
          <p:nvPr/>
        </p:nvSpPr>
        <p:spPr>
          <a:xfrm>
            <a:off x="1071720" y="23400"/>
            <a:ext cx="7072200" cy="52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Лес, точно терем расписно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Лиловый, золотой, багряны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еселой, пестрою сте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тоит над светлою поля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Березы желтою резьб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Блестят в лазури голубо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ак вышки, елочки темнею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 между кленами сине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о там, то здесь в листве сквоз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светы в небо, что окон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Лес пахнет дубом и сосно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За лето высох он от солнц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 осень тихою вдов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ступает в пестрый терем св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Заголовок 2" descr=""/>
          <p:cNvPicPr/>
          <p:nvPr/>
        </p:nvPicPr>
        <p:blipFill>
          <a:blip r:embed="rId2"/>
          <a:stretch/>
        </p:blipFill>
        <p:spPr>
          <a:xfrm>
            <a:off x="450720" y="701640"/>
            <a:ext cx="8321760" cy="444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http://www.nikblo.ru/P/p60.jpg"/>
          <p:cNvPicPr/>
          <p:nvPr/>
        </p:nvPicPr>
        <p:blipFill>
          <a:blip r:embed="rId3"/>
          <a:stretch/>
        </p:blipFill>
        <p:spPr>
          <a:xfrm>
            <a:off x="1214280" y="1500120"/>
            <a:ext cx="6929640" cy="4660920"/>
          </a:xfrm>
          <a:prstGeom prst="rect">
            <a:avLst/>
          </a:prstGeom>
          <a:ln w="0">
            <a:noFill/>
          </a:ln>
        </p:spPr>
      </p:pic>
    </p:spTree>
  </p:cSld>
  <p:transition advTm="6000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500040" y="857160"/>
          <a:ext cx="8001000" cy="5426280"/>
        </p:xfrm>
        <a:graphic>
          <a:graphicData uri="http://schemas.openxmlformats.org/drawingml/2006/table">
            <a:tbl>
              <a:tblPr/>
              <a:tblGrid>
                <a:gridCol w="4000680"/>
                <a:gridCol w="4000320"/>
              </a:tblGrid>
              <a:tr h="487440"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войные ле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Тайг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шанные ле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лошная полоса. Занимает большую площад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имеет сплошного распростране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Моренный рельеф, нет надпойменных террас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нообразный рельеф: моренный рельеф, пологие котловины, надпойменные терра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ровые климатические услов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лагоприятные климатические услов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гата поверхностными и грунтовыми водами. Заболочение. Многолетняя мерзлота. &gt;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гата поверхностями и грунтовыми водами. Заболочена меньше. Нет многолетней мерзлот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золистые  почвы + мерзлотно-таежны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рново-подзолистые серые лесные почв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войные породы деревье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ственные + хвойные пород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92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 видов млекопитающих. Пушные звери (соболь, норка, куница, белка, выдра). Семеноядные птицы. Очаговое рассе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шные звери (лисица, белка, куница, енотовидная собака, горностай, лесной хорь). Много семеноядных птиц. Сильно истреблены человеко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504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сопромысловое хозяйство. Разведение молочного и мясо-молочного крупного рогатого скота. Юг – земледелие (рожь, ячмень, лен, картофель, овощи, кормовые травы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устая сеть городских и сельских поселений. Выборочное земледельческое освоение (рожь, ячмень, пшеница, сахарная свекла, картофель, кормовые травы, ягоды). Мясо-молочное животноводство и свиноводство, птицеводство, пчеловодство. Пригородный тип с/х. Лесопромысловое хозяйство развито слабе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6000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Заголовок 1" descr=""/>
          <p:cNvPicPr/>
          <p:nvPr/>
        </p:nvPicPr>
        <p:blipFill>
          <a:blip r:embed="rId2"/>
          <a:stretch/>
        </p:blipFill>
        <p:spPr>
          <a:xfrm>
            <a:off x="450720" y="493560"/>
            <a:ext cx="8321760" cy="7257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" descr="http://www.tvoyrebenok.ru/images/animals/116.1.jpg"/>
          <p:cNvPicPr/>
          <p:nvPr/>
        </p:nvPicPr>
        <p:blipFill>
          <a:blip r:embed="rId3"/>
          <a:stretch/>
        </p:blipFill>
        <p:spPr>
          <a:xfrm rot="19429200">
            <a:off x="1571400" y="1428840"/>
            <a:ext cx="1752480" cy="16430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Картинка 3 из 12992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643200" y="1428840"/>
            <a:ext cx="2203560" cy="15001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http://basik.ru/images/2415/47.jpg"/>
          <p:cNvPicPr/>
          <p:nvPr/>
        </p:nvPicPr>
        <p:blipFill>
          <a:blip r:embed="rId6"/>
          <a:stretch/>
        </p:blipFill>
        <p:spPr>
          <a:xfrm rot="1873800">
            <a:off x="6588000" y="1456920"/>
            <a:ext cx="1881360" cy="14112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http://stat17.privet.ru/lr/0a04a181344c883dbe796cb728191892"/>
          <p:cNvPicPr/>
          <p:nvPr/>
        </p:nvPicPr>
        <p:blipFill>
          <a:blip r:embed="rId7"/>
          <a:stretch/>
        </p:blipFill>
        <p:spPr>
          <a:xfrm>
            <a:off x="2143080" y="5000760"/>
            <a:ext cx="2006640" cy="13572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http://www.ebftour.ru/images/load/Image/18(42).jpg"/>
          <p:cNvPicPr/>
          <p:nvPr/>
        </p:nvPicPr>
        <p:blipFill>
          <a:blip r:embed="rId8"/>
          <a:stretch/>
        </p:blipFill>
        <p:spPr>
          <a:xfrm rot="20124000">
            <a:off x="1285920" y="3428640"/>
            <a:ext cx="1996920" cy="15001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2" descr="http://stat16.privet.ru/lr/0b0b93eabfaf370a8211f11b7540ae40"/>
          <p:cNvPicPr/>
          <p:nvPr/>
        </p:nvPicPr>
        <p:blipFill>
          <a:blip r:embed="rId9"/>
          <a:stretch/>
        </p:blipFill>
        <p:spPr>
          <a:xfrm rot="1383000">
            <a:off x="6286320" y="3285720"/>
            <a:ext cx="2038320" cy="13572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4" descr="http://www.forumimage.ru/uploads/20091030/125688203656458484.jpg"/>
          <p:cNvPicPr/>
          <p:nvPr/>
        </p:nvPicPr>
        <p:blipFill>
          <a:blip r:embed="rId10"/>
          <a:stretch/>
        </p:blipFill>
        <p:spPr>
          <a:xfrm>
            <a:off x="4214880" y="2857680"/>
            <a:ext cx="1473120" cy="2214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6" descr="http://www.peaceinpractice.iinet.net.au/images/wolfs.jpg"/>
          <p:cNvPicPr/>
          <p:nvPr/>
        </p:nvPicPr>
        <p:blipFill>
          <a:blip r:embed="rId11"/>
          <a:stretch/>
        </p:blipFill>
        <p:spPr>
          <a:xfrm>
            <a:off x="4952880" y="5000760"/>
            <a:ext cx="2106720" cy="1582560"/>
          </a:xfrm>
          <a:prstGeom prst="rect">
            <a:avLst/>
          </a:prstGeom>
          <a:ln w="0">
            <a:noFill/>
          </a:ln>
        </p:spPr>
      </p:pic>
    </p:spTree>
  </p:cSld>
  <p:transition advTm="6000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2"/>
          <a:stretch/>
        </p:blipFill>
        <p:spPr>
          <a:xfrm>
            <a:off x="493560" y="706320"/>
            <a:ext cx="8394840" cy="1146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1" name=""/>
          <p:cNvGraphicFramePr/>
          <p:nvPr/>
        </p:nvGraphicFramePr>
        <p:xfrm>
          <a:off x="428760" y="2071800"/>
          <a:ext cx="8215200" cy="3933720"/>
        </p:xfrm>
        <a:graphic>
          <a:graphicData uri="http://schemas.openxmlformats.org/drawingml/2006/table">
            <a:tbl>
              <a:tblPr/>
              <a:tblGrid>
                <a:gridCol w="2214360"/>
                <a:gridCol w="6000840"/>
              </a:tblGrid>
              <a:tr h="504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d9253e"/>
                          </a:solidFill>
                          <a:latin typeface="Times New Roman"/>
                          <a:ea typeface="Times New Roman"/>
                        </a:rPr>
                        <a:t>Кро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Хвойно-витаминная мука, лекарственные веще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d9253e"/>
                          </a:solidFill>
                          <a:latin typeface="Times New Roman"/>
                          <a:ea typeface="Times New Roman"/>
                        </a:rPr>
                        <a:t>Сучь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Щепа для производства картона и древесных пл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d9253e"/>
                          </a:solidFill>
                          <a:latin typeface="Times New Roman"/>
                          <a:ea typeface="Times New Roman"/>
                        </a:rPr>
                        <a:t>Ко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Дубильные вещества, наполнители строительных бло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3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d9253e"/>
                          </a:solidFill>
                          <a:latin typeface="Times New Roman"/>
                          <a:ea typeface="Times New Roman"/>
                        </a:rPr>
                        <a:t>Ство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Пиломатериалы, шпалы, крепления для шахт, опоры для линий связи и электропередачи. целлюлоза. бумага, этиловый спирт, мебель, фанера, кормовые дрожжи, строения, спички, карандаши, лыжи, музыкальные инструмент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d9253e"/>
                          </a:solidFill>
                          <a:latin typeface="Times New Roman"/>
                          <a:ea typeface="Times New Roman"/>
                        </a:rPr>
                        <a:t>Пень и кор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анифоль, скипидар, камфара, фурфуро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6000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4T07:06:36Z</dcterms:created>
  <dc:creator>пользователь</dc:creator>
  <dc:description/>
  <dc:language>en-US</dc:language>
  <cp:lastModifiedBy>КарМаН</cp:lastModifiedBy>
  <dcterms:modified xsi:type="dcterms:W3CDTF">2012-03-20T02:00:49Z</dcterms:modified>
  <cp:revision>80</cp:revision>
  <dc:subject/>
  <dc:title>Слайд 1</dc:title>
</cp:coreProperties>
</file>