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486-887F-49E4-9883-5D98B089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A94-CBF6-4013-BC8C-00C97804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71F-EFC4-4131-BBBD-AA752EFB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93B-5A10-456C-8CFE-C8ED53FB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7D91-862E-47FB-815F-436F3817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7366-0EA5-4E35-B162-36326B22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FAC9-B4A1-4A3A-A0A2-56D80287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260E-8707-4E80-A830-87E35E68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CBDA-B7BB-4246-ACBB-D967D98F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D885-1E52-4D8B-A268-8EB5C99E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A591-7B8C-4D71-999B-78FA2EEF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E2F-6E14-42EF-8612-4850487D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1233-F1F5-4A16-A011-53107F04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4A81-E43C-4277-A032-18153143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3A96-2A25-416E-A98E-CB76D952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3CB2-60F0-4710-8CCB-24EEEE5E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C6CF-56B2-4CB0-BEFB-70F0745C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183E-1DB3-4B93-AA00-8D85F9AC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DF341-4EE2-408D-8EEB-D709D6CC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B51D-DD7A-42B1-A0A6-5519C1B2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96412-56F3-445B-B85D-A7531A88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00B46-6009-4EBC-A2A3-6FA3E79B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927-9797-4E9C-B13B-E9362FAB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DDF93-5917-43EA-8249-E3133CE5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BEE44-CC9B-40D4-B8E7-FB01FA1C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227C4-9B92-43CE-8B27-BB32D882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FDFE5-D5B5-415F-ACCD-9FE76DDD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A7FBD-9330-4B08-8767-54A44AAE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AE750-08A1-4D14-B2C6-B8A709EF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F7131-2351-419E-B2C5-5C0C39DF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296F1-F7E3-4481-B06A-1F1AD68C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BB645-2374-4831-B48A-51714AEA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27777-5B5D-4308-A2AC-6CD56A27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4B1-D42D-45A0-8F4C-79719B2C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CEA7C-9193-4A55-8FDD-4F9B3C38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10FA2-CA70-4E50-BBF6-976EC3BE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2C73B-E4D7-46D3-9FE5-80024104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C9F41-46F5-413F-B092-0BBD3B58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97DD1-A27F-4AC4-AC51-75EE4801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59975-80DF-4AE9-8CF8-91806BAF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BD8B-01C5-4238-BD3C-565CEFCC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611D9-B6B9-4CD8-AC09-1E8A1DF2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308DE-83F5-4880-A675-FC07AF44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4F9-BE99-4491-80A0-0DE0B445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06C-FB4B-4928-9277-4F9B0E75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508-7D32-4CC4-B0E7-660611AA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B54-79BE-4A2C-93D7-65C9B9A9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93B-EA1E-451F-A808-780C3219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E680-13D1-4650-97BA-7679847630AD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1814-AF23-48E4-B2AC-DF0495BB3B25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2B82-6EC1-42CE-B387-35377FAC9C3D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097E-1E12-4454-982C-F580B455EF6E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img.mota.ru/upload/wallpapers/2009/11/07/16/04/59/nature_049-1152x864.jpg" TargetMode="External"/><Relationship Id="rId4" Type="http://schemas.openxmlformats.org/officeDocument/2006/relationships/hyperlink" Target="http://img.mota.ru/upload/wallpapers/2009/11/07/16/04/59/nature_049-1152x864.jpg" TargetMode="External"/><Relationship Id="rId5" Type="http://schemas.openxmlformats.org/officeDocument/2006/relationships/hyperlink" Target="http://img.mota.ru/upload/wallpapers/2009/11/07/16/04/59/nature_049-1152x864.jpg" TargetMode="External"/><Relationship Id="rId6" Type="http://schemas.openxmlformats.org/officeDocument/2006/relationships/hyperlink" Target="http://img.mota.ru/upload/wallpapers/2009/11/07/16/04/59/nature_049-1152x864.jpg" TargetMode="External"/><Relationship Id="rId7" Type="http://schemas.openxmlformats.org/officeDocument/2006/relationships/hyperlink" Target="http://img.mota.ru/upload/wallpapers/2009/11/07/16/04/59/nature_049-1152x864.jpg" TargetMode="External"/><Relationship Id="rId8" Type="http://schemas.openxmlformats.org/officeDocument/2006/relationships/hyperlink" Target="http://img.mota.ru/upload/wallpapers/2009/11/07/16/04/59/nature_049-1152x864.jpg" TargetMode="External"/><Relationship Id="rId9" Type="http://schemas.openxmlformats.org/officeDocument/2006/relationships/hyperlink" Target="http://img.mota.ru/upload/wallpapers/2009/11/07/16/04/59/nature_049-1152x864.jpg" TargetMode="External"/><Relationship Id="rId10" Type="http://schemas.openxmlformats.org/officeDocument/2006/relationships/hyperlink" Target="http://img.mota.ru/upload/wallpapers/2009/11/07/16/04/59/nature_049-1152x864.jpg" TargetMode="External"/><Relationship Id="rId11" Type="http://schemas.openxmlformats.org/officeDocument/2006/relationships/hyperlink" Target="http://img.mota.ru/upload/wallpapers/2009/11/07/16/04/59/nature_049-1152x864.jpg" TargetMode="External"/><Relationship Id="rId12" Type="http://schemas.openxmlformats.org/officeDocument/2006/relationships/hyperlink" Target="http://img.mota.ru/upload/wallpapers/2009/11/07/16/04/59/nature_049-1152x864.jpg" TargetMode="External"/><Relationship Id="rId13" Type="http://schemas.openxmlformats.org/officeDocument/2006/relationships/hyperlink" Target="http://img.mota.ru/upload/wallpapers/2009/11/07/16/04/59/nature_049-1152x864.jpg" TargetMode="External"/><Relationship Id="rId14" Type="http://schemas.openxmlformats.org/officeDocument/2006/relationships/hyperlink" Target="http://img.mota.ru/upload/wallpapers/2009/11/07/16/04/59/nature_049-1152x864.jpg" TargetMode="External"/><Relationship Id="rId15" Type="http://schemas.openxmlformats.org/officeDocument/2006/relationships/hyperlink" Target="http://img.mota.ru/upload/wallpapers/2009/11/07/16/04/59/nature_049-1152x864.jpg" TargetMode="External"/><Relationship Id="rId16" Type="http://schemas.openxmlformats.org/officeDocument/2006/relationships/hyperlink" Target="http://img.mota.ru/upload/wallpapers/2009/11/07/16/04/59/nature_049-1152x864.jpg" TargetMode="External"/><Relationship Id="rId17" Type="http://schemas.openxmlformats.org/officeDocument/2006/relationships/hyperlink" Target="http://img.mota.ru/upload/wallpapers/2009/11/07/16/04/59/nature_049-1152x864.jpg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harmonyvl.ru/pricing/img/forest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img1.liveinternet.ru/images/attach/c/1/48/906/48906883_kaban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Презентация</a:t>
            </a:r>
            <a:r>
              <a:rPr b="0" lang="ru-RU" sz="5000" spc="-1" strike="noStrike">
                <a:solidFill>
                  <a:srgbClr val="d4d4d6"/>
                </a:solidFill>
                <a:latin typeface="Georgia"/>
              </a:rPr>
              <a:t> </a:t>
            </a: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у уроку географии в 8 классе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00280" y="4857840"/>
            <a:ext cx="542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ходеева Г.Н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БОУ СОШ № 18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станицы Ивановской Красноармейского района           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Краснодарского края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160" y="2714760"/>
            <a:ext cx="78548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Зона смешанных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широколиственно-хвойных лесо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029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Проверочная работа.</a:t>
            </a:r>
            <a:br>
              <a:rPr sz="3200"/>
            </a:b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5a6378"/>
                </a:solidFill>
                <a:latin typeface="Georgia"/>
              </a:rPr>
              <a:t>Установить соответствие.</a:t>
            </a:r>
            <a:endParaRPr b="0" lang="en-US" sz="32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6003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израстают только хвойные деревь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сположены серые лесные почв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льно изменены хозяйственной деятельностью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лимат мягкий, лето продолжительно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нимает наибольшую площадь Рос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00720" y="167652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Характерно очаговое расселе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исленность животных сильно сокращен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уровые климатические услович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т ярко выраженных надпойменных террас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лабая заболачиваемост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6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714240" y="2022840"/>
            <a:ext cx="7858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B%D0%B5%D1%81%D0%B0%20%D1%80%D0%BE%D1%81%D1%81%D0%B8%D0%B8%20%D1%84%D0%BE%D1%82%D0%BE&amp;stype=image&amp;noreask=1&amp;lr=35 -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Росс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5"/>
              </a:rPr>
              <a:t>img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7"/>
              </a:rPr>
              <a:t>mota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1"/>
              </a:rPr>
              <a:t>upload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3"/>
              </a:rPr>
              <a:t>wallpapers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4"/>
              </a:rPr>
              <a:t>/2009/11/07/16/04/59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5"/>
              </a:rPr>
              <a:t>nature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6"/>
              </a:rPr>
              <a:t>_049-1152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7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g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категория Леса и 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6%D0%B8%D0%B2%D0%BE%D1%82%D0%BD%D1%8B%D0%B5%20%D0%BB%D0%B5%D1%81%D0%BE%D0%B2%20%D1%80%D0%BE%D1%81%D1%81%D0%B8%D0%B8&amp;stype=image&amp;noreask=1&amp;lr=35   -  Животные лесо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1000080" y="1071720"/>
            <a:ext cx="7143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дравствуй, лес, дремучий л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ый сказок и чуде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о чем шумишь листво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ч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ной, грозов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м шепчешь на зар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ь в росе, как в сереб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в глуши твоей та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а зверь? Какая пт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открой, не утаи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же видишь, мы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. Погоре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http://bm.img.com.ua/img/prikol/images/large/3/4/66543_61142.jpg"/>
          <p:cNvPicPr/>
          <p:nvPr/>
        </p:nvPicPr>
        <p:blipFill>
          <a:blip r:embed="rId2"/>
          <a:stretch/>
        </p:blipFill>
        <p:spPr>
          <a:xfrm>
            <a:off x="428760" y="47149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drmahaki.com/wp/wp-content/uploads/2006/03/Lavizan.JPG"/>
          <p:cNvPicPr/>
          <p:nvPr/>
        </p:nvPicPr>
        <p:blipFill>
          <a:blip r:embed="rId3"/>
          <a:stretch/>
        </p:blipFill>
        <p:spPr>
          <a:xfrm>
            <a:off x="6429240" y="4786200"/>
            <a:ext cx="2357640" cy="1822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http://im8-tub-ru.yandex.net/i?id=42083839-40-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107172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2431800" y="3960"/>
            <a:ext cx="26373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ВЕННЫЙ Л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31440" y="14040"/>
            <a:ext cx="108612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i044.radikal.ru/1005/59/1ce92d7f0968.jpg"/>
          <p:cNvPicPr/>
          <p:nvPr/>
        </p:nvPicPr>
        <p:blipFill>
          <a:blip r:embed="rId2"/>
          <a:stretch/>
        </p:blipFill>
        <p:spPr>
          <a:xfrm>
            <a:off x="1143000" y="1357200"/>
            <a:ext cx="7286760" cy="464364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1133640" y="281160"/>
            <a:ext cx="7608600" cy="798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ttp://www.miller-mccune.com/wp-content/uploads/2010/01/mmw_oldgrowth.jpg"/>
          <p:cNvPicPr/>
          <p:nvPr/>
        </p:nvPicPr>
        <p:blipFill>
          <a:blip r:embed="rId3"/>
          <a:stretch/>
        </p:blipFill>
        <p:spPr>
          <a:xfrm>
            <a:off x="1000080" y="1428840"/>
            <a:ext cx="7358040" cy="44290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071720" y="23400"/>
            <a:ext cx="70722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, точно терем распи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ловый, золотой, багря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лой, пестрою сте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над светлою пол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зы желтою резь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лестят в лазури голу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шки, елочки темне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ежду кленами син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там, то здесь в листве скво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ы в небо, что око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 пахнет дубом и со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лето высох он от сол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сень тихою в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упает в пестрый терем с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2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www.nikblo.ru/P/p60.jpg"/>
          <p:cNvPicPr/>
          <p:nvPr/>
        </p:nvPicPr>
        <p:blipFill>
          <a:blip r:embed="rId3"/>
          <a:stretch/>
        </p:blipFill>
        <p:spPr>
          <a:xfrm>
            <a:off x="1214280" y="1500120"/>
            <a:ext cx="6929640" cy="46609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00040" y="857160"/>
          <a:ext cx="8001000" cy="5426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874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йг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ая полоса. Занимает большую площад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меет сплошного распростра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ренный рельеф, нет надпойменных терра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й рельеф: моренный рельеф, пологие котловины, надпойменные терр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овые климат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приятные климатические услов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ными и грунтовыми водами. Заболочение. Многолетняя мерзлота. &g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ями и грунтовыми водами. Заболочена меньше. Нет многолетней мерзл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листые  почвы + мерзлотно-таеж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ново-подзолистые серые лесные почв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породы деревь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ые + хвойные пор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видов млекопитающих. Пушные звери (соболь, норка, куница, белка, выдра). Семеноядные птицы. Очаговое рас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ные звери (лисица, белка, куница, енотовидная собака, горностай, лесной хорь). Много семеноядных птиц. Сильно истреблены челове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0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опромысловое хозяйство. Разведение молочного и мясо-молочного крупного рогатого скота. Юг – земледелие (рожь, ячмень, лен, картофель, овощи, кормовые трав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ая сеть городских и сельских поселений. Выборочное земледельческое освоение (рожь, ячмень, пшеница, сахарная свекла, картофель, кормовые травы, ягоды). Мясо-молочное животноводство и свиноводство, птицеводство, пчеловодство. Пригородный тип с/х. Лесопромысловое хозяйство развито слаб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50720" y="493560"/>
            <a:ext cx="8321760" cy="725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tvoyrebenok.ru/images/animals/116.1.jpg"/>
          <p:cNvPicPr/>
          <p:nvPr/>
        </p:nvPicPr>
        <p:blipFill>
          <a:blip r:embed="rId3"/>
          <a:stretch/>
        </p:blipFill>
        <p:spPr>
          <a:xfrm rot="19429200">
            <a:off x="1571400" y="142884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Картинка 3 из 1299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43200" y="1428840"/>
            <a:ext cx="220356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basik.ru/images/2415/47.jpg"/>
          <p:cNvPicPr/>
          <p:nvPr/>
        </p:nvPicPr>
        <p:blipFill>
          <a:blip r:embed="rId6"/>
          <a:stretch/>
        </p:blipFill>
        <p:spPr>
          <a:xfrm rot="1873800">
            <a:off x="6588000" y="145692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stat17.privet.ru/lr/0a04a181344c883dbe796cb728191892"/>
          <p:cNvPicPr/>
          <p:nvPr/>
        </p:nvPicPr>
        <p:blipFill>
          <a:blip r:embed="rId7"/>
          <a:stretch/>
        </p:blipFill>
        <p:spPr>
          <a:xfrm>
            <a:off x="2143080" y="5000760"/>
            <a:ext cx="2006640" cy="13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http://www.ebftour.ru/images/load/Image/18(42).jpg"/>
          <p:cNvPicPr/>
          <p:nvPr/>
        </p:nvPicPr>
        <p:blipFill>
          <a:blip r:embed="rId8"/>
          <a:stretch/>
        </p:blipFill>
        <p:spPr>
          <a:xfrm rot="20124000">
            <a:off x="1285920" y="3428640"/>
            <a:ext cx="1996920" cy="150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http://stat16.privet.ru/lr/0b0b93eabfaf370a8211f11b7540ae40"/>
          <p:cNvPicPr/>
          <p:nvPr/>
        </p:nvPicPr>
        <p:blipFill>
          <a:blip r:embed="rId9"/>
          <a:stretch/>
        </p:blipFill>
        <p:spPr>
          <a:xfrm rot="1383000">
            <a:off x="6286320" y="3285720"/>
            <a:ext cx="2038320" cy="13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http://www.forumimage.ru/uploads/20091030/125688203656458484.jpg"/>
          <p:cNvPicPr/>
          <p:nvPr/>
        </p:nvPicPr>
        <p:blipFill>
          <a:blip r:embed="rId10"/>
          <a:stretch/>
        </p:blipFill>
        <p:spPr>
          <a:xfrm>
            <a:off x="4214880" y="2857680"/>
            <a:ext cx="147312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http://www.peaceinpractice.iinet.net.au/images/wolfs.jpg"/>
          <p:cNvPicPr/>
          <p:nvPr/>
        </p:nvPicPr>
        <p:blipFill>
          <a:blip r:embed="rId11"/>
          <a:stretch/>
        </p:blipFill>
        <p:spPr>
          <a:xfrm>
            <a:off x="4952880" y="5000760"/>
            <a:ext cx="2106720" cy="158256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493560" y="706320"/>
            <a:ext cx="839484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428760" y="2071800"/>
          <a:ext cx="8215200" cy="3933720"/>
        </p:xfrm>
        <a:graphic>
          <a:graphicData uri="http://schemas.openxmlformats.org/drawingml/2006/table">
            <a:tbl>
              <a:tblPr/>
              <a:tblGrid>
                <a:gridCol w="2214360"/>
                <a:gridCol w="600084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войно-витаминная мука, лекарственн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уч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Щепа для производства картона и древесных пл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убильные вещества, наполнители строительных бл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т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иломатериалы, шпалы, крепления для шахт, опоры для линий связи и электропередачи. целлюлоза. бумага, этиловый спирт, мебель, фанера, кормовые дрожжи, строения, спички, карандаши, лыжи, музыкальные инструмен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Пень и кор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ифоль, скипидар, камфара, фурфуро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06:36Z</dcterms:created>
  <dc:creator>пользователь</dc:creator>
  <dc:description/>
  <dc:language>en-US</dc:language>
  <cp:lastModifiedBy>КарМаН</cp:lastModifiedBy>
  <dcterms:modified xsi:type="dcterms:W3CDTF">2012-03-20T02:00:49Z</dcterms:modified>
  <cp:revision>80</cp:revision>
  <dc:subject/>
  <dc:title>Слайд 1</dc:title>
</cp:coreProperties>
</file>