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3EF7-E97D-4A7D-9663-F0B7C07A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A45D-38E3-4EE0-975A-D60F252D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CBD-CCF1-4451-9A58-619BCCD3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E3FE-0721-4B3B-9763-E1AA4ABA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D886-476D-476C-9A3B-0C4CC2BB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803C-4572-44EC-BF0D-14A77208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B5F3-510C-4F40-A2D3-317D1D01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217C-103D-4952-9CF5-9DEF3039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4669-7B22-455F-85E2-FB0AF3B1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3976-0889-4A1E-A996-091EC936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1BF9-FCEF-43BB-8A68-B0BE2907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86B3-DCBD-423B-9201-5C93FC7D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06C02-C374-4F84-BF44-5E5946E0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9D67-E551-4E66-BC89-DE42F082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ABB6-2B93-47B0-9A36-2F6D963C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18C5-EE81-4BB1-99E6-64B14649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3DEB-261D-4B40-B030-BE1DD8FD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E61-6FB8-4EA2-8670-79CAB094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C08E-FCBB-4A2A-A3AD-257054AC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471F-14D0-4984-8C03-BD9852CB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76DE-A66A-471B-A7A0-B3BE0EE4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2EEE-6DF2-45B1-9A46-4B16C7FE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5676-35F3-48AA-BB63-A6F552FF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CD42-EB4D-4136-AA52-B1BA37EC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83D2-62A6-41C3-989F-9D0B5A87DC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BA2B-3340-4063-8A90-EC1D4FEBC03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rono.ru/1900ge.html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« Германия: раскол и объединени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5229360"/>
            <a:ext cx="561672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Презентация разработана учителем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333360"/>
            <a:ext cx="6696000" cy="57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вейшая история. 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26920" y="333360"/>
            <a:ext cx="7993080" cy="93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октября 1949 г. – провозглашение Г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ытия в Восточной Германии развивались по аналогии. Была введена восточная марка в советской зоне. Политическая партия Восточной Германии( среди которых главную роль играла Социалистическая единая партия Германии), сформировали Немецкий национальный совет, который на заседании 7 октября 1949 года провозгласил создание Германской Демократической Республики на территории восточной зоны.. 12 октября палата ( временный парламент) избрали президентом ГДР Отто Громв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3566880"/>
            <a:ext cx="896472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принципы  экономического поряд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сударство непосредственно не занимается регулирование хозяйственных процессов, но устанавливает правила, по которым действуют субъе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ная конкуренция, постоянство экономической политики и стабильность денежного обращения в условиях открытого рынка, защита частной собств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206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76360" y="1916280"/>
            <a:ext cx="3745080" cy="88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Л. Эрхард. Премье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Министр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84280"/>
            <a:ext cx="8964720" cy="525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одель социального рыночного хозяйства в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успешно сработала в 1950- 1960 гг., когда тем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ироста промышленной продукции в Европе состав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 среднем 8,5%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 к концу 1960-х годов в ФРГ начался эконом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. Затем последовали мировые эконо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ы. К концу 80-х годов выросл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езработных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1949-1969 гг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в ФРГ формировал ХДС в союзе с СвДП, а канцлер выбирался из ХДС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1969 – 1982 г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 ФРГ формировала СДПГ в союзе со СвДП, возглавил В. Брандт. В его политике важное место занимали вопросы урегулирования отношений с ГДР и восточноевропейскими странами с целью заключить до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8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82 по 1998 гг. возглавил правитель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згласил возвращение к политике Л. Эрхарда, но признал необходимость со стороны государства социальной корректировки стихийно действующего рыночного мех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приватизацию малоэффективных сфер эконо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ана поддержка развитию новых технолог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 "/>
          <p:cNvPicPr/>
          <p:nvPr/>
        </p:nvPicPr>
        <p:blipFill>
          <a:blip r:embed="rId1"/>
          <a:stretch/>
        </p:blipFill>
        <p:spPr>
          <a:xfrm>
            <a:off x="5724360" y="1628640"/>
            <a:ext cx="2406960" cy="3384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льмут К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8 году СДПГ победила на парламентских выборах и канцлером стал социал – демократ Г. Шрёд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Герхард Шрёдер не знает, как бороться с внутренней оппозицией.Фото Reuters"/>
          <p:cNvPicPr/>
          <p:nvPr/>
        </p:nvPicPr>
        <p:blipFill>
          <a:blip r:embed="rId1"/>
          <a:stretch/>
        </p:blipFill>
        <p:spPr>
          <a:xfrm>
            <a:off x="5580000" y="1628640"/>
            <a:ext cx="2733840" cy="3745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рхард Шрё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АБОТАЕМ ПО УЧЕБНИК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233 – 23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ьте на вопрос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ём различия экономического и политического развития ГДР и ФР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ГДР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« Бархатная революция» в ГДР. Объединение Германии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844640"/>
            <a:ext cx="8280360" cy="48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Самостоятельно прочитайте материал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подготовьтесь ответить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Что такое « бархатная революци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2) Каковы её особен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3) К чему она прив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й задачей стало обеспечение фактического единсвта Германии – включение восточных земель в экономическую и социальную систему государства. За 4 года ( 1990-1994)  была осуществлена ускоренная приватизация, деиндустриализация целых промышленных районов и резкий рост безрабо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ы были активные действ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уществлять социальные выпл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новых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подготовка безраб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ление досрочной пен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ён налог солида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Сегодня на урок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ослевоенным положением Герм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почему произошло разделение Германии на ФРГ и ГД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м их пути разви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что подтолкнуло ФРГ и ГДР объединиться в одно госуд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663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Политика Гельмута Ко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олжил политику Г. К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метилось тенденция на сближение позиций двух ведущих сил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та реформа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сокращены пособия по безработице. Но увеличены расходы на науку и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ы налоги на малый бизн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приняты программы для поощрения добровольных организаций граждан в помощи старикам и инвали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 выборов 2005 года социал – демократы проиграли, но христианские демократы не смогли добиться большинства. В такой ситуации христианские демократы и социал – демократы образовали « большую коалиция» двух крупнейших партий страны  и коалиционное правительство во главе с Ангелой Мерк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 "/>
          <p:cNvPicPr/>
          <p:nvPr/>
        </p:nvPicPr>
        <p:blipFill>
          <a:blip r:embed="rId1"/>
          <a:stretch/>
        </p:blipFill>
        <p:spPr>
          <a:xfrm>
            <a:off x="5364000" y="981000"/>
            <a:ext cx="251460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003640" y="4124160"/>
            <a:ext cx="3527640" cy="8892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Ангела Меркел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Канцлер Гер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одведём итог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2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26, записи, сообщение о падение Берлинской ст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купационный режим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ол Германии. Образование ФРГ и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динение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ослевоенное развитие Герм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628640"/>
            <a:ext cx="8640720" cy="504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1 период: 1945-1949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ккупацион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2 период: 1949 – 1990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Сосуществование и сопер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3 период 1990 г.  - объединение дву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Германских государств в Ф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Вильгельм Кейтель подписывает Акт о безоговорочной капитуляции Германии"/>
          <p:cNvPicPr/>
          <p:nvPr/>
        </p:nvPicPr>
        <p:blipFill>
          <a:blip r:embed="rId1"/>
          <a:stretch/>
        </p:blipFill>
        <p:spPr>
          <a:xfrm>
            <a:off x="4896000" y="147600"/>
            <a:ext cx="4248000" cy="3281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5280" y="981000"/>
            <a:ext cx="4176720" cy="107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В. Кейтель подписывает 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о безоговорочной капит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Гер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8 мая 1945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645000"/>
            <a:ext cx="9144000" cy="30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осле подписания Акта о безоговорочной капиту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Германия лишилась своей государственности.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ласть осуществляли СШ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Франция и Великобритания, а в  восточной –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бщее руководство осуществлял Контрольный со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76720" y="455760"/>
            <a:ext cx="3780000" cy="27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9280" y="1197000"/>
            <a:ext cx="4753080" cy="936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Крымская ( Ялтинская ) Конфере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1945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Представители: И. Сталин, У. Черчилл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Ф. Рузвель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3429000"/>
            <a:ext cx="8856720" cy="33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еждународные конференции в Ялте и Постда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пределили следующую политику по отнош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 Герм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нац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илитар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карте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окра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826920" y="333360"/>
            <a:ext cx="7777440" cy="1008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арламент в Герм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8600">
            <a:off x="3276360" y="1413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711200">
            <a:off x="6012000" y="1412640"/>
            <a:ext cx="485640" cy="1493640"/>
          </a:xfrm>
          <a:prstGeom prst="downArrow">
            <a:avLst>
              <a:gd name="adj1" fmla="val 50000"/>
              <a:gd name="adj2" fmla="val 7689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869000"/>
            <a:ext cx="3024000" cy="1800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ерхняя пала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5013360"/>
            <a:ext cx="3024000" cy="172872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ижняя палат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2852640"/>
            <a:ext cx="784872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а основе конституции 14 августа 1949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ыли проведены в трёх объединё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ыборы в парла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79280" y="333360"/>
            <a:ext cx="8785440" cy="107964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Раскол Герма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бразование 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800440" cy="385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08720" y="5661000"/>
            <a:ext cx="3635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онрад Аденауэ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езидент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ДЕНАУЭР Конрад (1876-1967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едеральный канцлер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ФРГ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в 1949-1963 годах. В 1917-1933 годах - обер-бургомистр Кельна, в 1920-1932 годах - председатель прусского Государственного совета. Один из основателей (1946) и с 1950 года председатель Христианско-демократического союза. Внес значительный вклад в создание Основного закона (конституции) и государства ФРГ. В 1951 - 1955 годы министр иностранных дел. Добился приема ФРГ в Западно-Европейский Союз и НАТО. В 1955 году правительство Аденауэра установило дипломатические отношения с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ндестаг и бундесрат одобрили конституцию и избрали президента Федеративной Республики Германии, а  20 сентября лидер Христианско – демократического союза Конрад Аденауэр представил парламенту первое правительство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260280"/>
            <a:ext cx="8713800" cy="115272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сентября 1949 г. – создание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2:10Z</dcterms:modified>
  <cp:revision>13</cp:revision>
  <dc:subject/>
  <dc:title>Древний Египет</dc:title>
</cp:coreProperties>
</file>