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024-3539-4CDE-8BD3-00E30A58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B15-53EC-4AA3-A0C6-06FB5235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A60C-FAA7-4854-8C0F-59BC80A0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FB01-7A32-488A-8CC0-1DCFB579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2A10-C2C0-4C53-BA6C-4DF47FEB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8F88-DEEB-4B84-B476-7CDE4F55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329B-C114-4427-BC30-8759BB68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FA26-AD8C-4950-9C35-44C7EFA2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F3AC-56FB-458E-AE42-22A28F73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8890-90F0-44FD-8913-09DB3098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2323-135B-4D15-925D-EE4531EF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69A-36AB-4EDA-96B2-FAE93C43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DC9A-B3B5-4507-B348-F032EC9F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9A16-0653-4BFC-8EFA-5B9C062B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7AB9-9837-44EE-863D-074BF549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CFC2-E66B-4515-A4B3-0230607E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4BA5-64C5-4B53-ADD1-6331C0D5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D23-F77B-4018-921A-6D75787B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F111-45F4-4724-9143-8E2FE755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376A-F0A2-45E9-B0FD-E3DFE5AA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F442-776B-43D9-AEEB-5198D795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AA94-94A1-4A0D-AED4-C967141D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301C-B7AA-48AA-8BE2-C6153237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D8A3-3FFC-4FB4-885F-EE5CC7C5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AA9F-38C1-4556-AB1C-2A75A6C6DD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8947-E612-4C38-A5A9-2C83A959683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rono.ru/1900ge.html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« Германия: раскол и объеди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5229360"/>
            <a:ext cx="561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Презентация разработана учителем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33360"/>
            <a:ext cx="6696000" cy="57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вейшая история. 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26920" y="333360"/>
            <a:ext cx="7993080" cy="93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октября 1949 г. – провозглашение Г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ытия в Восточной Германии развивались по аналогии. Была введена восточная марка в советской зоне. Политическая партия Восточной Германии( среди которых главную роль играла Социалистическая единая партия Германии), сформировали Немецкий национальный совет, который на заседании 7 октября 1949 года провозгласил создание Германской Демократической Республики на территории восточной зоны.. 12 октября палата ( временный парламент) избрали президентом ГДР Отто Громв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3566880"/>
            <a:ext cx="89647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ринципы  экономического поряд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о непосредственно не занимается регулирование хозяйственных процессов, но устанавливает правила, по которым действуют субъе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ная конкуренция, постоянство экономической политики и стабильность денежного обращения в условиях открытого рынка, защита частной собств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206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76360" y="1916280"/>
            <a:ext cx="3745080" cy="88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Л. Эрхард. Премье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Министр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84280"/>
            <a:ext cx="8964720" cy="52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одель социального рыночного хозяйства в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успешно сработала в 1950- 1960 гг., когда тем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ироста промышленной продукции в Европе состав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 среднем 8,5%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 к концу 1960-х годов в ФРГ начался эконом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. Затем последовали мировые эконо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ы. К концу 80-х годов выросл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езработны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1949-1969 гг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в ФРГ формировал ХДС в союзе с СвДП, а канцлер выбирался из ХД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1969 – 1982 г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 ФРГ формировала СДПГ в союзе со СвДП, возглавил В. Брандт. В его политике важное место занимали вопросы урегулирования отношений с ГДР и восточноевропейскими странами с целью заключить до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82 по 1998 гг. возглавил правитель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згласил возвращение к политике Л. Эрхарда, но признал необходимость со стороны государства социальной корректировки стихийно действующего рыночного мех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приватизацию малоэффективных сфер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ана поддержка развитию новых технолог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 "/>
          <p:cNvPicPr/>
          <p:nvPr/>
        </p:nvPicPr>
        <p:blipFill>
          <a:blip r:embed="rId1"/>
          <a:stretch/>
        </p:blipFill>
        <p:spPr>
          <a:xfrm>
            <a:off x="5724360" y="1628640"/>
            <a:ext cx="2406960" cy="3384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льмут К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8 году СДПГ победила на парламентских выборах и канцлером стал социал – демократ Г. Шрёд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Герхард Шрёдер не знает, как бороться с внутренней оппозицией.Фото Reuters"/>
          <p:cNvPicPr/>
          <p:nvPr/>
        </p:nvPicPr>
        <p:blipFill>
          <a:blip r:embed="rId1"/>
          <a:stretch/>
        </p:blipFill>
        <p:spPr>
          <a:xfrm>
            <a:off x="5580000" y="1628640"/>
            <a:ext cx="2733840" cy="3745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рхард Шрё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АБОТАЕМ ПО УЧЕБНИ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233 – 23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ьте на вопрос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ём различия экономического и политического развития ГДР и ФР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ГДР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« Бархатная революция» в ГДР. Объединение Германи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844640"/>
            <a:ext cx="828036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Самостоятельно прочитайте материал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подготовьтесь ответить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Что такое « бархатная революц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2) Каковы её особен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3) К чему она прив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й задачей стало обеспечение фактического единсвта Германии – включение восточных земель в экономическую и социальную систему государства. За 4 года ( 1990-1994)  была осуществлена ускоренная приватизация, деиндустриализация целых промышленных районов и резкий рост безрабо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ы были акти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ть социальные вып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нов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одготовк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ление досрочной пен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ён налог солида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Сегодня на урок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ослевоенным положением Герм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почему произошло разделение Германии на ФРГ и ГД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м их пути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что подтолкнуло ФРГ и ГДР объединиться в одно госуд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663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Политика Гельмута Ко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олжил политику Г. К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метилось тенденция на сближение позиций двух ведущих сил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та реформа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сокращены пособия по безработице. Но увеличены расходы на науку и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ы налоги на малый бизн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приняты программы для поощрения добровольных организаций граждан в помощи старикам и инвали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 выборов 2005 года социал – демократы проиграли, но христианские демократы не смогли добиться большинства. В такой ситуации христианские демократы и социал – демократы образовали « большую коалиция» двух крупнейших партий страны  и коалиционное правительство во главе с Ангелой Мерк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 "/>
          <p:cNvPicPr/>
          <p:nvPr/>
        </p:nvPicPr>
        <p:blipFill>
          <a:blip r:embed="rId1"/>
          <a:stretch/>
        </p:blipFill>
        <p:spPr>
          <a:xfrm>
            <a:off x="5364000" y="981000"/>
            <a:ext cx="251460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003640" y="4124160"/>
            <a:ext cx="3527640" cy="88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Ангела Меркел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Канцлер Гер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дведём итог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2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26, записи, сообщение о падение Берлинской ст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купационный режим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ол Германии. Образование ФРГ и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динение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ослевоенное развитие Герм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628640"/>
            <a:ext cx="8640720" cy="50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1 период: 1945-1949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ккупацион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2 период: 1949 – 1990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Сосуществование и сопер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3 период 1990 г.  - объединение дву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Германских государств в Ф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Вильгельм Кейтель подписывает Акт о безоговорочной капитуляции Германии"/>
          <p:cNvPicPr/>
          <p:nvPr/>
        </p:nvPicPr>
        <p:blipFill>
          <a:blip r:embed="rId1"/>
          <a:stretch/>
        </p:blipFill>
        <p:spPr>
          <a:xfrm>
            <a:off x="4896000" y="147600"/>
            <a:ext cx="4248000" cy="3281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5280" y="981000"/>
            <a:ext cx="4176720" cy="107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В. Кейтель подписывает 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о безоговорочной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Гер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8 мая 1945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осле подписания Акта о безоговорочной капиту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Германия лишилась своей государственности.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ласть осуществляли СШ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Франция и Великобритания, а в  восточной –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бщее руководство осуществлял Контрольный со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6720" y="455760"/>
            <a:ext cx="3780000" cy="27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9280" y="1197000"/>
            <a:ext cx="4753080" cy="93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Крымская ( Ялтинская ) Конфер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194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Представители: И. Сталин, У. Черчилл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Ф. Рузвель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3429000"/>
            <a:ext cx="8856720" cy="33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еждународные конференции в Ялте и Постда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пределили следующую политику по отнош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 Герм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на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илитар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карте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окра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6920" y="333360"/>
            <a:ext cx="7777440" cy="1008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арламент в Герм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8600">
            <a:off x="3276360" y="1413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711200">
            <a:off x="6012000" y="1412640"/>
            <a:ext cx="485640" cy="1493640"/>
          </a:xfrm>
          <a:prstGeom prst="downArrow">
            <a:avLst>
              <a:gd name="adj1" fmla="val 50000"/>
              <a:gd name="adj2" fmla="val 7689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869000"/>
            <a:ext cx="3024000" cy="1800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ерхняя пала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5013360"/>
            <a:ext cx="3024000" cy="172872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ижняя палат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2852640"/>
            <a:ext cx="784872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а основе конституции 14 августа 194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ыли проведены в трёх объединё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ыборы в парла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79280" y="333360"/>
            <a:ext cx="8785440" cy="107964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Раскол Герма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бразование 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0044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08720" y="5661000"/>
            <a:ext cx="3635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онрад Аденауэ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езидент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ДЕНАУЭР Конрад (1876-1967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едеральный канцлер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ФРГ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в 1949-1963 годах. В 1917-1933 годах - обер-бургомистр Кельна, в 1920-1932 годах - председатель прусского Государственного совета. Один из основателей (1946) и с 1950 года председатель Христианско-демократического союза. Внес значительный вклад в создание Основного закона (конституции) и государства ФРГ. В 1951 - 1955 годы министр иностранных дел. Добился приема ФРГ в Западно-Европейский Союз и НАТО. В 1955 году правительство Аденауэра установило дипломатические отношения с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ндестаг и бундесрат одобрили конституцию и избрали президента Федеративной Республики Германии, а  20 сентября лидер Христианско – демократического союза Конрад Аденауэр представил парламенту первое правительство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260280"/>
            <a:ext cx="8713800" cy="115272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сентября 1949 г. – создание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2:10Z</dcterms:modified>
  <cp:revision>13</cp:revision>
  <dc:subject/>
  <dc:title>Древний Египет</dc:title>
</cp:coreProperties>
</file>