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BB58-15CF-4CBD-9445-FF5C9102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4F2-2B18-4A9C-90F6-1AC7752F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2AE3-83AB-4AEE-BF61-3CBA844B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903-1EC2-4B02-9B3A-023765B34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014A-0165-459B-AA14-6310F1A6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B027-D81C-4A5D-8379-009D7300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2793-D05A-4038-8204-1D0515E7B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CE25-0EC3-4344-A13A-879D2345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B6190-E1E5-4E57-B7A4-703DBD9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2785-6FDF-479E-88B1-46A22CE1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76646-1BE2-48AD-AE02-DF72CD9A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8E7E-C001-4FD0-A87F-137AC761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43EC-6DAF-4C43-B420-3EFB2D72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26D91-0F2B-4C59-83ED-0FAF027D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BA83-AC0B-4E6E-BAAA-85EEEFF3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3719-E6AE-4B86-A97E-74FAE315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4DAD-F4E5-49C6-BFE2-F75D2300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2750-43E7-455F-B048-961B681A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AA0-B8B1-4C3D-952D-31655C00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B83-CC47-4996-9D6F-089FAF06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129-EDCC-49FF-973A-F06DF083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6EB1-D99F-4FFF-BEB4-872FA5A7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CA3D-264A-46A8-94C7-1854E46F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AB26-23B2-4D71-8C7D-DA11F436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0598-CE20-40B4-8A26-98A8BE6F11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6B4F-FA6A-4B4F-ADD9-A2ED30DAE24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rono.ru/1900ge.html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35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Тема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899640" y="2997360"/>
            <a:ext cx="748836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« Германия: раскол и объединение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763640" y="5229360"/>
            <a:ext cx="5616720" cy="12240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Презентация разработана учителем 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Будинской ОО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Антоненковой А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333360"/>
            <a:ext cx="6696000" cy="5745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вейшая история. 9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826920" y="333360"/>
            <a:ext cx="7993080" cy="93492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октября 1949 г. – провозглашение Г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обытия в Восточной Германии развивались по аналогии. Была введена восточная марка в советской зоне. Политическая партия Восточной Германии( среди которых главную роль играла Социалистическая единая партия Германии), сформировали Немецкий национальный совет, который на заседании 7 октября 1949 года провозгласил создание Германской Демократической Республики на территории восточной зоны.. 12 октября палата ( временный парламент) избрали президентом ГДР Отто Громвел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9280" y="3566880"/>
            <a:ext cx="8964720" cy="31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сновные принципы  экономического порядка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осударство непосредственно не занимается регулирование хозяйственных процессов, но устанавливает правила, по которым действуют субъек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01480" indent="-5014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вободная конкуренция, постоянство экономической политики и стабильность денежного обращения в условиях открытого рынка, защита частной собств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5651640" y="1557360"/>
            <a:ext cx="2808000" cy="206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476360" y="1916280"/>
            <a:ext cx="3745080" cy="88884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Л. Эрхард. Премьер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d6b"/>
                </a:solidFill>
                <a:latin typeface="Tahoma"/>
              </a:rPr>
              <a:t>Министр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179280" y="189000"/>
            <a:ext cx="8785440" cy="107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1949 – 1990 г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84280"/>
            <a:ext cx="8964720" cy="5257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одель социального рыночного хозяйства в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успешно сработала в 1950- 1960 гг., когда тем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ироста промышленной продукции в Европе состави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 среднем 8,5% в г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о к концу 1960-х годов в ФРГ начался экономичес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. Затем последовали мировые экономическ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ризисы. К концу 80-х годов выросло числ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езработных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d6b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ahoma"/>
              </a:rPr>
              <a:t>1949-1969 гг.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в ФРГ формировал ХДС в союзе с СвДП, а канцлер выбирался из ХДС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1969 – 1982 гг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авительства  ФРГ формировала СДПГ в союзе со СвДП, возглавил В. Брандт. В его политике важное место занимали вопросы урегулирования отношений с ГДР и восточноевропейскими странами с целью заключить договор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1320" y="1599840"/>
            <a:ext cx="48466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82 по 1998 гг. возглавил правительство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згласил возвращение к политике Л. Эрхарда, но признал необходимость со стороны государства социальной корректировки стихийно действующего рыночного механизм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ёл приватизацию малоэффективных сфер экономи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ана поддержка развитию новых технологи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6" name="" descr=" "/>
          <p:cNvPicPr/>
          <p:nvPr/>
        </p:nvPicPr>
        <p:blipFill>
          <a:blip r:embed="rId1"/>
          <a:stretch/>
        </p:blipFill>
        <p:spPr>
          <a:xfrm>
            <a:off x="5724360" y="1628640"/>
            <a:ext cx="2406960" cy="338472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льмут Ко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998 году СДПГ победила на парламентских выборах и канцлером стал социал – демократ Г. Шрёде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9" name="" descr="Герхард Шрёдер не знает, как бороться с внутренней оппозицией.Фото Reuters"/>
          <p:cNvPicPr/>
          <p:nvPr/>
        </p:nvPicPr>
        <p:blipFill>
          <a:blip r:embed="rId1"/>
          <a:stretch/>
        </p:blipFill>
        <p:spPr>
          <a:xfrm>
            <a:off x="5580000" y="1628640"/>
            <a:ext cx="2733840" cy="37450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ФРГ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1" name=""/>
          <p:cNvSpPr/>
          <p:nvPr/>
        </p:nvSpPr>
        <p:spPr>
          <a:xfrm>
            <a:off x="5292720" y="5373720"/>
            <a:ext cx="3600360" cy="57636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Герхард Шрёд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РАБОТАЕМ ПО УЧЕБНИКУ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тр. 233 – 234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ветьте на вопрос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 чём различия экономического и политического развития ГДР и ФРГ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c6c"/>
                </a:solidFill>
                <a:latin typeface="Tahoma"/>
              </a:rPr>
              <a:t>Экономическое и политическое развитие ГДР.1949 – 1990 гг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« Бархатная революция» в ГДР. Объединение Германии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5" name=""/>
          <p:cNvSpPr/>
          <p:nvPr/>
        </p:nvSpPr>
        <p:spPr>
          <a:xfrm>
            <a:off x="539640" y="1844640"/>
            <a:ext cx="8280360" cy="4824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Самостоятельно прочитайте материал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подготовьтесь ответить на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Что такое « бархатная революция»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2) Каковы её особенности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a5c6c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3) К чему она привела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ой задачей стало обеспечение фактического единсвта Германии – включение восточных земель в экономическую и социальную систему государства. За 4 года ( 1990-1994)  была осуществлена ускоренная приватизация, деиндустриализация целых промышленных районов и резкий рост безработиц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еобходимы были активные действ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уществлять социальные выпла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новых рабочих мес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еподготовка безработ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едоставление досрочной пенс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ведён налог солидар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Tahoma"/>
              </a:rPr>
              <a:t>Сегодня на уроке: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накомимся с послевоенным положением Герман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почему произошло разделение Германии на ФРГ и ГДР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следим их пути развит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ясним, что подтолкнуло ФРГ и ГДР объединиться в одно государств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c6c"/>
                </a:solidFill>
                <a:latin typeface="Tahoma"/>
              </a:rPr>
              <a:t>Объединение Германии в 1990 г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6630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ahoma"/>
              </a:rPr>
              <a:t>Политика Гельмута Кол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одолжил политику Г. Кол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метилось тенденция на сближение позиций двух ведущих сил Германи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ачата реформа образова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сокращены пособия по безработице. Но увеличены расходы на науку и образовани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нижены налоги на малый бизн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Были приняты программы для поощрения добровольных организаций граждан в помощи старикам и инвалид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езультате  выборов 2005 года социал – демократы проиграли, но христианские демократы не смогли добиться большинства. В такой ситуации христианские демократы и социал – демократы образовали « большую коалиция» двух крупнейших партий страны  и коалиционное правительство во главе с Ангелой Мерке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" descr=" "/>
          <p:cNvPicPr/>
          <p:nvPr/>
        </p:nvPicPr>
        <p:blipFill>
          <a:blip r:embed="rId1"/>
          <a:stretch/>
        </p:blipFill>
        <p:spPr>
          <a:xfrm>
            <a:off x="5364000" y="981000"/>
            <a:ext cx="2514600" cy="29527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5003640" y="4124160"/>
            <a:ext cx="3527640" cy="88920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Ангела Меркель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a5c6c"/>
                </a:solidFill>
                <a:latin typeface="Tahoma"/>
              </a:rPr>
              <a:t>Канцлер Герма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Подведём итог уро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опросы на стр. 23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Домашнее задание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араграф 26, записи, сообщение о падение Берлинской сте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План урока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ккупационный режим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кол Германии. Образование ФРГ и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Экономическое и политическое развитие Г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>
              <a:spcBef>
                <a:spcPts val="799"/>
              </a:spcBef>
              <a:buClr>
                <a:srgbClr val="a3c145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ъединение Герм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Послевоенное развитие Германи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1628640"/>
            <a:ext cx="8640720" cy="504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1 период: 1945-1949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ккупационный режи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2 период: 1949 – 1990 гг. –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Сосуществование и сопер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3 период 1990 г.  - объединение дву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Германских государств в ФР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Вильгельм Кейтель подписывает Акт о безоговорочной капитуляции Германии"/>
          <p:cNvPicPr/>
          <p:nvPr/>
        </p:nvPicPr>
        <p:blipFill>
          <a:blip r:embed="rId1"/>
          <a:stretch/>
        </p:blipFill>
        <p:spPr>
          <a:xfrm>
            <a:off x="4896000" y="147600"/>
            <a:ext cx="4248000" cy="3281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395280" y="981000"/>
            <a:ext cx="4176720" cy="10796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В. Кейтель подписывает А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о безоговорочной капитуля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Герм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b5d6b"/>
                </a:solidFill>
                <a:latin typeface="Tahoma"/>
              </a:rPr>
              <a:t>8 мая 1945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осле подписания Акта о безоговорочной капитуля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Германия лишилась своей государственности. 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ласть осуществляли СШ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Франция и Великобритания, а в  восточной – ССС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бщее руководство осуществлял Контрольный сов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5076720" y="455760"/>
            <a:ext cx="3780000" cy="271440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79280" y="1197000"/>
            <a:ext cx="4753080" cy="936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Крымская ( Ялтинская ) Конферен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1945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Представители: И. Сталин, У. Черчилль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b5d6b"/>
                </a:solidFill>
                <a:latin typeface="Tahoma"/>
              </a:rPr>
              <a:t>Ф. Рузвель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3429000"/>
            <a:ext cx="8856720" cy="3313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Международные конференции в Ялте и Постдам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определили следующую политику по отнош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 Герман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нацифик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илитар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картел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5b5d6b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демократ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826920" y="333360"/>
            <a:ext cx="7777440" cy="1008000"/>
          </a:xfrm>
          <a:prstGeom prst="rect">
            <a:avLst/>
          </a:prstGeom>
          <a:solidFill>
            <a:srgbClr val="ffff9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b5d6b"/>
                </a:solidFill>
                <a:latin typeface="Tahoma"/>
              </a:rPr>
              <a:t>Парламент в Герман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68600">
            <a:off x="3276360" y="1413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711200">
            <a:off x="6012000" y="1412640"/>
            <a:ext cx="485640" cy="1493640"/>
          </a:xfrm>
          <a:prstGeom prst="downArrow">
            <a:avLst>
              <a:gd name="adj1" fmla="val 50000"/>
              <a:gd name="adj2" fmla="val 76890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71640" y="4869000"/>
            <a:ext cx="3024000" cy="180000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Верхняя палата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р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51640" y="5013360"/>
            <a:ext cx="3024000" cy="1728720"/>
          </a:xfrm>
          <a:prstGeom prst="ellipse">
            <a:avLst/>
          </a:prstGeom>
          <a:solidFill>
            <a:srgbClr val="66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ижняя палата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ундеста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6920" y="2852640"/>
            <a:ext cx="7848720" cy="180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На основе конституции 14 августа 1949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были проведены в трёх объединё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западных зонах выборы в парламен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79280" y="333360"/>
            <a:ext cx="8785440" cy="107964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Раскол Германи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d6b"/>
                </a:solidFill>
                <a:latin typeface="Tahoma"/>
              </a:rPr>
              <a:t>Образование ФРГ и ГД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800440" cy="385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08720" y="5661000"/>
            <a:ext cx="3635280" cy="72072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Конрад Аденауэ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Президент ФР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47750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АДЕНАУЭР Конрад (1876-1967)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едеральный канцлер </a:t>
            </a:r>
            <a:r>
              <a:rPr b="0" lang="en-US" sz="18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ФРГ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в 1949-1963 годах. В 1917-1933 годах - обер-бургомистр Кельна, в 1920-1932 годах - председатель прусского Государственного совета. Один из основателей (1946) и с 1950 года председатель Христианско-демократического союза. Внес значительный вклад в создание Основного закона (конституции) и государства ФРГ. В 1951 - 1955 годы министр иностранных дел. Добился приема ФРГ в Западно-Европейский Союз и НАТО. В 1955 году правительство Аденауэра установило дипломатические отношения с СССР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ундестаг и бундесрат одобрили конституцию и избрали президента Федеративной Республики Германии, а  20 сентября лидер Христианско – демократического союза Конрад Аденауэр представил парламенту первое правительство ФР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260280"/>
            <a:ext cx="8713800" cy="1152720"/>
          </a:xfrm>
          <a:prstGeom prst="rect">
            <a:avLst/>
          </a:prstGeom>
          <a:solidFill>
            <a:srgbClr val="ffff9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d6b"/>
                </a:solidFill>
                <a:latin typeface="Tahoma"/>
              </a:rPr>
              <a:t>7 сентября 1949 г. – создание ФР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32:10Z</dcterms:modified>
  <cp:revision>13</cp:revision>
  <dc:subject/>
  <dc:title>Древний Египет</dc:title>
</cp:coreProperties>
</file>