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75C5-FF83-4A39-8755-194D179D8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7844-1AC7-4ADD-B8E6-5002A152B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79F6-7269-4D65-AA80-24EAD7EBA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8938-B1A7-4583-BF0E-4EE36AA73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C5F65-279B-48A0-B9F6-69EE73B0A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11B32-7791-447C-B740-3F914AE70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72277-8B80-4E87-8A86-09C10AF80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40BFE-2D4D-4A73-825B-137CD56A4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730AA-B601-44EC-BB16-E3F53E6B2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8B5F8-5295-4EA5-A499-7B97371F5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ECA0B-8AF0-4ED3-ADBE-DDD3734B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0032-BE23-4F42-8CAD-060C3AA41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B980F-F587-4C70-82F3-626796D0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23DA5-A6A1-4AF4-9DC0-CD993B9F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40360-2034-42EB-954F-28201C52A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3266A-A980-4F28-AC24-5CCE738D4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CE3EF-1FF1-4119-BE58-86D2231B1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EBCC-9DE1-487F-8287-D2C5845BB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1AC5-9CF6-463D-BD5E-AAE0C26E6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4082-0619-4DC9-B3DF-C38E18E97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A8B2-62E3-4B3D-B29C-B0E4D43F7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EEE4-6DC4-4C2C-B05E-A65CC4D5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067A-D84B-44D3-8371-03E23419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AB9C-4E3A-488E-9866-330C212D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49270-56D1-43BF-8867-F374F8B20C7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0AF76-0747-42FA-AB95-39E21549AA3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hrono.ru/1900ge.html" TargetMode="External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00280"/>
            <a:ext cx="7772400" cy="135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Тема уро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899640" y="2997360"/>
            <a:ext cx="74883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« Германия: раскол и объединение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763640" y="5229360"/>
            <a:ext cx="5616720" cy="122400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Презентация разработана учителем исто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Будинской ОО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Антоненковой А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16000" y="333360"/>
            <a:ext cx="6696000" cy="57456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овейшая история. 9 кла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826920" y="333360"/>
            <a:ext cx="7993080" cy="93492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7 октября 1949 г. – провозглашение ГД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обытия в Восточной Германии развивались по аналогии. Была введена восточная марка в советской зоне. Политическая партия Восточной Германии( среди которых главную роль играла Социалистическая единая партия Германии), сформировали Немецкий национальный совет, который на заседании 7 октября 1949 года провозгласил создание Германской Демократической Республики на территории восточной зоны.. 12 октября палата ( временный парламент) избрали президентом ГДР Отто Громвел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79280" y="3566880"/>
            <a:ext cx="8964720" cy="31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Основные принципы  экономического порядк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1480" indent="-5014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Государство непосредственно не занимается регулирование хозяйственных процессов, но устанавливает правила, по которым действуют субъект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1480" indent="-5014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вободная конкуренция, постоянство экономической политики и стабильность денежного обращения в условиях открытого рынка, защита частной собственност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"/>
          <p:cNvSpPr/>
          <p:nvPr/>
        </p:nvSpPr>
        <p:spPr>
          <a:xfrm>
            <a:off x="179280" y="189000"/>
            <a:ext cx="8785440" cy="107928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Экономическое и политическое развитие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1949 – 1990 г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5651640" y="1557360"/>
            <a:ext cx="2808000" cy="206388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1476360" y="1916280"/>
            <a:ext cx="3745080" cy="8888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d6b"/>
                </a:solidFill>
                <a:latin typeface="Tahoma"/>
              </a:rPr>
              <a:t>Л. Эрхард. Премьер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d6b"/>
                </a:solidFill>
                <a:latin typeface="Tahoma"/>
              </a:rPr>
              <a:t>Министр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179280" y="189000"/>
            <a:ext cx="8785440" cy="107928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Экономическое и политическое развитие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1949 – 1990 г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1484280"/>
            <a:ext cx="8964720" cy="5257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Модель социального рыночного хозяйства в ФР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успешно сработала в 1950- 1960 гг., когда тем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прироста промышленной продукции в Европе состави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в среднем 8,5% в го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о к концу 1960-х годов в ФРГ начался экономиче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ризис. Затем последовали мировые экономическ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ризисы. К концу 80-х годов выросло числ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езработных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d6b"/>
                </a:solidFill>
                <a:latin typeface="Tahoma"/>
              </a:rPr>
              <a:t>Экономическое и политическое развитие ФРГ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Tahoma"/>
              </a:rPr>
              <a:t>1949-1969 гг.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ительства в ФРГ формировал ХДС в союзе с СвДП, а канцлер выбирался из ХДС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Tahoma"/>
              </a:rPr>
              <a:t>1969 – 1982 гг.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ительства  ФРГ формировала СДПГ в союзе со СвДП, возглавил В. Брандт. В его политике важное место занимали вопросы урегулирования отношений с ГДР и восточноевропейскими странами с целью заключить договор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5c6c"/>
                </a:solidFill>
                <a:latin typeface="Tahoma"/>
              </a:rPr>
              <a:t>Экономическое и политическое развитие ФРГ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8466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 1982 по 1998 гг. возглавил правительство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возгласил возвращение к политике Л. Эрхарда, но признал необходимость со стороны государства социальной корректировки стихийно действующего рыночного механизм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вёл приватизацию малоэффективных сфер экономи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казана поддержка развитию новых технолог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6" name="" descr=" "/>
          <p:cNvPicPr/>
          <p:nvPr/>
        </p:nvPicPr>
        <p:blipFill>
          <a:blip r:embed="rId1"/>
          <a:stretch/>
        </p:blipFill>
        <p:spPr>
          <a:xfrm>
            <a:off x="5724360" y="1628640"/>
            <a:ext cx="2406960" cy="338472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5292720" y="5373720"/>
            <a:ext cx="3600360" cy="57636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Гельмут Ко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998 году СДПГ победила на парламентских выборах и канцлером стал социал – демократ Г. Шрёде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9" name="" descr="Герхард Шрёдер не знает, как бороться с внутренней оппозицией.Фото Reuters"/>
          <p:cNvPicPr/>
          <p:nvPr/>
        </p:nvPicPr>
        <p:blipFill>
          <a:blip r:embed="rId1"/>
          <a:stretch/>
        </p:blipFill>
        <p:spPr>
          <a:xfrm>
            <a:off x="5580000" y="1628640"/>
            <a:ext cx="2733840" cy="374508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5c6c"/>
                </a:solidFill>
                <a:latin typeface="Tahoma"/>
              </a:rPr>
              <a:t>Экономическое и политическое развитие ФРГ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"/>
          <p:cNvSpPr/>
          <p:nvPr/>
        </p:nvSpPr>
        <p:spPr>
          <a:xfrm>
            <a:off x="5292720" y="5373720"/>
            <a:ext cx="3600360" cy="57636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Герхард Шрёд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РАБОТАЕМ ПО УЧЕБНИКУ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тр. 233 – 234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тветьте на вопрос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 чём различия экономического и политического развития ГДР и ФРГ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5c6c"/>
                </a:solidFill>
                <a:latin typeface="Tahoma"/>
              </a:rPr>
              <a:t>Экономическое и политическое развитие ГДР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« Бархатная революция» в ГДР. Объединение Германии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"/>
          <p:cNvSpPr/>
          <p:nvPr/>
        </p:nvSpPr>
        <p:spPr>
          <a:xfrm>
            <a:off x="539640" y="1844640"/>
            <a:ext cx="8280360" cy="4824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Самостоятельно прочитайте материал 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подготовьтесь ответить на вопрос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a5c6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Что такое « бархатная революция»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2) Каковы её особенност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a5c6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3) К чему она привел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лавной задачей стало обеспечение фактического единсвта Германии – включение восточных земель в экономическую и социальную систему государства. За 4 года ( 1990-1994)  была осуществлена ускоренная приватизация, деиндустриализация целых промышленных районов и резкий рост безработиц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Объединение Германии в 1990 г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обходимы были активные действи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существлять социальные выпла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здание новых рабочих мес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ереподготовка безработны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едоставление досрочной пенс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ведён налог солидар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Объединение Германии в 1990 г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Сегодня на уроке: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знакомимся с послевоенным положением Германи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ясним, почему произошло разделение Германии на ФРГ и ГДР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следим их пути развит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ясним, что подтолкнуло ФРГ и ГДР объединиться в одно государст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Объединение Германии в 1990 г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66304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ahoma"/>
              </a:rPr>
              <a:t>Политика Гельмута Кол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должил политику Г. Кол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метилось тенденция на сближение позиций двух ведущих сил Герман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чата реформа образов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ыли сокращены пособия по безработице. Но увеличены расходы на науку и образов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нижены налоги на малый бизне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ыли приняты программы для поощрения добровольных организаций граждан в помощи старикам и инвалида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результате  выборов 2005 года социал – демократы проиграли, но христианские демократы не смогли добиться большинства. В такой ситуации христианские демократы и социал – демократы образовали « большую коалиция» двух крупнейших партий страны  и коалиционное правительство во главе с Ангелой Меркел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3" name="" descr=" "/>
          <p:cNvPicPr/>
          <p:nvPr/>
        </p:nvPicPr>
        <p:blipFill>
          <a:blip r:embed="rId1"/>
          <a:stretch/>
        </p:blipFill>
        <p:spPr>
          <a:xfrm>
            <a:off x="5364000" y="981000"/>
            <a:ext cx="2514600" cy="295272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5003640" y="4124160"/>
            <a:ext cx="3527640" cy="88920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Ангела Меркель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Канцлер Герман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Подведём итог уро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просы на стр. 23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Домашнее задание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араграф 26, записи, сообщение о падение Берлинской сте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План урока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ккупационный режим Герма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скол Германии. Образование ФРГ и ГД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кономическое и политическое развитие ФР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кономическое и политическое развитие ГД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ъединение Герма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Послевоенное развитие Германи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"/>
          <p:cNvSpPr/>
          <p:nvPr/>
        </p:nvSpPr>
        <p:spPr>
          <a:xfrm>
            <a:off x="250920" y="1628640"/>
            <a:ext cx="8640720" cy="504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1 период: 1945-1949 гг.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Оккупационный режи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2 период: 1949 – 1990 гг.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Сосуществование и соперниче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ФРГ и ГД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3 период 1990 г.  - объединение дву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Германских государств в ФР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Вильгельм Кейтель подписывает Акт о безоговорочной капитуляции Германии"/>
          <p:cNvPicPr/>
          <p:nvPr/>
        </p:nvPicPr>
        <p:blipFill>
          <a:blip r:embed="rId1"/>
          <a:stretch/>
        </p:blipFill>
        <p:spPr>
          <a:xfrm>
            <a:off x="4896000" y="147600"/>
            <a:ext cx="4248000" cy="328140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395280" y="981000"/>
            <a:ext cx="4176720" cy="107964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В. Кейтель подписывает Ак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о безоговорочной капитуля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Герма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8 мая 1945 г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3645000"/>
            <a:ext cx="9144000" cy="3024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После подписания Акта о безоговорочной капитуля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Германия лишилась своей государственности.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западных зонах власть осуществляли СШ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Франция и Великобритания, а в  восточной – ССС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Общее руководство осуществлял Контрольный сове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5076720" y="455760"/>
            <a:ext cx="3780000" cy="271440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179280" y="1197000"/>
            <a:ext cx="4753080" cy="93672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Крымская ( Ялтинская ) Конференц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1945 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Представители: И. Сталин, У. Черчилль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Ф. Рузвель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79280" y="3429000"/>
            <a:ext cx="8856720" cy="3313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Международные конференции в Ялте и Постдам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определили следующую политику по отношен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 Герман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нацифик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милитариз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картелиз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мократиз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826920" y="333360"/>
            <a:ext cx="7777440" cy="1008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Парламент в Герман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rot="1968600">
            <a:off x="3276360" y="1413000"/>
            <a:ext cx="485640" cy="1479600"/>
          </a:xfrm>
          <a:prstGeom prst="downArrow">
            <a:avLst>
              <a:gd name="adj1" fmla="val 50000"/>
              <a:gd name="adj2" fmla="val 76168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rot="19711200">
            <a:off x="6012000" y="1412640"/>
            <a:ext cx="485640" cy="1493640"/>
          </a:xfrm>
          <a:prstGeom prst="downArrow">
            <a:avLst>
              <a:gd name="adj1" fmla="val 50000"/>
              <a:gd name="adj2" fmla="val 76890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971640" y="4869000"/>
            <a:ext cx="3024000" cy="1800000"/>
          </a:xfrm>
          <a:prstGeom prst="ellipse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Верхняя палата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ундеср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651640" y="5013360"/>
            <a:ext cx="3024000" cy="1728720"/>
          </a:xfrm>
          <a:prstGeom prst="ellipse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ижняя палата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ундеста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26920" y="2852640"/>
            <a:ext cx="7848720" cy="180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а основе конституции 14 августа 1949 г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ыли проведены в трёх объединён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западных зонах выборы в парламен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179280" y="333360"/>
            <a:ext cx="8785440" cy="1079640"/>
          </a:xfrm>
          <a:prstGeom prst="rect">
            <a:avLst/>
          </a:prstGeom>
          <a:solidFill>
            <a:srgbClr val="ffff99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Раскол Германи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Образование ФРГ и ГД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5292720" y="1628640"/>
            <a:ext cx="2800440" cy="38577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5508720" y="5661000"/>
            <a:ext cx="3635280" cy="72072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онрад Аденауэ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Президент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301680" y="1600200"/>
            <a:ext cx="47750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АДЕНАУЭР Конрад (1876-1967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федеральный канцлер </a:t>
            </a:r>
            <a:r>
              <a:rPr b="0" lang="en-US" sz="18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ФРГ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в 1949-1963 годах. В 1917-1933 годах - обер-бургомистр Кельна, в 1920-1932 годах - председатель прусского Государственного совета. Один из основателей (1946) и с 1950 года председатель Христианско-демократического союза. Внес значительный вклад в создание Основного закона (конституции) и государства ФРГ. В 1951 - 1955 годы министр иностранных дел. Добился приема ФРГ в Западно-Европейский Союз и НАТО. В 1955 году правительство Аденауэра установило дипломатические отношения с ССС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ундестаг и бундесрат одобрили конституцию и избрали президента Федеративной Республики Германии, а  20 сентября лидер Христианско – демократического союза Конрад Аденауэр представил парламенту первое правительство ФР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"/>
          <p:cNvSpPr/>
          <p:nvPr/>
        </p:nvSpPr>
        <p:spPr>
          <a:xfrm>
            <a:off x="250920" y="260280"/>
            <a:ext cx="8713800" cy="1152720"/>
          </a:xfrm>
          <a:prstGeom prst="rect">
            <a:avLst/>
          </a:prstGeom>
          <a:solidFill>
            <a:srgbClr val="ffff99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7 сентября 1949 г. – создание ФР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1-12-31T23:32:10Z</dcterms:modified>
  <cp:revision>13</cp:revision>
  <dc:subject/>
  <dc:title>Древний Египет</dc:title>
</cp:coreProperties>
</file>