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wind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A9A1-B58A-4CA1-87EE-B74D1581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5EE6-582F-4057-820D-C743D311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6C8D-A123-4A92-88CD-539B21F8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5D42-A89D-4550-9CC2-6458094D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8891-8F1F-42D7-A15F-63309F1D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0F1E-D3A6-4D97-8276-97F6441E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E8C9-5F69-4B4A-8D39-DECE7B24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47CF-CE4B-4FDA-8E25-ED4493CB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CC9E-C03E-4AAE-9E69-7B384706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ED03-5F83-4D9D-B0F4-80C83239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EA40-3CC0-4C92-BC4D-0F8DEE17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CD08-E5AE-42BF-993A-015199FB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877C-28C9-454B-9D05-8915020C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772F-BFFF-4AFD-8BC6-1A903C10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5F52-1ED5-42B0-B2E5-F745AD0B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FCEC-39A6-4F76-9B18-8EDC46C5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2A19-446B-43FC-8F60-C95433B9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3C6F-E523-4D26-98B6-4FC634B3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6BB8-E682-4730-9C57-E0736EAB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E912-EE91-4161-9AC0-1F81DA59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6268-4EBE-4DF5-B298-6A4AB919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FC28-D0B6-40B7-8E0E-6163967B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EF8F-C22F-4B41-B68B-12301BC2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D7BA-E500-4869-B313-60DEDDFF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B870-D004-44DF-9679-73D6B936C0B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6F00-4202-466D-AD64-E7F4A470D5F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42920" y="142920"/>
            <a:ext cx="8786880" cy="23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ИСХОЖДЕНИЕ   ПЛАНЕ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4714920" y="2714760"/>
            <a:ext cx="2722680" cy="3589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  <p:sndAc>
      <p:stSnd>
        <p:snd r:embed="rId2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огда образуются зародыши, их круговые или почти круговые орбиты не пересекаются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Picture 8" descr="astronomy6"/>
          <p:cNvPicPr/>
          <p:nvPr/>
        </p:nvPicPr>
        <p:blipFill>
          <a:blip r:embed="rId1"/>
          <a:stretch/>
        </p:blipFill>
        <p:spPr>
          <a:xfrm>
            <a:off x="1187280" y="2565360"/>
            <a:ext cx="70628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27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Гравитационное взаимодействие зародышей между собой и с гигантской планетой возмущает орбиты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6" descr="1"/>
          <p:cNvPicPr/>
          <p:nvPr/>
        </p:nvPicPr>
        <p:blipFill>
          <a:blip r:embed="rId1"/>
          <a:stretch/>
        </p:blipFill>
        <p:spPr>
          <a:xfrm>
            <a:off x="1258920" y="2781360"/>
            <a:ext cx="6810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Зародыши объединяются в планету типа Земли. Она возвращается на круговую орбиту, перемешивая оставшийся газ и разбрасывая сохранившиеся планетезимал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0" name="Picture 6" descr="2"/>
          <p:cNvPicPr/>
          <p:nvPr/>
        </p:nvPicPr>
        <p:blipFill>
          <a:blip r:embed="rId1"/>
          <a:stretch/>
        </p:blipFill>
        <p:spPr>
          <a:xfrm>
            <a:off x="1116000" y="2637000"/>
            <a:ext cx="681048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1260360" y="0"/>
            <a:ext cx="990432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       </a:t>
            </a: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Заключение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116000" y="1844280"/>
            <a:ext cx="774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х пор происхождение планет остается не изученным до конца. Постоянно появляются новые теории, которые имеют доказательства и требуют вни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6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17859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ЭВОЛЮЦИЯ-ЛОЖ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92888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Формирование планет, издавна считавшееся спокойным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и стационарным процессом,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в действительности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оказалось весьма хаотически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p192111_big"/>
          <p:cNvPicPr/>
          <p:nvPr/>
        </p:nvPicPr>
        <p:blipFill>
          <a:blip r:embed="rId1"/>
          <a:stretch/>
        </p:blipFill>
        <p:spPr>
          <a:xfrm>
            <a:off x="2124000" y="2924280"/>
            <a:ext cx="5112000" cy="35668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640080" y="6491160"/>
            <a:ext cx="85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ная планета-гигант захватывает газ из диска вокруг новорожденной звез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масштабах космоса планеты — всего лишь песчинки, играющие незначительную роль в грандиозной картине развития природных процессов. Однако это наиболее разнообразные и сложные объекты Вселенной. Ни у одного из других типов небесных тел не наблюдается подобного взаимодействия астрономических, геологических, химических и биологических процессов. Ни в одном из иных мест в космосе не может зародиться жизнь в том виде, как мы ее знаем. Только в течение последнего десятилетия астрономы обнаружили более 200 пла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азительное разнообразие масс, размеров, состава и орбит заставило многих задуматься об их происхождении. В 1970-е г.г. формирование планет считалось упорядоченным, детерминированным процессом — конвейером, на котором аморфные газово-пылевые диски превращаются в копии Солнечной системы. Но теперь нам извест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это хаотичный процесс, предполагающий различный результат для каждой системы. Родившиеся планеты выжили в хаосе конкурирующих механизмов формирования и разрушения. Многие объекты погибли, сгорев в огне своей звезды, или были выброшены в межзвездное пространство. У нашей Земли могли быть давно потерянные близнецы, странствующие ныне в темном и холодном космо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5778360" y="1268280"/>
            <a:ext cx="336564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6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7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image_large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14200" y="356760"/>
            <a:ext cx="71438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ука о формировании планет лежит на стыке астрофизики, планетологии, статистической механики и нелинейной динамики. В целом планетологи развивают два основных направления. Согласно теории последовательной аккреции, крошечные частицы пыли слипаются, образуя крупные глыб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такая глыба притянет к себе много газа, она превращается в газовый гигант, как Юпитер, а если нет — в каменистую планету типа Зем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недостатки данной теории — медлительность процесса и возможность рассеяния газа до формирования план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99640" y="836280"/>
            <a:ext cx="694548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ругом сценарии (теория гравитационной неустойчивости) утверждается, что газовые гиганты формируются путем внезапного коллапса, приводящего к разрушению первичного газово-пылевого облака. Данный процесс в миниатюре копирует формирование звезд. Но гипотеза эта весьма спорная, т.к. предполагает наличие сильной неустойчивости, которая может и не наступ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Происхождение естественных спутников планет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бразовании планет, в процессе сближения частиц с крупными зародышами планет, некоторые из частиц, сталкиваясь, настолько теряли скорость, что выпадали из общего роя и начинали обращаться вокруг планеты. Таким образом, около планетного зародыша образуется сгущение - рой частиц, обращающихся около него по эллиптическим орбитам. Эти частицы также сталкиваются, изменяют свои орбиты. В уменьшенном масштабе в этих роях будут происходить те же процессы, что и при образовании планет. Большинство частиц упадет на планету (присоединится к ней), часть же их будет образовывать околопланетный рой и объединяться в самостоятельные зародыши - будущие спутники планет… При осреднении орбит частиц, образующих спутник, последний приобретает симметричную, т.е. близкую к круговой, орбиту, лежащую в плоскости экватора план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СНОВНЫЕ ПОЛОЖ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ще лет десять назад ученые, изучающие формирование планет, основывали свои теории на единственном примере — нашей Солнечной системе. Но теперь обнаружены десятки рождающихся и десятки уже сформировавшихся планетных систем, причем среди них нет двух одинаков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идея ведущих теорий формирования планет такова: мелкие пылинки слипаются и захватывают газ. Но эти процессы сложны и запутанны. Борьба конкурирующих механизмов может привести к совершенно различным результа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БЪЯСНЕНИЕ НЕКРУГОВОГО ДВИЖЕНИЯ  ПЛАНЕТ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0" y="242100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 внутренней области Солнечной системы зародыши планет не могут ра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хватывая газ, поэтому они должны сливаться друг с другом. Для этого их орбиты должны пересекаться, а значит, что-то должно нарушить их первоначально круговое дви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6:59:41Z</dcterms:created>
  <dc:creator>П.А.С.</dc:creator>
  <dc:description/>
  <dc:language>en-US</dc:language>
  <cp:lastModifiedBy>User</cp:lastModifiedBy>
  <dcterms:modified xsi:type="dcterms:W3CDTF">2012-06-16T07:59:47Z</dcterms:modified>
  <cp:revision>11</cp:revision>
  <dc:subject/>
  <dc:title>Слайд 1</dc:title>
</cp:coreProperties>
</file>