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win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815-C55B-4FC8-AE9B-20ACB203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7BBF-9E16-4CE4-8BCA-96504CEE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83A-7E56-4DEC-AA5F-E3A145B2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506-7E72-4839-BBE2-EEA98C54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6245-6B9F-4F45-BFB6-C754AC52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F349-46A4-45FE-BBCD-2AB9339E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31AD-836E-4FEA-BC34-599C0845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54B9-5276-4792-87A8-5B60FAFC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B1AA-5AD7-48A9-A534-1FF25E9A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B2B4-2145-48B9-8BDE-4D34DEF4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99DB-6E81-4ACD-9B6B-9C96C8BD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BF35-ADE2-4C6F-A871-D84EE004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DCB3-0C61-432D-AA4D-9E9EADD8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537A-FA21-4D24-96FC-8BB273EA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CF6D-AD8F-4E2C-BB5D-6BFAA1B3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CC2C-A5AD-4012-9739-FEABADC5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2818-FA4F-4E7C-97FC-09BDDBA4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FAE3-D571-49F2-B9A9-DDEC0B8E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1A92-1C66-49E7-AD3A-17CC91B4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FA67-361D-47A9-82D9-45357A24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9885-C360-4426-87F2-F0D8EEC6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028-9455-449A-98A8-0FCADD8D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799-D1E5-4B00-A884-A0FFAA75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26F-1803-4C62-B14C-244E26AF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AD2D-E6AB-4D95-8F91-6DD853894E8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50E3-D3CE-4905-8536-F3E03B0C13C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2920" y="142920"/>
            <a:ext cx="878688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ИСХОЖДЕНИЕ   ПЛАН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4714920" y="2714760"/>
            <a:ext cx="2722680" cy="3589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огда образуются зародыши, их круговые или почти круговые орбиты не пересекаютс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Picture 8" descr="astronomy6"/>
          <p:cNvPicPr/>
          <p:nvPr/>
        </p:nvPicPr>
        <p:blipFill>
          <a:blip r:embed="rId1"/>
          <a:stretch/>
        </p:blipFill>
        <p:spPr>
          <a:xfrm>
            <a:off x="1187280" y="2565360"/>
            <a:ext cx="70628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6" descr="1"/>
          <p:cNvPicPr/>
          <p:nvPr/>
        </p:nvPicPr>
        <p:blipFill>
          <a:blip r:embed="rId1"/>
          <a:stretch/>
        </p:blipFill>
        <p:spPr>
          <a:xfrm>
            <a:off x="1258920" y="2781360"/>
            <a:ext cx="6810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Picture 6" descr="2"/>
          <p:cNvPicPr/>
          <p:nvPr/>
        </p:nvPicPr>
        <p:blipFill>
          <a:blip r:embed="rId1"/>
          <a:stretch/>
        </p:blipFill>
        <p:spPr>
          <a:xfrm>
            <a:off x="1116000" y="2637000"/>
            <a:ext cx="68104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260360" y="0"/>
            <a:ext cx="990432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Заключение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116000" y="1844280"/>
            <a:ext cx="77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ЭВОЛЮЦИЯ-ЛОЖ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9288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Формирование планет, издавна считавшееся спокойным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 стационарным процессом,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 действительности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казалось весьма хаотически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p192111_big"/>
          <p:cNvPicPr/>
          <p:nvPr/>
        </p:nvPicPr>
        <p:blipFill>
          <a:blip r:embed="rId1"/>
          <a:stretch/>
        </p:blipFill>
        <p:spPr>
          <a:xfrm>
            <a:off x="2124000" y="2924280"/>
            <a:ext cx="5112000" cy="3566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640080" y="6491160"/>
            <a:ext cx="85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ная планета-гигант захватывает газ из диска вокруг новорожденной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5778360" y="1268280"/>
            <a:ext cx="33656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6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image_large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14200" y="356760"/>
            <a:ext cx="71438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99640" y="836280"/>
            <a:ext cx="69454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роисхождение естественных спутников планет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СНОВНЫЕ ПОЛОЖ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БЪЯСНЕНИЕ НЕКРУГОВОГО ДВИЖЕНИЯ  ПЛАНЕТ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242100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нутренней области Солнечной системы зародыши планет не могут ра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6:59:41Z</dcterms:created>
  <dc:creator>П.А.С.</dc:creator>
  <dc:description/>
  <dc:language>en-US</dc:language>
  <cp:lastModifiedBy>User</cp:lastModifiedBy>
  <dcterms:modified xsi:type="dcterms:W3CDTF">2012-06-16T07:59:47Z</dcterms:modified>
  <cp:revision>11</cp:revision>
  <dc:subject/>
  <dc:title>Слайд 1</dc:title>
</cp:coreProperties>
</file>