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D37FA-665E-429A-AFA0-CAB9CEFDE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E7290-DF17-40F2-AB65-61D8541B7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AB381-3EE6-4F30-AE7F-BDF0B3412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2EB5E-BE06-44B0-A34D-B8CA25D13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EFA85-1893-42FB-95F1-1F3F84E06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474DF-B8BB-427E-AB03-F5AF27219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148A8-C7A6-4A23-8A23-A978C1B63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9BA36-6F98-4C88-8470-5A3F279E0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82064-DEE4-4E6B-9703-411F976C0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E8479-06EC-4468-BB43-82AC634A7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37018-BBA1-46F8-A0FC-7D2B5FB83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23337-F774-4068-843C-29846A69B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D5E75-7DE1-4670-B17F-4EB4783B3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8CF0A-AD4D-4F1C-B59B-DACC281C7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BB736-8495-4240-977D-63151C723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37E31-D859-4533-8526-056625F75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16BA8-E561-4F1D-8991-F8C18F591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1EEBE-C776-4275-A0AA-54BD89175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C8D43-B15E-4048-BE81-AA3CC1881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563AA-D563-42F0-ADBC-67BBF50F1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B1B96-60D0-4A49-8698-CD4141C9A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C7122-17EA-44B6-95FD-602EB3F45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A44DA-A13F-4249-A557-6045828F2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E621E-F46A-4938-9C74-3EF3C036C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EC0B4-E4BC-4F62-839B-A9AA5BA173B8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C8C34-F2E7-47D4-B8CD-201B4B2FF22C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WordArt 4"/>
          <p:cNvSpPr txBox="1"/>
          <p:nvPr/>
        </p:nvSpPr>
        <p:spPr>
          <a:xfrm>
            <a:off x="142920" y="285840"/>
            <a:ext cx="8607240" cy="24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еория Большого взрыв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9" name="Picture 4" descr="Glowing_Eye_Nebula"/>
          <p:cNvPicPr/>
          <p:nvPr/>
        </p:nvPicPr>
        <p:blipFill>
          <a:blip r:embed="rId1"/>
          <a:stretch/>
        </p:blipFill>
        <p:spPr>
          <a:xfrm>
            <a:off x="2928960" y="2786040"/>
            <a:ext cx="460548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4"/>
          <p:cNvSpPr/>
          <p:nvPr/>
        </p:nvSpPr>
        <p:spPr>
          <a:xfrm>
            <a:off x="5724360" y="333360"/>
            <a:ext cx="3419640" cy="57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99ff"/>
                </a:solidFill>
                <a:latin typeface="Arial"/>
              </a:rPr>
              <a:t>Столкновение нашей Галактик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имерно через три миллиарда лет наша Галактика столкнётся с Андромедой, так как вот уже почти столетие, как астрономы знают, что обе галактики приближаются друг к другу со скоростью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500 000 километров в час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Picture 5" descr="00000119"/>
          <p:cNvPicPr/>
          <p:nvPr/>
        </p:nvPicPr>
        <p:blipFill>
          <a:blip r:embed="rId1"/>
          <a:stretch/>
        </p:blipFill>
        <p:spPr>
          <a:xfrm>
            <a:off x="0" y="0"/>
            <a:ext cx="5580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4"/>
          <p:cNvSpPr/>
          <p:nvPr/>
        </p:nvSpPr>
        <p:spPr>
          <a:xfrm>
            <a:off x="611280" y="1125360"/>
            <a:ext cx="8353440" cy="421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огласно этой теории, всё наблюдаемое пространство расширяется. Но что же было в самом начале? Всё вещество в Космосе в какой-то начальный момент было сдавлено буквально в ничто - спрессовано в одну-единственную точку. Оно имело фантастически огромную плотность - её практически невозможно себе представить, она выражается числом, в котором после единицы стоят 96 нулей, - и столь же невообразимо высокую температуру. Астрономы назвали такое состояние </a:t>
            </a: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сингулярностью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 силу каких-то причин это удивительное равновесие было внезапно разрушено действием гравитационных сил - трудно даже вообразить, какими они должны были быть при бесконечно огромной плотности «первовещества"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99ff"/>
                </a:solidFill>
                <a:latin typeface="Arial"/>
              </a:rPr>
              <a:t>Что было до Большого взрыва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5"/>
          <p:cNvSpPr/>
          <p:nvPr/>
        </p:nvSpPr>
        <p:spPr>
          <a:xfrm>
            <a:off x="395280" y="189000"/>
            <a:ext cx="792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99ff"/>
                </a:solidFill>
                <a:latin typeface="Arial"/>
              </a:rPr>
              <a:t>Загадки теории Большого взрыв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6"/>
          <p:cNvSpPr/>
          <p:nvPr/>
        </p:nvSpPr>
        <p:spPr>
          <a:xfrm>
            <a:off x="179280" y="907920"/>
            <a:ext cx="8964720" cy="496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1.Как гласит теория большого взрыва, Вселенная возникла из точки с нулевым объемом и бесконечно высокими плотностью и температурой. Это состояние, называемое сингулярностью, не поддается математическому описанию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2. Теория большого взрыва не может объяснить существование галактик. Современные версии космологических теорий предсказывают только появление однородного облака газа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3. Проблема “недостающей массы”. Измеряя световую энергию, излучаемую Млечным Путем, можно приблизительно определить массу нашей галактики. Она равняется массе ста миллиардов Солнц. Однако, изучая закономерности взаимодействия того же Млечного Пути с близлежащей галактикой Андромеды, мы обнаружим, что наша галактика притягивается к ней так, как будто весит в десять раз больше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4" descr="Glowing_Eye_Nebula"/>
          <p:cNvPicPr/>
          <p:nvPr/>
        </p:nvPicPr>
        <p:blipFill>
          <a:blip r:embed="rId1"/>
          <a:stretch/>
        </p:blipFill>
        <p:spPr>
          <a:xfrm>
            <a:off x="0" y="1528920"/>
            <a:ext cx="4605480" cy="532908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5"/>
          <p:cNvSpPr/>
          <p:nvPr/>
        </p:nvSpPr>
        <p:spPr>
          <a:xfrm>
            <a:off x="5148360" y="333360"/>
            <a:ext cx="3995640" cy="64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99ff"/>
                </a:solidFill>
                <a:latin typeface="Arial"/>
              </a:rPr>
              <a:t>Теория Большого Взрыва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утверждает, что вся физическая вселенная – материя, энергия и даже 4 измерения пространства и времени возникли из состояния бесконечных значений плотности, температуры и давления. Вселенная возникла из объема меньшего, чем точка и продолжает расширяться. Теория Большого Взрыва теперь общепринята, так как она объясняет оба наиболее значительных факта космологии: </a:t>
            </a: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расширяющуюся Вселенную и существование космического фонового излучения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4"/>
          <p:cNvSpPr/>
          <p:nvPr/>
        </p:nvSpPr>
        <p:spPr>
          <a:xfrm>
            <a:off x="324000" y="549360"/>
            <a:ext cx="8569080" cy="50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Это событие произошло от 13 до 20 миллиардов лет назад. Можно воспользоваться известными законами физики и просчитать в обратном направлении все состояния, в которых находилась Вселенная, начиная с 10-43 секунд после Большого Взрыв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течение первого миллиона лет вещество и энергия во Вселенной сформировали непрозрачную плазму, иногда называемую первичным огненным шаром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 концу этого периода расширение Вселенной заставило температуру опуститься ниже 3000 K, так что протоны и электроны смогли объединяться, образуя атомы водорода. На этой стадии Вселенная стала прозрачной для излучения. Плотность вещества теперь стала выше плотности излучения, хотя раньше ситуация была обратной, что и определяло скорость расширения Вселенно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оновое микроволновое излучение - все, что осталось от сильно охлажденного излучения ранней Вселенной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4"/>
          <p:cNvSpPr/>
          <p:nvPr/>
        </p:nvSpPr>
        <p:spPr>
          <a:xfrm>
            <a:off x="6877080" y="174600"/>
            <a:ext cx="226692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99ff"/>
                </a:solidFill>
                <a:latin typeface="Arial"/>
              </a:rPr>
              <a:t>Начало звездообразова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Это изображение показывает предположение о том, как выглядела очень молодая вселенная (меньше чем 1 миллиард лет), когда начиналось формирование звезд, преобразовывая исходный водород в бесчисленные звезды.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Picture 5" descr="00000078"/>
          <p:cNvPicPr/>
          <p:nvPr/>
        </p:nvPicPr>
        <p:blipFill>
          <a:blip r:embed="rId1"/>
          <a:stretch/>
        </p:blipFill>
        <p:spPr>
          <a:xfrm>
            <a:off x="0" y="0"/>
            <a:ext cx="658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4"/>
          <p:cNvSpPr/>
          <p:nvPr/>
        </p:nvSpPr>
        <p:spPr>
          <a:xfrm>
            <a:off x="6372360" y="189000"/>
            <a:ext cx="252072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99ff"/>
                </a:solidFill>
                <a:latin typeface="Arial"/>
              </a:rPr>
              <a:t>Первые галактики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ачали формироваться из первичных облаков водорода и гелия только через один или два миллиарда лет. Термин "Большой Взрыв" может применяться к любой модели расширяющейся Вселенной, которая в прошлом была горячей и плотной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0" y="5229360"/>
            <a:ext cx="86043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Большое Магелланово Облако - галактика, которая сопровождает нашу собственную. Она видима невооруженным взглядом как туманная, удлиненная область неба. Оно расположено на расстоянии в 160,000 световых лет и охватывает область в 20,000 световых лет. Его видимая часть - десятая часть Млечного пути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Picture 7" descr="00000064"/>
          <p:cNvPicPr/>
          <p:nvPr/>
        </p:nvPicPr>
        <p:blipFill>
          <a:blip r:embed="rId1"/>
          <a:stretch/>
        </p:blipFill>
        <p:spPr>
          <a:xfrm>
            <a:off x="0" y="0"/>
            <a:ext cx="6372360" cy="51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5"/>
          <p:cNvSpPr/>
          <p:nvPr/>
        </p:nvSpPr>
        <p:spPr>
          <a:xfrm>
            <a:off x="6084720" y="0"/>
            <a:ext cx="3059280" cy="618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99ff"/>
                </a:solidFill>
                <a:latin typeface="Arial"/>
              </a:rPr>
              <a:t>Туманность Песочных часов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- молодая планетарная туманность удаленная от нас приблизительно на 8000 световых лет. Изображение принималось в трех различных длинах волн, чтобы отразить газовый состав туманности. Азот показан красным цветом, водород - зеленым и вдвойне ионизированный кислород - синим. Точный процесс формирования пока неясен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Picture 6" descr="00000061"/>
          <p:cNvPicPr/>
          <p:nvPr/>
        </p:nvPicPr>
        <p:blipFill>
          <a:blip r:embed="rId1"/>
          <a:stretch/>
        </p:blipFill>
        <p:spPr>
          <a:xfrm>
            <a:off x="0" y="0"/>
            <a:ext cx="5940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5"/>
          <p:cNvSpPr/>
          <p:nvPr/>
        </p:nvSpPr>
        <p:spPr>
          <a:xfrm>
            <a:off x="5580000" y="0"/>
            <a:ext cx="3564000" cy="64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99ff"/>
                </a:solidFill>
                <a:latin typeface="Arial"/>
              </a:rPr>
              <a:t>Туманность Краба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является одним из наиболее интересных объектов в небе. Это - остатки огромного звездного взрыва. Она была отображена во всех длинах волны от радио до гамма-лучей. Центральная звезда - пульсар - быстро вращающаяся нейтронная звезда. Она вращается настолько быстро, что импульс замечен каждые 0.033 секунды. В оптических длинах волны эта центральная звезда имеет 16-ую величину и находится вне досягаемости всех кроме наиболее мощных телескопов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Picture 6" descr="00000062"/>
          <p:cNvPicPr/>
          <p:nvPr/>
        </p:nvPicPr>
        <p:blipFill>
          <a:blip r:embed="rId1"/>
          <a:stretch/>
        </p:blipFill>
        <p:spPr>
          <a:xfrm>
            <a:off x="0" y="0"/>
            <a:ext cx="5508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4"/>
          <p:cNvSpPr/>
          <p:nvPr/>
        </p:nvSpPr>
        <p:spPr>
          <a:xfrm>
            <a:off x="4932360" y="0"/>
            <a:ext cx="4211640" cy="65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3399ff"/>
                </a:solidFill>
                <a:uFillTx/>
                <a:latin typeface="Arial"/>
              </a:rPr>
              <a:t>Млечный Путь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- это наша собственная галактика, видимая изнутри. Галактика представляет собой гигантскую звездную систему, состоящую приблизительно из 200 миллиардов звезд галактика Млечного пути - имеет приблизительно 100 000 световых лет в поперечнике и содержит более чем 100 миллиардов звезд.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Галактика имеет форму линзы диаметром 80 тысяч световых лет и толщиной ~ 30 тысяч световых лет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5" descr="00000026"/>
          <p:cNvPicPr/>
          <p:nvPr/>
        </p:nvPicPr>
        <p:blipFill>
          <a:blip r:embed="rId1"/>
          <a:stretch/>
        </p:blipFill>
        <p:spPr>
          <a:xfrm>
            <a:off x="0" y="0"/>
            <a:ext cx="4859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4" descr="00000005"/>
          <p:cNvPicPr/>
          <p:nvPr/>
        </p:nvPicPr>
        <p:blipFill>
          <a:blip r:embed="rId1"/>
          <a:stretch/>
        </p:blipFill>
        <p:spPr>
          <a:xfrm>
            <a:off x="5732640" y="0"/>
            <a:ext cx="3411360" cy="44370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5" descr="00000136"/>
          <p:cNvPicPr/>
          <p:nvPr/>
        </p:nvPicPr>
        <p:blipFill>
          <a:blip r:embed="rId2"/>
          <a:stretch/>
        </p:blipFill>
        <p:spPr>
          <a:xfrm>
            <a:off x="0" y="2133720"/>
            <a:ext cx="5435640" cy="472428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6"/>
          <p:cNvSpPr/>
          <p:nvPr/>
        </p:nvSpPr>
        <p:spPr>
          <a:xfrm>
            <a:off x="5686560" y="5300640"/>
            <a:ext cx="3457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а этом снимке показана спиральная галактика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Text Box 7"/>
          <p:cNvSpPr/>
          <p:nvPr/>
        </p:nvSpPr>
        <p:spPr>
          <a:xfrm>
            <a:off x="0" y="476280"/>
            <a:ext cx="5148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Эллиптические галактики образуются в результате столкновений между спиральными галактиками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24T14:37:46Z</dcterms:created>
  <dc:creator>User</dc:creator>
  <dc:description/>
  <dc:language>en-US</dc:language>
  <cp:lastModifiedBy>User</cp:lastModifiedBy>
  <dcterms:modified xsi:type="dcterms:W3CDTF">2012-06-16T08:02:05Z</dcterms:modified>
  <cp:revision>7</cp:revision>
  <dc:subject/>
  <dc:title>Слайд 1</dc:title>
</cp:coreProperties>
</file>