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3298F-EEB1-4730-8468-D6F9458A4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147C9-4BC5-44E9-9DDE-3E5B36DCE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962-106D-4FD6-8996-96465DBC75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A77-88B5-44F3-8F09-F1791A419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71CE0-D7C3-4BE5-8A25-8C3851B5F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692AFB-E38E-431A-8271-435C213E6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F7AE0-136A-4F58-84CB-A5827F04E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462C5-F872-4DBB-81E8-4067E2164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2D483-49A2-47D4-A885-31F32CDD5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1AF7A-6C29-444F-A9D3-55949B167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8C97B-739B-4A4B-ADFD-CE41E5863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09EC-0399-4835-B3AF-F5B11AA29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D4E68-569F-4CED-9D5E-6EAECB09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C4E15-80A2-4777-ABA1-150A9C8A4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9D6A1-3206-4C4A-A117-CDE3F8AF3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85EC0-F91D-4A67-B187-FC3A1C837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EF54-72FA-4B08-B35B-128D93F504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841C-3166-44D0-8F48-783A4EB30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3FB38-A208-4C14-B447-55B6BDEB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B279D-98C5-452F-9DED-EEF181C33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15D01-67E3-43A8-9E7A-739BE8C9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C755-8B59-4D12-BE29-425F940BA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A921-FCC3-42EE-8249-557EEAC58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48E6D-9F95-47EF-A08E-C13840EEB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1CA30-4A34-496E-B67C-4706DA3651EB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C8C8F-8CBF-475F-9547-846C4F62D57A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WordArt 4"/>
          <p:cNvSpPr txBox="1"/>
          <p:nvPr/>
        </p:nvSpPr>
        <p:spPr>
          <a:xfrm>
            <a:off x="142920" y="285840"/>
            <a:ext cx="8607240" cy="24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Теория Большого взрыва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99" name="Picture 4" descr="Glowing_Eye_Nebula"/>
          <p:cNvPicPr/>
          <p:nvPr/>
        </p:nvPicPr>
        <p:blipFill>
          <a:blip r:embed="rId1"/>
          <a:stretch/>
        </p:blipFill>
        <p:spPr>
          <a:xfrm>
            <a:off x="2928960" y="2786040"/>
            <a:ext cx="4605480" cy="371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4"/>
          <p:cNvSpPr/>
          <p:nvPr/>
        </p:nvSpPr>
        <p:spPr>
          <a:xfrm>
            <a:off x="5724360" y="333360"/>
            <a:ext cx="3419640" cy="57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Столкновение нашей Галакти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Примерно через три миллиарда лет наша Галактика столкнётся с Андромедой, так как вот уже почти столетие, как астрономы знают, что обе галактики приближаются друг к другу со скоростью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500 000 километров в час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5" descr="00000119"/>
          <p:cNvPicPr/>
          <p:nvPr/>
        </p:nvPicPr>
        <p:blipFill>
          <a:blip r:embed="rId1"/>
          <a:stretch/>
        </p:blipFill>
        <p:spPr>
          <a:xfrm>
            <a:off x="0" y="0"/>
            <a:ext cx="5580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611280" y="1125360"/>
            <a:ext cx="8353440" cy="421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огласно этой теории, всё наблюдаемое пространство расширяется. Но что же было в самом начале? Всё вещество в Космосе в какой-то начальный момент было сдавлено буквально в ничто - спрессовано в одну-единственную точку. Оно имело фантастически огромную плотность - её практически невозможно себе представить, она выражается числом, в котором после единицы стоят 96 нулей, - и столь же невообразимо высокую температуру. Астрономы назвали такое состояние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сингулярностью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В силу каких-то причин это удивительное равновесие было внезапно разрушено действием гравитационных сил - трудно даже вообразить, какими они должны были быть при бесконечно огромной плотности «первовещества"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99ff"/>
                </a:solidFill>
                <a:latin typeface="Arial"/>
              </a:rPr>
              <a:t>Что было до Большого взрыва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5"/>
          <p:cNvSpPr/>
          <p:nvPr/>
        </p:nvSpPr>
        <p:spPr>
          <a:xfrm>
            <a:off x="395280" y="18900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Arial"/>
              </a:rPr>
              <a:t>Загадки теории Большого взры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179280" y="907920"/>
            <a:ext cx="8964720" cy="49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1.Как гласит теория большого взрыва, Вселенная возникла из точки с нулевым объемом и бесконечно высокими плотностью и температурой. Это состояние, называемое сингулярностью, не поддается математическому описанию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2. Теория большого взрыва не может объяснить существование галактик. Современные версии космологических теорий предсказывают только появление однородного облака газ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3. Проблема “недостающей массы”. Измеряя световую энергию, излучаемую Млечным Путем, можно приблизительно определить массу нашей галактики. Она равняется массе ста миллиардов Солнц. Однако, изучая закономерности взаимодействия того же Млечного Пути с близлежащей галактикой Андромеды, мы обнаружим, что наша галактика притягивается к ней так, как будто весит в десять раз больше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Glowing_Eye_Nebula"/>
          <p:cNvPicPr/>
          <p:nvPr/>
        </p:nvPicPr>
        <p:blipFill>
          <a:blip r:embed="rId1"/>
          <a:stretch/>
        </p:blipFill>
        <p:spPr>
          <a:xfrm>
            <a:off x="0" y="1528920"/>
            <a:ext cx="4605480" cy="53290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5148360" y="333360"/>
            <a:ext cx="3995640" cy="64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Arial"/>
              </a:rPr>
              <a:t>Теория Большого Взрыва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утверждает, что вся физическая вселенная – материя, энергия и даже 4 измерения пространства и времени возникли из состояния бесконечных значений плотности, температуры и давления. Вселенная возникла из объема меньшего, чем точка и продолжает расширяться. Теория Большого Взрыва теперь общепринята, так как она объясняет оба наиболее значительных факта космологии: 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Arial"/>
              </a:rPr>
              <a:t>расширяющуюся Вселенную и существование космического фонового излуч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324000" y="549360"/>
            <a:ext cx="8569080" cy="50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событие произошло от 13 до 20 миллиардов лет назад. Можно воспользоваться известными законами физики и просчитать в обратном направлении все состояния, в которых находилась Вселенная, начиная с 10-43 секунд после Большого Взры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 течение первого миллиона лет вещество и энергия во Вселенной сформировали непрозрачную плазму, иногда называемую первичным огненным шаром.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 концу этого периода расширение Вселенной заставило температуру опуститься ниже 3000 K, так что протоны и электроны смогли объединяться, образуя атомы водорода. На этой стадии Вселенная стала прозрачной для излучения. Плотность вещества теперь стала выше плотности излучения, хотя раньше ситуация была обратной, что и определяло скорость расширения Вселенной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Фоновое микроволновое излучение - все, что осталось от сильно охлажденного излучения ранней Вселенной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4"/>
          <p:cNvSpPr/>
          <p:nvPr/>
        </p:nvSpPr>
        <p:spPr>
          <a:xfrm>
            <a:off x="6877080" y="174600"/>
            <a:ext cx="226692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Начало звездообразова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Это изображение показывает предположение о том, как выглядела очень молодая вселенная (меньше чем 1 миллиард лет), когда начиналось формирование звезд, преобразовывая исходный водород в бесчисленные звезды.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5" descr="00000078"/>
          <p:cNvPicPr/>
          <p:nvPr/>
        </p:nvPicPr>
        <p:blipFill>
          <a:blip r:embed="rId1"/>
          <a:stretch/>
        </p:blipFill>
        <p:spPr>
          <a:xfrm>
            <a:off x="0" y="0"/>
            <a:ext cx="65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6372360" y="189000"/>
            <a:ext cx="2520720" cy="490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Arial"/>
              </a:rPr>
              <a:t>Первые галакти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начали формироваться из первичных облаков водорода и гелия только через один или два миллиарда лет. Термин "Большой Взрыв" может применяться к любой модели расширяющейся Вселенной, которая в прошлом была горячей и плотной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0" y="5229360"/>
            <a:ext cx="8604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Большое Магелланово Облако - галактика, которая сопровождает нашу собственную. Она видима невооруженным взглядом как туманная, удлиненная область неба. Оно расположено на расстоянии в 160,000 световых лет и охватывает область в 20,000 световых лет. Его видимая часть - десятая часть Млечного пути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7" descr="00000064"/>
          <p:cNvPicPr/>
          <p:nvPr/>
        </p:nvPicPr>
        <p:blipFill>
          <a:blip r:embed="rId1"/>
          <a:stretch/>
        </p:blipFill>
        <p:spPr>
          <a:xfrm>
            <a:off x="0" y="0"/>
            <a:ext cx="637236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5"/>
          <p:cNvSpPr/>
          <p:nvPr/>
        </p:nvSpPr>
        <p:spPr>
          <a:xfrm>
            <a:off x="6084720" y="0"/>
            <a:ext cx="3059280" cy="618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Arial"/>
              </a:rPr>
              <a:t>Туманность Песочных часов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молодая планетарная туманность удаленная от нас приблизительно на 8000 световых лет. Изображение принималось в трех различных длинах волн, чтобы отразить газовый состав туманности. Азот показан красным цветом, водород - зеленым и вдвойне ионизированный кислород - синим. Точный процесс формирования пока неясен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Picture 6" descr="00000061"/>
          <p:cNvPicPr/>
          <p:nvPr/>
        </p:nvPicPr>
        <p:blipFill>
          <a:blip r:embed="rId1"/>
          <a:stretch/>
        </p:blipFill>
        <p:spPr>
          <a:xfrm>
            <a:off x="0" y="0"/>
            <a:ext cx="594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5"/>
          <p:cNvSpPr/>
          <p:nvPr/>
        </p:nvSpPr>
        <p:spPr>
          <a:xfrm>
            <a:off x="5580000" y="0"/>
            <a:ext cx="3564000" cy="642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99ff"/>
                </a:solidFill>
                <a:latin typeface="Arial"/>
              </a:rPr>
              <a:t>Туманность Краб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является одним из наиболее интересных объектов в небе. Это - остатки огромного звездного взрыва. Она была отображена во всех длинах волны от радио до гамма-лучей. Центральная звезда - пульсар - быстро вращающаяся нейтронная звезда. Она вращается настолько быстро, что импульс замечен каждые 0.033 секунды. В оптических длинах волны эта центральная звезда имеет 16-ую величину и находится вне досягаемости всех кроме наиболее мощных телескопов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6" descr="00000062"/>
          <p:cNvPicPr/>
          <p:nvPr/>
        </p:nvPicPr>
        <p:blipFill>
          <a:blip r:embed="rId1"/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4"/>
          <p:cNvSpPr/>
          <p:nvPr/>
        </p:nvSpPr>
        <p:spPr>
          <a:xfrm>
            <a:off x="4932360" y="0"/>
            <a:ext cx="4211640" cy="65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Arial"/>
              </a:rPr>
              <a:t>Млечный Путь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- это наша собственная галактика, видимая изнутри. Галактика представляет собой гигантскую звездную систему, состоящую приблизительно из 200 миллиардов звезд галактика Млечного пути - имеет приблизительно 100 000 световых лет в поперечнике и содержит более чем 100 миллиардов звезд.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Галактика имеет форму линзы диаметром 80 тысяч световых лет и толщиной ~ 30 тысяч световых лет</a:t>
            </a: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5" descr="00000026"/>
          <p:cNvPicPr/>
          <p:nvPr/>
        </p:nvPicPr>
        <p:blipFill>
          <a:blip r:embed="rId1"/>
          <a:stretch/>
        </p:blipFill>
        <p:spPr>
          <a:xfrm>
            <a:off x="0" y="0"/>
            <a:ext cx="48592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4" descr="00000005"/>
          <p:cNvPicPr/>
          <p:nvPr/>
        </p:nvPicPr>
        <p:blipFill>
          <a:blip r:embed="rId1"/>
          <a:stretch/>
        </p:blipFill>
        <p:spPr>
          <a:xfrm>
            <a:off x="5732640" y="0"/>
            <a:ext cx="3411360" cy="44370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00000136"/>
          <p:cNvPicPr/>
          <p:nvPr/>
        </p:nvPicPr>
        <p:blipFill>
          <a:blip r:embed="rId2"/>
          <a:stretch/>
        </p:blipFill>
        <p:spPr>
          <a:xfrm>
            <a:off x="0" y="2133720"/>
            <a:ext cx="5435640" cy="47242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6"/>
          <p:cNvSpPr/>
          <p:nvPr/>
        </p:nvSpPr>
        <p:spPr>
          <a:xfrm>
            <a:off x="5686560" y="5300640"/>
            <a:ext cx="3457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На этом снимке показана спиральная галактика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0" y="476280"/>
            <a:ext cx="5148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Эллиптические галактики образуются в результате столкновений между спиральными галактикам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4T14:37:46Z</dcterms:created>
  <dc:creator>User</dc:creator>
  <dc:description/>
  <dc:language>en-US</dc:language>
  <cp:lastModifiedBy>User</cp:lastModifiedBy>
  <dcterms:modified xsi:type="dcterms:W3CDTF">2012-06-16T08:02:05Z</dcterms:modified>
  <cp:revision>7</cp:revision>
  <dc:subject/>
  <dc:title>Слайд 1</dc:title>
</cp:coreProperties>
</file>