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0.jpeg" ContentType="image/jpeg"/>
  <Override PartName="/ppt/media/image35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C4B7-E3C0-455F-BD08-2EF56929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B005-48DA-49D9-9B79-9D493AE1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6CD9-AC01-4D70-9DBF-73A6E35B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0B24-B5B0-48E9-AA9D-CAFDC8CA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A28B-9B34-4A09-8EF9-3113532D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FF3B-CFB1-473B-BF0B-4A850A1A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946B-3B8A-4255-ABE8-9022816F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96DB-0031-49B6-A220-AF9A34D9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75E4-9F21-43C2-ACEC-E7D79F54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DA75-F3A6-4B15-BA24-E333CB9F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31D5-B982-497F-AB44-C822BD84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291F-C0BA-427A-BCCE-7B4D45D1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ABCD-5535-40A6-84CC-4E42D48642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" descr="C:\Users\Компас\Pictures\цветы 1.jpg"/>
          <p:cNvPicPr/>
          <p:nvPr/>
        </p:nvPicPr>
        <p:blipFill>
          <a:blip r:embed="rId2"/>
          <a:stretch/>
        </p:blipFill>
        <p:spPr>
          <a:xfrm>
            <a:off x="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C:\Users\Компас\Pictures\цветы 1.jpg"/>
          <p:cNvPicPr/>
          <p:nvPr/>
        </p:nvPicPr>
        <p:blipFill>
          <a:blip r:embed="rId3"/>
          <a:stretch/>
        </p:blipFill>
        <p:spPr>
          <a:xfrm>
            <a:off x="971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C:\Users\Компас\Pictures\цветы 1.jpg"/>
          <p:cNvPicPr/>
          <p:nvPr/>
        </p:nvPicPr>
        <p:blipFill>
          <a:blip r:embed="rId4"/>
          <a:stretch/>
        </p:blipFill>
        <p:spPr>
          <a:xfrm>
            <a:off x="1979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C:\Users\Компас\Pictures\цветы 1.jpg"/>
          <p:cNvPicPr/>
          <p:nvPr/>
        </p:nvPicPr>
        <p:blipFill>
          <a:blip r:embed="rId5"/>
          <a:stretch/>
        </p:blipFill>
        <p:spPr>
          <a:xfrm>
            <a:off x="2987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C:\Users\Компас\Pictures\цветы 1.jpg"/>
          <p:cNvPicPr/>
          <p:nvPr/>
        </p:nvPicPr>
        <p:blipFill>
          <a:blip r:embed="rId6"/>
          <a:stretch/>
        </p:blipFill>
        <p:spPr>
          <a:xfrm>
            <a:off x="3995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C:\Users\Компас\Pictures\цветы 1.jpg"/>
          <p:cNvPicPr/>
          <p:nvPr/>
        </p:nvPicPr>
        <p:blipFill>
          <a:blip r:embed="rId7"/>
          <a:stretch/>
        </p:blipFill>
        <p:spPr>
          <a:xfrm>
            <a:off x="4932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Users\Компас\Pictures\цветы 1.jpg"/>
          <p:cNvPicPr/>
          <p:nvPr/>
        </p:nvPicPr>
        <p:blipFill>
          <a:blip r:embed="rId8"/>
          <a:stretch/>
        </p:blipFill>
        <p:spPr>
          <a:xfrm>
            <a:off x="5940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C:\Users\Компас\Pictures\цветы 1.jpg"/>
          <p:cNvPicPr/>
          <p:nvPr/>
        </p:nvPicPr>
        <p:blipFill>
          <a:blip r:embed="rId9"/>
          <a:stretch/>
        </p:blipFill>
        <p:spPr>
          <a:xfrm>
            <a:off x="6948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" descr="C:\Users\Компас\Pictures\цветы 1.jpg"/>
          <p:cNvPicPr/>
          <p:nvPr/>
        </p:nvPicPr>
        <p:blipFill>
          <a:blip r:embed="rId10"/>
          <a:stretch/>
        </p:blipFill>
        <p:spPr>
          <a:xfrm>
            <a:off x="7970760" y="5834160"/>
            <a:ext cx="1173240" cy="1023840"/>
          </a:xfrm>
          <a:prstGeom prst="rect">
            <a:avLst/>
          </a:prstGeom>
          <a:ln w="0">
            <a:noFill/>
          </a:ln>
        </p:spPr>
      </p:pic>
      <p:sp>
        <p:nvSpPr>
          <p:cNvPr id="12" name="Rectangle 3"/>
          <p:cNvSpPr/>
          <p:nvPr/>
        </p:nvSpPr>
        <p:spPr>
          <a:xfrm>
            <a:off x="0" y="6596280"/>
            <a:ext cx="11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FokinaLida.7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Picture 4" descr="C:\Users\Компас\Pictures\бабочка.jpg"/>
          <p:cNvPicPr/>
          <p:nvPr/>
        </p:nvPicPr>
        <p:blipFill>
          <a:blip r:embed="rId11"/>
          <a:stretch/>
        </p:blipFill>
        <p:spPr>
          <a:xfrm rot="2493600">
            <a:off x="801360" y="5466960"/>
            <a:ext cx="487440" cy="53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4" descr="C:\Users\Компас\Pictures\бабочка.jpg"/>
          <p:cNvPicPr/>
          <p:nvPr/>
        </p:nvPicPr>
        <p:blipFill>
          <a:blip r:embed="rId12"/>
          <a:stretch/>
        </p:blipFill>
        <p:spPr>
          <a:xfrm rot="2493600">
            <a:off x="3897000" y="5250960"/>
            <a:ext cx="488880" cy="54000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4" descr="C:\Users\Компас\Pictures\бабочка.jpg"/>
          <p:cNvPicPr/>
          <p:nvPr/>
        </p:nvPicPr>
        <p:blipFill>
          <a:blip r:embed="rId13"/>
          <a:stretch/>
        </p:blipFill>
        <p:spPr>
          <a:xfrm rot="16569600">
            <a:off x="6783120" y="5662800"/>
            <a:ext cx="487440" cy="54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tilleben-art.ru/gal1/1_1_3-1.htm" TargetMode="External"/><Relationship Id="rId2" Type="http://schemas.openxmlformats.org/officeDocument/2006/relationships/hyperlink" Target="http://stilleben-art.ru/gal1/1_1_3-2.htm" TargetMode="External"/><Relationship Id="rId3" Type="http://schemas.openxmlformats.org/officeDocument/2006/relationships/hyperlink" Target="http://stilleben-art.ru/gal1/1_1_3-2.htm" TargetMode="External"/><Relationship Id="rId4" Type="http://schemas.openxmlformats.org/officeDocument/2006/relationships/hyperlink" Target="http://stilleben-art.ru/gal1/1_1_3-3.htm" TargetMode="External"/><Relationship Id="rId5" Type="http://schemas.openxmlformats.org/officeDocument/2006/relationships/hyperlink" Target="http://stilleben-art.ru/gal1/1_1_3-3.htm" TargetMode="External"/><Relationship Id="rId6" Type="http://schemas.openxmlformats.org/officeDocument/2006/relationships/hyperlink" Target="http://stilleben-art.ru/gal1/1_1_3-4.htm" TargetMode="External"/><Relationship Id="rId7" Type="http://schemas.openxmlformats.org/officeDocument/2006/relationships/hyperlink" Target="http://stilleben-art.ru/gal1/1_1_3-4.htm" TargetMode="External"/><Relationship Id="rId8" Type="http://schemas.openxmlformats.org/officeDocument/2006/relationships/hyperlink" Target="http://stilleben-art.ru/gal1/1_1_3-5.htm" TargetMode="External"/><Relationship Id="rId9" Type="http://schemas.openxmlformats.org/officeDocument/2006/relationships/hyperlink" Target="http://stilleben-art.ru/gal1/1_1_3-6.htm" TargetMode="External"/><Relationship Id="rId10" Type="http://schemas.openxmlformats.org/officeDocument/2006/relationships/hyperlink" Target="http://stilleben-art.ru/gal1/1_1_3-7.htm" TargetMode="External"/><Relationship Id="rId11" Type="http://schemas.openxmlformats.org/officeDocument/2006/relationships/hyperlink" Target="http://stilleben-art.ru/gal1/1_1_3-7.htm" TargetMode="External"/><Relationship Id="rId12" Type="http://schemas.openxmlformats.org/officeDocument/2006/relationships/hyperlink" Target="http://stilleben-art.ru/gal1/1_1_3-7.htm" TargetMode="External"/><Relationship Id="rId13" Type="http://schemas.openxmlformats.org/officeDocument/2006/relationships/hyperlink" Target="http://stilleben-art.ru/gal1/1_1_3-1.htm" TargetMode="External"/><Relationship Id="rId14" Type="http://schemas.openxmlformats.org/officeDocument/2006/relationships/image" Target="../media/image15.jpeg"/><Relationship Id="rId15" Type="http://schemas.openxmlformats.org/officeDocument/2006/relationships/hyperlink" Target="http://stilleben-art.ru/gal1/1_1_3-2.htm" TargetMode="External"/><Relationship Id="rId16" Type="http://schemas.openxmlformats.org/officeDocument/2006/relationships/image" Target="../media/image16.jpeg"/><Relationship Id="rId17" Type="http://schemas.openxmlformats.org/officeDocument/2006/relationships/hyperlink" Target="http://stilleben-art.ru/gal1/1_1_3-3.htm" TargetMode="External"/><Relationship Id="rId18" Type="http://schemas.openxmlformats.org/officeDocument/2006/relationships/image" Target="../media/image17.jpeg"/><Relationship Id="rId19" Type="http://schemas.openxmlformats.org/officeDocument/2006/relationships/hyperlink" Target="http://stilleben-art.ru/gal1/1_1_3-4.htm" TargetMode="External"/><Relationship Id="rId20" Type="http://schemas.openxmlformats.org/officeDocument/2006/relationships/image" Target="../media/image18.jpeg"/><Relationship Id="rId21" Type="http://schemas.openxmlformats.org/officeDocument/2006/relationships/hyperlink" Target="http://stilleben-art.ru/gal1/1_1_3-5.htm" TargetMode="External"/><Relationship Id="rId22" Type="http://schemas.openxmlformats.org/officeDocument/2006/relationships/image" Target="../media/image19.jpeg"/><Relationship Id="rId23" Type="http://schemas.openxmlformats.org/officeDocument/2006/relationships/hyperlink" Target="http://stilleben-art.ru/gal1/1_1_3-6.htm" TargetMode="External"/><Relationship Id="rId24" Type="http://schemas.openxmlformats.org/officeDocument/2006/relationships/image" Target="../media/image20.jpeg"/><Relationship Id="rId25" Type="http://schemas.openxmlformats.org/officeDocument/2006/relationships/hyperlink" Target="http://stilleben-art.ru/gal1/1_1_3-7.htm" TargetMode="External"/><Relationship Id="rId26" Type="http://schemas.openxmlformats.org/officeDocument/2006/relationships/image" Target="../media/image21.jpeg"/><Relationship Id="rId27" Type="http://schemas.openxmlformats.org/officeDocument/2006/relationships/image" Target="../media/image22.jpeg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tilleben-art.ru/gal3/1_1_29-1.htm" TargetMode="External"/><Relationship Id="rId2" Type="http://schemas.openxmlformats.org/officeDocument/2006/relationships/hyperlink" Target="http://stilleben-art.ru/gal3/1_1_29-3.htm" TargetMode="External"/><Relationship Id="rId3" Type="http://schemas.openxmlformats.org/officeDocument/2006/relationships/hyperlink" Target="http://stilleben-art.ru/gal3/1_1_29-3.htm" TargetMode="External"/><Relationship Id="rId4" Type="http://schemas.openxmlformats.org/officeDocument/2006/relationships/hyperlink" Target="http://stilleben-art.ru/gal3/1_1_29-3.htm" TargetMode="External"/><Relationship Id="rId5" Type="http://schemas.openxmlformats.org/officeDocument/2006/relationships/hyperlink" Target="http://stilleben-art.ru/gal3/1_1_29-4.htm" TargetMode="External"/><Relationship Id="rId6" Type="http://schemas.openxmlformats.org/officeDocument/2006/relationships/hyperlink" Target="http://stilleben-art.ru/gal3/1_1_29-5.htm" TargetMode="External"/><Relationship Id="rId7" Type="http://schemas.openxmlformats.org/officeDocument/2006/relationships/hyperlink" Target="http://stilleben-art.ru/gal3/1_1_29-6.htm" TargetMode="External"/><Relationship Id="rId8" Type="http://schemas.openxmlformats.org/officeDocument/2006/relationships/hyperlink" Target="http://stilleben-art.ru/gal3/1_1_29-6.htm" TargetMode="External"/><Relationship Id="rId9" Type="http://schemas.openxmlformats.org/officeDocument/2006/relationships/hyperlink" Target="http://stilleben-art.ru/gal3/1_1_29-1.htm" TargetMode="External"/><Relationship Id="rId10" Type="http://schemas.openxmlformats.org/officeDocument/2006/relationships/image" Target="../media/image23.jpeg"/><Relationship Id="rId11" Type="http://schemas.openxmlformats.org/officeDocument/2006/relationships/hyperlink" Target="http://stilleben-art.ru/gal3/1_1_29-2.htm" TargetMode="External"/><Relationship Id="rId12" Type="http://schemas.openxmlformats.org/officeDocument/2006/relationships/image" Target="../media/image24.jpeg"/><Relationship Id="rId13" Type="http://schemas.openxmlformats.org/officeDocument/2006/relationships/hyperlink" Target="http://stilleben-art.ru/gal3/1_1_29-3.htm" TargetMode="External"/><Relationship Id="rId14" Type="http://schemas.openxmlformats.org/officeDocument/2006/relationships/image" Target="../media/image25.jpeg"/><Relationship Id="rId15" Type="http://schemas.openxmlformats.org/officeDocument/2006/relationships/hyperlink" Target="http://stilleben-art.ru/gal3/1_1_29-4.htm" TargetMode="External"/><Relationship Id="rId16" Type="http://schemas.openxmlformats.org/officeDocument/2006/relationships/image" Target="../media/image26.jpeg"/><Relationship Id="rId17" Type="http://schemas.openxmlformats.org/officeDocument/2006/relationships/hyperlink" Target="http://stilleben-art.ru/gal3/1_1_29-5.htm" TargetMode="External"/><Relationship Id="rId18" Type="http://schemas.openxmlformats.org/officeDocument/2006/relationships/image" Target="../media/image27.jpeg"/><Relationship Id="rId19" Type="http://schemas.openxmlformats.org/officeDocument/2006/relationships/image" Target="../media/image28.jpeg"/><Relationship Id="rId20" Type="http://schemas.openxmlformats.org/officeDocument/2006/relationships/image" Target="../media/image29.jpeg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ru.wikipedia.org/wiki/&#1055;&#1086;&#1088;&#1090;&#1088;&#1077;&#1090;" TargetMode="External"/><Relationship Id="rId3" Type="http://schemas.openxmlformats.org/officeDocument/2006/relationships/hyperlink" Target="http://ru.wikipedia.org/wiki/&#1055;&#1077;&#1081;&#1079;&#1072;&#1078;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6;&#1083;&#1083;&#1072;&#1085;&#1076;&#1080;&#1103;" TargetMode="External"/><Relationship Id="rId2" Type="http://schemas.openxmlformats.org/officeDocument/2006/relationships/hyperlink" Target="http://ru.wikipedia.org/wiki/&#1060;&#1083;&#1072;&#1085;&#1076;&#1088;&#1080;&#1103;_(&#1080;&#1089;&#1090;&#1086;&#1088;&#1080;&#1095;&#1077;&#1089;&#1082;&#1072;&#1103;_&#1086;&#1073;&#1083;&#1072;&#1089;&#1090;&#1100;)" TargetMode="External"/><Relationship Id="rId3" Type="http://schemas.openxmlformats.org/officeDocument/2006/relationships/hyperlink" Target="http://ru.wikipedia.org/wiki/&#1040;&#1083;&#1083;&#1077;&#1075;&#1086;&#1088;&#1080;&#1103;" TargetMode="External"/><Relationship Id="rId4" Type="http://schemas.openxmlformats.org/officeDocument/2006/relationships/hyperlink" Target="http://ru.wikipedia.org/wiki/&#1042;&#1072;&#1085;&#1080;&#1090;&#1072;&#1089;" TargetMode="External"/><Relationship Id="rId5" Type="http://schemas.openxmlformats.org/officeDocument/2006/relationships/hyperlink" Target="http://ru.wikipedia.org/wiki/&#1057;&#1090;&#1088;&#1072;&#1089;&#1090;&#1080;_&#1061;&#1088;&#1080;&#1089;&#1090;&#1086;&#1074;&#1099;" TargetMode="External"/><Relationship Id="rId6" Type="http://schemas.openxmlformats.org/officeDocument/2006/relationships/hyperlink" Target="http://ru.wikipedia.org/wiki/&#1042;&#1086;&#1089;&#1082;&#1088;&#1077;&#1089;&#1077;&#1085;&#1080;&#1077;_&#1048;&#1080;&#1089;&#1091;&#1089;&#1072;_&#1061;&#1088;&#1080;&#1089;&#1090;&#1072;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72;&#1085;&#1088;" TargetMode="External"/><Relationship Id="rId2" Type="http://schemas.openxmlformats.org/officeDocument/2006/relationships/hyperlink" Target="http://ru.wikipedia.org/wiki/&#1040;&#1084;&#1073;&#1088;&#1086;&#1079;&#1080;&#1091;&#1089;_&#1041;&#1086;&#1089;&#1093;&#1072;&#1088;&#1090;_&#1057;&#1090;&#1072;&#1088;&#1096;&#1080;&#1081;" TargetMode="External"/><Relationship Id="rId3" Type="http://schemas.openxmlformats.org/officeDocument/2006/relationships/hyperlink" Target="http://ru.wikipedia.org/wiki/&#1041;&#1072;&#1083;&#1100;&#1090;&#1072;&#1089;&#1072;&#1088;_&#1074;&#1072;&#1085;_&#1076;&#1077;&#1088;_&#1040;&#1089;&#1090;" TargetMode="External"/><Relationship Id="rId4" Type="http://schemas.openxmlformats.org/officeDocument/2006/relationships/hyperlink" Target="http://ru.wikipedia.org/wiki/&#1071;&#1085;_&#1044;&#1072;&#1074;&#1080;&#1076;&#1089;_&#1076;&#1077;_&#1061;&#1077;&#1084;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7;&#1081;&#1076;&#1077;&#1085;" TargetMode="External"/><Relationship Id="rId2" Type="http://schemas.openxmlformats.org/officeDocument/2006/relationships/hyperlink" Target="http://ru.wikipedia.org/wiki/&#1042;&#1072;&#1085;&#1080;&#1090;&#1072;&#1089;" TargetMode="External"/><Relationship Id="rId3" Type="http://schemas.openxmlformats.org/officeDocument/2006/relationships/hyperlink" Target="http://ru.wikipedia.org/wiki/Memento_mori" TargetMode="External"/><Relationship Id="rId4" Type="http://schemas.openxmlformats.org/officeDocument/2006/relationships/hyperlink" Target="http://ru.wikipedia.org/w/index.php?title=&#1057;&#1090;&#1077;&#1085;&#1074;&#1077;&#1081;&#1082;,_&#1055;&#1080;&#1090;&#1077;&#1088;&amp;action=edit&amp;redlink=1" TargetMode="External"/><Relationship Id="rId5" Type="http://schemas.openxmlformats.org/officeDocument/2006/relationships/hyperlink" Target="http://ru.wikipedia.org/w/index.php?title=&#1041;&#1072;&#1081;&#1083;&#1080;,_&#1044;&#1072;&#1074;&#1080;&#1076;&amp;action=edit&amp;redlink=1" TargetMode="External"/><Relationship Id="rId6" Type="http://schemas.openxmlformats.org/officeDocument/2006/relationships/hyperlink" Target="http://ru.wikipedia.org/wiki/&#1048;&#1083;&#1083;&#1102;&#1079;&#1080;&#1086;&#1085;&#1080;&#1079;&#1084;" TargetMode="External"/><Relationship Id="rId7" Type="http://schemas.openxmlformats.org/officeDocument/2006/relationships/hyperlink" Target="http://ru.wikipedia.org/wiki/&#1054;&#1073;&#1084;&#1072;&#1085;&#1082;&#1072;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_&#1074;&#1077;&#1082;" TargetMode="External"/><Relationship Id="rId2" Type="http://schemas.openxmlformats.org/officeDocument/2006/relationships/hyperlink" Target="http://ru.wikipedia.org/w/index.php?title=&#1052;&#1072;&#1083;&#1099;&#1077;_&#1075;&#1086;&#1083;&#1083;&#1072;&#1085;&#1076;&#1094;&#1099;&amp;action=edit&amp;redlink=1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tilleben-art.ru/gal1/1_1_1-1.htm" TargetMode="External"/><Relationship Id="rId2" Type="http://schemas.openxmlformats.org/officeDocument/2006/relationships/hyperlink" Target="http://stilleben-art.ru/gal1/1_1_1-2.htm" TargetMode="External"/><Relationship Id="rId3" Type="http://schemas.openxmlformats.org/officeDocument/2006/relationships/hyperlink" Target="http://stilleben-art.ru/gal1/1_1_1-3.htm" TargetMode="External"/><Relationship Id="rId4" Type="http://schemas.openxmlformats.org/officeDocument/2006/relationships/hyperlink" Target="http://stilleben-art.ru/gal1/1_1_1-4.htm" TargetMode="External"/><Relationship Id="rId5" Type="http://schemas.openxmlformats.org/officeDocument/2006/relationships/hyperlink" Target="http://stilleben-art.ru/gal1/1_1_1-5.htm" TargetMode="External"/><Relationship Id="rId6" Type="http://schemas.openxmlformats.org/officeDocument/2006/relationships/hyperlink" Target="http://stilleben-art.ru/gal1/1_1_1-6.htm" TargetMode="External"/><Relationship Id="rId7" Type="http://schemas.openxmlformats.org/officeDocument/2006/relationships/hyperlink" Target="http://stilleben-art.ru/gal1/1_1_1-7.htm" TargetMode="External"/><Relationship Id="rId8" Type="http://schemas.openxmlformats.org/officeDocument/2006/relationships/hyperlink" Target="http://stilleben-art.ru/gal1/1_1_1-8.htm" TargetMode="External"/><Relationship Id="rId9" Type="http://schemas.openxmlformats.org/officeDocument/2006/relationships/hyperlink" Target="http://stilleben-art.ru/gal1/1_1_1-9.htm" TargetMode="External"/><Relationship Id="rId10" Type="http://schemas.openxmlformats.org/officeDocument/2006/relationships/hyperlink" Target="http://stilleben-art.ru/gal1/1_1_1-10.htm" TargetMode="External"/><Relationship Id="rId11" Type="http://schemas.openxmlformats.org/officeDocument/2006/relationships/hyperlink" Target="http://stilleben-art.ru/gal1/1_1_1-10.htm" TargetMode="External"/><Relationship Id="rId12" Type="http://schemas.openxmlformats.org/officeDocument/2006/relationships/hyperlink" Target="http://stilleben-art.ru/gal1/1_1_1-10.htm" TargetMode="External"/><Relationship Id="rId13" Type="http://schemas.openxmlformats.org/officeDocument/2006/relationships/hyperlink" Target="http://stilleben-art.ru/gal1/1_1_1-1.htm" TargetMode="External"/><Relationship Id="rId14" Type="http://schemas.openxmlformats.org/officeDocument/2006/relationships/image" Target="../media/image4.jpeg"/><Relationship Id="rId15" Type="http://schemas.openxmlformats.org/officeDocument/2006/relationships/hyperlink" Target="http://stilleben-art.ru/gal1/1_1_1-2.htm" TargetMode="External"/><Relationship Id="rId16" Type="http://schemas.openxmlformats.org/officeDocument/2006/relationships/image" Target="../media/image5.jpeg"/><Relationship Id="rId17" Type="http://schemas.openxmlformats.org/officeDocument/2006/relationships/hyperlink" Target="http://stilleben-art.ru/gal1/1_1_1-3.htm" TargetMode="External"/><Relationship Id="rId18" Type="http://schemas.openxmlformats.org/officeDocument/2006/relationships/image" Target="../media/image6.jpeg"/><Relationship Id="rId19" Type="http://schemas.openxmlformats.org/officeDocument/2006/relationships/hyperlink" Target="http://stilleben-art.ru/gal1/1_1_1-4.htm" TargetMode="External"/><Relationship Id="rId20" Type="http://schemas.openxmlformats.org/officeDocument/2006/relationships/image" Target="../media/image7.jpeg"/><Relationship Id="rId21" Type="http://schemas.openxmlformats.org/officeDocument/2006/relationships/hyperlink" Target="http://stilleben-art.ru/gal1/1_1_1-5.htm" TargetMode="External"/><Relationship Id="rId22" Type="http://schemas.openxmlformats.org/officeDocument/2006/relationships/image" Target="../media/image8.jpeg"/><Relationship Id="rId23" Type="http://schemas.openxmlformats.org/officeDocument/2006/relationships/hyperlink" Target="http://stilleben-art.ru/gal1/1_1_1-6.htm" TargetMode="External"/><Relationship Id="rId24" Type="http://schemas.openxmlformats.org/officeDocument/2006/relationships/image" Target="../media/image9.jpeg"/><Relationship Id="rId25" Type="http://schemas.openxmlformats.org/officeDocument/2006/relationships/hyperlink" Target="http://stilleben-art.ru/gal1/1_1_1-7.htm" TargetMode="External"/><Relationship Id="rId26" Type="http://schemas.openxmlformats.org/officeDocument/2006/relationships/image" Target="../media/image10.jpeg"/><Relationship Id="rId27" Type="http://schemas.openxmlformats.org/officeDocument/2006/relationships/hyperlink" Target="http://stilleben-art.ru/gal1/1_1_1-8.htm" TargetMode="External"/><Relationship Id="rId28" Type="http://schemas.openxmlformats.org/officeDocument/2006/relationships/image" Target="../media/image11.jpeg"/><Relationship Id="rId29" Type="http://schemas.openxmlformats.org/officeDocument/2006/relationships/hyperlink" Target="http://stilleben-art.ru/gal1/1_1_1-9.htm" TargetMode="External"/><Relationship Id="rId30" Type="http://schemas.openxmlformats.org/officeDocument/2006/relationships/image" Target="../media/image12.jpeg"/><Relationship Id="rId31" Type="http://schemas.openxmlformats.org/officeDocument/2006/relationships/hyperlink" Target="http://stilleben-art.ru/gal1/1_1_1-10.htm" TargetMode="External"/><Relationship Id="rId32" Type="http://schemas.openxmlformats.org/officeDocument/2006/relationships/image" Target="../media/image13.jpeg"/><Relationship Id="rId33" Type="http://schemas.openxmlformats.org/officeDocument/2006/relationships/image" Target="../media/image14.jpeg"/><Relationship Id="rId34" Type="http://schemas.openxmlformats.org/officeDocument/2006/relationships/image" Target="../media/image14.jpe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кусство натюрмор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619280" y="256500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МБУО «Новообинцевская средняя общеобразовательная школ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езентацию выполнил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учитель начальных классов Кавылина Надежда Васильев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50920" y="1197000"/>
          <a:ext cx="8353440" cy="4464000"/>
        </p:xfrm>
        <a:graphic>
          <a:graphicData uri="http://schemas.openxmlformats.org/drawingml/2006/table">
            <a:tbl>
              <a:tblPr/>
              <a:tblGrid>
                <a:gridCol w="2087640"/>
                <a:gridCol w="2089080"/>
                <a:gridCol w="2087640"/>
                <a:gridCol w="2089080"/>
              </a:tblGrid>
              <a:tr h="239544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Натюрморт с устрицами и фужерами. 16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Натюрморт с устрицами и печеньем. 1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Банкетный стол с устрицами, фруктами и вином. 1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Натюрморт с вишнями и земляникой в китайских блюдах. 16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08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748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Натюрморт с фруктами в китайской вазе. 16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9"/>
                        </a:rPr>
                        <a:t>Натюрморт с фруктами на китайском блюд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0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1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2"/>
                        </a:rPr>
                        <a:t>Натюрм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Picture 3" descr="http://stilleben-art.ru/gal1/small/s_1_1_3-1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4000" y="1989000"/>
            <a:ext cx="1800000" cy="1443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stilleben-art.ru/gal1/small/s_1_1_3-2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411280" y="2565360"/>
            <a:ext cx="1959120" cy="136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http://stilleben-art.ru/gal1/small/s_1_1_3-3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643280" y="2276640"/>
            <a:ext cx="1798920" cy="1298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stilleben-art.ru/gal1/small/s_1_1_3-4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6732720" y="2637000"/>
            <a:ext cx="1800000" cy="133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http://stilleben-art.ru/gal1/small/s_1_1_3-5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95280" y="4653000"/>
            <a:ext cx="1795320" cy="1297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http://stilleben-art.ru/gal1/small/s_1_1_3-6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2627280" y="4724280"/>
            <a:ext cx="1800360" cy="1247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http://stilleben-art.ru/gal1/small/s_1_1_3-7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6300720" y="4437000"/>
            <a:ext cx="2254320" cy="1295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stilleben-art.ru/titles/zag3.jpg"/>
          <p:cNvPicPr/>
          <p:nvPr/>
        </p:nvPicPr>
        <p:blipFill>
          <a:blip r:embed="rId27"/>
          <a:stretch/>
        </p:blipFill>
        <p:spPr>
          <a:xfrm>
            <a:off x="1979640" y="404640"/>
            <a:ext cx="437184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907920"/>
          <a:ext cx="9144000" cy="4577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3464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Натюрморт с виноградной лоз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Натюрморт с фрукт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Натюрморт в ландшафт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Натюрморт с фруктами и мертвыми птиц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2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22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Фруктовый натюрмор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 </a:t>
                      </a: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Натюрмор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Picture 3" descr="http://stilleben-art.ru/gal3/small/s_1_1_29-1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5280" y="1844640"/>
            <a:ext cx="1460520" cy="1704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stilleben-art.ru/gal3/small/s_1_1_29-2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195640" y="2276640"/>
            <a:ext cx="2395440" cy="158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http://stilleben-art.ru/gal3/small/s_1_1_29-3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643280" y="2133720"/>
            <a:ext cx="2111400" cy="1726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stilleben-art.ru/gal3/small/s_1_1_29-4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308720" y="1916280"/>
            <a:ext cx="1656000" cy="1987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http://stilleben-art.ru/gal3/small/s_1_1_29-5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84360" y="3860640"/>
            <a:ext cx="1584000" cy="1919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ttp://stilleben-art.ru/gal3/small/s_1_1_29-6.jpg"/>
          <p:cNvPicPr/>
          <p:nvPr/>
        </p:nvPicPr>
        <p:blipFill>
          <a:blip r:embed="rId19"/>
          <a:stretch/>
        </p:blipFill>
        <p:spPr>
          <a:xfrm>
            <a:off x="6516720" y="4076640"/>
            <a:ext cx="2232000" cy="1513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stilleben-art.ru/titles/zag29.jpg"/>
          <p:cNvPicPr/>
          <p:nvPr/>
        </p:nvPicPr>
        <p:blipFill>
          <a:blip r:embed="rId20"/>
          <a:stretch/>
        </p:blipFill>
        <p:spPr>
          <a:xfrm>
            <a:off x="2484360" y="189000"/>
            <a:ext cx="46483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Антон\Downloads\s_1_1_109-24.jpg"/>
          <p:cNvPicPr/>
          <p:nvPr/>
        </p:nvPicPr>
        <p:blipFill>
          <a:blip r:embed="rId1"/>
          <a:stretch/>
        </p:blipFill>
        <p:spPr>
          <a:xfrm>
            <a:off x="250920" y="1052640"/>
            <a:ext cx="2894040" cy="3168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ртины русских художник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C:\Users\Антон\Downloads\109-11.jpg"/>
          <p:cNvPicPr/>
          <p:nvPr/>
        </p:nvPicPr>
        <p:blipFill>
          <a:blip r:embed="rId2"/>
          <a:stretch/>
        </p:blipFill>
        <p:spPr>
          <a:xfrm>
            <a:off x="3635280" y="1628640"/>
            <a:ext cx="5221440" cy="34228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5"/>
          <p:cNvSpPr/>
          <p:nvPr/>
        </p:nvSpPr>
        <p:spPr>
          <a:xfrm>
            <a:off x="3995640" y="981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 Добужинский. Кукла. 190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0" y="4437000"/>
            <a:ext cx="36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 Шереметевская. Натюрморт с яблоками. 190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Изобразительное искусство- средство познания себя и мира. Идея новой педагогики- не только бытие определяет сознание, но и сознание человека с развитыми способностями творит бытие –создает произведения искусства, влияющие на мировоззрение и образ жизни. Светлана и цветы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Натюрморт. Творчество в работе над живописным натюрмортом- создание на плоскости холста иллюзии пространства, в котором «живут» объемные предметы, чувствуется воздух и глубина пространства. О.Д. Картавцева «Цветы и плоды»."/>
          <p:cNvPicPr/>
          <p:nvPr/>
        </p:nvPicPr>
        <p:blipFill>
          <a:blip r:embed="rId1"/>
          <a:stretch/>
        </p:blipFill>
        <p:spPr>
          <a:xfrm>
            <a:off x="250920" y="189000"/>
            <a:ext cx="85089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 Картина. Натюрморт.    Детский мир."/>
          <p:cNvPicPr/>
          <p:nvPr/>
        </p:nvPicPr>
        <p:blipFill>
          <a:blip r:embed="rId1"/>
          <a:stretch/>
        </p:blipFill>
        <p:spPr>
          <a:xfrm>
            <a:off x="1332000" y="189000"/>
            <a:ext cx="5040360" cy="441792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2"/>
          <p:cNvSpPr/>
          <p:nvPr/>
        </p:nvSpPr>
        <p:spPr>
          <a:xfrm>
            <a:off x="4284720" y="4869000"/>
            <a:ext cx="48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. Детский м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  Картина.   Натюрморт.     Памяти солдата."/>
          <p:cNvPicPr/>
          <p:nvPr/>
        </p:nvPicPr>
        <p:blipFill>
          <a:blip r:embed="rId1"/>
          <a:stretch/>
        </p:blipFill>
        <p:spPr>
          <a:xfrm>
            <a:off x="250920" y="404640"/>
            <a:ext cx="4887720" cy="40323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2"/>
          <p:cNvSpPr/>
          <p:nvPr/>
        </p:nvSpPr>
        <p:spPr>
          <a:xfrm>
            <a:off x="3203640" y="45813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. Памяти солд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Картина. Натюрморт  живопись."/>
          <p:cNvPicPr/>
          <p:nvPr/>
        </p:nvPicPr>
        <p:blipFill>
          <a:blip r:embed="rId1"/>
          <a:stretch/>
        </p:blipFill>
        <p:spPr>
          <a:xfrm>
            <a:off x="3678120" y="260280"/>
            <a:ext cx="4770720" cy="41054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484200" y="450864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 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http://artnow.ru/img/117000/117747.jpg"/>
          <p:cNvPicPr/>
          <p:nvPr/>
        </p:nvPicPr>
        <p:blipFill>
          <a:blip r:embed="rId1"/>
          <a:stretch/>
        </p:blipFill>
        <p:spPr>
          <a:xfrm>
            <a:off x="611280" y="692280"/>
            <a:ext cx="7993080" cy="57546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1258920" y="18900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шин Михаил. Натюрморт в тёплых тонах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C:\Users\Антон\Downloads\images (9).jpg"/>
          <p:cNvPicPr/>
          <p:nvPr/>
        </p:nvPicPr>
        <p:blipFill>
          <a:blip r:embed="rId1"/>
          <a:stretch/>
        </p:blipFill>
        <p:spPr>
          <a:xfrm>
            <a:off x="1403280" y="404640"/>
            <a:ext cx="64818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натюрмор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тюрмо́р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(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р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nature mort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— «мёртвая природа») — изображение неодушевлённых предметов в изобразительном искусстве, в отличие от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портрет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жанровой, исторической и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ейзаж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темат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Антон\Downloads\images (10).jpg"/>
          <p:cNvPicPr/>
          <p:nvPr/>
        </p:nvPicPr>
        <p:blipFill>
          <a:blip r:embed="rId1"/>
          <a:stretch/>
        </p:blipFill>
        <p:spPr>
          <a:xfrm>
            <a:off x="179280" y="404640"/>
            <a:ext cx="3578400" cy="475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Антон\Downloads\images (11).jpg"/>
          <p:cNvPicPr/>
          <p:nvPr/>
        </p:nvPicPr>
        <p:blipFill>
          <a:blip r:embed="rId2"/>
          <a:stretch/>
        </p:blipFill>
        <p:spPr>
          <a:xfrm>
            <a:off x="4211640" y="836640"/>
            <a:ext cx="44226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C:\Users\Антон\Downloads\images (12).jpg"/>
          <p:cNvPicPr/>
          <p:nvPr/>
        </p:nvPicPr>
        <p:blipFill>
          <a:blip r:embed="rId1"/>
          <a:stretch/>
        </p:blipFill>
        <p:spPr>
          <a:xfrm>
            <a:off x="2124000" y="189000"/>
            <a:ext cx="42483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c-dejavu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stilleben-art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ryazanova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la-fa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catalog.aport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zakazdiplom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468360" y="76500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юрморт окончательно оформляется в качестве самостоятельного жанра живописи в творчестве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голланд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фламанд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художников XVII в. Предметы в натюрмортной живописи этого периода часто содержат скрытую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аллегор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либо быстротечности всего земного и неизбежности смерти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Ванита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либо — в более широком смысле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Страстей Христов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Воскрес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о значение передаётся посредством использования предметов — в большинстве случаев знакомых и встречающихся в каждодневной жизни, которые наделяются дополнительным символическим знач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веточный натюрмор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иная с 40-х годов XVII века, натюрморт в нидерландской живописи получил широкое распространение как самостоятельный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жанр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Одним из самых первых выделился цветочный натюрморт в произведениях таких художников, как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мброзиус Босхарт Старш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Бальтасар ван дер Ас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и далее продолжал своё развитие в роскошных натюрмортах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Яна Давидса де Хем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 его последователей уже во второй половине XVII столетия. Причины популярности цветочного натюрморта можно найти в особенностях быта нидерландского общества — традиции иметь сады, загородные виллы или комнатные растения — а также благоприятных природных условиях для развития цветовод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чёный натюрмор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родившийся в университетском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Лейден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жанр «учёного» натюрморта, получает название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уета суе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или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emento mor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и является наиболее интеллектуальным видом натюрморта, требующим от зрителя знания Библии и традиций религиозной символики (характерны картины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Питера Стенвей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Давида Байл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 Часто в натюрмортах этого направления присутствуют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иллюзионистск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приемы, создающие искусный обман зрения. В свою очередь увлечение иллюзионистской передачей натуры привело к возникновению особого вида натюрморта — так называемых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обмано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trompe l’œi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 Такие натюрморты были особенно распространены в середине XVII века и снискали невероятную популярность в стране и за её предел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идерландский натюрморт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VII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дерландский натюрморт представлял собой уникальное культурное явление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XVII ве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оказавшее влияние на дальнейшее развитие всей европейской живописи.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Малые голландц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отразили в своих работах мир предметов, живущих своей тихой, застывшей жизнью. Термин «застывшая жизнь» (голл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eve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нем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ebe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англ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-lif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стал употребляться для обозначения жанра в середине XVII века, поначалу в Нидерландах. До этого художники называли подобные картины, описывая сюжет: «Маленький завтрак», «Букет цветов», «Охотничий трофей», «Суета сует». Основной перевод указанного термина, встречающийся в литературе — «тихая, неподвижная жизн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33300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Натюрморт в русской живописи 18-20 ве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тюрморт как самостоятельный жанр живописи появился в России в начале XVIII века. Представление о нем первоначально было связано с изображением даров земли и моря, разнообразного мира вещей, окружающих человека. Вплоть до конца 19 века натюрморт, в отличии от портрета и исторической картины, рассматривался в качестве "низшего" жанра. Он существовал главным образом как учебная постановка и допускался лишь в ограниченном понимании как живопись цветов и фрукт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чало ХХ века ознаменовалось расцветом русской натюрмортной живописи, впервые обретшей равноправие среди прочих жанров. Стремление художников расширить возможности изобразительного языка сопровождалось активными поисками в области цвета, формы, композиции. Все это особенно ярко проявилось в натюрморте. Обогащенный новыми темами, образами и художественными приемами, русский натюрморт развивался необычайно стремительно: за полтора десятка лет он проходит путь от импрессионизма до абстрактного формотворчест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30-40-е годы ХХ столетия это развитие приостановилось, но уже с середины 50-х годов натюрморт переживает в советской живописи новый подъем и с этого времени окончательно и твердо встает вровень с другими жанр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усские натюрморист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2" descr=""/>
          <p:cNvPicPr/>
          <p:nvPr/>
        </p:nvPicPr>
        <p:blipFill>
          <a:blip r:embed="rId1"/>
          <a:stretch/>
        </p:blipFill>
        <p:spPr>
          <a:xfrm>
            <a:off x="-6480" y="1017720"/>
            <a:ext cx="89791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9280" y="549360"/>
          <a:ext cx="8569440" cy="6121440"/>
        </p:xfrm>
        <a:graphic>
          <a:graphicData uri="http://schemas.openxmlformats.org/drawingml/2006/table">
            <a:tbl>
              <a:tblPr/>
              <a:tblGrid>
                <a:gridCol w="2141640"/>
                <a:gridCol w="2143080"/>
                <a:gridCol w="2141640"/>
                <a:gridCol w="2143080"/>
              </a:tblGrid>
              <a:tr h="143964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Цветы в стеклянной ваз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Цветы в китайской вазе. 16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Цветы в стеклянной вазе. 16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Тюльпаны в банке. 1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36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Букет в окне. 1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Цветы в стеклянной вазе. 16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Букет цветов. 1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Цветы в вазе. 16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856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288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9"/>
                        </a:rPr>
                        <a:t>Натюрморт с цве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0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1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2"/>
                        </a:rPr>
                        <a:t>Цветочный натюрморт. 16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Picture 5" descr="http://stilleben-art.ru/gal1/small/s_1_1_1-1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3640" y="3068640"/>
            <a:ext cx="866880" cy="1200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stilleben-art.ru/gal1/small/s_1_1_1-2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987640" y="1197000"/>
            <a:ext cx="847800" cy="1200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http://stilleben-art.ru/gal1/small/s_1_1_1-3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843280" y="3357720"/>
            <a:ext cx="838080" cy="120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stilleben-art.ru/gal1/small/s_1_1_1-4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093080" y="1341360"/>
            <a:ext cx="819000" cy="120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http://stilleben-art.ru/gal1/small/s_1_1_1-5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55640" y="3213000"/>
            <a:ext cx="857160" cy="120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stilleben-art.ru/gal1/small/s_1_1_1-6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932360" y="1268280"/>
            <a:ext cx="78120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http://stilleben-art.ru/gal1/small/s_1_1_1-7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042920" y="1125360"/>
            <a:ext cx="952560" cy="1200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http://stilleben-art.ru/gal1/small/s_1_1_1-8.jpg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7596360" y="3357720"/>
            <a:ext cx="961920" cy="1199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http://stilleben-art.ru/gal1/small/s_1_1_1-9.jpg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1476360" y="4724280"/>
            <a:ext cx="905040" cy="120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http://stilleben-art.ru/gal1/small/s_1_1_1-10.jpg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6588000" y="4797360"/>
            <a:ext cx="1209960" cy="943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stilleben-art.ru/titles/zag1.jpg"/>
          <p:cNvPicPr/>
          <p:nvPr/>
        </p:nvPicPr>
        <p:blipFill>
          <a:blip r:embed="rId33"/>
          <a:stretch/>
        </p:blipFill>
        <p:spPr>
          <a:xfrm>
            <a:off x="4503600" y="-1012680"/>
            <a:ext cx="4133880" cy="75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http://stilleben-art.ru/titles/zag1.jpg"/>
          <p:cNvPicPr/>
          <p:nvPr/>
        </p:nvPicPr>
        <p:blipFill>
          <a:blip r:embed="rId34"/>
          <a:stretch/>
        </p:blipFill>
        <p:spPr>
          <a:xfrm>
            <a:off x="1979640" y="0"/>
            <a:ext cx="41338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10:41:16Z</dcterms:created>
  <dc:creator>Антон</dc:creator>
  <dc:description/>
  <dc:language>en-US</dc:language>
  <cp:lastModifiedBy>Антон</cp:lastModifiedBy>
  <dcterms:modified xsi:type="dcterms:W3CDTF">2012-02-09T15:53:03Z</dcterms:modified>
  <cp:revision>21</cp:revision>
  <dc:subject/>
  <dc:title>Искусство натюрмота.</dc:title>
</cp:coreProperties>
</file>