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4.wmf" ContentType="image/x-wmf"/>
  <Override PartName="/ppt/media/suction.wav" ContentType="audio/x-wav"/>
  <Override PartName="/ppt/media/wind.wav" ContentType="audio/x-wav"/>
  <Override PartName="/ppt/media/image9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8.wmf" ContentType="image/x-wmf"/>
  <Override PartName="/ppt/media/cashreg.wav" ContentType="audio/x-wav"/>
  <Override PartName="/ppt/media/image33.wmf" ContentType="image/x-wmf"/>
  <Override PartName="/ppt/media/image26.wmf" ContentType="image/x-wmf"/>
  <Override PartName="/ppt/media/image27.wmf" ContentType="image/x-wmf"/>
  <Override PartName="/ppt/media/click.wav" ContentType="audio/x-wav"/>
  <Override PartName="/ppt/media/image35.wmf" ContentType="image/x-wmf"/>
  <Override PartName="/ppt/media/image5.wmf" ContentType="image/x-wmf"/>
  <Override PartName="/ppt/media/laser.wav" ContentType="audio/x-wav"/>
  <Override PartName="/ppt/media/image12.wmf" ContentType="image/x-wmf"/>
  <Override PartName="/ppt/media/image31.wmf" ContentType="image/x-wmf"/>
  <Override PartName="/ppt/media/image37.png" ContentType="image/png"/>
  <Override PartName="/ppt/media/image7.wmf" ContentType="image/x-wmf"/>
  <Override PartName="/ppt/media/image4.wmf" ContentType="image/x-wmf"/>
  <Override PartName="/ppt/media/image34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1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3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A5CD-D17E-4A43-BD5B-EF1377DD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CB4E-9F53-4616-9AB7-D6213493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9F48A-B4F3-40EB-B4F0-3826C8E6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0AE21-8702-4436-B516-59C600C9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DC312-15E7-4E37-8F5E-5C1A27A9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88018-640E-47C0-B85A-74BF79D7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3A6DB-F161-4589-87C1-926A2171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B5901-DA03-4D21-AE74-B771F2B8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67D02-E529-4921-9DE3-523A3AC0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52B55-9EEA-49AA-A591-9F996607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80A9B-DA02-4415-AFBD-B25A2A1F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F9182-68F0-41BF-AA35-5AA363F9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32D5-BD62-401C-AF4B-F6B8B71D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EFEC0-50FD-4345-8526-E674FAA4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147A9-32BF-41D1-9C74-E6356375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CCEF6-AA2E-42C6-8564-FAD85704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60FDE-3EC7-483C-8458-8F8DCC22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1E4DE-BE6E-4A92-B246-82082D85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0165E-D76B-4DA2-B630-4E58EE9F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874A2-443E-4DC1-AD6B-A45F3FFE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3B731-D6AA-426F-8A15-9A29925F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1F383-0E70-492C-A1BC-8B5CE5A0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B524C-059C-44D6-8DC7-B2081E1C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40AD-4B9C-4664-A854-C0F6A5A7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41D2B-5BC1-4A40-8CE0-E1E4F7AE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BB6CF-CFCA-451D-AD98-A250B4B0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2C985-C6F3-483D-B119-138353F7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DACFA-C909-4A4F-AF3B-F5B8674F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3DED0-B450-42BB-A342-2C141B22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2E0F0-9E57-4AFE-BB79-30497D5F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B71D4-5FB5-4294-8989-70AB357D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46E91-A2DD-409C-98AA-EDDB44AF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18958-6B0F-4CE3-ACF1-847F22B0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444EB-6DF1-4939-81D8-F5C0E16F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BFFC-52F1-4663-B66D-5BB66B1E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4B589-616E-40C6-A991-2B9B9E69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7C2EE-0899-4370-B7A1-FDA01848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2F25A-47FB-4039-9932-075CC221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FF833-47A2-4007-8076-F7567D03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DB27E-8ABA-4ADE-92A7-8294E58A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8B8FD-B7D0-4867-B39F-00ED5104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FE0AE-A720-48B8-A699-C9F6A7BC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C8D13-80FE-42DC-B6DF-33B594DE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5A89C-E1D6-4D7F-B528-3596F0F2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AB7C1-5030-4FB4-BEED-DA4BBB25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DEBD-C0CF-4CDB-BCFF-B5E6A3E3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B50EF-B5FB-4633-9B37-9A957A51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112E1-6D18-4A33-AF67-C79621DF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ECC22-A058-44CD-8261-4E1AE8F5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88EAC-593A-4EB0-9A97-B5704250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D3F55-9EF8-4B97-BB9B-009ED433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B8A53-4886-4C22-B6FD-92492D1D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8FD85F-37CB-4A72-986B-BAF8611F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B467BB-B88E-4D41-8263-BF2E0B20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67AD11-CCE3-4FDB-98AF-61E79127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007715-E3ED-4323-9626-D6511DFB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7218-23B7-4D55-AAF7-285E96AD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D33512-FC27-4F94-8899-FE62CB27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32C7F4-7F60-4E2E-AFE2-4640E539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C538B7-0DF8-4FD3-839E-B30822DE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F284C-4AB8-4139-8831-2803BE83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E3827-E3C4-4D66-943B-287F95EE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24546A-C66D-4E0E-8832-6BA578E9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9394C1-2F98-46C4-92DD-E8405126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CEA192-99F5-47B9-9F82-B4547A8C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816149-5338-4C11-8D3E-9EB69979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25AC49-FEAB-41B1-9E6D-E181A3A8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C54B-C2C5-4F5B-B7E4-41CAB14E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547E10-F37E-4290-AED1-D4FD9B8F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B7E514-E233-42BC-BF50-71417A26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6487AF-3BE2-46E8-9223-649A051A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AB68B-93AC-4A05-ABBD-10E18F24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32147F-8BB4-4CE3-A31B-0079EBAB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8F5D87-472F-4FF3-8FC8-E95106F1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F1B2A3-80AE-4A68-A848-E8395FD5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ABD015-88B8-46B7-B26F-0A1FB040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B2C5C3-F153-4CB3-AA0C-7E3FB10D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D7E946-A70B-4FD3-9998-CCEDD734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6F5B-DC40-46D7-AF78-87DFEB0D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519686-52C6-4579-B771-41E4C1FC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AABEC0-6AD5-434D-8AED-1A367A52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FAD6D5-B586-43C1-B89E-16B95B39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E660FC-6C4A-4E1A-B5F4-652B21B6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382AC0-2B17-41F4-935E-BB0D2207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2C1DF5-7289-4EA4-8978-B8269323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E43CAC-398F-4D8C-8D62-D066C3B3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445D23-589D-441D-8C85-B79CF335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75A9C2-E6A4-46CA-8E20-FA0D9453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AF3067-70CD-4C57-85AD-37A108CA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90FE-D0E8-41A7-B927-33976C98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E49807-DA98-4CA8-BDF9-8FAD2B9F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2007-B011-4B8E-9814-6D605123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FA1F-C1CC-4F21-AA7C-56DBBC1D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1502-D0C8-45CF-B4FF-090A9DF7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4246-2C30-48DA-9BFB-980BFCDF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51D5-FFE3-4F08-9119-8F6252B6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51F3-A8A6-4797-B588-B6B7248B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BA4F-C03A-4222-8771-02DDAD9A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88695-58EC-4054-80B2-549A70D7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A96C0-DA66-4C9A-B5BD-BC5C58D0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00FAC-462C-4695-90A9-9D5872F3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98886-49BD-4DC8-81E3-8F79786C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62EDC-EFF0-467B-9B92-D554D324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8AF1-2A88-4A9F-8CC8-1429FB15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671F6-54D2-4A10-9231-D591884A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39F69-E9BF-4D8E-BA51-48FBF269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63848-63B2-4F49-B188-B4A42301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00328-6B2F-4C04-9AEB-C0F4D1EE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C4585-F375-4A57-82A0-DE96069D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C830B-E269-4922-90D1-E6A552BF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5AC46-7226-47BA-8464-8FEB61E3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3F3A8-8860-4798-9015-0C0A83E9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D125D-B4C5-4E7B-A0B0-EFD2066D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8AFBD-7A87-4FAE-B520-2848179E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72B-4418-471C-83FF-CBFBE381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D1B53-93FF-428F-8283-2556A750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1965F-58F6-4EEC-A2FD-B3DB6D42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F5240-F9D0-4DC2-A262-3CA4A55E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5FC78-DAAF-403B-911D-884FE689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30344-6E44-472D-B8A1-FBD6CC29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C6E18-C4AD-44B3-93DF-177D6E2C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A72C8-CA6D-4FB8-8CB8-6F4F1C82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F0DFF-4D41-4C89-AF30-A88E7138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79997-C01A-4DBB-B187-02D4212D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A0469-5E26-45BE-84F2-142C2142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1E6-C21F-4CF3-8E3D-3191DD96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0A62E-ECAF-4233-9D27-EC6BC45A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83ECE-0305-4A75-9BA9-3D515B9A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829E2-ECD2-4EA7-A457-05C6FCF5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C4C71-08A9-4D2F-A301-F142227E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10142-5809-4720-9E4B-7229D2FE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BA992-48E9-497B-A3F2-71710A1D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842D1-59F0-4DF2-A9C5-B0563026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51E9F-6DFF-4DD8-8B15-F43BBA73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643C5-670A-4461-9649-281E5FCE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0DE7F-059F-4AA3-9B7C-369E8270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376F-0F3C-4D53-A6F7-59D12709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17296-3C67-4F14-9450-91D09D6D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1809A-568D-40DC-9A2D-B6D1D800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69216-25B9-4437-B467-A5872A80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F0727-69AA-481C-843E-9C37080A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EE721-861E-4C71-8F49-E3D24041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D6BDA-20EB-471D-A1A2-C5B95C0D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37DDA-8D2C-4117-A6E1-607D73B9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D8673-3B27-482A-A071-DF0DC678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3A491-D6DF-4C02-B1A2-71568F9B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C5896-9829-4D9E-B160-D3F8C81B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EF90-EA00-461C-8455-02769CED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A65BE-3E78-4543-B1EC-AC77E5A3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83F80-990F-4034-A26C-2A5CE3D1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3EB98-2F42-4DA3-A3E4-B86810EC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9CA78-BB5B-477B-A4E8-17BE034B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9D328-911E-4794-B58C-31789FEB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17F3F-3FC0-4FD1-BDED-9DD97C0B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752BE-65CC-4A0F-A26A-B376D9F2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600C0-710C-46AD-B607-BF056DC5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8011E-D7D9-4211-9846-CAE523FA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C2377-A57B-4668-8F22-DD9EC204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D26D-0430-45B5-9AB0-7F7EE87B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30315-B743-4A66-8D4D-3C3AD90A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635A5-4368-41A9-9E61-1F093769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7A5A2-872E-4909-836D-9A92FC04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405A7-A6CB-4A7B-9E9C-9B549DD7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0AFA4-8602-4373-B47C-5949D6F4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364E4-2501-460E-8E5D-33233849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84731-3CDE-4867-956A-CA5CD53E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A468F-5FD6-457D-956C-A594EEEC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A8978-4D3F-436B-8FFF-6C95726D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5AA64-56C0-4FC8-AD43-2E48E8C6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65BA-2527-4906-9F4E-9848551A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A87CE-571A-49B3-AD74-4A8D08BB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8E3A3-1F08-49D3-875D-E110EBB6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5BBCD-E4A0-4193-A754-399D9C6E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93F94-98E1-4C91-B56F-A04A48C8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4788A-1A89-493C-AEE9-64CF0C71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945F9-9945-47BB-AEE3-6D678139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0F409-0DAE-41FD-8FD0-87313A62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22A1B-995B-4CF1-AF9A-6675DD09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ADAB0-7536-4799-BC25-9283C701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8C2F5-31D4-44C0-98C2-70B30E42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351A-46C0-4C68-8E9E-B6DB9A10B81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9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9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88A7-26A7-419D-A009-DE56D89473F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44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4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5104-263D-4C06-965A-A5DB8E0BF82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485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86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7316-1A29-40D2-B4FF-B29216EE918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52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3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CDE9-8DCB-41B6-92A3-37F0CB8160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57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7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7DFC-B787-45B7-8269-87149F7699B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61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1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4B18-027A-4311-8D0C-CB3ECD610AF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-1033560" y="1519200"/>
            <a:ext cx="10177560" cy="5338800"/>
            <a:chOff x="-1033560" y="1519200"/>
            <a:chExt cx="10177560" cy="5338800"/>
          </a:xfrm>
        </p:grpSpPr>
        <p:sp>
          <p:nvSpPr>
            <p:cNvPr id="45" name="Freeform 2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6" name="Arc 3"/>
            <p:cNvSpPr/>
            <p:nvPr/>
          </p:nvSpPr>
          <p:spPr>
            <a:xfrm>
              <a:off x="-1033560" y="1519200"/>
              <a:ext cx="6726240" cy="533736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AC61-7C26-4919-81DF-394AC5BE7F5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8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9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5E81-CF2C-4BB6-ADB0-5DBBA5038AB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3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3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4729-FEE9-451D-B440-31434C851FC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7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7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6489-C8A1-4345-B8D3-387A9D25BBA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22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2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D793-516C-4629-88C9-194239D687C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265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66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7BE0-A3C9-4FBE-A4C9-1D55FB5612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0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1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9E0A-58C4-451B-9C83-F4AD6D03242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5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5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BE73-50EE-4372-8200-A4FD569F41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click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lick.wav"/><Relationship Id="rId7" Type="http://schemas.openxmlformats.org/officeDocument/2006/relationships/audio" Target="../media/wind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audio" Target="../media/cashreg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audio" Target="../media/suction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ashreg.wav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Графический редактор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ccecff"/>
                </a:solidFill>
                <a:latin typeface="Times New Roman"/>
              </a:rPr>
              <a:t>PAINT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2" name="The_gift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63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425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457200" y="228600"/>
            <a:ext cx="8381880" cy="20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ист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ует аналогично карандашу, но можно выбирать толщину и форму наносимой линии из двенадцати предлагаемых вариантов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7" name="Picture 3" descr=""/>
          <p:cNvPicPr/>
          <p:nvPr/>
        </p:nvPicPr>
        <p:blipFill>
          <a:blip r:embed="rId1"/>
          <a:stretch/>
        </p:blipFill>
        <p:spPr>
          <a:xfrm>
            <a:off x="2124000" y="219240"/>
            <a:ext cx="784440" cy="7840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4" descr=""/>
          <p:cNvPicPr/>
          <p:nvPr/>
        </p:nvPicPr>
        <p:blipFill>
          <a:blip r:embed="rId2"/>
          <a:stretch/>
        </p:blipFill>
        <p:spPr>
          <a:xfrm>
            <a:off x="928800" y="2643120"/>
            <a:ext cx="7313400" cy="3998880"/>
          </a:xfrm>
          <a:prstGeom prst="rect">
            <a:avLst/>
          </a:prstGeom>
          <a:ln w="0">
            <a:noFill/>
          </a:ln>
        </p:spPr>
      </p:pic>
      <p:pic>
        <p:nvPicPr>
          <p:cNvPr id="709" name="Object 5" descr=""/>
          <p:cNvPicPr/>
          <p:nvPr/>
        </p:nvPicPr>
        <p:blipFill>
          <a:blip r:embed="rId3"/>
          <a:stretch/>
        </p:blipFill>
        <p:spPr>
          <a:xfrm>
            <a:off x="6319800" y="1857240"/>
            <a:ext cx="1089000" cy="166068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2276640" y="14292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711" name="Rectangle 3"/>
          <p:cNvSpPr/>
          <p:nvPr/>
        </p:nvSpPr>
        <p:spPr>
          <a:xfrm>
            <a:off x="380880" y="152280"/>
            <a:ext cx="838224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Распылител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с эффектом распыления краски. Имеется три варианта концентрации распыления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12" name="Object 4" descr=""/>
          <p:cNvPicPr/>
          <p:nvPr/>
        </p:nvPicPr>
        <p:blipFill>
          <a:blip r:embed="rId2"/>
          <a:stretch/>
        </p:blipFill>
        <p:spPr>
          <a:xfrm>
            <a:off x="6929280" y="1476360"/>
            <a:ext cx="1089360" cy="16606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5" descr=""/>
          <p:cNvPicPr/>
          <p:nvPr/>
        </p:nvPicPr>
        <p:blipFill>
          <a:blip r:embed="rId3"/>
          <a:stretch/>
        </p:blipFill>
        <p:spPr>
          <a:xfrm>
            <a:off x="309600" y="3327480"/>
            <a:ext cx="4579920" cy="326700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8"/>
          <p:cNvGrpSpPr/>
          <p:nvPr/>
        </p:nvGrpSpPr>
        <p:grpSpPr>
          <a:xfrm>
            <a:off x="5111640" y="3435480"/>
            <a:ext cx="3575160" cy="2654280"/>
            <a:chOff x="5111640" y="3435480"/>
            <a:chExt cx="3575160" cy="2654280"/>
          </a:xfrm>
        </p:grpSpPr>
        <p:sp>
          <p:nvSpPr>
            <p:cNvPr id="715" name="AutoShape 6"/>
            <p:cNvSpPr/>
            <p:nvPr/>
          </p:nvSpPr>
          <p:spPr>
            <a:xfrm>
              <a:off x="5111640" y="3435480"/>
              <a:ext cx="3568680" cy="2654280"/>
            </a:xfrm>
            <a:prstGeom prst="leftArrow">
              <a:avLst>
                <a:gd name="adj1" fmla="val 50000"/>
                <a:gd name="adj2" fmla="val 40049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16" name="Rectangle 7"/>
            <p:cNvSpPr/>
            <p:nvPr/>
          </p:nvSpPr>
          <p:spPr>
            <a:xfrm>
              <a:off x="5867280" y="4114800"/>
              <a:ext cx="28195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cc"/>
                  </a:solidFill>
                  <a:latin typeface="Times New Roman"/>
                </a:rPr>
                <a:t>Рисунок нарисованный распылителем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"/>
          <p:cNvPicPr/>
          <p:nvPr/>
        </p:nvPicPr>
        <p:blipFill>
          <a:blip r:embed="rId1"/>
          <a:stretch/>
        </p:blipFill>
        <p:spPr>
          <a:xfrm>
            <a:off x="1895400" y="219240"/>
            <a:ext cx="784440" cy="78408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3"/>
          <p:cNvSpPr/>
          <p:nvPr/>
        </p:nvSpPr>
        <p:spPr>
          <a:xfrm>
            <a:off x="380880" y="228600"/>
            <a:ext cx="8458200" cy="33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адпис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бавление надписей к рисунку. Для того, чтобы сделать надпись нужно щелкнуть по кнопке “Текст”, а затем растянуть мышью рамку на рисунке - там где будет надпись. В меню “Вид” можно выбрать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анель атрибутов текс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где устанавливается размер шрифта, его начертание и т.д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19" name="Object 4" descr=""/>
          <p:cNvPicPr/>
          <p:nvPr/>
        </p:nvPicPr>
        <p:blipFill>
          <a:blip r:embed="rId2"/>
          <a:stretch/>
        </p:blipFill>
        <p:spPr>
          <a:xfrm>
            <a:off x="452520" y="5148360"/>
            <a:ext cx="6775200" cy="1341360"/>
          </a:xfrm>
          <a:prstGeom prst="rect">
            <a:avLst/>
          </a:prstGeom>
          <a:ln w="0">
            <a:noFill/>
          </a:ln>
        </p:spPr>
      </p:pic>
      <p:sp>
        <p:nvSpPr>
          <p:cNvPr id="720" name="Line 5"/>
          <p:cNvSpPr/>
          <p:nvPr/>
        </p:nvSpPr>
        <p:spPr>
          <a:xfrm flipV="1">
            <a:off x="2438280" y="4191120"/>
            <a:ext cx="5715000" cy="13716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21" name="Rectangle 6"/>
          <p:cNvSpPr/>
          <p:nvPr/>
        </p:nvSpPr>
        <p:spPr>
          <a:xfrm rot="20820000">
            <a:off x="3809880" y="4038120"/>
            <a:ext cx="4496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анель атрибутов текста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75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75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609120" y="3808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Ли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назначена для рисования прямой линии выбранного цвета и толщин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3" name="Picture 3" descr=""/>
          <p:cNvPicPr/>
          <p:nvPr/>
        </p:nvPicPr>
        <p:blipFill>
          <a:blip r:embed="rId1"/>
          <a:stretch/>
        </p:blipFill>
        <p:spPr>
          <a:xfrm>
            <a:off x="2505240" y="142920"/>
            <a:ext cx="860400" cy="860400"/>
          </a:xfrm>
          <a:prstGeom prst="rect">
            <a:avLst/>
          </a:prstGeom>
          <a:ln w="0">
            <a:noFill/>
          </a:ln>
        </p:spPr>
      </p:pic>
      <p:grpSp>
        <p:nvGrpSpPr>
          <p:cNvPr id="724" name="Group 9"/>
          <p:cNvGrpSpPr/>
          <p:nvPr/>
        </p:nvGrpSpPr>
        <p:grpSpPr>
          <a:xfrm>
            <a:off x="1149480" y="2597040"/>
            <a:ext cx="6997680" cy="4025880"/>
            <a:chOff x="1149480" y="2597040"/>
            <a:chExt cx="6997680" cy="4025880"/>
          </a:xfrm>
        </p:grpSpPr>
        <p:sp>
          <p:nvSpPr>
            <p:cNvPr id="725" name="Rectangle 4"/>
            <p:cNvSpPr/>
            <p:nvPr/>
          </p:nvSpPr>
          <p:spPr>
            <a:xfrm>
              <a:off x="1149480" y="2597040"/>
              <a:ext cx="6997680" cy="402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6" name="Line 5"/>
            <p:cNvSpPr/>
            <p:nvPr/>
          </p:nvSpPr>
          <p:spPr>
            <a:xfrm flipV="1">
              <a:off x="1447920" y="2895120"/>
              <a:ext cx="373356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7" name="Line 6"/>
            <p:cNvSpPr/>
            <p:nvPr/>
          </p:nvSpPr>
          <p:spPr>
            <a:xfrm>
              <a:off x="2590920" y="4267080"/>
              <a:ext cx="4190760" cy="106704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8" name="Line 7"/>
            <p:cNvSpPr/>
            <p:nvPr/>
          </p:nvSpPr>
          <p:spPr>
            <a:xfrm flipV="1">
              <a:off x="1905120" y="5029200"/>
              <a:ext cx="1981080" cy="9144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9" name="Line 8"/>
            <p:cNvSpPr/>
            <p:nvPr/>
          </p:nvSpPr>
          <p:spPr>
            <a:xfrm>
              <a:off x="4495680" y="3581280"/>
              <a:ext cx="1752840" cy="1143000"/>
            </a:xfrm>
            <a:prstGeom prst="line">
              <a:avLst/>
            </a:prstGeom>
            <a:ln w="7632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pic>
        <p:nvPicPr>
          <p:cNvPr id="730" name="Object 10" descr=""/>
          <p:cNvPicPr/>
          <p:nvPr/>
        </p:nvPicPr>
        <p:blipFill>
          <a:blip r:embed="rId2"/>
          <a:stretch/>
        </p:blipFill>
        <p:spPr>
          <a:xfrm>
            <a:off x="7234200" y="1552680"/>
            <a:ext cx="1138320" cy="17366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533520" y="457200"/>
            <a:ext cx="807696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ривая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Применяется для рисования кривых. Сначала рисуется прямая линия, потом ее “берут” за какой-либо участок и выгибают. Изменять линию можно два раза, после этого она фиксируется. Толщина кривой определяется также, как и в прямой линии.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32" name="Picture 3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851040" cy="851040"/>
          </a:xfrm>
          <a:prstGeom prst="rect">
            <a:avLst/>
          </a:prstGeom>
          <a:ln w="0">
            <a:noFill/>
          </a:ln>
        </p:spPr>
      </p:pic>
      <p:pic>
        <p:nvPicPr>
          <p:cNvPr id="733" name="Object 4" descr=""/>
          <p:cNvPicPr/>
          <p:nvPr/>
        </p:nvPicPr>
        <p:blipFill>
          <a:blip r:embed="rId2"/>
          <a:stretch/>
        </p:blipFill>
        <p:spPr>
          <a:xfrm>
            <a:off x="1138320" y="4143240"/>
            <a:ext cx="1138320" cy="17370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"/>
          <p:cNvPicPr/>
          <p:nvPr/>
        </p:nvPicPr>
        <p:blipFill>
          <a:blip r:embed="rId3"/>
          <a:stretch/>
        </p:blipFill>
        <p:spPr>
          <a:xfrm>
            <a:off x="3081240" y="3600360"/>
            <a:ext cx="4965840" cy="30132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2"/>
          <p:cNvSpPr/>
          <p:nvPr/>
        </p:nvSpPr>
        <p:spPr>
          <a:xfrm>
            <a:off x="609480" y="304920"/>
            <a:ext cx="8153640" cy="29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Прям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яется для рисования прямоугольников. Если рисовать прямоугольник с нажатой клавишей Shift, получится квадрат. Можно нарисовать закрашенный, незакрашенный прямоугольник, а также прямоугольник без границы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36" name="Picture 3" descr=""/>
          <p:cNvPicPr/>
          <p:nvPr/>
        </p:nvPicPr>
        <p:blipFill>
          <a:blip r:embed="rId1"/>
          <a:stretch/>
        </p:blipFill>
        <p:spPr>
          <a:xfrm>
            <a:off x="2048040" y="14292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37" name="Object 4" descr=""/>
          <p:cNvPicPr/>
          <p:nvPr/>
        </p:nvPicPr>
        <p:blipFill>
          <a:blip r:embed="rId2"/>
          <a:stretch/>
        </p:blipFill>
        <p:spPr>
          <a:xfrm>
            <a:off x="7473960" y="2924280"/>
            <a:ext cx="1287360" cy="1965240"/>
          </a:xfrm>
          <a:prstGeom prst="rect">
            <a:avLst/>
          </a:prstGeom>
          <a:ln w="0">
            <a:noFill/>
          </a:ln>
        </p:spPr>
      </p:pic>
      <p:grpSp>
        <p:nvGrpSpPr>
          <p:cNvPr id="738" name="Group 10"/>
          <p:cNvGrpSpPr/>
          <p:nvPr/>
        </p:nvGrpSpPr>
        <p:grpSpPr>
          <a:xfrm>
            <a:off x="387360" y="3282840"/>
            <a:ext cx="6769080" cy="3264120"/>
            <a:chOff x="387360" y="3282840"/>
            <a:chExt cx="6769080" cy="3264120"/>
          </a:xfrm>
        </p:grpSpPr>
        <p:sp>
          <p:nvSpPr>
            <p:cNvPr id="739" name="Rectangle 5"/>
            <p:cNvSpPr/>
            <p:nvPr/>
          </p:nvSpPr>
          <p:spPr>
            <a:xfrm>
              <a:off x="387360" y="3282840"/>
              <a:ext cx="6769080" cy="326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0" name="Rectangle 6"/>
            <p:cNvSpPr/>
            <p:nvPr/>
          </p:nvSpPr>
          <p:spPr>
            <a:xfrm>
              <a:off x="844560" y="3587760"/>
              <a:ext cx="189216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1" name="Rectangle 7"/>
            <p:cNvSpPr/>
            <p:nvPr/>
          </p:nvSpPr>
          <p:spPr>
            <a:xfrm>
              <a:off x="1911240" y="4044960"/>
              <a:ext cx="1435320" cy="1054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2" name="Rectangle 8"/>
            <p:cNvSpPr/>
            <p:nvPr/>
          </p:nvSpPr>
          <p:spPr>
            <a:xfrm>
              <a:off x="3733920" y="3429000"/>
              <a:ext cx="1066680" cy="175248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3" name="Rectangle 9"/>
            <p:cNvSpPr/>
            <p:nvPr/>
          </p:nvSpPr>
          <p:spPr>
            <a:xfrm>
              <a:off x="3130560" y="4807080"/>
              <a:ext cx="1359000" cy="1358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"/>
          <p:cNvPicPr/>
          <p:nvPr/>
        </p:nvPicPr>
        <p:blipFill>
          <a:blip r:embed="rId1"/>
          <a:stretch/>
        </p:blipFill>
        <p:spPr>
          <a:xfrm>
            <a:off x="1895400" y="142920"/>
            <a:ext cx="860400" cy="86040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3"/>
          <p:cNvSpPr/>
          <p:nvPr/>
        </p:nvSpPr>
        <p:spPr>
          <a:xfrm>
            <a:off x="304920" y="228600"/>
            <a:ext cx="8534160" cy="33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Мног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яют для рисования многоугольников. Чтобы нарисовать многоугольник, нужно провести его первую сторону (перетащить указатель при нажатой кнопке мыши), а затем просто щелкать мышью в вершинах многоугольника. Заканчивают рисование многоугольника двойным щелчком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746" name="Group 8"/>
          <p:cNvGrpSpPr/>
          <p:nvPr/>
        </p:nvGrpSpPr>
        <p:grpSpPr>
          <a:xfrm>
            <a:off x="615960" y="3664080"/>
            <a:ext cx="7988400" cy="2958840"/>
            <a:chOff x="615960" y="3664080"/>
            <a:chExt cx="7988400" cy="2958840"/>
          </a:xfrm>
        </p:grpSpPr>
        <p:grpSp>
          <p:nvGrpSpPr>
            <p:cNvPr id="747" name="Group 6"/>
            <p:cNvGrpSpPr/>
            <p:nvPr/>
          </p:nvGrpSpPr>
          <p:grpSpPr>
            <a:xfrm>
              <a:off x="615960" y="3664080"/>
              <a:ext cx="7988400" cy="2958840"/>
              <a:chOff x="615960" y="3664080"/>
              <a:chExt cx="7988400" cy="2958840"/>
            </a:xfrm>
          </p:grpSpPr>
          <p:sp>
            <p:nvSpPr>
              <p:cNvPr id="748" name="Rectangle 4"/>
              <p:cNvSpPr/>
              <p:nvPr/>
            </p:nvSpPr>
            <p:spPr>
              <a:xfrm>
                <a:off x="615960" y="3664080"/>
                <a:ext cx="7988400" cy="2958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749" name="Freeform 5"/>
              <p:cNvSpPr/>
              <p:nvPr/>
            </p:nvSpPr>
            <p:spPr>
              <a:xfrm>
                <a:off x="895320" y="3733920"/>
                <a:ext cx="7074000" cy="2668320"/>
              </a:xfrm>
              <a:prstGeom prst="pie">
                <a:avLst/>
              </a:prstGeom>
              <a:solidFill>
                <a:srgbClr val="0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sp>
          <p:nvSpPr>
            <p:cNvPr id="750" name="Line 7"/>
            <p:cNvSpPr/>
            <p:nvPr/>
          </p:nvSpPr>
          <p:spPr>
            <a:xfrm flipH="1">
              <a:off x="837720" y="5943600"/>
              <a:ext cx="2286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2"/>
          <p:cNvSpPr/>
          <p:nvPr/>
        </p:nvSpPr>
        <p:spPr>
          <a:xfrm>
            <a:off x="457200" y="228600"/>
            <a:ext cx="838188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Эллипс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эллипса. Если рисовать с нажатой клавишей Shift, получится круг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2" name="Picture 3" descr=""/>
          <p:cNvPicPr/>
          <p:nvPr/>
        </p:nvPicPr>
        <p:blipFill>
          <a:blip r:embed="rId1"/>
          <a:stretch/>
        </p:blipFill>
        <p:spPr>
          <a:xfrm>
            <a:off x="2619360" y="76320"/>
            <a:ext cx="890640" cy="86364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4"/>
          <p:cNvSpPr/>
          <p:nvPr/>
        </p:nvSpPr>
        <p:spPr>
          <a:xfrm>
            <a:off x="304920" y="2362320"/>
            <a:ext cx="845820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Скругленный прям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прямоугольника с округленными вершинам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4" name="Picture 5" descr=""/>
          <p:cNvPicPr/>
          <p:nvPr/>
        </p:nvPicPr>
        <p:blipFill>
          <a:blip r:embed="rId2"/>
          <a:stretch/>
        </p:blipFill>
        <p:spPr>
          <a:xfrm>
            <a:off x="638280" y="2136600"/>
            <a:ext cx="892080" cy="847800"/>
          </a:xfrm>
          <a:prstGeom prst="rect">
            <a:avLst/>
          </a:prstGeom>
          <a:ln w="0">
            <a:noFill/>
          </a:ln>
        </p:spPr>
      </p:pic>
      <p:grpSp>
        <p:nvGrpSpPr>
          <p:cNvPr id="755" name="Group 8"/>
          <p:cNvGrpSpPr/>
          <p:nvPr/>
        </p:nvGrpSpPr>
        <p:grpSpPr>
          <a:xfrm>
            <a:off x="304920" y="4446720"/>
            <a:ext cx="8609040" cy="1965240"/>
            <a:chOff x="304920" y="4446720"/>
            <a:chExt cx="8609040" cy="1965240"/>
          </a:xfrm>
        </p:grpSpPr>
        <p:pic>
          <p:nvPicPr>
            <p:cNvPr id="756" name="Object 6" descr=""/>
            <p:cNvPicPr/>
            <p:nvPr/>
          </p:nvPicPr>
          <p:blipFill>
            <a:blip r:embed="rId3"/>
            <a:stretch/>
          </p:blipFill>
          <p:spPr>
            <a:xfrm>
              <a:off x="7626240" y="4446720"/>
              <a:ext cx="12877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Rectangle 7"/>
            <p:cNvSpPr/>
            <p:nvPr/>
          </p:nvSpPr>
          <p:spPr>
            <a:xfrm>
              <a:off x="304920" y="4800600"/>
              <a:ext cx="70102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И эллипс и скругленный прямоугольник можно рисовать незакрашенными, закрашенными и без границы.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"/>
          <p:cNvSpPr/>
          <p:nvPr/>
        </p:nvSpPr>
        <p:spPr>
          <a:xfrm>
            <a:off x="762120" y="76320"/>
            <a:ext cx="7619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разцы рисунков выполненных в Paint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0" y="1295280"/>
            <a:ext cx="9155160" cy="55548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1355760" y="0"/>
            <a:ext cx="674856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Paint - простейший графический редактор, он приемлем для создания простейших графических иллюстраций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Paint можно создавать рекламу, буклеты, объявления, приглашения, поздравления и многое друго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11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ечно, возможности Paint не такие большие, как, например у Corel Draw или Photo Shop, но и в нем можно сделать очень многое. Главное не стоит забывать, что в основе всех крутых рисовалок лежит те же методы рисования, как и в Paint. Также всегда легче начинать обучение с изучения более простых программ. В общем, желаем Вам успехов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7596360" y="6097680"/>
            <a:ext cx="1317600" cy="64116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Courier New"/>
              </a:rPr>
              <a:t>Юля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64" name="Autumnal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4" dur="109920" fill="hold"/>
                                        <p:tgtEl>
                                          <p:spTgt spid="7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2">
                                  <p:stCondLst>
                                    <p:cond delay="12000"/>
                                  </p:stCondLst>
                                  <p:iterate type="lt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Object 2" descr=""/>
          <p:cNvPicPr/>
          <p:nvPr/>
        </p:nvPicPr>
        <p:blipFill>
          <a:blip r:embed="rId1"/>
          <a:stretch/>
        </p:blipFill>
        <p:spPr>
          <a:xfrm>
            <a:off x="577800" y="380880"/>
            <a:ext cx="8121600" cy="6159600"/>
          </a:xfrm>
          <a:prstGeom prst="rect">
            <a:avLst/>
          </a:prstGeom>
          <a:ln w="0">
            <a:noFill/>
          </a:ln>
        </p:spPr>
      </p:pic>
      <p:sp>
        <p:nvSpPr>
          <p:cNvPr id="666" name="Line 3"/>
          <p:cNvSpPr/>
          <p:nvPr/>
        </p:nvSpPr>
        <p:spPr>
          <a:xfrm>
            <a:off x="3276720" y="990720"/>
            <a:ext cx="1981080" cy="9144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48320" y="129528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Меню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1055520" y="2330280"/>
            <a:ext cx="2536920" cy="82584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9" name="Rectangle 6"/>
          <p:cNvSpPr/>
          <p:nvPr/>
        </p:nvSpPr>
        <p:spPr>
          <a:xfrm rot="60000">
            <a:off x="2285640" y="304776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анель инструментов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0" name="Line 7"/>
          <p:cNvSpPr/>
          <p:nvPr/>
        </p:nvSpPr>
        <p:spPr>
          <a:xfrm flipV="1">
            <a:off x="2943360" y="4642920"/>
            <a:ext cx="2190600" cy="8478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1" name="Rectangle 8"/>
          <p:cNvSpPr/>
          <p:nvPr/>
        </p:nvSpPr>
        <p:spPr>
          <a:xfrm rot="20460000">
            <a:off x="3514680" y="449424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алитра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2" name="Line 9"/>
          <p:cNvSpPr/>
          <p:nvPr/>
        </p:nvSpPr>
        <p:spPr>
          <a:xfrm flipV="1">
            <a:off x="5562720" y="5334120"/>
            <a:ext cx="2666880" cy="9144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3" name="Rectangle 10"/>
          <p:cNvSpPr/>
          <p:nvPr/>
        </p:nvSpPr>
        <p:spPr>
          <a:xfrm rot="20460000">
            <a:off x="5638320" y="5181120"/>
            <a:ext cx="320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Строка состояния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алитр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5" name="Rectangle 3"/>
          <p:cNvSpPr/>
          <p:nvPr/>
        </p:nvSpPr>
        <p:spPr>
          <a:xfrm>
            <a:off x="533520" y="1143000"/>
            <a:ext cx="80769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Для выбора первого (основного) цвета на палитре нужно щелкнуть по нему левой кнопкой мыши. Для выбора второго цвета (обычно это фон) по нему щелкают правой кнопкой. 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676" name="Group 6"/>
          <p:cNvGrpSpPr/>
          <p:nvPr/>
        </p:nvGrpSpPr>
        <p:grpSpPr>
          <a:xfrm>
            <a:off x="539640" y="3130560"/>
            <a:ext cx="8064720" cy="3340080"/>
            <a:chOff x="539640" y="3130560"/>
            <a:chExt cx="8064720" cy="3340080"/>
          </a:xfrm>
        </p:grpSpPr>
        <p:sp>
          <p:nvSpPr>
            <p:cNvPr id="677" name="Rectangle 4"/>
            <p:cNvSpPr/>
            <p:nvPr/>
          </p:nvSpPr>
          <p:spPr>
            <a:xfrm>
              <a:off x="539640" y="3130560"/>
              <a:ext cx="8064720" cy="3340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pic>
          <p:nvPicPr>
            <p:cNvPr id="678" name="Object 5" descr=""/>
            <p:cNvPicPr/>
            <p:nvPr/>
          </p:nvPicPr>
          <p:blipFill>
            <a:blip r:embed="rId2"/>
            <a:stretch/>
          </p:blipFill>
          <p:spPr>
            <a:xfrm>
              <a:off x="871560" y="5105520"/>
              <a:ext cx="5999040" cy="108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9" name="Line 7"/>
          <p:cNvSpPr/>
          <p:nvPr/>
        </p:nvSpPr>
        <p:spPr>
          <a:xfrm flipV="1">
            <a:off x="1295280" y="3581280"/>
            <a:ext cx="2514600" cy="198144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0" name="Rectangle 8"/>
          <p:cNvSpPr/>
          <p:nvPr/>
        </p:nvSpPr>
        <p:spPr>
          <a:xfrm rot="19380000">
            <a:off x="1599840" y="38095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Первый цвет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1" name="Line 9"/>
          <p:cNvSpPr/>
          <p:nvPr/>
        </p:nvSpPr>
        <p:spPr>
          <a:xfrm flipV="1">
            <a:off x="1447920" y="4343400"/>
            <a:ext cx="4038480" cy="144792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2" name="Rectangle 10"/>
          <p:cNvSpPr/>
          <p:nvPr/>
        </p:nvSpPr>
        <p:spPr>
          <a:xfrm rot="20400000">
            <a:off x="3276720" y="4190760"/>
            <a:ext cx="228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Второй цвет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Чтобы рисовать, закрашивать, менять цвет, делать надписи, стирать и т.д. в программе Paint, необходимо выбрать нужный инструмент. Для этого используется </a:t>
            </a:r>
            <a:r>
              <a:rPr b="0" i="1" lang="ru-RU" sz="3400" spc="-1" strike="noStrike" u="sng">
                <a:solidFill>
                  <a:srgbClr val="ffffff"/>
                </a:solidFill>
                <a:uFillTx/>
                <a:latin typeface="Times New Roman"/>
              </a:rPr>
              <a:t>Панель инструментов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Чтобы выбрать нужный инструмент, нужно щелкнуть на кнопке с его изображением.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анель инструментов Pain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 advTm="3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1066680" y="304920"/>
            <a:ext cx="685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ыделение области рисунка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503280" y="1123920"/>
            <a:ext cx="576360" cy="59544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4"/>
          <p:cNvSpPr/>
          <p:nvPr/>
        </p:nvSpPr>
        <p:spPr>
          <a:xfrm>
            <a:off x="1143000" y="11430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ие произвольной област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88" name="Picture 5" descr=""/>
          <p:cNvPicPr/>
          <p:nvPr/>
        </p:nvPicPr>
        <p:blipFill>
          <a:blip r:embed="rId2"/>
          <a:stretch/>
        </p:blipFill>
        <p:spPr>
          <a:xfrm>
            <a:off x="503280" y="1928880"/>
            <a:ext cx="576360" cy="59364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6"/>
          <p:cNvSpPr/>
          <p:nvPr/>
        </p:nvSpPr>
        <p:spPr>
          <a:xfrm>
            <a:off x="1143000" y="198108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ие прямоугольной област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57200" y="2743200"/>
            <a:ext cx="8381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ный фрагмент рисунка можно перетаскивать мышью на другое место, можно копировать этот фрагмент (если перетаскивать его с нажатой клавишей Ctrl)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1" name="Object 8" descr=""/>
          <p:cNvPicPr/>
          <p:nvPr/>
        </p:nvPicPr>
        <p:blipFill>
          <a:blip r:embed="rId3"/>
          <a:stretch/>
        </p:blipFill>
        <p:spPr>
          <a:xfrm>
            <a:off x="299880" y="4829040"/>
            <a:ext cx="932040" cy="141948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9"/>
          <p:cNvSpPr/>
          <p:nvPr/>
        </p:nvSpPr>
        <p:spPr>
          <a:xfrm>
            <a:off x="1370160" y="4648320"/>
            <a:ext cx="7621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ществует два режима выделения фрагмента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розрачно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цвет фона становится прозрачным) 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прозрачно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в фрагменте сохраняется цвет фона)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457200" y="228600"/>
            <a:ext cx="845820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Ласт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ужит для стирания части рисунка. Если стирать левой кнопкой мыши, то участок рисунка, который был удален заменится цветом фона (второй цвет в палитре). Если стирать правой кнопкой мыши, то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торым цветом заменится только первы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бранный вами цвет, что позволяет производить операцию по перекраске неправильных участков рисунка, даже если они находятся в гуще рисунка. 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жно изменять размер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стика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4" name="Picture 3" descr=""/>
          <p:cNvPicPr/>
          <p:nvPr/>
        </p:nvPicPr>
        <p:blipFill>
          <a:blip r:embed="rId1"/>
          <a:stretch/>
        </p:blipFill>
        <p:spPr>
          <a:xfrm>
            <a:off x="2428920" y="66600"/>
            <a:ext cx="860400" cy="860400"/>
          </a:xfrm>
          <a:prstGeom prst="rect">
            <a:avLst/>
          </a:prstGeom>
          <a:ln w="0">
            <a:noFill/>
          </a:ln>
        </p:spPr>
      </p:pic>
      <p:pic>
        <p:nvPicPr>
          <p:cNvPr id="695" name="Object 4" descr=""/>
          <p:cNvPicPr/>
          <p:nvPr/>
        </p:nvPicPr>
        <p:blipFill>
          <a:blip r:embed="rId2"/>
          <a:stretch/>
        </p:blipFill>
        <p:spPr>
          <a:xfrm>
            <a:off x="299880" y="4600440"/>
            <a:ext cx="939960" cy="1432080"/>
          </a:xfrm>
          <a:prstGeom prst="rect">
            <a:avLst/>
          </a:prstGeom>
          <a:ln w="0">
            <a:noFill/>
          </a:ln>
        </p:spPr>
      </p:pic>
      <p:pic>
        <p:nvPicPr>
          <p:cNvPr id="696" name="Object 5" descr=""/>
          <p:cNvPicPr/>
          <p:nvPr/>
        </p:nvPicPr>
        <p:blipFill>
          <a:blip r:embed="rId3"/>
          <a:stretch/>
        </p:blipFill>
        <p:spPr>
          <a:xfrm>
            <a:off x="5486400" y="4506840"/>
            <a:ext cx="3351240" cy="21542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380880" y="228600"/>
            <a:ext cx="84582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Заливка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уется для окрашивания больших замкнутых областей рисунка. Если окрашиваемая область незамкнута, то краска, которой заливают фрагмент “разольется” и окрасит весь рисунок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8" name="Picture 3" descr=""/>
          <p:cNvPicPr/>
          <p:nvPr/>
        </p:nvPicPr>
        <p:blipFill>
          <a:blip r:embed="rId1"/>
          <a:stretch/>
        </p:blipFill>
        <p:spPr>
          <a:xfrm>
            <a:off x="2124000" y="219240"/>
            <a:ext cx="708120" cy="70776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4"/>
          <p:cNvSpPr/>
          <p:nvPr/>
        </p:nvSpPr>
        <p:spPr>
          <a:xfrm>
            <a:off x="380880" y="2971800"/>
            <a:ext cx="838224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ыбор цветов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воляет “взять” любой цвет прямо с рисунка и использовать его для рисования. Для этого нужно просто щелкнуть по объекту рисунка окрашенного в нужный вам цвет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0" name="Picture 5" descr=""/>
          <p:cNvPicPr/>
          <p:nvPr/>
        </p:nvPicPr>
        <p:blipFill>
          <a:blip r:embed="rId2"/>
          <a:stretch/>
        </p:blipFill>
        <p:spPr>
          <a:xfrm>
            <a:off x="2124000" y="2962440"/>
            <a:ext cx="708120" cy="7077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380880" y="152280"/>
            <a:ext cx="83822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Масштаб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ужит для увеличения масштаба отображения рисунка. Это необходимо для избежания          ошибок при рисовании каких-либо мелких      деталей. Можно увеличить рисунок                              в 2, 6 и 8 раз.  Чтобы вернуться к исходному      размеру рисунка нужно щелкнуть “1х”. В меню “Вид”, выбрав “Масштаб” можно убрать или показать сетку, а также окно 100%. 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2" name="Picture 3" descr=""/>
          <p:cNvPicPr/>
          <p:nvPr/>
        </p:nvPicPr>
        <p:blipFill>
          <a:blip r:embed="rId1"/>
          <a:stretch/>
        </p:blipFill>
        <p:spPr>
          <a:xfrm>
            <a:off x="2276640" y="142920"/>
            <a:ext cx="707760" cy="708120"/>
          </a:xfrm>
          <a:prstGeom prst="rect">
            <a:avLst/>
          </a:prstGeom>
          <a:ln w="0">
            <a:noFill/>
          </a:ln>
        </p:spPr>
      </p:pic>
      <p:pic>
        <p:nvPicPr>
          <p:cNvPr id="703" name="Object 4" descr=""/>
          <p:cNvPicPr/>
          <p:nvPr/>
        </p:nvPicPr>
        <p:blipFill>
          <a:blip r:embed="rId2"/>
          <a:stretch/>
        </p:blipFill>
        <p:spPr>
          <a:xfrm>
            <a:off x="7386480" y="1476360"/>
            <a:ext cx="1089360" cy="166068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5"/>
          <p:cNvSpPr/>
          <p:nvPr/>
        </p:nvSpPr>
        <p:spPr>
          <a:xfrm>
            <a:off x="304920" y="4267080"/>
            <a:ext cx="85341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арандаш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итация рисования карандашом. Можно нарисовать только тонкую линию. Чтобы провести строго вертикальную или горизонтальную линию нужно рисовать ее с нажатой клавишей Shift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5" name="Picture 6" descr=""/>
          <p:cNvPicPr/>
          <p:nvPr/>
        </p:nvPicPr>
        <p:blipFill>
          <a:blip r:embed="rId3"/>
          <a:stretch/>
        </p:blipFill>
        <p:spPr>
          <a:xfrm>
            <a:off x="2505240" y="4410000"/>
            <a:ext cx="707760" cy="7081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05:41:34Z</dcterms:created>
  <dc:creator> </dc:creator>
  <dc:description/>
  <dc:language>en-US</dc:language>
  <cp:lastModifiedBy>Name</cp:lastModifiedBy>
  <dcterms:modified xsi:type="dcterms:W3CDTF">2011-02-03T12:42:14Z</dcterms:modified>
  <cp:revision>28</cp:revision>
  <dc:subject/>
  <dc:title>Графический редактор Pa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0c0000000000010243000207f6000400038000</vt:lpwstr>
  </property>
</Properties>
</file>