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4.wmf" ContentType="image/x-wmf"/>
  <Override PartName="/ppt/media/suction.wav" ContentType="audio/x-wav"/>
  <Override PartName="/ppt/media/wind.wav" ContentType="audio/x-wav"/>
  <Override PartName="/ppt/media/image9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8.wmf" ContentType="image/x-wmf"/>
  <Override PartName="/ppt/media/cashreg.wav" ContentType="audio/x-wav"/>
  <Override PartName="/ppt/media/image33.wmf" ContentType="image/x-wmf"/>
  <Override PartName="/ppt/media/image26.wmf" ContentType="image/x-wmf"/>
  <Override PartName="/ppt/media/image27.wmf" ContentType="image/x-wmf"/>
  <Override PartName="/ppt/media/click.wav" ContentType="audio/x-wav"/>
  <Override PartName="/ppt/media/image35.wmf" ContentType="image/x-wmf"/>
  <Override PartName="/ppt/media/image5.wmf" ContentType="image/x-wmf"/>
  <Override PartName="/ppt/media/laser.wav" ContentType="audio/x-wav"/>
  <Override PartName="/ppt/media/image12.wmf" ContentType="image/x-wmf"/>
  <Override PartName="/ppt/media/image31.wmf" ContentType="image/x-wmf"/>
  <Override PartName="/ppt/media/image37.png" ContentType="image/png"/>
  <Override PartName="/ppt/media/image7.wmf" ContentType="image/x-wmf"/>
  <Override PartName="/ppt/media/image4.wmf" ContentType="image/x-wmf"/>
  <Override PartName="/ppt/media/image34.wmf" ContentType="image/x-wmf"/>
  <Override PartName="/ppt/media/image6.wmf" ContentType="image/x-wmf"/>
  <Override PartName="/ppt/media/image36.wmf" ContentType="image/x-wmf"/>
  <Override PartName="/ppt/media/image3.png" ContentType="image/png"/>
  <Override PartName="/ppt/media/image11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3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B118-6872-4D04-B822-86E819DBD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7D46-8CB0-4ADE-A058-144C6201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4A843-E8FC-4309-94A6-C7761F29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980F8-72DB-465B-BD82-A43C5E8F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B3581-F37A-4091-82C1-0119E53E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20439-B699-4714-B176-8F74D710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B471D-80C1-4B69-9920-80B68CFB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CF1B1-2863-4EC6-B855-EB1C64B6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49D437-730A-4130-9BFF-439586E8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A902C-8ADA-4A6D-B1C3-E8C972D71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284AE1-D53D-4A8D-AB5F-92970FCE0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499010-3DAB-416A-9166-11E27596F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7123-AA18-423E-81C7-4D6B2AB1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9D047-9797-4065-B63E-D7507D4C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5923E2-009C-4E49-A7D4-F072EFB0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49384D-19CF-44ED-A4A6-D0F109DA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7ABD8-F8DA-4570-91AF-807D340E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F59F32-753D-4102-BB75-AEC562E8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348419-D738-4BB1-9FD2-52203903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F01C2-7C6B-4DF2-B8BC-E539FF62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84632-032A-47A6-A1FB-C0064821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F197B1-0D81-428D-83D0-D994664F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B1472F-4BF6-48D6-8DD8-BE946719C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D592-85E2-475F-AB38-EAA48B6C5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629A62-732B-47C0-BBE4-FF0CCC23C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72A7D-E72B-4622-AA82-0FC05B155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29DE4-06EB-4BD5-89E2-A55AEBB4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C5552-E6D8-4964-A55F-AFC5A6C1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5822C1-CAAB-4C8A-99C6-FCBB0CDB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0AFE9-195B-4327-9A78-7E9B25B4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31272-7142-4AA5-BEC4-B9A56C88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9D853-44FD-47D1-ABBB-9B14F93F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1B33E-87B0-43E8-B7FD-FB9503BA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76200-615C-4964-9993-67A5FD7A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58AC-B083-4BE5-9F9B-BA4737515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4C3B3-AE98-4125-BCF1-6D4F6AD2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CD1FA-590A-4B91-80EC-EB71D356A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2A2DB-9904-4FBF-9F19-3EBF61517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71D4E9-ABE4-466C-8451-D5179EDE8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36679A-081C-433E-ADC8-04F9CD3C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6225E-5C64-4DE6-881D-65831239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DB4636-4423-4255-98F1-6756651A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D1CE78-1907-44F5-A607-9E689D10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29BA81-EB19-408D-B95D-FDC3BABE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ED5B1-9A4C-41AE-A032-D4DFD59E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7BCA-D873-44D7-98B4-E401F955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C3ADB-7695-4000-974A-4F6A2677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A69D41-4D6D-4BC5-9313-DA39E45F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D40395-B2A4-4B7A-A6BE-09697C2B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85E801-2147-4281-A854-5E090A0A5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DF9724-7E9C-4DAF-8CD7-CBC33E2B3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3136F5-584A-4E9F-BAAD-841A2AA42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E2EF4E-EC25-4A7D-84B6-4FF9FAAD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14DCD9-DDB3-4DE9-B88A-E093A41C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F35D1C-9D92-47F1-A2D3-9C10B84F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288568-4AC8-4AC9-9B48-2C159664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58FE-5E51-4521-884B-717769EF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07E163-16AF-4B30-B7AE-0CA4983D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DF7B66-5002-4F0C-BA7D-058C8EF0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F5A7B8-6D37-4501-B526-8ACB458A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D1B60C-7C7B-48F2-9650-CA7F1740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9E344D-91C8-4AE7-B267-36FC30BC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853984-9A30-411B-952D-C5F2B5FD3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549BC0-FDBF-496A-B3A1-7EC3BF94C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F5F320-68BF-4357-AB0E-1EA6AA844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A9E1D6-9CB6-49ED-B192-4FCCA2EE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213435-2FD4-469C-9E7E-4B0A8892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16BC-0A93-410E-87B1-9908187F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063379-7571-45F4-9812-F6F669AA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BA9E25-B347-4858-B91A-844B98BF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3AEFE7-BE27-48E1-B31E-F6CA0306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25EFD9-4914-4108-B587-1DB6F2C5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C870C3-656E-4818-9EF8-95ACCCA1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D087F3-D919-4A4C-8C3B-1B01B03D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15AC41-819E-4509-9DFB-87215991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1313D6-75CF-42FA-AD08-DDB9662AF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E877C5-3EB9-47B0-8863-3CEF0533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F00883-E597-4A85-BA9F-34CA6A48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206F-1EE9-4897-B0FA-D0EAFB4B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D75A75-6B71-4F9C-9817-938068BF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0BDB04-D807-409F-9434-3985F8F5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3E4791-886D-4503-B7B2-B5502384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084285-65B7-4BB2-8FEE-5E2CC735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0426AB-5178-4CDA-9D5A-4990817B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277672-5A81-4C68-9E3F-3AD302D9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FDA055-D69F-4380-928C-C5300E07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B45369-A3FA-443E-81A4-EC544038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D98303-C35C-45C5-8317-EC53B81B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DEAE25-FD2D-4D44-BE36-1CEB4AEBC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6F432-2942-4EFB-BF3C-B6AEFA3A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A657BF-E820-47C0-B496-46EB9DFB0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EC3E-236E-415C-A96E-30B2E365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C52A-A1FC-4FC4-B3CF-AC336287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E4FC0-CC83-4734-A36E-55816658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3CF03-809E-4BF9-AB42-017BCEAC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A17B-EE00-4E74-BAA8-49E7E2AB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D856-D789-4514-836A-55416C791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C79A-B6E3-4DF1-A9FD-35B34CD70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3445B-49AF-4A2C-8754-DD88C9C2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073B9-705F-4BCD-AF17-A0B89835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73BBE-868F-42B2-909B-40121FB5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09760-972F-4062-B61E-F9325244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5396A-5BD7-49F6-9606-5F84C528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579C-51E6-4B15-B966-806E64E5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CC65E-9B7A-48A3-820E-F1E08A50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630BE-B2A6-4E56-BC3B-7EEF4553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C17C5-7C85-423F-B638-92CC63A2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9EF18-3A85-48D9-972E-2D258338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6D6A6-EB6F-437D-97B7-EE4A2921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FB170-5F4F-4C11-8B1D-4EF960DDE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F5AEA-54DA-4C20-B327-43B1E42B5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0DD2F-1C59-46C3-A951-ECA924342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16C86-7F62-44DC-8564-A0765D4C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A64F1-F7B5-41BF-80F9-BB94B428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1471-FECE-46CF-A4EB-404C8711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0A91BE-ABD4-4277-A8E6-6CB9F8A8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7A600-5EE0-4F66-A261-63272297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69DDC-4221-48BE-8F7F-83B9E047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DA9DE-0EDF-47F0-BC94-B1DBF998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06453-D974-4D88-B139-6711AAA1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C6380-3297-4853-9494-E9987326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19B33-22D7-4EAC-80D0-011259A9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9FBA7-2C43-4958-8108-FF6B2909B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6026F-4DCD-4E62-B28E-AE6CE0B6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6CEF9-9415-495C-944F-04F4EBAC7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9419-7620-4976-B997-514B766B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ECDC2-EDFA-4090-AF78-C226440A2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EFA07-C567-4994-AC6D-CFABE174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86E67-69DB-43DE-9C86-4811C02B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04263-76BB-4454-A1BF-1253BCCF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2A9C0-A6AB-44EB-ABEC-89140B61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00E00-5DF1-4E60-AB88-8665753D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18E8E-349A-46BA-B204-01476F18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47F14-43C2-49DB-AD8F-BC10589F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C75C8-4134-45F7-937D-EA87B444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21CDC-C4AB-4D38-B862-38DC33589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A8BA-96EB-4493-B66C-C110EC98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E293A-7FDF-44CE-87D5-2D767270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D95FF-39FB-4C97-A863-66D376168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B0CE8-DEF8-4FD8-AA6C-04FD207B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23542-E675-4F46-B893-65629306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73351-A210-451A-B5C0-77D388CE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127E1-99C0-4757-B848-AFB0BFDE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1DE2C-A223-4529-8101-AC48532F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37A48-A087-4996-99B4-C6FB3597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55206-2E0C-45C0-8DC8-15E42765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530F3-B6C0-44CA-96E2-7A241F10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C35D-9E6C-4911-8F07-2872C903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7A167-99F0-4DC9-B50E-7E80A295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38569-BF14-4E27-AD0C-E525D1B66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EA196-5C38-471E-9BD2-99D8C6542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B40FD-70DB-4285-817E-CA97CD96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28EBF-97BF-4D1C-AE03-1BAA6C9D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0DB68-1D34-4C02-BC4F-78A7C2BE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74DF0-BF92-42FE-B8EC-63247305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B7437-9E59-4015-B81C-9A033B88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2D17A-6702-4051-9338-AFEDA629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7B746-ACE6-4531-9CE7-D4373E9F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AAD9-A4D8-4846-8312-CBAD40ED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1FD0B-D17A-4620-955D-14E10AC9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8EB92-95BB-4DA4-B876-6BE236A0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3482E-4A22-43D6-8DF5-B5F8B2C7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66D11-09F1-4D90-9389-E917A8DD4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F58E0-5437-444F-AF8E-032B21462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F3D62-FED1-400A-8CCA-4A6588AD8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FA4C4-7527-4CEE-9F64-9EDB577C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5E2DB-BE40-45D9-A800-4D217937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AA108-34B4-4B9A-B445-8676BAB9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2DCD3-072D-4912-9E38-0241294B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2FE0-F513-4413-BF96-CC10DDB7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99E19-AB62-4BE5-9F5C-39BC98C5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D4FDF-120B-4AD1-9411-92FB5095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A8E21-A72C-48F1-BC60-6F1B1FEB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56603-B7A6-46B2-B7B3-39FE1254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64530-3CA2-4CCC-8FBD-357467D8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68BED-24B3-4D61-86E1-741EB83A1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6359B-D255-4937-B7E8-D87710062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DF67F0-6FD5-4D75-A0C1-6189E97FA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3D7B9-EBFE-46BE-B164-EC4C1E4F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06213-8CD9-461B-BFEF-5A9CB76A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1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F365-B4D3-4A59-9308-CBE5C772664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397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398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8298-62A4-442D-9F0B-238B679A8DB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441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442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16A3-D0CC-4368-9A5C-ADFB81D4DC2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485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486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C47D-7C94-4A85-BB1B-2CA603F3F22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529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530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D2CC-785B-4C3D-A395-4A13981D716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573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574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C102-0414-44BF-86B6-C903AB2EFC2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617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618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523C-EEFB-4B27-89A2-DBE56ACA011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4"/>
          <p:cNvGrpSpPr/>
          <p:nvPr/>
        </p:nvGrpSpPr>
        <p:grpSpPr>
          <a:xfrm>
            <a:off x="-1033560" y="1519200"/>
            <a:ext cx="10177560" cy="5338800"/>
            <a:chOff x="-1033560" y="1519200"/>
            <a:chExt cx="10177560" cy="5338800"/>
          </a:xfrm>
        </p:grpSpPr>
        <p:sp>
          <p:nvSpPr>
            <p:cNvPr id="45" name="Freeform 2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46" name="Arc 3"/>
            <p:cNvSpPr/>
            <p:nvPr/>
          </p:nvSpPr>
          <p:spPr>
            <a:xfrm>
              <a:off x="-1033560" y="1519200"/>
              <a:ext cx="6726240" cy="533736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59FD-C495-45F3-ABCD-E424795B531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89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90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93EC-21AD-4994-9BDC-C898CC9C49F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133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34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0BA3-0B9E-4559-9860-D3898142697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177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178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088A-205B-4F8B-BBA9-1C36E398B38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221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222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2241-6695-4A5A-AA5C-57757E860F3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265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266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68D2-77E4-4870-8E4F-DF245C15BFA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309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310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2B60-513E-4809-9EA0-DD7F0748C02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4"/>
          <p:cNvGrpSpPr/>
          <p:nvPr/>
        </p:nvGrpSpPr>
        <p:grpSpPr>
          <a:xfrm>
            <a:off x="0" y="0"/>
            <a:ext cx="9132840" cy="6846840"/>
            <a:chOff x="0" y="0"/>
            <a:chExt cx="9132840" cy="6846840"/>
          </a:xfrm>
        </p:grpSpPr>
        <p:sp>
          <p:nvSpPr>
            <p:cNvPr id="353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952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354" name="Arc 3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FC3E-0A92-4C07-9961-43DBF515DBF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audio" Target="../media/cashreg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audio" Target="../media/click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lick.wav"/><Relationship Id="rId7" Type="http://schemas.openxmlformats.org/officeDocument/2006/relationships/audio" Target="../media/wind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audio" Target="../media/cashreg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audio" Target="../media/suction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audio" Target="../media/cashreg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audio" Target="../media/cashreg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lick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ashreg.wav"/><Relationship Id="rId9" Type="http://schemas.openxmlformats.org/officeDocument/2006/relationships/audio" Target="../media/click.wav"/><Relationship Id="rId10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Графический редактор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700" spc="-1" strike="noStrike">
                <a:solidFill>
                  <a:srgbClr val="ccecff"/>
                </a:solidFill>
                <a:latin typeface="Times New Roman"/>
              </a:rPr>
              <a:t>PAINT</a:t>
            </a:r>
            <a:endParaRPr b="0" lang="en-US" sz="1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2" name="The_gift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63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425"/>
                            </p:stCondLst>
                            <p:childTnLst>
                              <p:par>
                                <p:cTn id="10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6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2"/>
          <p:cNvSpPr/>
          <p:nvPr/>
        </p:nvSpPr>
        <p:spPr>
          <a:xfrm>
            <a:off x="457200" y="228600"/>
            <a:ext cx="8381880" cy="20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Кисть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йствует аналогично карандашу, но можно выбирать толщину и форму наносимой линии из двенадцати предлагаемых вариантов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07" name="Picture 3" descr=""/>
          <p:cNvPicPr/>
          <p:nvPr/>
        </p:nvPicPr>
        <p:blipFill>
          <a:blip r:embed="rId1"/>
          <a:stretch/>
        </p:blipFill>
        <p:spPr>
          <a:xfrm>
            <a:off x="2124000" y="219240"/>
            <a:ext cx="784440" cy="784080"/>
          </a:xfrm>
          <a:prstGeom prst="rect">
            <a:avLst/>
          </a:prstGeom>
          <a:ln w="0">
            <a:noFill/>
          </a:ln>
        </p:spPr>
      </p:pic>
      <p:pic>
        <p:nvPicPr>
          <p:cNvPr id="708" name="Object 4" descr=""/>
          <p:cNvPicPr/>
          <p:nvPr/>
        </p:nvPicPr>
        <p:blipFill>
          <a:blip r:embed="rId2"/>
          <a:stretch/>
        </p:blipFill>
        <p:spPr>
          <a:xfrm>
            <a:off x="928800" y="2643120"/>
            <a:ext cx="7313400" cy="3998880"/>
          </a:xfrm>
          <a:prstGeom prst="rect">
            <a:avLst/>
          </a:prstGeom>
          <a:ln w="0">
            <a:noFill/>
          </a:ln>
        </p:spPr>
      </p:pic>
      <p:pic>
        <p:nvPicPr>
          <p:cNvPr id="709" name="Object 5" descr=""/>
          <p:cNvPicPr/>
          <p:nvPr/>
        </p:nvPicPr>
        <p:blipFill>
          <a:blip r:embed="rId3"/>
          <a:stretch/>
        </p:blipFill>
        <p:spPr>
          <a:xfrm>
            <a:off x="6319800" y="1857240"/>
            <a:ext cx="1089000" cy="166068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2276640" y="142920"/>
            <a:ext cx="784080" cy="784080"/>
          </a:xfrm>
          <a:prstGeom prst="rect">
            <a:avLst/>
          </a:prstGeom>
          <a:ln w="0">
            <a:noFill/>
          </a:ln>
        </p:spPr>
      </p:pic>
      <p:sp>
        <p:nvSpPr>
          <p:cNvPr id="711" name="Rectangle 3"/>
          <p:cNvSpPr/>
          <p:nvPr/>
        </p:nvSpPr>
        <p:spPr>
          <a:xfrm>
            <a:off x="380880" y="152280"/>
            <a:ext cx="838224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Распылитель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исование с эффектом распыления краски. Имеется три варианта концентрации распыления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12" name="Object 4" descr=""/>
          <p:cNvPicPr/>
          <p:nvPr/>
        </p:nvPicPr>
        <p:blipFill>
          <a:blip r:embed="rId2"/>
          <a:stretch/>
        </p:blipFill>
        <p:spPr>
          <a:xfrm>
            <a:off x="6929280" y="1476360"/>
            <a:ext cx="1089360" cy="16606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5" descr=""/>
          <p:cNvPicPr/>
          <p:nvPr/>
        </p:nvPicPr>
        <p:blipFill>
          <a:blip r:embed="rId3"/>
          <a:stretch/>
        </p:blipFill>
        <p:spPr>
          <a:xfrm>
            <a:off x="309600" y="3327480"/>
            <a:ext cx="4579920" cy="326700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8"/>
          <p:cNvGrpSpPr/>
          <p:nvPr/>
        </p:nvGrpSpPr>
        <p:grpSpPr>
          <a:xfrm>
            <a:off x="5111640" y="3435480"/>
            <a:ext cx="3575160" cy="2654280"/>
            <a:chOff x="5111640" y="3435480"/>
            <a:chExt cx="3575160" cy="2654280"/>
          </a:xfrm>
        </p:grpSpPr>
        <p:sp>
          <p:nvSpPr>
            <p:cNvPr id="715" name="AutoShape 6"/>
            <p:cNvSpPr/>
            <p:nvPr/>
          </p:nvSpPr>
          <p:spPr>
            <a:xfrm>
              <a:off x="5111640" y="3435480"/>
              <a:ext cx="3568680" cy="2654280"/>
            </a:xfrm>
            <a:prstGeom prst="leftArrow">
              <a:avLst>
                <a:gd name="adj1" fmla="val 50000"/>
                <a:gd name="adj2" fmla="val 40049"/>
              </a:avLst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16" name="Rectangle 7"/>
            <p:cNvSpPr/>
            <p:nvPr/>
          </p:nvSpPr>
          <p:spPr>
            <a:xfrm>
              <a:off x="5867280" y="4114800"/>
              <a:ext cx="281952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cc"/>
                  </a:solidFill>
                  <a:latin typeface="Times New Roman"/>
                </a:rPr>
                <a:t>Рисунок нарисованный распылителем</a:t>
              </a: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p:transition spd="slow" advTm="30000">
    <p:fade thruBlk="true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Picture 2" descr=""/>
          <p:cNvPicPr/>
          <p:nvPr/>
        </p:nvPicPr>
        <p:blipFill>
          <a:blip r:embed="rId1"/>
          <a:stretch/>
        </p:blipFill>
        <p:spPr>
          <a:xfrm>
            <a:off x="1895400" y="219240"/>
            <a:ext cx="784440" cy="784080"/>
          </a:xfrm>
          <a:prstGeom prst="rect">
            <a:avLst/>
          </a:prstGeom>
          <a:ln w="0">
            <a:noFill/>
          </a:ln>
        </p:spPr>
      </p:pic>
      <p:sp>
        <p:nvSpPr>
          <p:cNvPr id="718" name="Rectangle 3"/>
          <p:cNvSpPr/>
          <p:nvPr/>
        </p:nvSpPr>
        <p:spPr>
          <a:xfrm>
            <a:off x="380880" y="228600"/>
            <a:ext cx="8458200" cy="33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Надпись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бавление надписей к рисунку. Для того, чтобы сделать надпись нужно щелкнуть по кнопке “Текст”, а затем растянуть мышью рамку на рисунке - там где будет надпись. В меню “Вид” можно выбрать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анель атрибутов текст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, где устанавливается размер шрифта, его начертание и т.д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19" name="Object 4" descr=""/>
          <p:cNvPicPr/>
          <p:nvPr/>
        </p:nvPicPr>
        <p:blipFill>
          <a:blip r:embed="rId2"/>
          <a:stretch/>
        </p:blipFill>
        <p:spPr>
          <a:xfrm>
            <a:off x="452520" y="5148360"/>
            <a:ext cx="6775200" cy="1341360"/>
          </a:xfrm>
          <a:prstGeom prst="rect">
            <a:avLst/>
          </a:prstGeom>
          <a:ln w="0">
            <a:noFill/>
          </a:ln>
        </p:spPr>
      </p:pic>
      <p:sp>
        <p:nvSpPr>
          <p:cNvPr id="720" name="Line 5"/>
          <p:cNvSpPr/>
          <p:nvPr/>
        </p:nvSpPr>
        <p:spPr>
          <a:xfrm flipV="1">
            <a:off x="2438280" y="4191120"/>
            <a:ext cx="5715000" cy="137160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721" name="Rectangle 6"/>
          <p:cNvSpPr/>
          <p:nvPr/>
        </p:nvSpPr>
        <p:spPr>
          <a:xfrm rot="20820000">
            <a:off x="3809880" y="4038120"/>
            <a:ext cx="4496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Панель атрибутов текста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3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75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75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609120" y="38088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Ли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назначена для рисования прямой линии выбранного цвета и толщины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3" name="Picture 3" descr=""/>
          <p:cNvPicPr/>
          <p:nvPr/>
        </p:nvPicPr>
        <p:blipFill>
          <a:blip r:embed="rId1"/>
          <a:stretch/>
        </p:blipFill>
        <p:spPr>
          <a:xfrm>
            <a:off x="2505240" y="142920"/>
            <a:ext cx="860400" cy="860400"/>
          </a:xfrm>
          <a:prstGeom prst="rect">
            <a:avLst/>
          </a:prstGeom>
          <a:ln w="0">
            <a:noFill/>
          </a:ln>
        </p:spPr>
      </p:pic>
      <p:grpSp>
        <p:nvGrpSpPr>
          <p:cNvPr id="724" name="Group 9"/>
          <p:cNvGrpSpPr/>
          <p:nvPr/>
        </p:nvGrpSpPr>
        <p:grpSpPr>
          <a:xfrm>
            <a:off x="1149480" y="2597040"/>
            <a:ext cx="6997680" cy="4025880"/>
            <a:chOff x="1149480" y="2597040"/>
            <a:chExt cx="6997680" cy="4025880"/>
          </a:xfrm>
        </p:grpSpPr>
        <p:sp>
          <p:nvSpPr>
            <p:cNvPr id="725" name="Rectangle 4"/>
            <p:cNvSpPr/>
            <p:nvPr/>
          </p:nvSpPr>
          <p:spPr>
            <a:xfrm>
              <a:off x="1149480" y="2597040"/>
              <a:ext cx="6997680" cy="4025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26" name="Line 5"/>
            <p:cNvSpPr/>
            <p:nvPr/>
          </p:nvSpPr>
          <p:spPr>
            <a:xfrm flipV="1">
              <a:off x="1447920" y="2895120"/>
              <a:ext cx="373356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27" name="Line 6"/>
            <p:cNvSpPr/>
            <p:nvPr/>
          </p:nvSpPr>
          <p:spPr>
            <a:xfrm>
              <a:off x="2590920" y="4267080"/>
              <a:ext cx="4190760" cy="1067040"/>
            </a:xfrm>
            <a:prstGeom prst="line">
              <a:avLst/>
            </a:prstGeom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28" name="Line 7"/>
            <p:cNvSpPr/>
            <p:nvPr/>
          </p:nvSpPr>
          <p:spPr>
            <a:xfrm flipV="1">
              <a:off x="1905120" y="5029200"/>
              <a:ext cx="1981080" cy="9144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29" name="Line 8"/>
            <p:cNvSpPr/>
            <p:nvPr/>
          </p:nvSpPr>
          <p:spPr>
            <a:xfrm>
              <a:off x="4495680" y="3581280"/>
              <a:ext cx="1752840" cy="1143000"/>
            </a:xfrm>
            <a:prstGeom prst="line">
              <a:avLst/>
            </a:prstGeom>
            <a:ln w="7632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  <p:pic>
        <p:nvPicPr>
          <p:cNvPr id="730" name="Object 10" descr=""/>
          <p:cNvPicPr/>
          <p:nvPr/>
        </p:nvPicPr>
        <p:blipFill>
          <a:blip r:embed="rId2"/>
          <a:stretch/>
        </p:blipFill>
        <p:spPr>
          <a:xfrm>
            <a:off x="7234200" y="1552680"/>
            <a:ext cx="1138320" cy="173664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533520" y="457200"/>
            <a:ext cx="807696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Кривая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Применяется для рисования кривых. Сначала рисуется прямая линия, потом ее “берут” за какой-либо участок и выгибают. Изменять линию можно два раза, после этого она фиксируется. Толщина кривой определяется также, как и в прямой линии.</a:t>
            </a: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32" name="Picture 3" descr=""/>
          <p:cNvPicPr/>
          <p:nvPr/>
        </p:nvPicPr>
        <p:blipFill>
          <a:blip r:embed="rId1"/>
          <a:stretch/>
        </p:blipFill>
        <p:spPr>
          <a:xfrm>
            <a:off x="2743200" y="228600"/>
            <a:ext cx="851040" cy="851040"/>
          </a:xfrm>
          <a:prstGeom prst="rect">
            <a:avLst/>
          </a:prstGeom>
          <a:ln w="0">
            <a:noFill/>
          </a:ln>
        </p:spPr>
      </p:pic>
      <p:pic>
        <p:nvPicPr>
          <p:cNvPr id="733" name="Object 4" descr=""/>
          <p:cNvPicPr/>
          <p:nvPr/>
        </p:nvPicPr>
        <p:blipFill>
          <a:blip r:embed="rId2"/>
          <a:stretch/>
        </p:blipFill>
        <p:spPr>
          <a:xfrm>
            <a:off x="1138320" y="4143240"/>
            <a:ext cx="1138320" cy="17370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5" descr=""/>
          <p:cNvPicPr/>
          <p:nvPr/>
        </p:nvPicPr>
        <p:blipFill>
          <a:blip r:embed="rId3"/>
          <a:stretch/>
        </p:blipFill>
        <p:spPr>
          <a:xfrm>
            <a:off x="3081240" y="3600360"/>
            <a:ext cx="4965840" cy="30132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2"/>
          <p:cNvSpPr/>
          <p:nvPr/>
        </p:nvSpPr>
        <p:spPr>
          <a:xfrm>
            <a:off x="609480" y="304920"/>
            <a:ext cx="8153640" cy="29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Прямоугольник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няется для рисования прямоугольников. Если рисовать прямоугольник с нажатой клавишей Shift, получится квадрат. Можно нарисовать закрашенный, незакрашенный прямоугольник, а также прямоугольник без границы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36" name="Picture 3" descr=""/>
          <p:cNvPicPr/>
          <p:nvPr/>
        </p:nvPicPr>
        <p:blipFill>
          <a:blip r:embed="rId1"/>
          <a:stretch/>
        </p:blipFill>
        <p:spPr>
          <a:xfrm>
            <a:off x="2048040" y="14292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37" name="Object 4" descr=""/>
          <p:cNvPicPr/>
          <p:nvPr/>
        </p:nvPicPr>
        <p:blipFill>
          <a:blip r:embed="rId2"/>
          <a:stretch/>
        </p:blipFill>
        <p:spPr>
          <a:xfrm>
            <a:off x="7473960" y="2924280"/>
            <a:ext cx="1287360" cy="1965240"/>
          </a:xfrm>
          <a:prstGeom prst="rect">
            <a:avLst/>
          </a:prstGeom>
          <a:ln w="0">
            <a:noFill/>
          </a:ln>
        </p:spPr>
      </p:pic>
      <p:grpSp>
        <p:nvGrpSpPr>
          <p:cNvPr id="738" name="Group 10"/>
          <p:cNvGrpSpPr/>
          <p:nvPr/>
        </p:nvGrpSpPr>
        <p:grpSpPr>
          <a:xfrm>
            <a:off x="387360" y="3282840"/>
            <a:ext cx="6769080" cy="3264120"/>
            <a:chOff x="387360" y="3282840"/>
            <a:chExt cx="6769080" cy="3264120"/>
          </a:xfrm>
        </p:grpSpPr>
        <p:sp>
          <p:nvSpPr>
            <p:cNvPr id="739" name="Rectangle 5"/>
            <p:cNvSpPr/>
            <p:nvPr/>
          </p:nvSpPr>
          <p:spPr>
            <a:xfrm>
              <a:off x="387360" y="3282840"/>
              <a:ext cx="6769080" cy="326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40" name="Rectangle 6"/>
            <p:cNvSpPr/>
            <p:nvPr/>
          </p:nvSpPr>
          <p:spPr>
            <a:xfrm>
              <a:off x="844560" y="3587760"/>
              <a:ext cx="1892160" cy="901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41" name="Rectangle 7"/>
            <p:cNvSpPr/>
            <p:nvPr/>
          </p:nvSpPr>
          <p:spPr>
            <a:xfrm>
              <a:off x="1911240" y="4044960"/>
              <a:ext cx="1435320" cy="10540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42" name="Rectangle 8"/>
            <p:cNvSpPr/>
            <p:nvPr/>
          </p:nvSpPr>
          <p:spPr>
            <a:xfrm>
              <a:off x="3733920" y="3429000"/>
              <a:ext cx="1066680" cy="1752480"/>
            </a:xfrm>
            <a:prstGeom prst="rect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sp>
          <p:nvSpPr>
            <p:cNvPr id="743" name="Rectangle 9"/>
            <p:cNvSpPr/>
            <p:nvPr/>
          </p:nvSpPr>
          <p:spPr>
            <a:xfrm>
              <a:off x="3130560" y="4807080"/>
              <a:ext cx="1359000" cy="13586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p:transition spd="slow" advTm="30000">
    <p:fade thruBlk="true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2" descr=""/>
          <p:cNvPicPr/>
          <p:nvPr/>
        </p:nvPicPr>
        <p:blipFill>
          <a:blip r:embed="rId1"/>
          <a:stretch/>
        </p:blipFill>
        <p:spPr>
          <a:xfrm>
            <a:off x="1895400" y="142920"/>
            <a:ext cx="860400" cy="860400"/>
          </a:xfrm>
          <a:prstGeom prst="rect">
            <a:avLst/>
          </a:prstGeom>
          <a:ln w="0">
            <a:noFill/>
          </a:ln>
        </p:spPr>
      </p:pic>
      <p:sp>
        <p:nvSpPr>
          <p:cNvPr id="745" name="Rectangle 3"/>
          <p:cNvSpPr/>
          <p:nvPr/>
        </p:nvSpPr>
        <p:spPr>
          <a:xfrm>
            <a:off x="304920" y="228600"/>
            <a:ext cx="8534160" cy="33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Многоугольник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няют для рисования многоугольников. Чтобы нарисовать многоугольник, нужно провести его первую сторону (перетащить указатель при нажатой кнопке мыши), а затем просто щелкать мышью в вершинах многоугольника. Заканчивают рисование многоугольника двойным щелчком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grpSp>
        <p:nvGrpSpPr>
          <p:cNvPr id="746" name="Group 8"/>
          <p:cNvGrpSpPr/>
          <p:nvPr/>
        </p:nvGrpSpPr>
        <p:grpSpPr>
          <a:xfrm>
            <a:off x="615960" y="3664080"/>
            <a:ext cx="7988400" cy="2958840"/>
            <a:chOff x="615960" y="3664080"/>
            <a:chExt cx="7988400" cy="2958840"/>
          </a:xfrm>
        </p:grpSpPr>
        <p:grpSp>
          <p:nvGrpSpPr>
            <p:cNvPr id="747" name="Group 6"/>
            <p:cNvGrpSpPr/>
            <p:nvPr/>
          </p:nvGrpSpPr>
          <p:grpSpPr>
            <a:xfrm>
              <a:off x="615960" y="3664080"/>
              <a:ext cx="7988400" cy="2958840"/>
              <a:chOff x="615960" y="3664080"/>
              <a:chExt cx="7988400" cy="2958840"/>
            </a:xfrm>
          </p:grpSpPr>
          <p:sp>
            <p:nvSpPr>
              <p:cNvPr id="748" name="Rectangle 4"/>
              <p:cNvSpPr/>
              <p:nvPr/>
            </p:nvSpPr>
            <p:spPr>
              <a:xfrm>
                <a:off x="615960" y="3664080"/>
                <a:ext cx="7988400" cy="2958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  <p:sp>
            <p:nvSpPr>
              <p:cNvPr id="749" name="Freeform 5"/>
              <p:cNvSpPr/>
              <p:nvPr/>
            </p:nvSpPr>
            <p:spPr>
              <a:xfrm>
                <a:off x="895320" y="3733920"/>
                <a:ext cx="7074000" cy="2668320"/>
              </a:xfrm>
              <a:prstGeom prst="pie">
                <a:avLst/>
              </a:prstGeom>
              <a:solidFill>
                <a:srgbClr val="00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 Cyr"/>
                </a:endParaRPr>
              </a:p>
            </p:txBody>
          </p:sp>
        </p:grpSp>
        <p:sp>
          <p:nvSpPr>
            <p:cNvPr id="750" name="Line 7"/>
            <p:cNvSpPr/>
            <p:nvPr/>
          </p:nvSpPr>
          <p:spPr>
            <a:xfrm flipH="1">
              <a:off x="837720" y="5943600"/>
              <a:ext cx="22860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p:transition spd="slow" advTm="30000">
    <p:fade thruBlk="true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2"/>
          <p:cNvSpPr/>
          <p:nvPr/>
        </p:nvSpPr>
        <p:spPr>
          <a:xfrm>
            <a:off x="457200" y="228600"/>
            <a:ext cx="838188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Эллипс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исование эллипса. Если рисовать с нажатой клавишей Shift, получится круг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52" name="Picture 3" descr=""/>
          <p:cNvPicPr/>
          <p:nvPr/>
        </p:nvPicPr>
        <p:blipFill>
          <a:blip r:embed="rId1"/>
          <a:stretch/>
        </p:blipFill>
        <p:spPr>
          <a:xfrm>
            <a:off x="2619360" y="76320"/>
            <a:ext cx="890640" cy="863640"/>
          </a:xfrm>
          <a:prstGeom prst="rect">
            <a:avLst/>
          </a:prstGeom>
          <a:ln w="0">
            <a:noFill/>
          </a:ln>
        </p:spPr>
      </p:pic>
      <p:sp>
        <p:nvSpPr>
          <p:cNvPr id="753" name="Rectangle 4"/>
          <p:cNvSpPr/>
          <p:nvPr/>
        </p:nvSpPr>
        <p:spPr>
          <a:xfrm>
            <a:off x="304920" y="2362320"/>
            <a:ext cx="845820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Скругленный прямоугольник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исование прямоугольника с округленными вершинами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54" name="Picture 5" descr=""/>
          <p:cNvPicPr/>
          <p:nvPr/>
        </p:nvPicPr>
        <p:blipFill>
          <a:blip r:embed="rId2"/>
          <a:stretch/>
        </p:blipFill>
        <p:spPr>
          <a:xfrm>
            <a:off x="638280" y="2136600"/>
            <a:ext cx="892080" cy="847800"/>
          </a:xfrm>
          <a:prstGeom prst="rect">
            <a:avLst/>
          </a:prstGeom>
          <a:ln w="0">
            <a:noFill/>
          </a:ln>
        </p:spPr>
      </p:pic>
      <p:grpSp>
        <p:nvGrpSpPr>
          <p:cNvPr id="755" name="Group 8"/>
          <p:cNvGrpSpPr/>
          <p:nvPr/>
        </p:nvGrpSpPr>
        <p:grpSpPr>
          <a:xfrm>
            <a:off x="304920" y="4446720"/>
            <a:ext cx="8609040" cy="1965240"/>
            <a:chOff x="304920" y="4446720"/>
            <a:chExt cx="8609040" cy="1965240"/>
          </a:xfrm>
        </p:grpSpPr>
        <p:pic>
          <p:nvPicPr>
            <p:cNvPr id="756" name="Object 6" descr=""/>
            <p:cNvPicPr/>
            <p:nvPr/>
          </p:nvPicPr>
          <p:blipFill>
            <a:blip r:embed="rId3"/>
            <a:stretch/>
          </p:blipFill>
          <p:spPr>
            <a:xfrm>
              <a:off x="7626240" y="4446720"/>
              <a:ext cx="1287720" cy="19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7" name="Rectangle 7"/>
            <p:cNvSpPr/>
            <p:nvPr/>
          </p:nvSpPr>
          <p:spPr>
            <a:xfrm>
              <a:off x="304920" y="4800600"/>
              <a:ext cx="70102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И эллипс и скругленный прямоугольник можно рисовать незакрашенными, закрашенными и без границы.</a:t>
              </a:r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</p:grpSp>
    </p:spTree>
  </p:cSld>
  <p:transition spd="slow" advTm="30000">
    <p:fade thruBlk="true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2"/>
          <p:cNvSpPr/>
          <p:nvPr/>
        </p:nvSpPr>
        <p:spPr>
          <a:xfrm>
            <a:off x="762120" y="76320"/>
            <a:ext cx="76197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Образцы рисунков выполненных в Paint.</a:t>
            </a:r>
            <a:endParaRPr b="0" lang="en-US" sz="36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59" name="Picture 3" descr=""/>
          <p:cNvPicPr/>
          <p:nvPr/>
        </p:nvPicPr>
        <p:blipFill>
          <a:blip r:embed="rId1"/>
          <a:stretch/>
        </p:blipFill>
        <p:spPr>
          <a:xfrm>
            <a:off x="0" y="1295280"/>
            <a:ext cx="9155160" cy="555480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Picture 2" descr=""/>
          <p:cNvPicPr/>
          <p:nvPr/>
        </p:nvPicPr>
        <p:blipFill>
          <a:blip r:embed="rId1"/>
          <a:stretch/>
        </p:blipFill>
        <p:spPr>
          <a:xfrm>
            <a:off x="1355760" y="0"/>
            <a:ext cx="6748560" cy="68691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Paint - простейший графический редактор, он приемлем для создания простейших графических иллюстраций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9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 Paint можно создавать рекламу, буклеты, объявления, приглашения, поздравления и многое другое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0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Заключение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11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нечно, возможности Paint не такие большие, как, например у Corel Draw или Photo Shop, но и в нем можно сделать очень многое. Главное не стоит забывать, что в основе всех крутых рисовалок лежит те же методы рисования, как и в Paint. Также всегда легче начинать обучение с изучения более простых программ. В общем, желаем Вам успехов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Rectangle 4"/>
          <p:cNvSpPr/>
          <p:nvPr/>
        </p:nvSpPr>
        <p:spPr>
          <a:xfrm>
            <a:off x="7596360" y="6097680"/>
            <a:ext cx="1317600" cy="64116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Courier New"/>
              </a:rPr>
              <a:t>Юля</a:t>
            </a:r>
            <a:endParaRPr b="0" lang="en-US" sz="36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64" name="Autumnal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4" dur="109920" fill="hold"/>
                                        <p:tgtEl>
                                          <p:spTgt spid="7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2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2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2">
                                  <p:stCondLst>
                                    <p:cond delay="12000"/>
                                  </p:stCondLst>
                                  <p:iterate type="lt">
                                    <p:tmAbs val="20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Object 2" descr=""/>
          <p:cNvPicPr/>
          <p:nvPr/>
        </p:nvPicPr>
        <p:blipFill>
          <a:blip r:embed="rId1"/>
          <a:stretch/>
        </p:blipFill>
        <p:spPr>
          <a:xfrm>
            <a:off x="577800" y="380880"/>
            <a:ext cx="8121600" cy="6159600"/>
          </a:xfrm>
          <a:prstGeom prst="rect">
            <a:avLst/>
          </a:prstGeom>
          <a:ln w="0">
            <a:noFill/>
          </a:ln>
        </p:spPr>
      </p:pic>
      <p:sp>
        <p:nvSpPr>
          <p:cNvPr id="666" name="Line 3"/>
          <p:cNvSpPr/>
          <p:nvPr/>
        </p:nvSpPr>
        <p:spPr>
          <a:xfrm>
            <a:off x="3276720" y="990720"/>
            <a:ext cx="1981080" cy="91440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4648320" y="1295280"/>
            <a:ext cx="1371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Меню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68" name="Line 5"/>
          <p:cNvSpPr/>
          <p:nvPr/>
        </p:nvSpPr>
        <p:spPr>
          <a:xfrm>
            <a:off x="1055520" y="2330280"/>
            <a:ext cx="2536920" cy="82584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69" name="Rectangle 6"/>
          <p:cNvSpPr/>
          <p:nvPr/>
        </p:nvSpPr>
        <p:spPr>
          <a:xfrm rot="60000">
            <a:off x="2285640" y="3047760"/>
            <a:ext cx="403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Панель инструментов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0" name="Line 7"/>
          <p:cNvSpPr/>
          <p:nvPr/>
        </p:nvSpPr>
        <p:spPr>
          <a:xfrm flipV="1">
            <a:off x="2943360" y="4642920"/>
            <a:ext cx="2190600" cy="84780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1" name="Rectangle 8"/>
          <p:cNvSpPr/>
          <p:nvPr/>
        </p:nvSpPr>
        <p:spPr>
          <a:xfrm rot="20460000">
            <a:off x="3514680" y="4494240"/>
            <a:ext cx="1752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Палитра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2" name="Line 9"/>
          <p:cNvSpPr/>
          <p:nvPr/>
        </p:nvSpPr>
        <p:spPr>
          <a:xfrm flipV="1">
            <a:off x="5562720" y="5334120"/>
            <a:ext cx="2666880" cy="91440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73" name="Rectangle 10"/>
          <p:cNvSpPr/>
          <p:nvPr/>
        </p:nvSpPr>
        <p:spPr>
          <a:xfrm rot="20460000">
            <a:off x="5638320" y="5181120"/>
            <a:ext cx="3200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ff"/>
                </a:solidFill>
                <a:latin typeface="Times New Roman"/>
              </a:rPr>
              <a:t>Строка состояния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алитр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5" name="Rectangle 3"/>
          <p:cNvSpPr/>
          <p:nvPr/>
        </p:nvSpPr>
        <p:spPr>
          <a:xfrm>
            <a:off x="533520" y="1143000"/>
            <a:ext cx="80769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Для выбора первого (основного) цвета на палитре нужно щелкнуть по нему левой кнопкой мыши. Для выбора второго цвета (обычно это фон) по нему щелкают правой кнопкой. </a:t>
            </a:r>
            <a:endParaRPr b="0" lang="en-US" sz="2900" spc="-1" strike="noStrike">
              <a:solidFill>
                <a:srgbClr val="ffffff"/>
              </a:solidFill>
              <a:latin typeface="Times New Roman Cyr"/>
            </a:endParaRPr>
          </a:p>
        </p:txBody>
      </p:sp>
      <p:grpSp>
        <p:nvGrpSpPr>
          <p:cNvPr id="676" name="Group 6"/>
          <p:cNvGrpSpPr/>
          <p:nvPr/>
        </p:nvGrpSpPr>
        <p:grpSpPr>
          <a:xfrm>
            <a:off x="539640" y="3130560"/>
            <a:ext cx="8064720" cy="3340080"/>
            <a:chOff x="539640" y="3130560"/>
            <a:chExt cx="8064720" cy="3340080"/>
          </a:xfrm>
        </p:grpSpPr>
        <p:sp>
          <p:nvSpPr>
            <p:cNvPr id="677" name="Rectangle 4"/>
            <p:cNvSpPr/>
            <p:nvPr/>
          </p:nvSpPr>
          <p:spPr>
            <a:xfrm>
              <a:off x="539640" y="3130560"/>
              <a:ext cx="8064720" cy="3340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 Cyr"/>
              </a:endParaRPr>
            </a:p>
          </p:txBody>
        </p:sp>
        <p:pic>
          <p:nvPicPr>
            <p:cNvPr id="678" name="Object 5" descr=""/>
            <p:cNvPicPr/>
            <p:nvPr/>
          </p:nvPicPr>
          <p:blipFill>
            <a:blip r:embed="rId2"/>
            <a:stretch/>
          </p:blipFill>
          <p:spPr>
            <a:xfrm>
              <a:off x="871560" y="5105520"/>
              <a:ext cx="5999040" cy="108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9" name="Line 7"/>
          <p:cNvSpPr/>
          <p:nvPr/>
        </p:nvSpPr>
        <p:spPr>
          <a:xfrm flipV="1">
            <a:off x="1295280" y="3581280"/>
            <a:ext cx="2514600" cy="198144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80" name="Rectangle 8"/>
          <p:cNvSpPr/>
          <p:nvPr/>
        </p:nvSpPr>
        <p:spPr>
          <a:xfrm rot="19380000">
            <a:off x="1599840" y="38095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Times New Roman"/>
              </a:rPr>
              <a:t>Первый цвет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81" name="Line 9"/>
          <p:cNvSpPr/>
          <p:nvPr/>
        </p:nvSpPr>
        <p:spPr>
          <a:xfrm flipV="1">
            <a:off x="1447920" y="4343400"/>
            <a:ext cx="4038480" cy="1447920"/>
          </a:xfrm>
          <a:prstGeom prst="line">
            <a:avLst/>
          </a:prstGeom>
          <a:ln w="50760">
            <a:solidFill>
              <a:srgbClr val="ffcc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82" name="Rectangle 10"/>
          <p:cNvSpPr/>
          <p:nvPr/>
        </p:nvSpPr>
        <p:spPr>
          <a:xfrm rot="20400000">
            <a:off x="3276720" y="4190760"/>
            <a:ext cx="228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cc"/>
                </a:solidFill>
                <a:latin typeface="Times New Roman"/>
              </a:rPr>
              <a:t>Второй цвет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00"/>
              </a:buClr>
              <a:buSzPct val="7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Чтобы рисовать, закрашивать, менять цвет, делать надписи, стирать и т.д. в программе Paint, необходимо выбрать нужный инструмент. Для этого используется </a:t>
            </a:r>
            <a:r>
              <a:rPr b="0" i="1" lang="ru-RU" sz="3400" spc="-1" strike="noStrike" u="sng">
                <a:solidFill>
                  <a:srgbClr val="ffffff"/>
                </a:solidFill>
                <a:uFillTx/>
                <a:latin typeface="Times New Roman"/>
              </a:rPr>
              <a:t>Панель инструментов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SzPct val="7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Чтобы выбрать нужный инструмент, нужно щелкнуть на кнопке с его изображением.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анель инструментов Paint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 spd="slow" advTm="30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2"/>
          <p:cNvSpPr/>
          <p:nvPr/>
        </p:nvSpPr>
        <p:spPr>
          <a:xfrm>
            <a:off x="1066680" y="304920"/>
            <a:ext cx="685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Выделение области рисунка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503280" y="1123920"/>
            <a:ext cx="576360" cy="595440"/>
          </a:xfrm>
          <a:prstGeom prst="rect">
            <a:avLst/>
          </a:prstGeom>
          <a:ln w="0">
            <a:noFill/>
          </a:ln>
        </p:spPr>
      </p:pic>
      <p:sp>
        <p:nvSpPr>
          <p:cNvPr id="687" name="Rectangle 4"/>
          <p:cNvSpPr/>
          <p:nvPr/>
        </p:nvSpPr>
        <p:spPr>
          <a:xfrm>
            <a:off x="1143000" y="1143000"/>
            <a:ext cx="5486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деление произвольной области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88" name="Picture 5" descr=""/>
          <p:cNvPicPr/>
          <p:nvPr/>
        </p:nvPicPr>
        <p:blipFill>
          <a:blip r:embed="rId2"/>
          <a:stretch/>
        </p:blipFill>
        <p:spPr>
          <a:xfrm>
            <a:off x="503280" y="1928880"/>
            <a:ext cx="576360" cy="59364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6"/>
          <p:cNvSpPr/>
          <p:nvPr/>
        </p:nvSpPr>
        <p:spPr>
          <a:xfrm>
            <a:off x="1143000" y="1981080"/>
            <a:ext cx="655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деление прямоугольной области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457200" y="2743200"/>
            <a:ext cx="8381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деленный фрагмент рисунка можно перетаскивать мышью на другое место, можно копировать этот фрагмент (если перетаскивать его с нажатой клавишей Ctrl)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91" name="Object 8" descr=""/>
          <p:cNvPicPr/>
          <p:nvPr/>
        </p:nvPicPr>
        <p:blipFill>
          <a:blip r:embed="rId3"/>
          <a:stretch/>
        </p:blipFill>
        <p:spPr>
          <a:xfrm>
            <a:off x="299880" y="4829040"/>
            <a:ext cx="932040" cy="1419480"/>
          </a:xfrm>
          <a:prstGeom prst="rect">
            <a:avLst/>
          </a:prstGeom>
          <a:ln w="0">
            <a:noFill/>
          </a:ln>
        </p:spPr>
      </p:pic>
      <p:sp>
        <p:nvSpPr>
          <p:cNvPr id="692" name="Rectangle 9"/>
          <p:cNvSpPr/>
          <p:nvPr/>
        </p:nvSpPr>
        <p:spPr>
          <a:xfrm>
            <a:off x="1370160" y="4648320"/>
            <a:ext cx="76215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уществует два режима выделения фрагмента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розрачное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цвет фона становится прозрачным) и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непрозрачное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в фрагменте сохраняется цвет фона)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</p:spTree>
  </p:cSld>
  <p:transition spd="slow" advTm="30000">
    <p:fade thruBlk="true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2"/>
          <p:cNvSpPr/>
          <p:nvPr/>
        </p:nvSpPr>
        <p:spPr>
          <a:xfrm>
            <a:off x="457200" y="228600"/>
            <a:ext cx="8458200" cy="52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Ластик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ужит для стирания части рисунка. Если стирать левой кнопкой мыши, то участок рисунка, который был удален заменится цветом фона (второй цвет в палитре). Если стирать правой кнопкой мыши, то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вторым цветом заменится только первый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ыбранный вами цвет, что позволяет производить операцию по перекраске неправильных участков рисунка, даже если они находятся в гуще рисунка. 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жно изменять размер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астика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94" name="Picture 3" descr=""/>
          <p:cNvPicPr/>
          <p:nvPr/>
        </p:nvPicPr>
        <p:blipFill>
          <a:blip r:embed="rId1"/>
          <a:stretch/>
        </p:blipFill>
        <p:spPr>
          <a:xfrm>
            <a:off x="2428920" y="66600"/>
            <a:ext cx="860400" cy="860400"/>
          </a:xfrm>
          <a:prstGeom prst="rect">
            <a:avLst/>
          </a:prstGeom>
          <a:ln w="0">
            <a:noFill/>
          </a:ln>
        </p:spPr>
      </p:pic>
      <p:pic>
        <p:nvPicPr>
          <p:cNvPr id="695" name="Object 4" descr=""/>
          <p:cNvPicPr/>
          <p:nvPr/>
        </p:nvPicPr>
        <p:blipFill>
          <a:blip r:embed="rId2"/>
          <a:stretch/>
        </p:blipFill>
        <p:spPr>
          <a:xfrm>
            <a:off x="299880" y="4600440"/>
            <a:ext cx="939960" cy="1432080"/>
          </a:xfrm>
          <a:prstGeom prst="rect">
            <a:avLst/>
          </a:prstGeom>
          <a:ln w="0">
            <a:noFill/>
          </a:ln>
        </p:spPr>
      </p:pic>
      <p:pic>
        <p:nvPicPr>
          <p:cNvPr id="696" name="Object 5" descr=""/>
          <p:cNvPicPr/>
          <p:nvPr/>
        </p:nvPicPr>
        <p:blipFill>
          <a:blip r:embed="rId3"/>
          <a:stretch/>
        </p:blipFill>
        <p:spPr>
          <a:xfrm>
            <a:off x="5486400" y="4506840"/>
            <a:ext cx="3351240" cy="215424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2"/>
          <p:cNvSpPr/>
          <p:nvPr/>
        </p:nvSpPr>
        <p:spPr>
          <a:xfrm>
            <a:off x="380880" y="228600"/>
            <a:ext cx="84582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Заливка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пользуется для окрашивания больших замкнутых областей рисунка. Если окрашиваемая область незамкнута, то краска, которой заливают фрагмент “разольется” и окрасит весь рисунок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698" name="Picture 3" descr=""/>
          <p:cNvPicPr/>
          <p:nvPr/>
        </p:nvPicPr>
        <p:blipFill>
          <a:blip r:embed="rId1"/>
          <a:stretch/>
        </p:blipFill>
        <p:spPr>
          <a:xfrm>
            <a:off x="2124000" y="219240"/>
            <a:ext cx="708120" cy="707760"/>
          </a:xfrm>
          <a:prstGeom prst="rect">
            <a:avLst/>
          </a:prstGeom>
          <a:ln w="0">
            <a:noFill/>
          </a:ln>
        </p:spPr>
      </p:pic>
      <p:sp>
        <p:nvSpPr>
          <p:cNvPr id="699" name="Rectangle 4"/>
          <p:cNvSpPr/>
          <p:nvPr/>
        </p:nvSpPr>
        <p:spPr>
          <a:xfrm>
            <a:off x="380880" y="2971800"/>
            <a:ext cx="838224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Выбор цветов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зволяет “взять” любой цвет прямо с рисунка и использовать его для рисования. Для этого нужно просто щелкнуть по объекту рисунка окрашенного в нужный вам цвет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00" name="Picture 5" descr=""/>
          <p:cNvPicPr/>
          <p:nvPr/>
        </p:nvPicPr>
        <p:blipFill>
          <a:blip r:embed="rId2"/>
          <a:stretch/>
        </p:blipFill>
        <p:spPr>
          <a:xfrm>
            <a:off x="2124000" y="2962440"/>
            <a:ext cx="708120" cy="7077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2"/>
          <p:cNvSpPr/>
          <p:nvPr/>
        </p:nvSpPr>
        <p:spPr>
          <a:xfrm>
            <a:off x="380880" y="152280"/>
            <a:ext cx="838224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Масштаб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ужит для увеличения масштаба отображения рисунка. Это необходимо для избежания          ошибок при рисовании каких-либо мелких      деталей. Можно увеличить рисунок                              в 2, 6 и 8 раз.  Чтобы вернуться к исходному      размеру рисунка нужно щелкнуть “1х”. В меню “Вид”, выбрав “Масштаб” можно убрать или показать сетку, а также окно 100%. 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02" name="Picture 3" descr=""/>
          <p:cNvPicPr/>
          <p:nvPr/>
        </p:nvPicPr>
        <p:blipFill>
          <a:blip r:embed="rId1"/>
          <a:stretch/>
        </p:blipFill>
        <p:spPr>
          <a:xfrm>
            <a:off x="2276640" y="142920"/>
            <a:ext cx="707760" cy="708120"/>
          </a:xfrm>
          <a:prstGeom prst="rect">
            <a:avLst/>
          </a:prstGeom>
          <a:ln w="0">
            <a:noFill/>
          </a:ln>
        </p:spPr>
      </p:pic>
      <p:pic>
        <p:nvPicPr>
          <p:cNvPr id="703" name="Object 4" descr=""/>
          <p:cNvPicPr/>
          <p:nvPr/>
        </p:nvPicPr>
        <p:blipFill>
          <a:blip r:embed="rId2"/>
          <a:stretch/>
        </p:blipFill>
        <p:spPr>
          <a:xfrm>
            <a:off x="7386480" y="1476360"/>
            <a:ext cx="1089360" cy="1660680"/>
          </a:xfrm>
          <a:prstGeom prst="rect">
            <a:avLst/>
          </a:prstGeom>
          <a:ln w="0">
            <a:noFill/>
          </a:ln>
        </p:spPr>
      </p:pic>
      <p:sp>
        <p:nvSpPr>
          <p:cNvPr id="704" name="Rectangle 5"/>
          <p:cNvSpPr/>
          <p:nvPr/>
        </p:nvSpPr>
        <p:spPr>
          <a:xfrm>
            <a:off x="304920" y="4267080"/>
            <a:ext cx="853416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Times New Roman"/>
              </a:rPr>
              <a:t>Карандаш</a:t>
            </a:r>
            <a:endParaRPr b="0" lang="en-US" sz="3200" spc="-1" strike="noStrike">
              <a:solidFill>
                <a:srgbClr val="ffffff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итация рисования карандашом. Можно нарисовать только тонкую линию. Чтобы провести строго вертикальную или горизонтальную линию нужно рисовать ее с нажатой клавишей Shift.</a:t>
            </a:r>
            <a:endParaRPr b="0" lang="en-US" sz="2800" spc="-1" strike="noStrike">
              <a:solidFill>
                <a:srgbClr val="ffffff"/>
              </a:solidFill>
              <a:latin typeface="Times New Roman Cyr"/>
            </a:endParaRPr>
          </a:p>
        </p:txBody>
      </p:sp>
      <p:pic>
        <p:nvPicPr>
          <p:cNvPr id="705" name="Picture 6" descr=""/>
          <p:cNvPicPr/>
          <p:nvPr/>
        </p:nvPicPr>
        <p:blipFill>
          <a:blip r:embed="rId3"/>
          <a:stretch/>
        </p:blipFill>
        <p:spPr>
          <a:xfrm>
            <a:off x="2505240" y="4410000"/>
            <a:ext cx="707760" cy="70812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05:41:34Z</dcterms:created>
  <dc:creator> </dc:creator>
  <dc:description/>
  <dc:language>en-US</dc:language>
  <cp:lastModifiedBy>Name</cp:lastModifiedBy>
  <dcterms:modified xsi:type="dcterms:W3CDTF">2011-02-03T12:42:14Z</dcterms:modified>
  <cp:revision>28</cp:revision>
  <dc:subject/>
  <dc:title>Графический редактор Pa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60c0000000000010243000207f6000400038000</vt:lpwstr>
  </property>
</Properties>
</file>