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5.jpeg" ContentType="image/jpeg"/>
  <Override PartName="/ppt/media/image4.jpeg" ContentType="image/jpeg"/>
  <Override PartName="/ppt/media/image3.gif" ContentType="image/gif"/>
  <Override PartName="/ppt/media/image23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1.wmf" ContentType="image/x-wmf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-360" y="-13717440"/>
            <a:ext cx="360" cy="288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848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1"/>
          <p:cNvSpPr/>
          <p:nvPr/>
        </p:nvSpPr>
        <p:spPr>
          <a:xfrm>
            <a:off x="1143000" y="179280"/>
            <a:ext cx="4976640" cy="3944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 самого раннего детства я люблю рисовать и, наверное, можно назвать меня  художником, потому что всякий, кто умеет и любит придумывать, фантазировать и творить по праву может себя так называть. Но одного желания мало. Нужно научиться пользоваться различными красками, карандашами, кистями - настоящими волшебными палочками, творящими чудес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Я рисую цветными карандашами, гуашью, восковыми мелками, пастелью, фломастерами, но больше всего мне нравится творить акварелью. Иногда у меня что-то не получается, так как я мало знаю об этом художественном материале. Изобразительное искусство, как и письмо слов, имеет свои правила и приемы, свою азбуку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0" y="-11639520"/>
            <a:ext cx="1440" cy="2466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1"/>
          <p:cNvSpPr/>
          <p:nvPr/>
        </p:nvSpPr>
        <p:spPr>
          <a:xfrm>
            <a:off x="360360" y="360360"/>
            <a:ext cx="61196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body"/>
          </p:nvPr>
        </p:nvSpPr>
        <p:spPr>
          <a:xfrm>
            <a:off x="899640" y="4680000"/>
            <a:ext cx="5219640" cy="42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Третий способ - </a:t>
            </a:r>
            <a:r>
              <a:rPr b="0" lang="en-GB" sz="1800" spc="-1" strike="noStrike">
                <a:solidFill>
                  <a:srgbClr val="800000"/>
                </a:solidFill>
                <a:latin typeface="Times New Roman"/>
                <a:ea typeface="Lucida Sans Unicode"/>
              </a:rPr>
              <a:t>«пуантилизм»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(по-французски слово «пуант» означает точка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то рисование разноцветными мазками. Художники заметили однажды, что если чередовать разноцветные мазки, например, жёлтого и красного цвета, то издали, если прищуриться, можно увидеть оранжевый цвет. Так можно изображать солнце или спелое яблок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"/>
          <p:cNvSpPr/>
          <p:nvPr/>
        </p:nvSpPr>
        <p:spPr>
          <a:xfrm>
            <a:off x="1260360" y="539640"/>
            <a:ext cx="4500720" cy="3584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720360" y="4319640"/>
            <a:ext cx="5451480" cy="26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амый первый из них  художники называют «а-ля прима». Цвет подбирается на палитре и после этого накладывается на рисунок. Этот способ самый простой, им я пользуюсь чаще всего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1"/>
          <p:cNvSpPr/>
          <p:nvPr/>
        </p:nvSpPr>
        <p:spPr>
          <a:xfrm>
            <a:off x="1440000" y="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1979640" y="144000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2340000" y="2700360"/>
            <a:ext cx="10051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ар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979640" y="2700360"/>
            <a:ext cx="10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2340000" y="2700360"/>
            <a:ext cx="72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2160720" y="2700360"/>
            <a:ext cx="180000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31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just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43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исти для акварели должны быть гибкими, мягкими и эластичными, беличьими или колонковыми. Первые кисти появились больше чем 2500 лет назад, это были деревянные палочки с расщепленным кончиком, позднее в палочку вставляли волосы, шерсть  животных,  птичьи перь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800360" y="2340000"/>
            <a:ext cx="1807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900000" y="4140360"/>
            <a:ext cx="181080" cy="3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0" y="5940360"/>
            <a:ext cx="18108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32B5-DE3D-422B-8FDE-7D836F03D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0AD9-61D3-4ED1-BCDA-A2D113C15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C12C-601A-4BBF-B5A8-F70B48ADE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8536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88492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68580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8536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588492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C0AB-39C0-419E-A18B-0D9E0D7E5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628E7-2890-4144-A332-DC7102E4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2F8E5-B7F9-4CFF-A1B6-D3ADAC88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130F-75DE-4428-93D3-AFD50DE9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BAD99-6082-4DD8-9F41-A2AC6CAD9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C61A-D68C-42B7-86BF-2378B351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-853920"/>
            <a:ext cx="6862680" cy="12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DBF5-C6E4-4D16-99BC-0A7E3481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4E88-D7BD-443D-9F2C-31A93D27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218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D3D9-3D1B-483E-8318-7E0DE8264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9F586-5C49-406A-A7F4-F7B8AD28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2993-C593-4CA5-9B82-787E5528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3783-CC23-4617-A5F1-A121ADC3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F098B-C188-4DE1-9CDF-0A61A708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536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4920" y="182880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536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4920" y="5197320"/>
            <a:ext cx="24753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A3654-BE86-42C5-BBCC-57C81DCD8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1734-411D-4F7F-AAFE-8BBA6BECE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BE50-2170-4AF2-B9FA-93EA1BC1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5F69-4B50-4AA5-800B-7158541C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685440" y="-853920"/>
            <a:ext cx="6862680" cy="120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218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2D0C-4941-4515-962D-77940779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1AAF-0339-44E2-9010-462B7992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25280" y="519732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F60E-9ED9-42CD-B72C-CE2BD231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25280" y="1828800"/>
            <a:ext cx="37515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5197320"/>
            <a:ext cx="7688160" cy="307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218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D415-1DF2-4EE3-8EFB-5ABF8F8E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184400"/>
            <a:ext cx="63928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21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792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988FE3-2935-4A47-A0EC-48508E94748D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6"/>
          <p:cNvGrpSpPr/>
          <p:nvPr/>
        </p:nvGrpSpPr>
        <p:grpSpPr>
          <a:xfrm>
            <a:off x="195120" y="235080"/>
            <a:ext cx="3786480" cy="1775880"/>
            <a:chOff x="195120" y="235080"/>
            <a:chExt cx="3786480" cy="1775880"/>
          </a:xfrm>
        </p:grpSpPr>
        <p:sp>
          <p:nvSpPr>
            <p:cNvPr id="6" name="Freeform 7"/>
            <p:cNvSpPr/>
            <p:nvPr/>
          </p:nvSpPr>
          <p:spPr>
            <a:xfrm>
              <a:off x="281160" y="280800"/>
              <a:ext cx="3571560" cy="16124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8"/>
            <p:cNvSpPr/>
            <p:nvPr/>
          </p:nvSpPr>
          <p:spPr>
            <a:xfrm>
              <a:off x="263520" y="414000"/>
              <a:ext cx="3562200" cy="15969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9"/>
            <p:cNvSpPr/>
            <p:nvPr/>
          </p:nvSpPr>
          <p:spPr>
            <a:xfrm>
              <a:off x="752400" y="545760"/>
              <a:ext cx="2362320" cy="14569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" name="Group 10"/>
            <p:cNvGrpSpPr/>
            <p:nvPr/>
          </p:nvGrpSpPr>
          <p:grpSpPr>
            <a:xfrm>
              <a:off x="195120" y="235080"/>
              <a:ext cx="3786480" cy="1712520"/>
              <a:chOff x="195120" y="235080"/>
              <a:chExt cx="3786480" cy="1712520"/>
            </a:xfrm>
          </p:grpSpPr>
          <p:sp>
            <p:nvSpPr>
              <p:cNvPr id="10" name="Freeform 11"/>
              <p:cNvSpPr/>
              <p:nvPr/>
            </p:nvSpPr>
            <p:spPr>
              <a:xfrm>
                <a:off x="3181320" y="1479960"/>
                <a:ext cx="336240" cy="338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2"/>
              <p:cNvSpPr/>
              <p:nvPr/>
            </p:nvSpPr>
            <p:spPr>
              <a:xfrm>
                <a:off x="195120" y="235080"/>
                <a:ext cx="3786480" cy="1712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514080" y="250560"/>
                <a:ext cx="2675520" cy="972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4"/>
              <p:cNvSpPr/>
              <p:nvPr/>
            </p:nvSpPr>
            <p:spPr>
              <a:xfrm>
                <a:off x="649080" y="398160"/>
                <a:ext cx="360000" cy="6494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Freeform 15"/>
              <p:cNvSpPr/>
              <p:nvPr/>
            </p:nvSpPr>
            <p:spPr>
              <a:xfrm>
                <a:off x="1342440" y="849600"/>
                <a:ext cx="1096200" cy="57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5" name="Group 16"/>
          <p:cNvGrpSpPr/>
          <p:nvPr/>
        </p:nvGrpSpPr>
        <p:grpSpPr>
          <a:xfrm>
            <a:off x="7718760" y="4232160"/>
            <a:ext cx="1170000" cy="1330200"/>
            <a:chOff x="7718760" y="4232160"/>
            <a:chExt cx="1170000" cy="1330200"/>
          </a:xfrm>
        </p:grpSpPr>
        <p:sp>
          <p:nvSpPr>
            <p:cNvPr id="16" name="Freeform 17"/>
            <p:cNvSpPr/>
            <p:nvPr/>
          </p:nvSpPr>
          <p:spPr>
            <a:xfrm rot="7320000">
              <a:off x="7800840" y="465264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8"/>
            <p:cNvSpPr/>
            <p:nvPr/>
          </p:nvSpPr>
          <p:spPr>
            <a:xfrm rot="7320000">
              <a:off x="7777440" y="4636080"/>
              <a:ext cx="99504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19"/>
            <p:cNvSpPr/>
            <p:nvPr/>
          </p:nvSpPr>
          <p:spPr>
            <a:xfrm rot="7320000">
              <a:off x="7943760" y="463104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" name="Group 20"/>
            <p:cNvGrpSpPr/>
            <p:nvPr/>
          </p:nvGrpSpPr>
          <p:grpSpPr>
            <a:xfrm>
              <a:off x="7718760" y="4232160"/>
              <a:ext cx="1170000" cy="1330200"/>
              <a:chOff x="7718760" y="4232160"/>
              <a:chExt cx="1170000" cy="1330200"/>
            </a:xfrm>
          </p:grpSpPr>
          <p:sp>
            <p:nvSpPr>
              <p:cNvPr id="20" name="Freeform 21"/>
              <p:cNvSpPr/>
              <p:nvPr/>
            </p:nvSpPr>
            <p:spPr>
              <a:xfrm rot="7320000">
                <a:off x="7822800" y="5075640"/>
                <a:ext cx="102600" cy="12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Freeform 22"/>
              <p:cNvSpPr/>
              <p:nvPr/>
            </p:nvSpPr>
            <p:spPr>
              <a:xfrm rot="7320000">
                <a:off x="7724160" y="4569120"/>
                <a:ext cx="1158840" cy="655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Freeform 23"/>
              <p:cNvSpPr/>
              <p:nvPr/>
            </p:nvSpPr>
            <p:spPr>
              <a:xfrm rot="7320000">
                <a:off x="8040240" y="4708800"/>
                <a:ext cx="820080" cy="371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Freeform 24"/>
              <p:cNvSpPr/>
              <p:nvPr/>
            </p:nvSpPr>
            <p:spPr>
              <a:xfrm rot="7320000">
                <a:off x="8609040" y="4515480"/>
                <a:ext cx="109080" cy="2484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5"/>
              <p:cNvSpPr/>
              <p:nvPr/>
            </p:nvSpPr>
            <p:spPr>
              <a:xfrm rot="7320000">
                <a:off x="8151840" y="4719600"/>
                <a:ext cx="335160" cy="218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" name="Freeform 26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Freeform 27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2"/>
          <p:cNvSpPr/>
          <p:nvPr/>
        </p:nvSpPr>
        <p:spPr>
          <a:xfrm rot="18420000">
            <a:off x="7776360" y="-13680"/>
            <a:ext cx="116172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-853920"/>
            <a:ext cx="6862680" cy="25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88160" cy="64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1000" indent="-2610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573120" indent="-21672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89136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2481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604520" indent="-178200">
              <a:lnSpc>
                <a:spcPct val="218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875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8972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078241-080B-42EF-A83B-EDD7B267618E}" type="slidenum">
              <a:rPr b="0" lang="en-GB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8"/>
          <p:cNvSpPr/>
          <p:nvPr/>
        </p:nvSpPr>
        <p:spPr>
          <a:xfrm rot="18420000">
            <a:off x="7858800" y="27360"/>
            <a:ext cx="116532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Freeform 9"/>
          <p:cNvSpPr/>
          <p:nvPr/>
        </p:nvSpPr>
        <p:spPr>
          <a:xfrm rot="18420000">
            <a:off x="7824960" y="192960"/>
            <a:ext cx="1025640" cy="157176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10"/>
          <p:cNvGrpSpPr/>
          <p:nvPr/>
        </p:nvGrpSpPr>
        <p:grpSpPr>
          <a:xfrm>
            <a:off x="7920" y="5540400"/>
            <a:ext cx="1782360" cy="1244160"/>
            <a:chOff x="7920" y="5540400"/>
            <a:chExt cx="1782360" cy="1244160"/>
          </a:xfrm>
        </p:grpSpPr>
        <p:sp>
          <p:nvSpPr>
            <p:cNvPr id="72" name="Freeform 11"/>
            <p:cNvSpPr/>
            <p:nvPr/>
          </p:nvSpPr>
          <p:spPr>
            <a:xfrm>
              <a:off x="38160" y="5563800"/>
              <a:ext cx="1728720" cy="10285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622520" y="5686200"/>
              <a:ext cx="112680" cy="20412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31680" y="5990400"/>
              <a:ext cx="1257480" cy="64980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204840" y="6044040"/>
              <a:ext cx="833400" cy="5925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770040" y="5606640"/>
              <a:ext cx="214200" cy="1918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1017720" y="6607080"/>
              <a:ext cx="120600" cy="17748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00280" y="5725800"/>
              <a:ext cx="306360" cy="6069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1060560" y="5698800"/>
              <a:ext cx="577800" cy="27540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550800" y="5861880"/>
              <a:ext cx="247680" cy="10620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" name="Group 20"/>
            <p:cNvGrpSpPr/>
            <p:nvPr/>
          </p:nvGrpSpPr>
          <p:grpSpPr>
            <a:xfrm>
              <a:off x="7920" y="5540400"/>
              <a:ext cx="1782360" cy="1234080"/>
              <a:chOff x="7920" y="5540400"/>
              <a:chExt cx="1782360" cy="1234080"/>
            </a:xfrm>
          </p:grpSpPr>
          <p:grpSp>
            <p:nvGrpSpPr>
              <p:cNvPr id="82" name="Group 21"/>
              <p:cNvGrpSpPr/>
              <p:nvPr/>
            </p:nvGrpSpPr>
            <p:grpSpPr>
              <a:xfrm>
                <a:off x="792000" y="5654160"/>
                <a:ext cx="868320" cy="1120320"/>
                <a:chOff x="792000" y="5654160"/>
                <a:chExt cx="868320" cy="1120320"/>
              </a:xfrm>
            </p:grpSpPr>
            <p:sp>
              <p:nvSpPr>
                <p:cNvPr id="83" name="Freeform 22"/>
                <p:cNvSpPr/>
                <p:nvPr/>
              </p:nvSpPr>
              <p:spPr>
                <a:xfrm>
                  <a:off x="792000" y="5693760"/>
                  <a:ext cx="24876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23"/>
                <p:cNvSpPr/>
                <p:nvPr/>
              </p:nvSpPr>
              <p:spPr>
                <a:xfrm>
                  <a:off x="1009080" y="6563880"/>
                  <a:ext cx="182160" cy="210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24"/>
                <p:cNvSpPr/>
                <p:nvPr/>
              </p:nvSpPr>
              <p:spPr>
                <a:xfrm>
                  <a:off x="1592280" y="5654160"/>
                  <a:ext cx="68040" cy="1850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" name="Freeform 25"/>
              <p:cNvSpPr/>
              <p:nvPr/>
            </p:nvSpPr>
            <p:spPr>
              <a:xfrm>
                <a:off x="120600" y="5923800"/>
                <a:ext cx="944640" cy="396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Freeform 26"/>
              <p:cNvSpPr/>
              <p:nvPr/>
            </p:nvSpPr>
            <p:spPr>
              <a:xfrm>
                <a:off x="412920" y="6167880"/>
                <a:ext cx="387360" cy="2347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Freeform 27"/>
              <p:cNvSpPr/>
              <p:nvPr/>
            </p:nvSpPr>
            <p:spPr>
              <a:xfrm>
                <a:off x="896760" y="5841360"/>
                <a:ext cx="169920" cy="37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" name="Group 28"/>
              <p:cNvGrpSpPr/>
              <p:nvPr/>
            </p:nvGrpSpPr>
            <p:grpSpPr>
              <a:xfrm>
                <a:off x="7920" y="5540400"/>
                <a:ext cx="1782360" cy="1072440"/>
                <a:chOff x="7920" y="5540400"/>
                <a:chExt cx="1782360" cy="1072440"/>
              </a:xfrm>
            </p:grpSpPr>
            <p:sp>
              <p:nvSpPr>
                <p:cNvPr id="90" name="Freeform 29"/>
                <p:cNvSpPr/>
                <p:nvPr/>
              </p:nvSpPr>
              <p:spPr>
                <a:xfrm>
                  <a:off x="1060920" y="6423120"/>
                  <a:ext cx="118800" cy="137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30"/>
                <p:cNvSpPr/>
                <p:nvPr/>
              </p:nvSpPr>
              <p:spPr>
                <a:xfrm>
                  <a:off x="7920" y="5916600"/>
                  <a:ext cx="1335240" cy="69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31"/>
                <p:cNvSpPr/>
                <p:nvPr/>
              </p:nvSpPr>
              <p:spPr>
                <a:xfrm>
                  <a:off x="167760" y="5983200"/>
                  <a:ext cx="126720" cy="263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32"/>
                <p:cNvSpPr/>
                <p:nvPr/>
              </p:nvSpPr>
              <p:spPr>
                <a:xfrm>
                  <a:off x="712080" y="5540400"/>
                  <a:ext cx="510480" cy="939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33"/>
                <p:cNvSpPr/>
                <p:nvPr/>
              </p:nvSpPr>
              <p:spPr>
                <a:xfrm>
                  <a:off x="916560" y="5793120"/>
                  <a:ext cx="151920" cy="39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34"/>
                <p:cNvSpPr/>
                <p:nvPr/>
              </p:nvSpPr>
              <p:spPr>
                <a:xfrm>
                  <a:off x="519840" y="5761440"/>
                  <a:ext cx="309240" cy="213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35"/>
                <p:cNvSpPr/>
                <p:nvPr/>
              </p:nvSpPr>
              <p:spPr>
                <a:xfrm>
                  <a:off x="1043640" y="5616360"/>
                  <a:ext cx="746640" cy="334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36"/>
                <p:cNvSpPr/>
                <p:nvPr/>
              </p:nvSpPr>
              <p:spPr>
                <a:xfrm>
                  <a:off x="1136880" y="5723640"/>
                  <a:ext cx="388080" cy="136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98" name="Group 37"/>
          <p:cNvGrpSpPr/>
          <p:nvPr/>
        </p:nvGrpSpPr>
        <p:grpSpPr>
          <a:xfrm>
            <a:off x="8680320" y="2116080"/>
            <a:ext cx="384120" cy="4306680"/>
            <a:chOff x="8680320" y="2116080"/>
            <a:chExt cx="384120" cy="4306680"/>
          </a:xfrm>
        </p:grpSpPr>
        <p:sp>
          <p:nvSpPr>
            <p:cNvPr id="99" name="Freeform 38"/>
            <p:cNvSpPr/>
            <p:nvPr/>
          </p:nvSpPr>
          <p:spPr>
            <a:xfrm flipH="1">
              <a:off x="8680320" y="4158360"/>
              <a:ext cx="324000" cy="226440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39"/>
            <p:cNvSpPr/>
            <p:nvPr/>
          </p:nvSpPr>
          <p:spPr>
            <a:xfrm flipH="1">
              <a:off x="8740440" y="2116080"/>
              <a:ext cx="324000" cy="25912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6890760" y="-157680"/>
            <a:ext cx="2977200" cy="2838960"/>
            <a:chOff x="6890760" y="-157680"/>
            <a:chExt cx="2977200" cy="2838960"/>
          </a:xfrm>
        </p:grpSpPr>
        <p:grpSp>
          <p:nvGrpSpPr>
            <p:cNvPr id="102" name="Group 41"/>
            <p:cNvGrpSpPr/>
            <p:nvPr/>
          </p:nvGrpSpPr>
          <p:grpSpPr>
            <a:xfrm>
              <a:off x="6890760" y="-157680"/>
              <a:ext cx="2977200" cy="2838960"/>
              <a:chOff x="6890760" y="-157680"/>
              <a:chExt cx="2977200" cy="2838960"/>
            </a:xfrm>
          </p:grpSpPr>
          <p:sp>
            <p:nvSpPr>
              <p:cNvPr id="103" name="Freeform 42"/>
              <p:cNvSpPr/>
              <p:nvPr/>
            </p:nvSpPr>
            <p:spPr>
              <a:xfrm rot="18420000">
                <a:off x="8616960" y="1725120"/>
                <a:ext cx="9828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71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" name="Group 43"/>
              <p:cNvGrpSpPr/>
              <p:nvPr/>
            </p:nvGrpSpPr>
            <p:grpSpPr>
              <a:xfrm>
                <a:off x="6890760" y="-157680"/>
                <a:ext cx="2977200" cy="2838960"/>
                <a:chOff x="6890760" y="-157680"/>
                <a:chExt cx="2977200" cy="2838960"/>
              </a:xfrm>
            </p:grpSpPr>
            <p:sp>
              <p:nvSpPr>
                <p:cNvPr id="105" name="Freeform 44"/>
                <p:cNvSpPr/>
                <p:nvPr/>
              </p:nvSpPr>
              <p:spPr>
                <a:xfrm rot="18420000">
                  <a:off x="7779240" y="-24120"/>
                  <a:ext cx="348480" cy="225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45"/>
                <p:cNvSpPr/>
                <p:nvPr/>
              </p:nvSpPr>
              <p:spPr>
                <a:xfrm rot="18420000">
                  <a:off x="7893720" y="644400"/>
                  <a:ext cx="612720" cy="790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Freeform 46"/>
                <p:cNvSpPr/>
                <p:nvPr/>
              </p:nvSpPr>
              <p:spPr>
                <a:xfrm rot="18420000">
                  <a:off x="7504200" y="411840"/>
                  <a:ext cx="1149840" cy="16210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47"/>
                <p:cNvSpPr/>
                <p:nvPr/>
              </p:nvSpPr>
              <p:spPr>
                <a:xfrm rot="18420000">
                  <a:off x="7516080" y="48240"/>
                  <a:ext cx="1725840" cy="24271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Freeform 48"/>
                <p:cNvSpPr/>
                <p:nvPr/>
              </p:nvSpPr>
              <p:spPr>
                <a:xfrm rot="18420000">
                  <a:off x="8372880" y="1853640"/>
                  <a:ext cx="384840" cy="22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Freeform 49"/>
                <p:cNvSpPr/>
                <p:nvPr/>
              </p:nvSpPr>
              <p:spPr>
                <a:xfrm rot="18420000">
                  <a:off x="8284680" y="1661400"/>
                  <a:ext cx="411840" cy="2599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50"/>
                <p:cNvSpPr/>
                <p:nvPr/>
              </p:nvSpPr>
              <p:spPr>
                <a:xfrm rot="18420000">
                  <a:off x="7798320" y="305280"/>
                  <a:ext cx="412200" cy="265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51"/>
                <p:cNvSpPr/>
                <p:nvPr/>
              </p:nvSpPr>
              <p:spPr>
                <a:xfrm rot="18420000">
                  <a:off x="7732800" y="145800"/>
                  <a:ext cx="407880" cy="24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71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1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verger.centreloisirs.free.fr/uploads/NCleanBlue/screen-1.6.jpg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razumniki.ru/images/articles/obuchenie_detey/risunok16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63280" y="-216720"/>
            <a:ext cx="6193080" cy="18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4000" spc="-1" strike="noStrike">
                <a:solidFill>
                  <a:srgbClr val="ff0066"/>
                </a:solidFill>
                <a:latin typeface="Times New Roman"/>
              </a:rPr>
              <a:t>«</a:t>
            </a:r>
            <a:r>
              <a:rPr b="1" i="1" lang="en-GB" sz="3600" spc="-1" strike="noStrike">
                <a:solidFill>
                  <a:srgbClr val="ff0066"/>
                </a:solidFill>
                <a:latin typeface="Times New Roman"/>
              </a:rPr>
              <a:t>ИЗУЧЕНИЕ ТЕХНИКИ </a:t>
            </a:r>
            <a:r>
              <a:rPr b="1" i="1" lang="ru-RU" sz="3600" spc="-1" strike="noStrike">
                <a:solidFill>
                  <a:srgbClr val="ff0066"/>
                </a:solidFill>
                <a:latin typeface="Times New Roman"/>
              </a:rPr>
              <a:t>    </a:t>
            </a:r>
            <a:r>
              <a:rPr b="1" i="1" lang="en-GB" sz="3600" spc="-1" strike="noStrike">
                <a:solidFill>
                  <a:srgbClr val="ff0066"/>
                </a:solidFill>
                <a:latin typeface="Times New Roman"/>
              </a:rPr>
              <a:t>РИСОВАНИЯ АКВАРЕЛЬЮ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292360" y="3716280"/>
            <a:ext cx="370836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Автор: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Френцель 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   Валентин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ченик 4 «Б» класс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601"/>
              </a:spcBef>
              <a:buNone/>
              <a:tabLst>
                <a:tab algn="l" pos="0"/>
                <a:tab algn="l" pos="563400"/>
                <a:tab algn="l" pos="1477800"/>
                <a:tab algn="l" pos="2392200"/>
                <a:tab algn="l" pos="3306600"/>
                <a:tab algn="l" pos="4221000"/>
                <a:tab algn="l" pos="5135400"/>
                <a:tab algn="l" pos="6049800"/>
                <a:tab algn="l" pos="6964200"/>
                <a:tab algn="l" pos="7878600"/>
                <a:tab algn="l" pos="8793000"/>
                <a:tab algn="l" pos="9707400"/>
                <a:tab algn="l" pos="9877320"/>
                <a:tab algn="l" pos="10326600"/>
                <a:tab algn="l" pos="10779120"/>
                <a:tab algn="l" pos="1078056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МОУ «СОШ УИОП №8»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4608360" cy="35654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"/>
          <p:cNvSpPr/>
          <p:nvPr/>
        </p:nvSpPr>
        <p:spPr>
          <a:xfrm>
            <a:off x="4629240" y="1828800"/>
            <a:ext cx="3755880" cy="37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39640" y="548640"/>
            <a:ext cx="989964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ff0066"/>
                </a:solidFill>
                <a:latin typeface="Times New Roman"/>
              </a:rPr>
              <a:t>А-ля прима”-</a:t>
            </a:r>
            <a:r>
              <a:rPr b="0" lang="en-GB" sz="2400" spc="-1" strike="noStrike">
                <a:solidFill>
                  <a:srgbClr val="cc0099"/>
                </a:solidFill>
                <a:latin typeface="Times New Roman"/>
              </a:rPr>
              <a:t>самый простой </a:t>
            </a:r>
            <a:br>
              <a:rPr sz="2400"/>
            </a:br>
            <a:r>
              <a:rPr b="0" lang="en-GB" sz="2400" spc="-1" strike="noStrike">
                <a:solidFill>
                  <a:srgbClr val="cc0099"/>
                </a:solidFill>
                <a:latin typeface="Times New Roman"/>
              </a:rPr>
              <a:t>и самый любимый способ рисо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6372000" cy="39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Самый первый из способов   художники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н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азывают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«а-ля прима». Цвет подбирается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на палитре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и после этого накладывается на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рисунок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Этот способ самый простой, им я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ользуюсь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чаще всего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5759280" y="1844640"/>
            <a:ext cx="2700360" cy="4454640"/>
          </a:xfrm>
          <a:prstGeom prst="rect">
            <a:avLst/>
          </a:prstGeom>
          <a:ln w="0">
            <a:noFill/>
          </a:ln>
        </p:spPr>
      </p:pic>
      <p:pic>
        <p:nvPicPr>
          <p:cNvPr id="195" name="i-main-pic" descr="Картинка 105 из 1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0920" y="404640"/>
            <a:ext cx="1944720" cy="17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58920" y="391680"/>
            <a:ext cx="572436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   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cc0099"/>
                </a:solidFill>
                <a:latin typeface="Times New Roman"/>
              </a:rPr>
              <a:t>Лессировка”-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наложение цветов </a:t>
            </a:r>
            <a:br>
              <a:rPr sz="2800"/>
            </a:br>
            <a:r>
              <a:rPr b="1" lang="ru-RU" sz="2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en-GB" sz="2800" spc="-1" strike="noStrike">
                <a:solidFill>
                  <a:srgbClr val="3333cc"/>
                </a:solidFill>
                <a:latin typeface="Times New Roman"/>
              </a:rPr>
              <a:t>друг на друга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7691400" cy="410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Второй способ называется </a:t>
            </a:r>
            <a:r>
              <a:rPr b="1" lang="en-GB" sz="1400" spc="-1" strike="noStrike">
                <a:solidFill>
                  <a:srgbClr val="cc0099"/>
                </a:solidFill>
                <a:latin typeface="Comic Sans MS"/>
              </a:rPr>
              <a:t>«лессировка»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Сначала наносится один цвет, после просыхания на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него накладывают второй. Акварель имеет свойств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прозрачности и поэтому при наложении одного цвета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на другой получается третий оттенок. Таким способом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можно нарисовать улитку. Накладывая постепенно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один цвет на другой,  получается очень красивая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                 </a:t>
            </a:r>
            <a:r>
              <a:rPr b="1" lang="en-GB" sz="1400" spc="-1" strike="noStrike">
                <a:solidFill>
                  <a:srgbClr val="cc0099"/>
                </a:solidFill>
                <a:latin typeface="Comic Sans MS"/>
              </a:rPr>
              <a:t>спиралька.</a:t>
            </a:r>
            <a:r>
              <a:rPr b="1" lang="en-GB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4" descr="P1000316"/>
          <p:cNvPicPr/>
          <p:nvPr/>
        </p:nvPicPr>
        <p:blipFill>
          <a:blip r:embed="rId1"/>
          <a:stretch/>
        </p:blipFill>
        <p:spPr>
          <a:xfrm>
            <a:off x="5796000" y="2565360"/>
            <a:ext cx="2879640" cy="3888000"/>
          </a:xfrm>
          <a:prstGeom prst="rect">
            <a:avLst/>
          </a:prstGeom>
          <a:ln w="0">
            <a:noFill/>
          </a:ln>
        </p:spPr>
      </p:pic>
      <p:pic>
        <p:nvPicPr>
          <p:cNvPr id="199" name="i-main-pic" descr="Картинка 115 из 138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5280" y="333360"/>
            <a:ext cx="2592360" cy="15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80000" y="-29160"/>
            <a:ext cx="4464000" cy="22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“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Пуант”- точка</a:t>
            </a: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.</a:t>
            </a:r>
            <a:br>
              <a:rPr sz="2400"/>
            </a:b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Рисование разноцветными</a:t>
            </a:r>
            <a:br>
              <a:rPr sz="2400"/>
            </a:b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 Black"/>
              </a:rPr>
              <a:t>       </a:t>
            </a:r>
            <a:r>
              <a:rPr b="0" lang="en-GB" sz="2400" spc="-1" strike="noStrike">
                <a:solidFill>
                  <a:srgbClr val="9900cc"/>
                </a:solidFill>
                <a:latin typeface="Arial Black"/>
              </a:rPr>
              <a:t>маз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692000" y="3428640"/>
            <a:ext cx="7848360" cy="30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Третий способ - «пуантилизм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Это рисование разноцветными мазками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Художники заметили однажды, что если чередовать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разноцветные мазки, например, жёлтого 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красного цвета, то издали, если прищуриться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можно увидеть оранжевый цвет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Так можно изображать солнце или спелое яблоко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6516720" y="2205000"/>
            <a:ext cx="2627280" cy="424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P1000351"/>
          <p:cNvPicPr/>
          <p:nvPr/>
        </p:nvPicPr>
        <p:blipFill>
          <a:blip r:embed="rId2"/>
          <a:stretch/>
        </p:blipFill>
        <p:spPr>
          <a:xfrm>
            <a:off x="179280" y="189000"/>
            <a:ext cx="3313080" cy="316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03640" y="403560"/>
            <a:ext cx="4968720" cy="8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Times New Roman"/>
              </a:rPr>
              <a:t>Рисование акварелью и восковыми мелк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02920" y="2276640"/>
            <a:ext cx="6978600" cy="45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Очень интересно смешивать рисование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акварелью с другими материалами, например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с восковыми мелками. Сначала я нарисовал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желтыми и белыми мелками цветы и лепестки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на листе,  а затем широкой кистью закраси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фон фиолетовой акварелью прямо поверх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цветов. Цветы так и сияли и не пропали!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Только на фиолетовом фоне стали ещё ярче.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Все дело в том, что воск отталкивает воду,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 algn="just">
              <a:lnSpc>
                <a:spcPct val="17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i="1" lang="en-GB" sz="1400" spc="-1" strike="noStrike">
                <a:solidFill>
                  <a:srgbClr val="000000"/>
                </a:solidFill>
                <a:latin typeface="Comic Sans MS"/>
              </a:rPr>
              <a:t>и акварель не в силах закрасить его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6" name="Picture 3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2879640" cy="4572000"/>
          </a:xfrm>
          <a:prstGeom prst="rect">
            <a:avLst/>
          </a:prstGeom>
          <a:ln w="0">
            <a:noFill/>
          </a:ln>
        </p:spPr>
      </p:pic>
      <p:pic>
        <p:nvPicPr>
          <p:cNvPr id="207" name="i-main-pic" descr="Картинка 339 из 633"/>
          <p:cNvPicPr/>
          <p:nvPr/>
        </p:nvPicPr>
        <p:blipFill>
          <a:blip r:embed="rId2"/>
          <a:stretch/>
        </p:blipFill>
        <p:spPr>
          <a:xfrm>
            <a:off x="250920" y="189000"/>
            <a:ext cx="2736720" cy="190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4"/>
          <p:cNvSpPr/>
          <p:nvPr/>
        </p:nvSpPr>
        <p:spPr>
          <a:xfrm>
            <a:off x="1743120" y="1641600"/>
            <a:ext cx="1839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2556000" y="1192680"/>
            <a:ext cx="5832360" cy="33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2000" spc="-1" strike="noStrike">
                <a:solidFill>
                  <a:srgbClr val="cc0099"/>
                </a:solidFill>
                <a:latin typeface="Century Gothic"/>
              </a:rPr>
              <a:t>«Страна изобразительного искусств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велика и  загадочн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Многие ее тайны мне еще предстои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раскрыт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Главное не терять терпения и надежды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пробовать, экспериментировать 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cc"/>
                </a:solidFill>
                <a:latin typeface="Century Gothic"/>
              </a:rPr>
              <a:t>помнить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000" spc="-1" strike="noStrike">
                <a:solidFill>
                  <a:srgbClr val="cc0099"/>
                </a:solidFill>
                <a:latin typeface="Century Gothic"/>
              </a:rPr>
              <a:t>не ошибается тот, кто не работает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8" descr="j0217698"/>
          <p:cNvPicPr/>
          <p:nvPr/>
        </p:nvPicPr>
        <p:blipFill>
          <a:blip r:embed="rId1"/>
          <a:stretch/>
        </p:blipFill>
        <p:spPr>
          <a:xfrm>
            <a:off x="250920" y="836640"/>
            <a:ext cx="2233440" cy="23763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"/>
          <p:cNvPicPr/>
          <p:nvPr/>
        </p:nvPicPr>
        <p:blipFill>
          <a:blip r:embed="rId2"/>
          <a:stretch/>
        </p:blipFill>
        <p:spPr>
          <a:xfrm>
            <a:off x="5508720" y="4869000"/>
            <a:ext cx="26161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" descr=""/>
          <p:cNvPicPr/>
          <p:nvPr/>
        </p:nvPicPr>
        <p:blipFill>
          <a:blip r:embed="rId1"/>
          <a:stretch/>
        </p:blipFill>
        <p:spPr>
          <a:xfrm>
            <a:off x="0" y="39600"/>
            <a:ext cx="9144000" cy="6778800"/>
          </a:xfrm>
          <a:prstGeom prst="rect">
            <a:avLst/>
          </a:prstGeom>
          <a:ln w="0">
            <a:noFill/>
          </a:ln>
        </p:spPr>
      </p:pic>
      <p:sp>
        <p:nvSpPr>
          <p:cNvPr id="213" name="WordArt 2"/>
          <p:cNvSpPr txBox="1"/>
          <p:nvPr/>
        </p:nvSpPr>
        <p:spPr>
          <a:xfrm>
            <a:off x="539640" y="5373720"/>
            <a:ext cx="7991640" cy="73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50f91"/>
                    </a:gs>
                    <a:gs pos="100000">
                      <a:srgbClr val="5a0642"/>
                    </a:gs>
                  </a:gsLst>
                  <a:lin ang="5400000"/>
                </a:gradFill>
                <a:latin typeface="Arial"/>
              </a:rPr>
              <a:t>СПАСИБО  ЗА  ВНИМАНИЕ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50f91"/>
                  </a:gs>
                  <a:gs pos="100000">
                    <a:srgbClr val="5a064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1"/>
          <p:cNvSpPr/>
          <p:nvPr/>
        </p:nvSpPr>
        <p:spPr>
          <a:xfrm>
            <a:off x="1593720" y="16416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2"/>
          <p:cNvSpPr txBox="1"/>
          <p:nvPr/>
        </p:nvSpPr>
        <p:spPr>
          <a:xfrm>
            <a:off x="1547640" y="1484280"/>
            <a:ext cx="59785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"Какое чудо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восхищаться в живописи тем, 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чем в реальности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не восхищаещься !"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64" name="AutoShape 3"/>
          <p:cNvSpPr/>
          <p:nvPr/>
        </p:nvSpPr>
        <p:spPr>
          <a:xfrm>
            <a:off x="250920" y="620640"/>
            <a:ext cx="8378640" cy="5772240"/>
          </a:xfrm>
          <a:prstGeom prst="pie">
            <a:avLst/>
          </a:prstGeom>
          <a:gradFill rotWithShape="0">
            <a:gsLst>
              <a:gs pos="0">
                <a:srgbClr val="825600"/>
              </a:gs>
              <a:gs pos="50000">
                <a:srgbClr val="ffa800"/>
              </a:gs>
              <a:gs pos="100000">
                <a:srgbClr val="825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Group 4"/>
          <p:cNvGrpSpPr/>
          <p:nvPr/>
        </p:nvGrpSpPr>
        <p:grpSpPr>
          <a:xfrm>
            <a:off x="1979640" y="692280"/>
            <a:ext cx="5180040" cy="5327280"/>
            <a:chOff x="1979640" y="692280"/>
            <a:chExt cx="5180040" cy="5327280"/>
          </a:xfrm>
        </p:grpSpPr>
        <p:pic>
          <p:nvPicPr>
            <p:cNvPr id="166" name="Picture 5" descr=""/>
            <p:cNvPicPr/>
            <p:nvPr/>
          </p:nvPicPr>
          <p:blipFill>
            <a:blip r:embed="rId1"/>
            <a:stretch/>
          </p:blipFill>
          <p:spPr>
            <a:xfrm>
              <a:off x="1979640" y="692280"/>
              <a:ext cx="5180040" cy="77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6" descr=""/>
            <p:cNvPicPr/>
            <p:nvPr/>
          </p:nvPicPr>
          <p:blipFill>
            <a:blip r:embed="rId2"/>
            <a:stretch/>
          </p:blipFill>
          <p:spPr>
            <a:xfrm>
              <a:off x="2055600" y="5240520"/>
              <a:ext cx="5027760" cy="77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Text Box 7"/>
          <p:cNvSpPr/>
          <p:nvPr/>
        </p:nvSpPr>
        <p:spPr>
          <a:xfrm>
            <a:off x="6732720" y="6165720"/>
            <a:ext cx="24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Эжен Делакру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delay="0"/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6227640" y="2781360"/>
            <a:ext cx="2519640" cy="37465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3"/>
          <p:cNvSpPr/>
          <p:nvPr/>
        </p:nvSpPr>
        <p:spPr>
          <a:xfrm>
            <a:off x="1908000" y="1700280"/>
            <a:ext cx="4035600" cy="54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С самого раннего детства я люблю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рисовать и, наверное, можно наз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меня  художником, потому</a:t>
            </a:r>
            <a:r>
              <a:rPr b="1" lang="ru-RU" sz="1600" spc="-1" strike="noStrike">
                <a:solidFill>
                  <a:srgbClr val="000000"/>
                </a:solidFill>
                <a:latin typeface="Century Gothic"/>
              </a:rPr>
              <a:t>,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что всякий, кто умеет 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любит придумывать, фантазиро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и творить по праву може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себя так называ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Но одного желания мало. Нужн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научиться пользоваться различны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49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entury Gothic"/>
              </a:rPr>
              <a:t>красками, карандашами, кистями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WordArt 6"/>
          <p:cNvSpPr txBox="1"/>
          <p:nvPr/>
        </p:nvSpPr>
        <p:spPr>
          <a:xfrm>
            <a:off x="2411280" y="549360"/>
            <a:ext cx="5013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Художник-творец и фантазер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  <p:pic>
        <p:nvPicPr>
          <p:cNvPr id="172" name="Picture 7" descr="Акварель. Техника наложения краски"/>
          <p:cNvPicPr/>
          <p:nvPr/>
        </p:nvPicPr>
        <p:blipFill>
          <a:blip r:embed="rId2"/>
          <a:stretch/>
        </p:blipFill>
        <p:spPr>
          <a:xfrm>
            <a:off x="395280" y="260280"/>
            <a:ext cx="16239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763640" y="1844640"/>
            <a:ext cx="44640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1200" indent="0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Слово акварель произошло от латинского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«аква» - вода, а сами краски  делают измелкого цветного порошка,в который добавляют клей, много воды и иногда глицерин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31200" indent="0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У акварели разнообразная  цветовая гамма.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 смешении цветов для живописи, действует фундаментальное правило - есть три цвета, которые не могут быть получены смешением других цветов. Эти три цвета - красный, синий и желтый, известны как первичные цвета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Если вы смешиваете два первичных цвета вместе, получится то, что называют вторичным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Если вы смешиваете три первичных цвета вместе, то получаете третичный цве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уроки графики"/>
          <p:cNvPicPr/>
          <p:nvPr/>
        </p:nvPicPr>
        <p:blipFill>
          <a:blip r:embed="rId1"/>
          <a:stretch/>
        </p:blipFill>
        <p:spPr>
          <a:xfrm>
            <a:off x="324000" y="476280"/>
            <a:ext cx="1152360" cy="2305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ak006"/>
          <p:cNvPicPr/>
          <p:nvPr/>
        </p:nvPicPr>
        <p:blipFill>
          <a:blip r:embed="rId2"/>
          <a:stretch/>
        </p:blipFill>
        <p:spPr>
          <a:xfrm>
            <a:off x="6516720" y="2276640"/>
            <a:ext cx="2305080" cy="3851280"/>
          </a:xfrm>
          <a:prstGeom prst="rect">
            <a:avLst/>
          </a:prstGeom>
          <a:ln w="0">
            <a:noFill/>
          </a:ln>
        </p:spPr>
      </p:pic>
      <p:sp>
        <p:nvSpPr>
          <p:cNvPr id="176" name="WordArt 7"/>
          <p:cNvSpPr txBox="1"/>
          <p:nvPr/>
        </p:nvSpPr>
        <p:spPr>
          <a:xfrm>
            <a:off x="2411280" y="549360"/>
            <a:ext cx="5013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Азбука акварел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4176720" y="2711520"/>
            <a:ext cx="4967280" cy="34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еще, оказывается, белой акварели 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ществует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этого используют белила ил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шивают краску с больш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еством воды,  чтобы  цв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л почти прозрачны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интересно - одна и та же  краска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-разному разбавленная водой, да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ершенно разный цвет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Picture 5" descr="P1000339"/>
          <p:cNvPicPr/>
          <p:nvPr/>
        </p:nvPicPr>
        <p:blipFill>
          <a:blip r:embed="rId1"/>
          <a:stretch/>
        </p:blipFill>
        <p:spPr>
          <a:xfrm>
            <a:off x="179280" y="260280"/>
            <a:ext cx="4032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2084400" y="3285360"/>
            <a:ext cx="4975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 Материалы для акварельной живопи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1251000" y="1773360"/>
            <a:ext cx="4975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2 Материалы для акварельной живопис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WordArt 11"/>
          <p:cNvSpPr txBox="1"/>
          <p:nvPr/>
        </p:nvSpPr>
        <p:spPr>
          <a:xfrm>
            <a:off x="468360" y="404640"/>
            <a:ext cx="775656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977"/>
                <a:gd name="adj2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атериалы для акварельной живописи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82" name="i-main-pic" descr="Картинка 66 из 654"/>
          <p:cNvPicPr/>
          <p:nvPr/>
        </p:nvPicPr>
        <p:blipFill>
          <a:blip r:embed="rId1"/>
          <a:stretch/>
        </p:blipFill>
        <p:spPr>
          <a:xfrm>
            <a:off x="2124000" y="2349360"/>
            <a:ext cx="554364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i-main-pic" descr="Картинка 194 из 654"/>
          <p:cNvPicPr/>
          <p:nvPr/>
        </p:nvPicPr>
        <p:blipFill>
          <a:blip r:embed="rId1"/>
          <a:stretch/>
        </p:blipFill>
        <p:spPr>
          <a:xfrm>
            <a:off x="468360" y="333360"/>
            <a:ext cx="3384360" cy="270972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7"/>
          <p:cNvSpPr/>
          <p:nvPr/>
        </p:nvSpPr>
        <p:spPr>
          <a:xfrm>
            <a:off x="1476360" y="3500280"/>
            <a:ext cx="6618240" cy="262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    </a:t>
            </a:r>
            <a:r>
              <a:rPr b="0" i="1" lang="ru-RU" sz="1800" spc="-1" strike="noStrike">
                <a:solidFill>
                  <a:srgbClr val="006600"/>
                </a:solidFill>
                <a:latin typeface="Times New Roman"/>
              </a:rPr>
              <a:t>Бумага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– главный и почти единственны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материал, на котором рисуют акварель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Она плотная и шершавая, сверху обработа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специальным клеевым составом,которы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не позволяет воде просачиваться в глубину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а краска долго сохраняет яркость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cc"/>
                </a:solidFill>
                <a:latin typeface="Times New Roman"/>
              </a:rPr>
              <a:t>насыщенность цве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WordArt 14"/>
          <p:cNvSpPr txBox="1"/>
          <p:nvPr/>
        </p:nvSpPr>
        <p:spPr>
          <a:xfrm>
            <a:off x="3780000" y="1052640"/>
            <a:ext cx="4797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       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Бумага-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основа дл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     </a:t>
            </a: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Impact"/>
              </a:rPr>
              <a:t>акварел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Impact"/>
              <a:ea typeface="Impact"/>
            </a:endParaRPr>
          </a:p>
        </p:txBody>
      </p:sp>
      <p:sp>
        <p:nvSpPr>
          <p:cNvPr id="186" name="Homepage"/>
          <p:cNvSpPr/>
          <p:nvPr/>
        </p:nvSpPr>
        <p:spPr>
          <a:xfrm>
            <a:off x="7020000" y="3429000"/>
            <a:ext cx="1511280" cy="251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4920" y="281520"/>
            <a:ext cx="5613480" cy="107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8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 u="sng">
                <a:solidFill>
                  <a:srgbClr val="ff0066"/>
                </a:solidFill>
                <a:uFillTx/>
                <a:latin typeface="Bitstream Vera Serif"/>
              </a:rPr>
              <a:t>Кисти - настоящие волшебные палочки, творящиеи чудес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1484280"/>
            <a:ext cx="534492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4800" indent="0" algn="just">
              <a:lnSpc>
                <a:spcPct val="117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ервые кисти появились больше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чем 2500 лет назад, это были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деревянные палочки с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асщепленным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кончиком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озднее в палочку вставлял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волосы, шерсть  животных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птичьи перья.Кисти для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акварели должны быть гибкими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мягкими и эластичными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4800" indent="0">
              <a:lnSpc>
                <a:spcPct val="117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б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еличьими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или колонковыми</a:t>
            </a: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48360" cy="41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WordArt 4"/>
          <p:cNvSpPr txBox="1"/>
          <p:nvPr/>
        </p:nvSpPr>
        <p:spPr>
          <a:xfrm>
            <a:off x="539640" y="836640"/>
            <a:ext cx="6821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lnSpc>
                <a:spcPct val="71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66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ы работы с акварелью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66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1" name="i-main-pic" descr="Картинка 12 из 654"/>
          <p:cNvPicPr/>
          <p:nvPr/>
        </p:nvPicPr>
        <p:blipFill>
          <a:blip r:embed="rId1"/>
          <a:stretch/>
        </p:blipFill>
        <p:spPr>
          <a:xfrm>
            <a:off x="1979640" y="2276640"/>
            <a:ext cx="594216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1-02-03T12:42:45Z</dcterms:modified>
  <cp:revision>30</cp:revision>
  <dc:subject/>
  <dc:title>Рисование акварелью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a0000000000010243000207f6000400038000</vt:lpwstr>
  </property>
</Properties>
</file>