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gif" ContentType="image/gif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-360" y="-13717440"/>
            <a:ext cx="360" cy="28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143000" y="179280"/>
            <a:ext cx="497664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самого раннего детства я люблю рисовать и, наверное, можно назвать меня  художником, потому что всякий, кто умеет и любит придумывать, фантазировать и творить по праву может себя так называть. Но одного желания мало. Нужно научиться пользоваться различными красками, карандашами, кистями - настоящими волшебными палочками, творящими чуде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Я рисую цветными карандашами, гуашью, восковыми мелками, пастелью, фломастерами, но больше всего мне нравится творить акварелью. Иногда у меня что-то не получается, так как я мало знаю об этом художественном материале. Изобразительное искусство, как и письмо слов, имеет свои правила и приемы, свою азбу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0" y="-11639520"/>
            <a:ext cx="1440" cy="246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360360" y="360360"/>
            <a:ext cx="61196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99640" y="4680000"/>
            <a:ext cx="521964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етий способ -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пуантилиз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по-французски слово «пуант» означает точ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о рисование разноцветными мазками. Художники заметили однажды, что если чередовать разноцветные мазки, например, жёлтого и красного цвета, то издали, если прищуриться, можно увидеть оранжевый цвет. Так можно изображать солнце или спелое ябло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260360" y="539640"/>
            <a:ext cx="450072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20360" y="4319640"/>
            <a:ext cx="545148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мый первый из них  художники называют «а-ля прима». Цвет подбирается на палитре и после этого накладывается на рисунок. Этот способ самый простой, им я пользуюсь чаще всег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440000" y="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979640" y="144000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40000" y="2700360"/>
            <a:ext cx="10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79640" y="2700360"/>
            <a:ext cx="10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40000" y="270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160720" y="2700360"/>
            <a:ext cx="18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исти для акварели должны быть гибкими, мягкими и эластичными, беличьими или колонковыми. Первые кисти появились больше чем 2500 лет назад, это были деревянные палочки с расщепленным кончиком, позднее в палочку вставляли волосы, шерсть  животных,  птичьи пер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0360" y="234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00000" y="414036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594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47E-F469-491A-9178-503FA243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5F7-9F3E-4AA8-A3DB-93E52E06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41A-76CF-4D7B-9CD9-92BA0738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1E1-C0BE-4042-B48B-012EFE03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1F9A-D4DC-4F65-9A46-62545AC4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9128-5F8E-4853-B1BE-E97524B8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7BCD-A8EE-46EC-86DF-1680551D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EC5E-B6C5-4F84-9DC4-EF912A43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23D0-53DA-4F6B-9588-D20EB91C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2B02-3F87-4C0C-B165-C20CE652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0162-B042-4B35-9830-9B17037A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776-4085-483B-ACA4-6C5174DC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4CF2-F791-4B7A-99A4-8C88C85C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33B9-76C3-4264-BA42-F2C440F0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A51C-BE2C-4E58-8FE1-34CED020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2E8D-98CA-4D31-AB7A-9CEC60D6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F0CE-DD6C-4DB3-B222-344FB42D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2E2-A04B-4E33-AF87-09C99894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35C-688C-4270-AB86-D1A2F1D5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842-FB19-47DE-AFFF-2537EFBD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35F-44AF-478A-91D7-7DA33B21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D97-4B36-4BC6-9E1A-4DA79A92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BFA-6E85-4453-910B-5913E6BF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265-6B3B-44E2-ABF0-70A0AADE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184400"/>
            <a:ext cx="63928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43B2BE-4C7C-4DD2-8894-43CCD2DFD2F0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6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10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6"/>
          <p:cNvGrpSpPr/>
          <p:nvPr/>
        </p:nvGrpSpPr>
        <p:grpSpPr>
          <a:xfrm>
            <a:off x="7718760" y="4232160"/>
            <a:ext cx="1170000" cy="1330200"/>
            <a:chOff x="7718760" y="4232160"/>
            <a:chExt cx="1170000" cy="1330200"/>
          </a:xfrm>
        </p:grpSpPr>
        <p:sp>
          <p:nvSpPr>
            <p:cNvPr id="16" name="Freeform 17"/>
            <p:cNvSpPr/>
            <p:nvPr/>
          </p:nvSpPr>
          <p:spPr>
            <a:xfrm rot="7320000">
              <a:off x="7800840" y="465264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 rot="7320000">
              <a:off x="7777440" y="463608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 rot="7320000">
              <a:off x="7943760" y="463104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" name="Group 20"/>
            <p:cNvGrpSpPr/>
            <p:nvPr/>
          </p:nvGrpSpPr>
          <p:grpSpPr>
            <a:xfrm>
              <a:off x="7718760" y="4232160"/>
              <a:ext cx="1170000" cy="1330200"/>
              <a:chOff x="7718760" y="4232160"/>
              <a:chExt cx="1170000" cy="1330200"/>
            </a:xfrm>
          </p:grpSpPr>
          <p:sp>
            <p:nvSpPr>
              <p:cNvPr id="20" name="Freeform 21"/>
              <p:cNvSpPr/>
              <p:nvPr/>
            </p:nvSpPr>
            <p:spPr>
              <a:xfrm rot="7320000">
                <a:off x="7822800" y="5075640"/>
                <a:ext cx="1026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7320000">
                <a:off x="7724160" y="4569120"/>
                <a:ext cx="1158840" cy="65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7320000">
                <a:off x="8040240" y="4708800"/>
                <a:ext cx="820080" cy="37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7320000">
                <a:off x="8609040" y="4515480"/>
                <a:ext cx="10908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7320000">
                <a:off x="8151840" y="4719600"/>
                <a:ext cx="33516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ED7474-25E8-43AF-A0A8-E129B7374F99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8"/>
          <p:cNvSpPr/>
          <p:nvPr/>
        </p:nvSpPr>
        <p:spPr>
          <a:xfrm rot="18420000">
            <a:off x="7858800" y="2736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 rot="18420000">
            <a:off x="782496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72" name="Freeform 11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82" name="Group 21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83" name="Freeform 22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23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4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Freeform 25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" name="Group 28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90" name="Freeform 29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0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1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2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3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34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35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36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" name="Group 37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99" name="Freeform 38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6890760" y="-157680"/>
            <a:ext cx="2977200" cy="2838960"/>
            <a:chOff x="6890760" y="-157680"/>
            <a:chExt cx="2977200" cy="2838960"/>
          </a:xfrm>
        </p:grpSpPr>
        <p:grpSp>
          <p:nvGrpSpPr>
            <p:cNvPr id="102" name="Group 41"/>
            <p:cNvGrpSpPr/>
            <p:nvPr/>
          </p:nvGrpSpPr>
          <p:grpSpPr>
            <a:xfrm>
              <a:off x="6890760" y="-157680"/>
              <a:ext cx="2977200" cy="2838960"/>
              <a:chOff x="6890760" y="-157680"/>
              <a:chExt cx="2977200" cy="2838960"/>
            </a:xfrm>
          </p:grpSpPr>
          <p:sp>
            <p:nvSpPr>
              <p:cNvPr id="103" name="Freeform 42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43"/>
              <p:cNvGrpSpPr/>
              <p:nvPr/>
            </p:nvGrpSpPr>
            <p:grpSpPr>
              <a:xfrm>
                <a:off x="6890760" y="-157680"/>
                <a:ext cx="2977200" cy="2838960"/>
                <a:chOff x="6890760" y="-157680"/>
                <a:chExt cx="2977200" cy="2838960"/>
              </a:xfrm>
            </p:grpSpPr>
            <p:sp>
              <p:nvSpPr>
                <p:cNvPr id="105" name="Freeform 44"/>
                <p:cNvSpPr/>
                <p:nvPr/>
              </p:nvSpPr>
              <p:spPr>
                <a:xfrm rot="18420000">
                  <a:off x="7779240" y="-24120"/>
                  <a:ext cx="3484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5"/>
                <p:cNvSpPr/>
                <p:nvPr/>
              </p:nvSpPr>
              <p:spPr>
                <a:xfrm rot="18420000">
                  <a:off x="7893720" y="644400"/>
                  <a:ext cx="6127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6"/>
                <p:cNvSpPr/>
                <p:nvPr/>
              </p:nvSpPr>
              <p:spPr>
                <a:xfrm rot="18420000">
                  <a:off x="7504200" y="411840"/>
                  <a:ext cx="1149840" cy="1621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7"/>
                <p:cNvSpPr/>
                <p:nvPr/>
              </p:nvSpPr>
              <p:spPr>
                <a:xfrm rot="18420000">
                  <a:off x="7516080" y="48240"/>
                  <a:ext cx="172584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48"/>
                <p:cNvSpPr/>
                <p:nvPr/>
              </p:nvSpPr>
              <p:spPr>
                <a:xfrm rot="18420000">
                  <a:off x="8372880" y="1853640"/>
                  <a:ext cx="3848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49"/>
                <p:cNvSpPr/>
                <p:nvPr/>
              </p:nvSpPr>
              <p:spPr>
                <a:xfrm rot="18420000">
                  <a:off x="8284680" y="1661400"/>
                  <a:ext cx="4118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0"/>
                <p:cNvSpPr/>
                <p:nvPr/>
              </p:nvSpPr>
              <p:spPr>
                <a:xfrm rot="18420000">
                  <a:off x="7798320" y="305280"/>
                  <a:ext cx="41220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51"/>
                <p:cNvSpPr/>
                <p:nvPr/>
              </p:nvSpPr>
              <p:spPr>
                <a:xfrm rot="18420000">
                  <a:off x="7732800" y="145800"/>
                  <a:ext cx="4078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verger.centreloisirs.free.fr/uploads/NCleanBlue/screen-1.6.jp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razumniki.ru/images/articles/obuchenie_detey/risunok16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216720"/>
            <a:ext cx="6193080" cy="18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ИЗУЧЕНИЕ ТЕХНИКИ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РИСОВАНИЯ АКВАРЕЛЬЮ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92360" y="3716280"/>
            <a:ext cx="3708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Автор: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Френцель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Валенти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ченик 4 «Б» клас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МОУ «СОШ УИОП №8»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608360" cy="356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629240" y="1828800"/>
            <a:ext cx="37558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39640" y="548640"/>
            <a:ext cx="989964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А-ля прима”-</a:t>
            </a: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самый простой </a:t>
            </a:r>
            <a:br>
              <a:rPr sz="2400"/>
            </a:b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и самый любимый способ рис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63720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Самый первый из способов   художники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азывают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«а-ля прима». Цвет подбираетс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на палитр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и после этого накладывается н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рисун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Этот способ самый простой, им 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ользуюс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чаще все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59280" y="1844640"/>
            <a:ext cx="2700360" cy="4454640"/>
          </a:xfrm>
          <a:prstGeom prst="rect">
            <a:avLst/>
          </a:prstGeom>
          <a:ln w="0">
            <a:noFill/>
          </a:ln>
        </p:spPr>
      </p:pic>
      <p:pic>
        <p:nvPicPr>
          <p:cNvPr id="195" name="i-main-pic" descr="Картинка 10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1944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8920" y="391680"/>
            <a:ext cx="57243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Лессировка”-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наложение цветов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друг на друг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Второй способ называется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«лессировка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начала наносится один цвет, после просыхания 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его накладывают второй. Акварель имеет свой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прозрачности и поэтому при наложении одного цвет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а другой получается третий оттенок. Таким способом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нарисовать улитку. Накладывая постепен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один цвет на другой,  получается очень красива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спиралька.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P1000316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88000"/>
          </a:xfrm>
          <a:prstGeom prst="rect">
            <a:avLst/>
          </a:prstGeom>
          <a:ln w="0">
            <a:noFill/>
          </a:ln>
        </p:spPr>
      </p:pic>
      <p:pic>
        <p:nvPicPr>
          <p:cNvPr id="199" name="i-main-pic" descr="Картинка 11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259236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80000" y="-29160"/>
            <a:ext cx="446400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“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Пуант”- точка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Рисование разноцветными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  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маз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784836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ретий способ - «пуантилизм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Это рисование разноцветными мазкам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Художники заметили однажды, что если чередова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разноцветные мазки, например, жёлтого 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красного цвета, то издали, если прищуриться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увидеть оранжевый цве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ак можно изображать солнце или спелое яблок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627280" cy="424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P1000351"/>
          <p:cNvPicPr/>
          <p:nvPr/>
        </p:nvPicPr>
        <p:blipFill>
          <a:blip r:embed="rId2"/>
          <a:stretch/>
        </p:blipFill>
        <p:spPr>
          <a:xfrm>
            <a:off x="179280" y="189000"/>
            <a:ext cx="331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03640" y="403560"/>
            <a:ext cx="496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Рисование акварелью и восковыми мел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697860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Очень интересно смешивать рис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акварелью с другими материалами, например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с восковыми мелками. Сначала я нарисовал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желтыми и белыми мелками цветы и лепестк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на листе,  а затем широкой кистью закраси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фон фиолетовой акварелью прямо поверх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цветов. Цветы так и сияли и не пропали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Только на фиолетовом фоне стали ещё ярче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Все дело в том, что воск отталкивает воду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и акварель не в силах закрасить ег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87964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i-main-pic" descr="Картинка 339 из 633"/>
          <p:cNvPicPr/>
          <p:nvPr/>
        </p:nvPicPr>
        <p:blipFill>
          <a:blip r:embed="rId2"/>
          <a:stretch/>
        </p:blipFill>
        <p:spPr>
          <a:xfrm>
            <a:off x="250920" y="189000"/>
            <a:ext cx="27367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743120" y="1641600"/>
            <a:ext cx="183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56000" y="1192680"/>
            <a:ext cx="58323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cc0099"/>
                </a:solidFill>
                <a:latin typeface="Century Gothic"/>
              </a:rPr>
              <a:t>«Страна изобразительного искус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велика и  загадоч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Многие ее тайны мне еще предсто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раскры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Главное не терять терпения и надеж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робовать, экспериментировать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омнит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Century Gothic"/>
              </a:rPr>
              <a:t>не ошибается тот, кто не работа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j0217698"/>
          <p:cNvPicPr/>
          <p:nvPr/>
        </p:nvPicPr>
        <p:blipFill>
          <a:blip r:embed="rId1"/>
          <a:stretch/>
        </p:blipFill>
        <p:spPr>
          <a:xfrm>
            <a:off x="250920" y="836640"/>
            <a:ext cx="2233440" cy="23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6161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2"/>
          <p:cNvSpPr txBox="1"/>
          <p:nvPr/>
        </p:nvSpPr>
        <p:spPr>
          <a:xfrm>
            <a:off x="539640" y="5373720"/>
            <a:ext cx="7991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50f91"/>
                    </a:gs>
                    <a:gs pos="100000">
                      <a:srgbClr val="5a0642"/>
                    </a:gs>
                  </a:gsLst>
                  <a:lin ang="5400000"/>
                </a:gradFill>
                <a:latin typeface="Arial"/>
              </a:rPr>
              <a:t>СПАСИБО  ЗА 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50f91"/>
                  </a:gs>
                  <a:gs pos="100000">
                    <a:srgbClr val="5a064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1547640" y="1484280"/>
            <a:ext cx="5978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Какое чудо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осхищаться в живописи тем,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ем в реальности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не восхищаещься !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50920" y="620640"/>
            <a:ext cx="837864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979640" y="692280"/>
            <a:ext cx="5180040" cy="5327280"/>
            <a:chOff x="1979640" y="692280"/>
            <a:chExt cx="5180040" cy="5327280"/>
          </a:xfrm>
        </p:grpSpPr>
        <p:pic>
          <p:nvPicPr>
            <p:cNvPr id="166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692280"/>
              <a:ext cx="5180040" cy="7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2055600" y="5240520"/>
              <a:ext cx="502776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6732720" y="61657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Эжен Делакру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519640" cy="3746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908000" y="1700280"/>
            <a:ext cx="40356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 самого раннего детства я любл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рисовать и, наверное, можно наз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меня  художником, потому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что всякий, кто умеет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любит придумывать, фантазир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и творить по праву мож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ебя так назы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о одного желания мало. Нуж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аучиться пользоваться различ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красками, карандашами, кистями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Художник-творец и фантаз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pic>
        <p:nvPicPr>
          <p:cNvPr id="172" name="Picture 7" descr="Акварель. Техника наложения краски"/>
          <p:cNvPicPr/>
          <p:nvPr/>
        </p:nvPicPr>
        <p:blipFill>
          <a:blip r:embed="rId2"/>
          <a:stretch/>
        </p:blipFill>
        <p:spPr>
          <a:xfrm>
            <a:off x="395280" y="260280"/>
            <a:ext cx="16239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63640" y="1844640"/>
            <a:ext cx="44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лово акварель произошло от латинского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«аква» - вода, а сами краски  делают измелкого цветного порошка,в который добавляют клей, много воды и иногда глицери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У акварели разнообразная  цветовая гамма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смешении цветов для живописи, действует фундаментальное правило - есть три цвета, которые не могут быть получены смешением других цветов. Эти три цвета - красный, синий и желтый, известны как первичные цв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два первичных цвета вместе, получится то, что называют вторичным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три первичных цвета вместе, то получаете третичный цв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уроки графики"/>
          <p:cNvPicPr/>
          <p:nvPr/>
        </p:nvPicPr>
        <p:blipFill>
          <a:blip r:embed="rId1"/>
          <a:stretch/>
        </p:blipFill>
        <p:spPr>
          <a:xfrm>
            <a:off x="324000" y="476280"/>
            <a:ext cx="115236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ak006"/>
          <p:cNvPicPr/>
          <p:nvPr/>
        </p:nvPicPr>
        <p:blipFill>
          <a:blip r:embed="rId2"/>
          <a:stretch/>
        </p:blipFill>
        <p:spPr>
          <a:xfrm>
            <a:off x="6516720" y="2276640"/>
            <a:ext cx="2305080" cy="3851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7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збука 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176720" y="2711520"/>
            <a:ext cx="496728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, оказывается, белой акварели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используют белила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ивают краску с больш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м воды,  чтобы  ц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почти прозра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нтересно - одна и та же  крас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разному разбавленная водой, 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 разный цвет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P1000339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084400" y="3285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251000" y="1773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468360" y="404640"/>
            <a:ext cx="77565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77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риалы для акварельной живопис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i-main-pic" descr="Картинка 66 из 654"/>
          <p:cNvPicPr/>
          <p:nvPr/>
        </p:nvPicPr>
        <p:blipFill>
          <a:blip r:embed="rId1"/>
          <a:stretch/>
        </p:blipFill>
        <p:spPr>
          <a:xfrm>
            <a:off x="2124000" y="2349360"/>
            <a:ext cx="554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-main-pic" descr="Картинка 194 из 654"/>
          <p:cNvPicPr/>
          <p:nvPr/>
        </p:nvPicPr>
        <p:blipFill>
          <a:blip r:embed="rId1"/>
          <a:stretch/>
        </p:blipFill>
        <p:spPr>
          <a:xfrm>
            <a:off x="468360" y="333360"/>
            <a:ext cx="3384360" cy="270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476360" y="3500280"/>
            <a:ext cx="661824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Бумага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– главный и почти един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материал, на котором рисуют акваре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Она плотная и шершавая, сверху обработ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специальным клеевым составом,котор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е позволяет воде просачиваться в глуби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а краска долго сохраняет яркость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асыщенность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3780000" y="1052640"/>
            <a:ext cx="4797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Бумага-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основа дл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sp>
        <p:nvSpPr>
          <p:cNvPr id="186" name="Homepage"/>
          <p:cNvSpPr/>
          <p:nvPr/>
        </p:nvSpPr>
        <p:spPr>
          <a:xfrm>
            <a:off x="7020000" y="3429000"/>
            <a:ext cx="1511280" cy="251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81520"/>
            <a:ext cx="561348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ff0066"/>
                </a:solidFill>
                <a:uFillTx/>
                <a:latin typeface="Bitstream Vera Serif"/>
              </a:rPr>
              <a:t>Кисти - настоящие волшебные палочки, творящиеи чуд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534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ервые кисти появились больш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чем 2500 лет назад, это бы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деревянные палочки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сщепленным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кончиком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озднее в палочку вставля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волосы, шерсть  животных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тичьи перья.Кисти дл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кварели должны быть гибким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мягкими и эластичным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еличьим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или колонковыми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483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539640" y="836640"/>
            <a:ext cx="682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ы работы с акварель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i-main-pic" descr="Картинка 12 из 654"/>
          <p:cNvPicPr/>
          <p:nvPr/>
        </p:nvPicPr>
        <p:blipFill>
          <a:blip r:embed="rId1"/>
          <a:stretch/>
        </p:blipFill>
        <p:spPr>
          <a:xfrm>
            <a:off x="1979640" y="2276640"/>
            <a:ext cx="59421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3T12:42:45Z</dcterms:modified>
  <cp:revision>30</cp:revision>
  <dc:subject/>
  <dc:title>Рисование аквар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a0000000000010243000207f6000400038000</vt:lpwstr>
  </property>
</Properties>
</file>