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gif" ContentType="image/gif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-360" y="-13717440"/>
            <a:ext cx="360" cy="28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143000" y="179280"/>
            <a:ext cx="497664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 самого раннего детства я люблю рисовать и, наверное, можно назвать меня  художником, потому что всякий, кто умеет и любит придумывать, фантазировать и творить по праву может себя так называть. Но одного желания мало. Нужно научиться пользоваться различными красками, карандашами, кистями - настоящими волшебными палочками, творящими чуде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Я рисую цветными карандашами, гуашью, восковыми мелками, пастелью, фломастерами, но больше всего мне нравится творить акварелью. Иногда у меня что-то не получается, так как я мало знаю об этом художественном материале. Изобразительное искусство, как и письмо слов, имеет свои правила и приемы, свою азбу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0" y="-11639520"/>
            <a:ext cx="1440" cy="246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360360" y="360360"/>
            <a:ext cx="61196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99640" y="4680000"/>
            <a:ext cx="521964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етий способ - </a:t>
            </a:r>
            <a:r>
              <a:rPr b="0" lang="en-GB" sz="18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«пуантилизм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по-французски слово «пуант» означает точк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о рисование разноцветными мазками. Художники заметили однажды, что если чередовать разноцветные мазки, например, жёлтого и красного цвета, то издали, если прищуриться, можно увидеть оранжевый цвет. Так можно изображать солнце или спелое яблок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260360" y="539640"/>
            <a:ext cx="450072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20360" y="4319640"/>
            <a:ext cx="545148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амый первый из них  художники называют «а-ля прима». Цвет подбирается на палитре и после этого накладывается на рисунок. Этот способ самый простой, им я пользуюсь чаще всег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1440000" y="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979640" y="144000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340000" y="2700360"/>
            <a:ext cx="1005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а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979640" y="2700360"/>
            <a:ext cx="10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340000" y="27003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160720" y="2700360"/>
            <a:ext cx="18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1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исти для акварели должны быть гибкими, мягкими и эластичными, беличьими или колонковыми. Первые кисти появились больше чем 2500 лет назад, это были деревянные палочки с расщепленным кончиком, позднее в палочку вставляли волосы, шерсть  животных,  птичьи перь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0360" y="23400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00000" y="414036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594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D62-0735-42BB-93C7-CC9D3E23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3F3E-7357-44BD-A515-36FF552C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9F6-9B25-44CE-B8CA-8E04B36A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70B3-9D20-4E4B-9817-106FB488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C92E-E749-434B-AA54-C2122157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8610-C5DA-4D63-9071-A0DE9B1A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8FFD-5129-49DB-86F4-8E501E8E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EEF0-AA49-4326-9733-DC82E156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ADB3-B6DB-4C77-A8DE-85CD6C69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60E8-FCB6-44F6-AC09-EB9BEC1B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B54E-FF84-4E84-A942-D8307ECF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6406-C8DC-4949-A7F2-FFA35CCB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970E-83E2-4762-9739-B957C202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05C1-6360-4B9D-AFD9-A0A79AA0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F6F4-9FCE-49DE-BD36-F4D67931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AA62-6B83-4146-9888-76036A04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3DB8-2903-4FAE-9D02-80FB4565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8EA-4F02-4C68-A243-5DA20074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06E-71F6-4FCC-A02C-D3360B34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CD37-D6B1-46A8-97D1-0DA5571C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77C-38E3-4F2B-AD78-EC648A35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6C0-E992-43DB-88D4-9B2F0A5B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E1F-CB85-4888-B1ED-B873EF56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D87-CE65-4BEA-9F7F-96BE949A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184400"/>
            <a:ext cx="63928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9AA27A-51DB-4408-93B7-B466008A1FDF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6" name="Freeform 7"/>
            <p:cNvSpPr/>
            <p:nvPr/>
          </p:nvSpPr>
          <p:spPr>
            <a:xfrm>
              <a:off x="281160" y="280800"/>
              <a:ext cx="3571560" cy="1612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263520" y="414000"/>
              <a:ext cx="356220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752400" y="545760"/>
              <a:ext cx="2362320" cy="14569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" name="Group 10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10" name="Freeform 11"/>
              <p:cNvSpPr/>
              <p:nvPr/>
            </p:nvSpPr>
            <p:spPr>
              <a:xfrm>
                <a:off x="3181320" y="1479960"/>
                <a:ext cx="33624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195120" y="235080"/>
                <a:ext cx="3786480" cy="171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14080" y="250560"/>
                <a:ext cx="2675520" cy="9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9080" y="398160"/>
                <a:ext cx="360000" cy="64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1342440" y="849600"/>
                <a:ext cx="1096200" cy="57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16"/>
          <p:cNvGrpSpPr/>
          <p:nvPr/>
        </p:nvGrpSpPr>
        <p:grpSpPr>
          <a:xfrm>
            <a:off x="7718760" y="4232160"/>
            <a:ext cx="1170000" cy="1330200"/>
            <a:chOff x="7718760" y="4232160"/>
            <a:chExt cx="1170000" cy="1330200"/>
          </a:xfrm>
        </p:grpSpPr>
        <p:sp>
          <p:nvSpPr>
            <p:cNvPr id="16" name="Freeform 17"/>
            <p:cNvSpPr/>
            <p:nvPr/>
          </p:nvSpPr>
          <p:spPr>
            <a:xfrm rot="7320000">
              <a:off x="7800840" y="465264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 rot="7320000">
              <a:off x="7777440" y="4636080"/>
              <a:ext cx="99504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 rot="7320000">
              <a:off x="7943760" y="463104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" name="Group 20"/>
            <p:cNvGrpSpPr/>
            <p:nvPr/>
          </p:nvGrpSpPr>
          <p:grpSpPr>
            <a:xfrm>
              <a:off x="7718760" y="4232160"/>
              <a:ext cx="1170000" cy="1330200"/>
              <a:chOff x="7718760" y="4232160"/>
              <a:chExt cx="1170000" cy="1330200"/>
            </a:xfrm>
          </p:grpSpPr>
          <p:sp>
            <p:nvSpPr>
              <p:cNvPr id="20" name="Freeform 21"/>
              <p:cNvSpPr/>
              <p:nvPr/>
            </p:nvSpPr>
            <p:spPr>
              <a:xfrm rot="7320000">
                <a:off x="7822800" y="5075640"/>
                <a:ext cx="1026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 rot="7320000">
                <a:off x="7724160" y="4569120"/>
                <a:ext cx="1158840" cy="65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 rot="7320000">
                <a:off x="8040240" y="4708800"/>
                <a:ext cx="820080" cy="37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7320000">
                <a:off x="8609040" y="4515480"/>
                <a:ext cx="109080" cy="24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7320000">
                <a:off x="8151840" y="4719600"/>
                <a:ext cx="335160" cy="21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1000" indent="-2610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3120" indent="-21672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481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8303EE-2757-40F8-A928-5590321B3168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8"/>
          <p:cNvSpPr/>
          <p:nvPr/>
        </p:nvSpPr>
        <p:spPr>
          <a:xfrm rot="18420000">
            <a:off x="7858800" y="2736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9"/>
          <p:cNvSpPr/>
          <p:nvPr/>
        </p:nvSpPr>
        <p:spPr>
          <a:xfrm rot="18420000">
            <a:off x="7824960" y="192960"/>
            <a:ext cx="1025640" cy="15717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72" name="Freeform 11"/>
            <p:cNvSpPr/>
            <p:nvPr/>
          </p:nvSpPr>
          <p:spPr>
            <a:xfrm>
              <a:off x="38160" y="5563800"/>
              <a:ext cx="1728720" cy="10285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22520" y="5686200"/>
              <a:ext cx="112680" cy="2041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1680" y="5990400"/>
              <a:ext cx="1257480" cy="649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204840" y="6044040"/>
              <a:ext cx="833400" cy="592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770040" y="5606640"/>
              <a:ext cx="214200" cy="191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1017720" y="6607080"/>
              <a:ext cx="120600" cy="177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0280" y="5725800"/>
              <a:ext cx="306360" cy="606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1060560" y="5698800"/>
              <a:ext cx="577800" cy="275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550800" y="5861880"/>
              <a:ext cx="247680" cy="1062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" name="Group 20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82" name="Group 21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83" name="Freeform 22"/>
                <p:cNvSpPr/>
                <p:nvPr/>
              </p:nvSpPr>
              <p:spPr>
                <a:xfrm>
                  <a:off x="792000" y="5693760"/>
                  <a:ext cx="24876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23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24"/>
                <p:cNvSpPr/>
                <p:nvPr/>
              </p:nvSpPr>
              <p:spPr>
                <a:xfrm>
                  <a:off x="1592280" y="5654160"/>
                  <a:ext cx="68040" cy="18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Freeform 25"/>
              <p:cNvSpPr/>
              <p:nvPr/>
            </p:nvSpPr>
            <p:spPr>
              <a:xfrm>
                <a:off x="120600" y="5923800"/>
                <a:ext cx="944640" cy="39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412920" y="616788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896760" y="5841360"/>
                <a:ext cx="169920" cy="37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" name="Group 28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90" name="Freeform 29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0"/>
                <p:cNvSpPr/>
                <p:nvPr/>
              </p:nvSpPr>
              <p:spPr>
                <a:xfrm>
                  <a:off x="7920" y="5916600"/>
                  <a:ext cx="1335240" cy="69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31"/>
                <p:cNvSpPr/>
                <p:nvPr/>
              </p:nvSpPr>
              <p:spPr>
                <a:xfrm>
                  <a:off x="167760" y="5983200"/>
                  <a:ext cx="1267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32"/>
                <p:cNvSpPr/>
                <p:nvPr/>
              </p:nvSpPr>
              <p:spPr>
                <a:xfrm>
                  <a:off x="712080" y="5540400"/>
                  <a:ext cx="51048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3"/>
                <p:cNvSpPr/>
                <p:nvPr/>
              </p:nvSpPr>
              <p:spPr>
                <a:xfrm>
                  <a:off x="916560" y="5793120"/>
                  <a:ext cx="151920" cy="39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34"/>
                <p:cNvSpPr/>
                <p:nvPr/>
              </p:nvSpPr>
              <p:spPr>
                <a:xfrm>
                  <a:off x="519840" y="5761440"/>
                  <a:ext cx="309240" cy="21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35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36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" name="Group 37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99" name="Freeform 38"/>
            <p:cNvSpPr/>
            <p:nvPr/>
          </p:nvSpPr>
          <p:spPr>
            <a:xfrm flipH="1">
              <a:off x="8680320" y="4158360"/>
              <a:ext cx="324000" cy="22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 flipH="1">
              <a:off x="8740440" y="2116080"/>
              <a:ext cx="324000" cy="2591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6890760" y="-157680"/>
            <a:ext cx="2977200" cy="2838960"/>
            <a:chOff x="6890760" y="-157680"/>
            <a:chExt cx="2977200" cy="2838960"/>
          </a:xfrm>
        </p:grpSpPr>
        <p:grpSp>
          <p:nvGrpSpPr>
            <p:cNvPr id="102" name="Group 41"/>
            <p:cNvGrpSpPr/>
            <p:nvPr/>
          </p:nvGrpSpPr>
          <p:grpSpPr>
            <a:xfrm>
              <a:off x="6890760" y="-157680"/>
              <a:ext cx="2977200" cy="2838960"/>
              <a:chOff x="6890760" y="-157680"/>
              <a:chExt cx="2977200" cy="2838960"/>
            </a:xfrm>
          </p:grpSpPr>
          <p:sp>
            <p:nvSpPr>
              <p:cNvPr id="103" name="Freeform 42"/>
              <p:cNvSpPr/>
              <p:nvPr/>
            </p:nvSpPr>
            <p:spPr>
              <a:xfrm rot="18420000">
                <a:off x="8616960" y="172512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Group 43"/>
              <p:cNvGrpSpPr/>
              <p:nvPr/>
            </p:nvGrpSpPr>
            <p:grpSpPr>
              <a:xfrm>
                <a:off x="6890760" y="-157680"/>
                <a:ext cx="2977200" cy="2838960"/>
                <a:chOff x="6890760" y="-157680"/>
                <a:chExt cx="2977200" cy="2838960"/>
              </a:xfrm>
            </p:grpSpPr>
            <p:sp>
              <p:nvSpPr>
                <p:cNvPr id="105" name="Freeform 44"/>
                <p:cNvSpPr/>
                <p:nvPr/>
              </p:nvSpPr>
              <p:spPr>
                <a:xfrm rot="18420000">
                  <a:off x="7779240" y="-24120"/>
                  <a:ext cx="3484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45"/>
                <p:cNvSpPr/>
                <p:nvPr/>
              </p:nvSpPr>
              <p:spPr>
                <a:xfrm rot="18420000">
                  <a:off x="7893720" y="644400"/>
                  <a:ext cx="6127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46"/>
                <p:cNvSpPr/>
                <p:nvPr/>
              </p:nvSpPr>
              <p:spPr>
                <a:xfrm rot="18420000">
                  <a:off x="7504200" y="411840"/>
                  <a:ext cx="1149840" cy="1621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7"/>
                <p:cNvSpPr/>
                <p:nvPr/>
              </p:nvSpPr>
              <p:spPr>
                <a:xfrm rot="18420000">
                  <a:off x="7516080" y="48240"/>
                  <a:ext cx="1725840" cy="242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48"/>
                <p:cNvSpPr/>
                <p:nvPr/>
              </p:nvSpPr>
              <p:spPr>
                <a:xfrm rot="18420000">
                  <a:off x="8372880" y="1853640"/>
                  <a:ext cx="3848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49"/>
                <p:cNvSpPr/>
                <p:nvPr/>
              </p:nvSpPr>
              <p:spPr>
                <a:xfrm rot="18420000">
                  <a:off x="8284680" y="1661400"/>
                  <a:ext cx="4118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50"/>
                <p:cNvSpPr/>
                <p:nvPr/>
              </p:nvSpPr>
              <p:spPr>
                <a:xfrm rot="18420000">
                  <a:off x="7798320" y="305280"/>
                  <a:ext cx="41220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51"/>
                <p:cNvSpPr/>
                <p:nvPr/>
              </p:nvSpPr>
              <p:spPr>
                <a:xfrm rot="18420000">
                  <a:off x="7732800" y="145800"/>
                  <a:ext cx="4078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verger.centreloisirs.free.fr/uploads/NCleanBlue/screen-1.6.jp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razumniki.ru/images/articles/obuchenie_detey/risunok16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216720"/>
            <a:ext cx="6193080" cy="18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ИЗУЧЕНИЕ ТЕХНИКИ 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РИСОВАНИЯ АКВАРЕЛЬЮ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92360" y="3716280"/>
            <a:ext cx="37083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Автор: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Френцель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Валентин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ченик 4 «Б» клас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МОУ «СОШ УИОП №8»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608360" cy="3565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629240" y="1828800"/>
            <a:ext cx="37558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39640" y="548640"/>
            <a:ext cx="989964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А-ля прима”-</a:t>
            </a: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самый простой </a:t>
            </a:r>
            <a:br>
              <a:rPr sz="2400"/>
            </a:b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и самый любимый способ рис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637200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Самый первый из способов   художники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азывают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«а-ля прима». Цвет подбираетс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на палитр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и после этого накладывается н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рисуно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Этот способ самый простой, им 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ользуюс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чаще все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759280" y="1844640"/>
            <a:ext cx="2700360" cy="4454640"/>
          </a:xfrm>
          <a:prstGeom prst="rect">
            <a:avLst/>
          </a:prstGeom>
          <a:ln w="0">
            <a:noFill/>
          </a:ln>
        </p:spPr>
      </p:pic>
      <p:pic>
        <p:nvPicPr>
          <p:cNvPr id="195" name="i-main-pic" descr="Картинка 10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194472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8920" y="391680"/>
            <a:ext cx="57243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Лессировка”-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наложение цветов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друг на друг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Второй способ называется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«лессировка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начала наносится один цвет, после просыхания 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его накладывают второй. Акварель имеет свойств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прозрачности и поэтому при наложении одного цвет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а другой получается третий оттенок. Таким способом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нарисовать улитку. Накладывая постепен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один цвет на другой,  получается очень красива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спиралька.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P1000316"/>
          <p:cNvPicPr/>
          <p:nvPr/>
        </p:nvPicPr>
        <p:blipFill>
          <a:blip r:embed="rId1"/>
          <a:stretch/>
        </p:blipFill>
        <p:spPr>
          <a:xfrm>
            <a:off x="5796000" y="2565360"/>
            <a:ext cx="2879640" cy="3888000"/>
          </a:xfrm>
          <a:prstGeom prst="rect">
            <a:avLst/>
          </a:prstGeom>
          <a:ln w="0">
            <a:noFill/>
          </a:ln>
        </p:spPr>
      </p:pic>
      <p:pic>
        <p:nvPicPr>
          <p:cNvPr id="199" name="i-main-pic" descr="Картинка 11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33360"/>
            <a:ext cx="259236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80000" y="-29160"/>
            <a:ext cx="446400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“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Пуант”- точка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Рисование разноцветными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  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маз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92000" y="3428640"/>
            <a:ext cx="784836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ретий способ - «пуантилизм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Это рисование разноцветными мазками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Художники заметили однажды, что если чередова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разноцветные мазки, например, жёлтого 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красного цвета, то издали, если прищуриться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увидеть оранжевый цве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ак можно изображать солнце или спелое яблок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627280" cy="424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P1000351"/>
          <p:cNvPicPr/>
          <p:nvPr/>
        </p:nvPicPr>
        <p:blipFill>
          <a:blip r:embed="rId2"/>
          <a:stretch/>
        </p:blipFill>
        <p:spPr>
          <a:xfrm>
            <a:off x="179280" y="189000"/>
            <a:ext cx="3313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03640" y="403560"/>
            <a:ext cx="49687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Рисование акварелью и восковыми мел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02920" y="2276640"/>
            <a:ext cx="697860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Очень интересно смешивать рис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акварелью с другими материалами, например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с восковыми мелками. Сначала я нарисовал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желтыми и белыми мелками цветы и лепестк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на листе,  а затем широкой кистью закраси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фон фиолетовой акварелью прямо поверх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цветов. Цветы так и сияли и не пропали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Только на фиолетовом фоне стали ещё ярче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Все дело в том, что воск отталкивает воду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и акварель не в силах закрасить ег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879640" cy="4572000"/>
          </a:xfrm>
          <a:prstGeom prst="rect">
            <a:avLst/>
          </a:prstGeom>
          <a:ln w="0">
            <a:noFill/>
          </a:ln>
        </p:spPr>
      </p:pic>
      <p:pic>
        <p:nvPicPr>
          <p:cNvPr id="207" name="i-main-pic" descr="Картинка 339 из 633"/>
          <p:cNvPicPr/>
          <p:nvPr/>
        </p:nvPicPr>
        <p:blipFill>
          <a:blip r:embed="rId2"/>
          <a:stretch/>
        </p:blipFill>
        <p:spPr>
          <a:xfrm>
            <a:off x="250920" y="189000"/>
            <a:ext cx="27367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743120" y="1641600"/>
            <a:ext cx="183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556000" y="1192680"/>
            <a:ext cx="58323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cc0099"/>
                </a:solidFill>
                <a:latin typeface="Century Gothic"/>
              </a:rPr>
              <a:t>«Страна изобразительного искус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велика и  загадоч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Многие ее тайны мне еще предсто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раскры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Главное не терять терпения и надеж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робовать, экспериментировать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омнит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Century Gothic"/>
              </a:rPr>
              <a:t>не ошибается тот, кто не работа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8" descr="j0217698"/>
          <p:cNvPicPr/>
          <p:nvPr/>
        </p:nvPicPr>
        <p:blipFill>
          <a:blip r:embed="rId1"/>
          <a:stretch/>
        </p:blipFill>
        <p:spPr>
          <a:xfrm>
            <a:off x="250920" y="836640"/>
            <a:ext cx="2233440" cy="23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5508720" y="4869000"/>
            <a:ext cx="26161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88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2"/>
          <p:cNvSpPr txBox="1"/>
          <p:nvPr/>
        </p:nvSpPr>
        <p:spPr>
          <a:xfrm>
            <a:off x="539640" y="5373720"/>
            <a:ext cx="7991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50f91"/>
                    </a:gs>
                    <a:gs pos="100000">
                      <a:srgbClr val="5a0642"/>
                    </a:gs>
                  </a:gsLst>
                  <a:lin ang="5400000"/>
                </a:gradFill>
                <a:latin typeface="Arial"/>
              </a:rPr>
              <a:t>СПАСИБО  ЗА 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50f91"/>
                  </a:gs>
                  <a:gs pos="100000">
                    <a:srgbClr val="5a064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2"/>
          <p:cNvSpPr txBox="1"/>
          <p:nvPr/>
        </p:nvSpPr>
        <p:spPr>
          <a:xfrm>
            <a:off x="1547640" y="1484280"/>
            <a:ext cx="59785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Какое чудо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осхищаться в живописи тем,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чем в реальности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не восхищаещься !"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250920" y="620640"/>
            <a:ext cx="8378640" cy="5772240"/>
          </a:xfrm>
          <a:prstGeom prst="pie">
            <a:avLst/>
          </a:prstGeom>
          <a:gradFill rotWithShape="0">
            <a:gsLst>
              <a:gs pos="0">
                <a:srgbClr val="825600"/>
              </a:gs>
              <a:gs pos="5000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979640" y="692280"/>
            <a:ext cx="5180040" cy="5327280"/>
            <a:chOff x="1979640" y="692280"/>
            <a:chExt cx="5180040" cy="5327280"/>
          </a:xfrm>
        </p:grpSpPr>
        <p:pic>
          <p:nvPicPr>
            <p:cNvPr id="166" name="Picture 5" descr=""/>
            <p:cNvPicPr/>
            <p:nvPr/>
          </p:nvPicPr>
          <p:blipFill>
            <a:blip r:embed="rId1"/>
            <a:stretch/>
          </p:blipFill>
          <p:spPr>
            <a:xfrm>
              <a:off x="1979640" y="692280"/>
              <a:ext cx="5180040" cy="77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" descr=""/>
            <p:cNvPicPr/>
            <p:nvPr/>
          </p:nvPicPr>
          <p:blipFill>
            <a:blip r:embed="rId2"/>
            <a:stretch/>
          </p:blipFill>
          <p:spPr>
            <a:xfrm>
              <a:off x="2055600" y="5240520"/>
              <a:ext cx="5027760" cy="77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7"/>
          <p:cNvSpPr/>
          <p:nvPr/>
        </p:nvSpPr>
        <p:spPr>
          <a:xfrm>
            <a:off x="6732720" y="616572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Эжен Делакру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519640" cy="3746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908000" y="1700280"/>
            <a:ext cx="40356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 самого раннего детства я любл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рисовать и, наверное, можно наз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меня  художником, потому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что всякий, кто умеет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любит придумывать, фантазир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и творить по праву мож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ебя так назы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о одного желания мало. Нуж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аучиться пользоваться различн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красками, карандашами, кистями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Художник-творец и фантазе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pic>
        <p:nvPicPr>
          <p:cNvPr id="172" name="Picture 7" descr="Акварель. Техника наложения краски"/>
          <p:cNvPicPr/>
          <p:nvPr/>
        </p:nvPicPr>
        <p:blipFill>
          <a:blip r:embed="rId2"/>
          <a:stretch/>
        </p:blipFill>
        <p:spPr>
          <a:xfrm>
            <a:off x="395280" y="260280"/>
            <a:ext cx="16239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63640" y="1844640"/>
            <a:ext cx="44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лово акварель произошло от латинского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«аква» - вода, а сами краски  делают измелкого цветного порошка,в который добавляют клей, много воды и иногда глицерин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У акварели разнообразная  цветовая гамма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смешении цветов для живописи, действует фундаментальное правило - есть три цвета, которые не могут быть получены смешением других цветов. Эти три цвета - красный, синий и желтый, известны как первичные цвет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два первичных цвета вместе, получится то, что называют вторичным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три первичных цвета вместе, то получаете третичный цве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уроки графики"/>
          <p:cNvPicPr/>
          <p:nvPr/>
        </p:nvPicPr>
        <p:blipFill>
          <a:blip r:embed="rId1"/>
          <a:stretch/>
        </p:blipFill>
        <p:spPr>
          <a:xfrm>
            <a:off x="324000" y="476280"/>
            <a:ext cx="115236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ak006"/>
          <p:cNvPicPr/>
          <p:nvPr/>
        </p:nvPicPr>
        <p:blipFill>
          <a:blip r:embed="rId2"/>
          <a:stretch/>
        </p:blipFill>
        <p:spPr>
          <a:xfrm>
            <a:off x="6516720" y="2276640"/>
            <a:ext cx="2305080" cy="38512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7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збука 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176720" y="2711520"/>
            <a:ext cx="496728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е, оказывается, белой акварели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используют белила 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ивают краску с больш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м воды,  чтобы  ц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почти прозрач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интересно - одна и та же  крас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разному разбавленная водой, д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о разный цвет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P1000339"/>
          <p:cNvPicPr/>
          <p:nvPr/>
        </p:nvPicPr>
        <p:blipFill>
          <a:blip r:embed="rId1"/>
          <a:stretch/>
        </p:blipFill>
        <p:spPr>
          <a:xfrm>
            <a:off x="179280" y="26028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2084400" y="3285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251000" y="1773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WordArt 11"/>
          <p:cNvSpPr txBox="1"/>
          <p:nvPr/>
        </p:nvSpPr>
        <p:spPr>
          <a:xfrm>
            <a:off x="468360" y="404640"/>
            <a:ext cx="77565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977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териалы для акварельной живопис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i-main-pic" descr="Картинка 66 из 654"/>
          <p:cNvPicPr/>
          <p:nvPr/>
        </p:nvPicPr>
        <p:blipFill>
          <a:blip r:embed="rId1"/>
          <a:stretch/>
        </p:blipFill>
        <p:spPr>
          <a:xfrm>
            <a:off x="2124000" y="2349360"/>
            <a:ext cx="554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-main-pic" descr="Картинка 194 из 654"/>
          <p:cNvPicPr/>
          <p:nvPr/>
        </p:nvPicPr>
        <p:blipFill>
          <a:blip r:embed="rId1"/>
          <a:stretch/>
        </p:blipFill>
        <p:spPr>
          <a:xfrm>
            <a:off x="468360" y="333360"/>
            <a:ext cx="3384360" cy="2709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1476360" y="3500280"/>
            <a:ext cx="661824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Бумага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– главный и почти един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материал, на котором рисуют акварел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Она плотная и шершавая, сверху обработа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специальным клеевым составом,котор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е позволяет воде просачиваться в глубин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а краска долго сохраняет яркость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асыщенность цв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14"/>
          <p:cNvSpPr txBox="1"/>
          <p:nvPr/>
        </p:nvSpPr>
        <p:spPr>
          <a:xfrm>
            <a:off x="3780000" y="1052640"/>
            <a:ext cx="4797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Бумага-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основа дл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sp>
        <p:nvSpPr>
          <p:cNvPr id="186" name="Homepage"/>
          <p:cNvSpPr/>
          <p:nvPr/>
        </p:nvSpPr>
        <p:spPr>
          <a:xfrm>
            <a:off x="7020000" y="3429000"/>
            <a:ext cx="1511280" cy="251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81520"/>
            <a:ext cx="561348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ff0066"/>
                </a:solidFill>
                <a:uFillTx/>
                <a:latin typeface="Bitstream Vera Serif"/>
              </a:rPr>
              <a:t>Кисти - настоящие волшебные палочки, творящиеи чуд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534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ервые кисти появились больш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чем 2500 лет назад, это бы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деревянные палочки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сщепленным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кончиком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озднее в палочку вставлял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волосы, шерсть  животных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тичьи перья.Кисти дл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кварели должны быть гибким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мягкими и эластичным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еличьим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или колонковыми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483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539640" y="836640"/>
            <a:ext cx="6821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ы работы с акварель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i-main-pic" descr="Картинка 12 из 654"/>
          <p:cNvPicPr/>
          <p:nvPr/>
        </p:nvPicPr>
        <p:blipFill>
          <a:blip r:embed="rId1"/>
          <a:stretch/>
        </p:blipFill>
        <p:spPr>
          <a:xfrm>
            <a:off x="1979640" y="2276640"/>
            <a:ext cx="594216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1-02-03T12:42:45Z</dcterms:modified>
  <cp:revision>30</cp:revision>
  <dc:subject/>
  <dc:title>Рисование аквар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a0000000000010243000207f6000400038000</vt:lpwstr>
  </property>
</Properties>
</file>