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.gif" ContentType="image/gif"/>
  <Override PartName="/ppt/media/image6.jpeg" ContentType="image/jpeg"/>
  <Override PartName="/ppt/media/image5.jpeg" ContentType="image/jpeg"/>
  <Override PartName="/ppt/media/image4.jpeg" ContentType="image/jpeg"/>
  <Override PartName="/ppt/media/image3.gif" ContentType="image/gif"/>
  <Override PartName="/ppt/media/image23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21.wmf" ContentType="image/x-wmf"/>
  <Override PartName="/ppt/media/image17.jpeg" ContentType="image/jpeg"/>
  <Override PartName="/ppt/media/image14.png" ContentType="image/png"/>
  <Override PartName="/ppt/media/image1.jpeg" ContentType="image/jpeg"/>
  <Override PartName="/ppt/media/image22.jpeg" ContentType="image/jpeg"/>
  <Override PartName="/ppt/media/image1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-360" y="-13717440"/>
            <a:ext cx="360" cy="28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1"/>
          <p:cNvSpPr/>
          <p:nvPr/>
        </p:nvSpPr>
        <p:spPr>
          <a:xfrm>
            <a:off x="1143000" y="179280"/>
            <a:ext cx="4976640" cy="3944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3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just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С самого раннего детства я люблю рисовать и, наверное, можно назвать меня  художником, потому что всякий, кто умеет и любит придумывать, фантазировать и творить по праву может себя так называть. Но одного желания мало. Нужно научиться пользоваться различными красками, карандашами, кистями - настоящими волшебными палочками, творящими чудеса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43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Я рисую цветными карандашами, гуашью, восковыми мелками, пастелью, фломастерами, но больше всего мне нравится творить акварелью. Иногда у меня что-то не получается, так как я мало знаю об этом художественном материале. Изобразительное искусство, как и письмо слов, имеет свои правила и приемы, свою азбуку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Text Box 1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 Box 1"/>
          <p:cNvSpPr/>
          <p:nvPr/>
        </p:nvSpPr>
        <p:spPr>
          <a:xfrm>
            <a:off x="0" y="-11639520"/>
            <a:ext cx="1440" cy="2466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 Box 1"/>
          <p:cNvSpPr/>
          <p:nvPr/>
        </p:nvSpPr>
        <p:spPr>
          <a:xfrm>
            <a:off x="360360" y="360360"/>
            <a:ext cx="6119640" cy="431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body"/>
          </p:nvPr>
        </p:nvSpPr>
        <p:spPr>
          <a:xfrm>
            <a:off x="899640" y="4680000"/>
            <a:ext cx="5219640" cy="42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just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43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Третий способ - </a:t>
            </a:r>
            <a:r>
              <a:rPr b="0" lang="en-GB" sz="1800" spc="-1" strike="noStrike">
                <a:solidFill>
                  <a:srgbClr val="800000"/>
                </a:solidFill>
                <a:latin typeface="Times New Roman"/>
                <a:ea typeface="Lucida Sans Unicode"/>
              </a:rPr>
              <a:t>«пуантилизм»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43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(по-французски слово «пуант» означает точка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43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Это рисование разноцветными мазками. Художники заметили однажды, что если чередовать разноцветные мазки, например, жёлтого и красного цвета, то издали, если прищуриться, можно увидеть оранжевый цвет. Так можно изображать солнце или спелое яблоко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Text Box 1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ext Box 1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1"/>
          <p:cNvSpPr/>
          <p:nvPr/>
        </p:nvSpPr>
        <p:spPr>
          <a:xfrm>
            <a:off x="1260360" y="539640"/>
            <a:ext cx="4500720" cy="3584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body"/>
          </p:nvPr>
        </p:nvSpPr>
        <p:spPr>
          <a:xfrm>
            <a:off x="720360" y="4319640"/>
            <a:ext cx="5451480" cy="26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just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6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Самый первый из них  художники называют «а-ля прима». Цвет подбирается на палитре и после этого накладывается на рисунок. Этот способ самый простой, им я пользуюсь чаще всего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 Box 1"/>
          <p:cNvSpPr/>
          <p:nvPr/>
        </p:nvSpPr>
        <p:spPr>
          <a:xfrm>
            <a:off x="1440000" y="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3"/>
          <p:cNvSpPr/>
          <p:nvPr/>
        </p:nvSpPr>
        <p:spPr>
          <a:xfrm>
            <a:off x="1979640" y="1440000"/>
            <a:ext cx="18108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Text Box 4"/>
          <p:cNvSpPr/>
          <p:nvPr/>
        </p:nvSpPr>
        <p:spPr>
          <a:xfrm>
            <a:off x="2340000" y="2700360"/>
            <a:ext cx="10051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Мари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Text Box 5"/>
          <p:cNvSpPr/>
          <p:nvPr/>
        </p:nvSpPr>
        <p:spPr>
          <a:xfrm>
            <a:off x="1979640" y="2700360"/>
            <a:ext cx="108108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 Box 6"/>
          <p:cNvSpPr/>
          <p:nvPr/>
        </p:nvSpPr>
        <p:spPr>
          <a:xfrm>
            <a:off x="2340000" y="2700360"/>
            <a:ext cx="72072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Text Box 7"/>
          <p:cNvSpPr/>
          <p:nvPr/>
        </p:nvSpPr>
        <p:spPr>
          <a:xfrm>
            <a:off x="2160720" y="2700360"/>
            <a:ext cx="18000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31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just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43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Кисти для акварели должны быть гибкими, мягкими и эластичными, беличьими или колонковыми. Первые кисти появились больше чем 2500 лет назад, это были деревянные палочки с расщепленным кончиком, позднее в палочку вставляли волосы, шерсть  животных,  птичьи перья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 Box 3"/>
          <p:cNvSpPr/>
          <p:nvPr/>
        </p:nvSpPr>
        <p:spPr>
          <a:xfrm>
            <a:off x="1800360" y="2340000"/>
            <a:ext cx="18072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Text Box 4"/>
          <p:cNvSpPr/>
          <p:nvPr/>
        </p:nvSpPr>
        <p:spPr>
          <a:xfrm>
            <a:off x="900000" y="4140360"/>
            <a:ext cx="18108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Text Box 5"/>
          <p:cNvSpPr/>
          <p:nvPr/>
        </p:nvSpPr>
        <p:spPr>
          <a:xfrm>
            <a:off x="0" y="5940360"/>
            <a:ext cx="18108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754A8-9A65-40EB-948E-45267AA20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440" y="-853920"/>
            <a:ext cx="6862680" cy="25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881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685800" y="5197320"/>
            <a:ext cx="76881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F685C-4777-49BA-BB67-B247E0E79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-853920"/>
            <a:ext cx="6862680" cy="25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15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25280" y="1828800"/>
            <a:ext cx="37515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85800" y="5197320"/>
            <a:ext cx="37515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25280" y="5197320"/>
            <a:ext cx="37515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6C025-9B3E-4CF7-BC3B-5BE1A7F16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-853920"/>
            <a:ext cx="6862680" cy="25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53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85360" y="1828800"/>
            <a:ext cx="24753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884920" y="1828800"/>
            <a:ext cx="24753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685800" y="5197320"/>
            <a:ext cx="24753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85360" y="5197320"/>
            <a:ext cx="24753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5884920" y="5197320"/>
            <a:ext cx="24753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08B2E-6B0A-49BA-817E-8B9001FC9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53DF8-35BA-4A9E-A250-E754626E0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-853920"/>
            <a:ext cx="6862680" cy="25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88160" cy="64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2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D9253-2CA3-431B-B3D4-3EF117FE2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-853920"/>
            <a:ext cx="6862680" cy="25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88160" cy="64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375A5-3EF6-4A91-966D-67F94E775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-853920"/>
            <a:ext cx="6862680" cy="25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1560" cy="64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25280" y="1828800"/>
            <a:ext cx="3751560" cy="64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CA341-5C98-4DAE-A925-C41F3A56F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-853920"/>
            <a:ext cx="6862680" cy="25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D2700-0B81-4F0D-940C-8C62DA6FF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685440" y="-853920"/>
            <a:ext cx="6862680" cy="120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2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2C97A-6092-4E69-AB19-1382D124B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-853920"/>
            <a:ext cx="6862680" cy="25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15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25280" y="1828800"/>
            <a:ext cx="3751560" cy="64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5197320"/>
            <a:ext cx="37515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57BFD-69FF-4EA6-AB52-D171877ED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440" y="-853920"/>
            <a:ext cx="6862680" cy="25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88160" cy="64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2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08F15-9E42-498F-90EA-500E359BA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-853920"/>
            <a:ext cx="6862680" cy="25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1560" cy="64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25280" y="1828800"/>
            <a:ext cx="37515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25280" y="5197320"/>
            <a:ext cx="37515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93A7E-55C4-4B4A-B680-3D2684C2C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440" y="-853920"/>
            <a:ext cx="6862680" cy="25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15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25280" y="1828800"/>
            <a:ext cx="37515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85800" y="5197320"/>
            <a:ext cx="76881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29B9A-CA99-4B6F-8563-24744003B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-853920"/>
            <a:ext cx="6862680" cy="25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881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85800" y="5197320"/>
            <a:ext cx="76881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80763-4EC5-48FD-BFF6-7AB853D86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-853920"/>
            <a:ext cx="6862680" cy="25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15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25280" y="1828800"/>
            <a:ext cx="37515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85800" y="5197320"/>
            <a:ext cx="37515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25280" y="5197320"/>
            <a:ext cx="37515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E551F-6F3F-442F-9659-510A3B51A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440" y="-853920"/>
            <a:ext cx="6862680" cy="25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53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85360" y="1828800"/>
            <a:ext cx="24753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884920" y="1828800"/>
            <a:ext cx="24753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85800" y="5197320"/>
            <a:ext cx="24753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85360" y="5197320"/>
            <a:ext cx="24753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5884920" y="5197320"/>
            <a:ext cx="24753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B3974-1115-4E92-AB14-7C0B75AEF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-853920"/>
            <a:ext cx="6862680" cy="25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88160" cy="64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1D7A2-139F-4B31-8E0E-E3FE939E2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440" y="-853920"/>
            <a:ext cx="6862680" cy="25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1560" cy="64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25280" y="1828800"/>
            <a:ext cx="3751560" cy="64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FF1B9-47CA-49E1-8738-346F16A64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-853920"/>
            <a:ext cx="6862680" cy="25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5D397-0CA0-4A30-A076-F08D12E8E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685440" y="-853920"/>
            <a:ext cx="6862680" cy="120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2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7EAE3-FBCE-4E73-ADC5-63D94E8BC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-853920"/>
            <a:ext cx="6862680" cy="25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15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25280" y="1828800"/>
            <a:ext cx="3751560" cy="64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5197320"/>
            <a:ext cx="37515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EC86D-7A25-4194-9A7F-B6F301F31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440" y="-853920"/>
            <a:ext cx="6862680" cy="25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1560" cy="64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25280" y="1828800"/>
            <a:ext cx="37515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25280" y="5197320"/>
            <a:ext cx="37515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0BDE0-8304-45D7-873D-671632C16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440" y="-853920"/>
            <a:ext cx="6862680" cy="25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15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25280" y="1828800"/>
            <a:ext cx="37515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5197320"/>
            <a:ext cx="76881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2251D-188A-4938-8315-9146C3CC4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371600" y="1184400"/>
            <a:ext cx="6392880" cy="25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2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72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792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72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48FC2A4-6A99-4E44-A0F7-16B3AE28ED95}" type="slidenum">
              <a:rPr b="0" lang="en-GB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95120" y="235080"/>
            <a:ext cx="3786480" cy="1775880"/>
            <a:chOff x="195120" y="235080"/>
            <a:chExt cx="3786480" cy="1775880"/>
          </a:xfrm>
        </p:grpSpPr>
        <p:sp>
          <p:nvSpPr>
            <p:cNvPr id="6" name="Freeform 7"/>
            <p:cNvSpPr/>
            <p:nvPr/>
          </p:nvSpPr>
          <p:spPr>
            <a:xfrm>
              <a:off x="281160" y="280800"/>
              <a:ext cx="3571560" cy="16124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8"/>
            <p:cNvSpPr/>
            <p:nvPr/>
          </p:nvSpPr>
          <p:spPr>
            <a:xfrm>
              <a:off x="263520" y="414000"/>
              <a:ext cx="3562200" cy="15969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9"/>
            <p:cNvSpPr/>
            <p:nvPr/>
          </p:nvSpPr>
          <p:spPr>
            <a:xfrm>
              <a:off x="752400" y="545760"/>
              <a:ext cx="2362320" cy="14569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" name="Group 10"/>
            <p:cNvGrpSpPr/>
            <p:nvPr/>
          </p:nvGrpSpPr>
          <p:grpSpPr>
            <a:xfrm>
              <a:off x="195120" y="235080"/>
              <a:ext cx="3786480" cy="1712520"/>
              <a:chOff x="195120" y="235080"/>
              <a:chExt cx="3786480" cy="1712520"/>
            </a:xfrm>
          </p:grpSpPr>
          <p:sp>
            <p:nvSpPr>
              <p:cNvPr id="10" name="Freeform 11"/>
              <p:cNvSpPr/>
              <p:nvPr/>
            </p:nvSpPr>
            <p:spPr>
              <a:xfrm>
                <a:off x="3181320" y="1479960"/>
                <a:ext cx="33624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7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2"/>
              <p:cNvSpPr/>
              <p:nvPr/>
            </p:nvSpPr>
            <p:spPr>
              <a:xfrm>
                <a:off x="195120" y="235080"/>
                <a:ext cx="3786480" cy="1712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7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3"/>
              <p:cNvSpPr/>
              <p:nvPr/>
            </p:nvSpPr>
            <p:spPr>
              <a:xfrm>
                <a:off x="514080" y="250560"/>
                <a:ext cx="2675520" cy="972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7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4"/>
              <p:cNvSpPr/>
              <p:nvPr/>
            </p:nvSpPr>
            <p:spPr>
              <a:xfrm>
                <a:off x="649080" y="398160"/>
                <a:ext cx="360000" cy="649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7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Freeform 15"/>
              <p:cNvSpPr/>
              <p:nvPr/>
            </p:nvSpPr>
            <p:spPr>
              <a:xfrm>
                <a:off x="1342440" y="849600"/>
                <a:ext cx="1096200" cy="576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7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5" name="Group 16"/>
          <p:cNvGrpSpPr/>
          <p:nvPr/>
        </p:nvGrpSpPr>
        <p:grpSpPr>
          <a:xfrm>
            <a:off x="7718760" y="4232160"/>
            <a:ext cx="1170000" cy="1330200"/>
            <a:chOff x="7718760" y="4232160"/>
            <a:chExt cx="1170000" cy="1330200"/>
          </a:xfrm>
        </p:grpSpPr>
        <p:sp>
          <p:nvSpPr>
            <p:cNvPr id="16" name="Freeform 17"/>
            <p:cNvSpPr/>
            <p:nvPr/>
          </p:nvSpPr>
          <p:spPr>
            <a:xfrm rot="7320000">
              <a:off x="7800840" y="4652640"/>
              <a:ext cx="998640" cy="4651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8"/>
            <p:cNvSpPr/>
            <p:nvPr/>
          </p:nvSpPr>
          <p:spPr>
            <a:xfrm rot="7320000">
              <a:off x="7777440" y="4636080"/>
              <a:ext cx="995040" cy="46044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19"/>
            <p:cNvSpPr/>
            <p:nvPr/>
          </p:nvSpPr>
          <p:spPr>
            <a:xfrm rot="7320000">
              <a:off x="7943760" y="4631040"/>
              <a:ext cx="660600" cy="4208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9" name="Group 20"/>
            <p:cNvGrpSpPr/>
            <p:nvPr/>
          </p:nvGrpSpPr>
          <p:grpSpPr>
            <a:xfrm>
              <a:off x="7718760" y="4232160"/>
              <a:ext cx="1170000" cy="1330200"/>
              <a:chOff x="7718760" y="4232160"/>
              <a:chExt cx="1170000" cy="1330200"/>
            </a:xfrm>
          </p:grpSpPr>
          <p:sp>
            <p:nvSpPr>
              <p:cNvPr id="20" name="Freeform 21"/>
              <p:cNvSpPr/>
              <p:nvPr/>
            </p:nvSpPr>
            <p:spPr>
              <a:xfrm rot="7320000">
                <a:off x="7822800" y="5075640"/>
                <a:ext cx="102600" cy="128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7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Freeform 22"/>
              <p:cNvSpPr/>
              <p:nvPr/>
            </p:nvSpPr>
            <p:spPr>
              <a:xfrm rot="7320000">
                <a:off x="7724160" y="4569120"/>
                <a:ext cx="1158840" cy="655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7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Freeform 23"/>
              <p:cNvSpPr/>
              <p:nvPr/>
            </p:nvSpPr>
            <p:spPr>
              <a:xfrm rot="7320000">
                <a:off x="8040240" y="4708800"/>
                <a:ext cx="820080" cy="371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7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Freeform 24"/>
              <p:cNvSpPr/>
              <p:nvPr/>
            </p:nvSpPr>
            <p:spPr>
              <a:xfrm rot="7320000">
                <a:off x="8609040" y="4515480"/>
                <a:ext cx="109080" cy="248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7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5"/>
              <p:cNvSpPr/>
              <p:nvPr/>
            </p:nvSpPr>
            <p:spPr>
              <a:xfrm rot="7320000">
                <a:off x="8151840" y="4719600"/>
                <a:ext cx="335160" cy="218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7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5" name="Freeform 26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Freeform 27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Freeform 2"/>
          <p:cNvSpPr/>
          <p:nvPr/>
        </p:nvSpPr>
        <p:spPr>
          <a:xfrm rot="18420000">
            <a:off x="7776360" y="-13680"/>
            <a:ext cx="116172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-853920"/>
            <a:ext cx="6862680" cy="25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88160" cy="64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1000" indent="-261000">
              <a:lnSpc>
                <a:spcPct val="218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573120" indent="-216720">
              <a:lnSpc>
                <a:spcPct val="218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891360" indent="-178200">
              <a:lnSpc>
                <a:spcPct val="218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248120" indent="-178200">
              <a:lnSpc>
                <a:spcPct val="218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604520" indent="-178200">
              <a:lnSpc>
                <a:spcPct val="218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604520" indent="-178200">
              <a:lnSpc>
                <a:spcPct val="218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604520" indent="-178200">
              <a:lnSpc>
                <a:spcPct val="218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8972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ftr" idx="5"/>
          </p:nvPr>
        </p:nvSpPr>
        <p:spPr>
          <a:xfrm>
            <a:off x="3555720" y="6248520"/>
            <a:ext cx="288756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sldNum" idx="6"/>
          </p:nvPr>
        </p:nvSpPr>
        <p:spPr>
          <a:xfrm>
            <a:off x="6718320" y="6248520"/>
            <a:ext cx="18972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BDF8A79-FD2C-453E-921A-529EFF7F0359}" type="slidenum">
              <a:rPr b="0" lang="en-GB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Freeform 8"/>
          <p:cNvSpPr/>
          <p:nvPr/>
        </p:nvSpPr>
        <p:spPr>
          <a:xfrm rot="18420000">
            <a:off x="7858800" y="27360"/>
            <a:ext cx="116532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Freeform 9"/>
          <p:cNvSpPr/>
          <p:nvPr/>
        </p:nvSpPr>
        <p:spPr>
          <a:xfrm rot="18420000">
            <a:off x="7824960" y="192960"/>
            <a:ext cx="1025640" cy="157176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1" name="Group 10"/>
          <p:cNvGrpSpPr/>
          <p:nvPr/>
        </p:nvGrpSpPr>
        <p:grpSpPr>
          <a:xfrm>
            <a:off x="7920" y="5540400"/>
            <a:ext cx="1782360" cy="1244160"/>
            <a:chOff x="7920" y="5540400"/>
            <a:chExt cx="1782360" cy="1244160"/>
          </a:xfrm>
        </p:grpSpPr>
        <p:sp>
          <p:nvSpPr>
            <p:cNvPr id="72" name="Freeform 11"/>
            <p:cNvSpPr/>
            <p:nvPr/>
          </p:nvSpPr>
          <p:spPr>
            <a:xfrm>
              <a:off x="38160" y="5563800"/>
              <a:ext cx="1728720" cy="10285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Freeform 12"/>
            <p:cNvSpPr/>
            <p:nvPr/>
          </p:nvSpPr>
          <p:spPr>
            <a:xfrm>
              <a:off x="1622520" y="5686200"/>
              <a:ext cx="112680" cy="20412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Freeform 13"/>
            <p:cNvSpPr/>
            <p:nvPr/>
          </p:nvSpPr>
          <p:spPr>
            <a:xfrm>
              <a:off x="31680" y="5990400"/>
              <a:ext cx="1257480" cy="64980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Freeform 14"/>
            <p:cNvSpPr/>
            <p:nvPr/>
          </p:nvSpPr>
          <p:spPr>
            <a:xfrm>
              <a:off x="204840" y="6044040"/>
              <a:ext cx="833400" cy="59256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5"/>
            <p:cNvSpPr/>
            <p:nvPr/>
          </p:nvSpPr>
          <p:spPr>
            <a:xfrm>
              <a:off x="770040" y="5606640"/>
              <a:ext cx="214200" cy="19188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6"/>
            <p:cNvSpPr/>
            <p:nvPr/>
          </p:nvSpPr>
          <p:spPr>
            <a:xfrm>
              <a:off x="1017720" y="6607080"/>
              <a:ext cx="120600" cy="17748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7"/>
            <p:cNvSpPr/>
            <p:nvPr/>
          </p:nvSpPr>
          <p:spPr>
            <a:xfrm>
              <a:off x="800280" y="5725800"/>
              <a:ext cx="306360" cy="60696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18"/>
            <p:cNvSpPr/>
            <p:nvPr/>
          </p:nvSpPr>
          <p:spPr>
            <a:xfrm>
              <a:off x="1060560" y="5698800"/>
              <a:ext cx="577800" cy="27540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19"/>
            <p:cNvSpPr/>
            <p:nvPr/>
          </p:nvSpPr>
          <p:spPr>
            <a:xfrm>
              <a:off x="550800" y="5861880"/>
              <a:ext cx="247680" cy="10620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1" name="Group 20"/>
            <p:cNvGrpSpPr/>
            <p:nvPr/>
          </p:nvGrpSpPr>
          <p:grpSpPr>
            <a:xfrm>
              <a:off x="7920" y="5540400"/>
              <a:ext cx="1782360" cy="1234080"/>
              <a:chOff x="7920" y="5540400"/>
              <a:chExt cx="1782360" cy="1234080"/>
            </a:xfrm>
          </p:grpSpPr>
          <p:grpSp>
            <p:nvGrpSpPr>
              <p:cNvPr id="82" name="Group 21"/>
              <p:cNvGrpSpPr/>
              <p:nvPr/>
            </p:nvGrpSpPr>
            <p:grpSpPr>
              <a:xfrm>
                <a:off x="792000" y="5654160"/>
                <a:ext cx="868320" cy="1120320"/>
                <a:chOff x="792000" y="5654160"/>
                <a:chExt cx="868320" cy="1120320"/>
              </a:xfrm>
            </p:grpSpPr>
            <p:sp>
              <p:nvSpPr>
                <p:cNvPr id="83" name="Freeform 22"/>
                <p:cNvSpPr/>
                <p:nvPr/>
              </p:nvSpPr>
              <p:spPr>
                <a:xfrm>
                  <a:off x="792000" y="5693760"/>
                  <a:ext cx="248760" cy="1371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71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" name="Freeform 23"/>
                <p:cNvSpPr/>
                <p:nvPr/>
              </p:nvSpPr>
              <p:spPr>
                <a:xfrm>
                  <a:off x="1009080" y="6563880"/>
                  <a:ext cx="182160" cy="210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71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" name="Freeform 24"/>
                <p:cNvSpPr/>
                <p:nvPr/>
              </p:nvSpPr>
              <p:spPr>
                <a:xfrm>
                  <a:off x="1592280" y="5654160"/>
                  <a:ext cx="68040" cy="1850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71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86" name="Freeform 25"/>
              <p:cNvSpPr/>
              <p:nvPr/>
            </p:nvSpPr>
            <p:spPr>
              <a:xfrm>
                <a:off x="120600" y="5923800"/>
                <a:ext cx="944640" cy="396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7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Freeform 26"/>
              <p:cNvSpPr/>
              <p:nvPr/>
            </p:nvSpPr>
            <p:spPr>
              <a:xfrm>
                <a:off x="412920" y="6167880"/>
                <a:ext cx="387360" cy="234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7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Freeform 27"/>
              <p:cNvSpPr/>
              <p:nvPr/>
            </p:nvSpPr>
            <p:spPr>
              <a:xfrm>
                <a:off x="896760" y="5841360"/>
                <a:ext cx="169920" cy="376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7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89" name="Group 28"/>
              <p:cNvGrpSpPr/>
              <p:nvPr/>
            </p:nvGrpSpPr>
            <p:grpSpPr>
              <a:xfrm>
                <a:off x="7920" y="5540400"/>
                <a:ext cx="1782360" cy="1072440"/>
                <a:chOff x="7920" y="5540400"/>
                <a:chExt cx="1782360" cy="1072440"/>
              </a:xfrm>
            </p:grpSpPr>
            <p:sp>
              <p:nvSpPr>
                <p:cNvPr id="90" name="Freeform 29"/>
                <p:cNvSpPr/>
                <p:nvPr/>
              </p:nvSpPr>
              <p:spPr>
                <a:xfrm>
                  <a:off x="1060920" y="6423120"/>
                  <a:ext cx="118800" cy="1371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71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" name="Freeform 30"/>
                <p:cNvSpPr/>
                <p:nvPr/>
              </p:nvSpPr>
              <p:spPr>
                <a:xfrm>
                  <a:off x="7920" y="5916600"/>
                  <a:ext cx="1335240" cy="69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71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" name="Freeform 31"/>
                <p:cNvSpPr/>
                <p:nvPr/>
              </p:nvSpPr>
              <p:spPr>
                <a:xfrm>
                  <a:off x="167760" y="5983200"/>
                  <a:ext cx="126720" cy="263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71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3" name="Freeform 32"/>
                <p:cNvSpPr/>
                <p:nvPr/>
              </p:nvSpPr>
              <p:spPr>
                <a:xfrm>
                  <a:off x="712080" y="5540400"/>
                  <a:ext cx="510480" cy="939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71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4" name="Freeform 33"/>
                <p:cNvSpPr/>
                <p:nvPr/>
              </p:nvSpPr>
              <p:spPr>
                <a:xfrm>
                  <a:off x="916560" y="5793120"/>
                  <a:ext cx="151920" cy="398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71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5" name="Freeform 34"/>
                <p:cNvSpPr/>
                <p:nvPr/>
              </p:nvSpPr>
              <p:spPr>
                <a:xfrm>
                  <a:off x="519840" y="5761440"/>
                  <a:ext cx="309240" cy="213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71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6" name="Freeform 35"/>
                <p:cNvSpPr/>
                <p:nvPr/>
              </p:nvSpPr>
              <p:spPr>
                <a:xfrm>
                  <a:off x="1043640" y="5616360"/>
                  <a:ext cx="746640" cy="334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71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" name="Freeform 36"/>
                <p:cNvSpPr/>
                <p:nvPr/>
              </p:nvSpPr>
              <p:spPr>
                <a:xfrm>
                  <a:off x="1136880" y="5723640"/>
                  <a:ext cx="388080" cy="1360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71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98" name="Group 37"/>
          <p:cNvGrpSpPr/>
          <p:nvPr/>
        </p:nvGrpSpPr>
        <p:grpSpPr>
          <a:xfrm>
            <a:off x="8680320" y="2116080"/>
            <a:ext cx="384120" cy="4306680"/>
            <a:chOff x="8680320" y="2116080"/>
            <a:chExt cx="384120" cy="4306680"/>
          </a:xfrm>
        </p:grpSpPr>
        <p:sp>
          <p:nvSpPr>
            <p:cNvPr id="99" name="Freeform 38"/>
            <p:cNvSpPr/>
            <p:nvPr/>
          </p:nvSpPr>
          <p:spPr>
            <a:xfrm flipH="1">
              <a:off x="8680320" y="4158360"/>
              <a:ext cx="324000" cy="226440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39"/>
            <p:cNvSpPr/>
            <p:nvPr/>
          </p:nvSpPr>
          <p:spPr>
            <a:xfrm flipH="1">
              <a:off x="8740440" y="2116080"/>
              <a:ext cx="324000" cy="25912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1" name="Group 40"/>
          <p:cNvGrpSpPr/>
          <p:nvPr/>
        </p:nvGrpSpPr>
        <p:grpSpPr>
          <a:xfrm>
            <a:off x="6890760" y="-157680"/>
            <a:ext cx="2977200" cy="2838960"/>
            <a:chOff x="6890760" y="-157680"/>
            <a:chExt cx="2977200" cy="2838960"/>
          </a:xfrm>
        </p:grpSpPr>
        <p:grpSp>
          <p:nvGrpSpPr>
            <p:cNvPr id="102" name="Group 41"/>
            <p:cNvGrpSpPr/>
            <p:nvPr/>
          </p:nvGrpSpPr>
          <p:grpSpPr>
            <a:xfrm>
              <a:off x="6890760" y="-157680"/>
              <a:ext cx="2977200" cy="2838960"/>
              <a:chOff x="6890760" y="-157680"/>
              <a:chExt cx="2977200" cy="2838960"/>
            </a:xfrm>
          </p:grpSpPr>
          <p:sp>
            <p:nvSpPr>
              <p:cNvPr id="103" name="Freeform 42"/>
              <p:cNvSpPr/>
              <p:nvPr/>
            </p:nvSpPr>
            <p:spPr>
              <a:xfrm rot="18420000">
                <a:off x="8616960" y="1725120"/>
                <a:ext cx="9828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7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04" name="Group 43"/>
              <p:cNvGrpSpPr/>
              <p:nvPr/>
            </p:nvGrpSpPr>
            <p:grpSpPr>
              <a:xfrm>
                <a:off x="6890760" y="-157680"/>
                <a:ext cx="2977200" cy="2838960"/>
                <a:chOff x="6890760" y="-157680"/>
                <a:chExt cx="2977200" cy="2838960"/>
              </a:xfrm>
            </p:grpSpPr>
            <p:sp>
              <p:nvSpPr>
                <p:cNvPr id="105" name="Freeform 44"/>
                <p:cNvSpPr/>
                <p:nvPr/>
              </p:nvSpPr>
              <p:spPr>
                <a:xfrm rot="18420000">
                  <a:off x="7779240" y="-24120"/>
                  <a:ext cx="348480" cy="225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71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6" name="Freeform 45"/>
                <p:cNvSpPr/>
                <p:nvPr/>
              </p:nvSpPr>
              <p:spPr>
                <a:xfrm rot="18420000">
                  <a:off x="7893720" y="644400"/>
                  <a:ext cx="612720" cy="7909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71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7" name="Freeform 46"/>
                <p:cNvSpPr/>
                <p:nvPr/>
              </p:nvSpPr>
              <p:spPr>
                <a:xfrm rot="18420000">
                  <a:off x="7504200" y="411840"/>
                  <a:ext cx="1149840" cy="16210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71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8" name="Freeform 47"/>
                <p:cNvSpPr/>
                <p:nvPr/>
              </p:nvSpPr>
              <p:spPr>
                <a:xfrm rot="18420000">
                  <a:off x="7516080" y="48240"/>
                  <a:ext cx="1725840" cy="24271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71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9" name="Freeform 48"/>
                <p:cNvSpPr/>
                <p:nvPr/>
              </p:nvSpPr>
              <p:spPr>
                <a:xfrm rot="18420000">
                  <a:off x="8372880" y="1853640"/>
                  <a:ext cx="384840" cy="22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71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" name="Freeform 49"/>
                <p:cNvSpPr/>
                <p:nvPr/>
              </p:nvSpPr>
              <p:spPr>
                <a:xfrm rot="18420000">
                  <a:off x="8284680" y="1661400"/>
                  <a:ext cx="411840" cy="2599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71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1" name="Freeform 50"/>
                <p:cNvSpPr/>
                <p:nvPr/>
              </p:nvSpPr>
              <p:spPr>
                <a:xfrm rot="18420000">
                  <a:off x="7798320" y="305280"/>
                  <a:ext cx="412200" cy="265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71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2" name="Freeform 51"/>
                <p:cNvSpPr/>
                <p:nvPr/>
              </p:nvSpPr>
              <p:spPr>
                <a:xfrm rot="18420000">
                  <a:off x="7732800" y="145800"/>
                  <a:ext cx="407880" cy="24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71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3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900igr.net/" TargetMode="External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hyperlink" Target="http://verger.centreloisirs.free.fr/uploads/NCleanBlue/screen-1.6.jpg" TargetMode="External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hyperlink" Target="http://www.razumniki.ru/images/articles/obuchenie_detey/risunok16.jpg" TargetMode="External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763280" y="-216720"/>
            <a:ext cx="6193080" cy="18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4000" spc="-1" strike="noStrike">
                <a:solidFill>
                  <a:srgbClr val="ff0066"/>
                </a:solidFill>
                <a:latin typeface="Times New Roman"/>
              </a:rPr>
              <a:t>«</a:t>
            </a:r>
            <a:r>
              <a:rPr b="1" i="1" lang="en-GB" sz="3600" spc="-1" strike="noStrike">
                <a:solidFill>
                  <a:srgbClr val="ff0066"/>
                </a:solidFill>
                <a:latin typeface="Times New Roman"/>
              </a:rPr>
              <a:t>ИЗУЧЕНИЕ ТЕХНИКИ </a:t>
            </a:r>
            <a:r>
              <a:rPr b="1" i="1" lang="ru-RU" sz="3600" spc="-1" strike="noStrike">
                <a:solidFill>
                  <a:srgbClr val="ff0066"/>
                </a:solidFill>
                <a:latin typeface="Times New Roman"/>
              </a:rPr>
              <a:t>    </a:t>
            </a:r>
            <a:r>
              <a:rPr b="1" i="1" lang="en-GB" sz="3600" spc="-1" strike="noStrike">
                <a:solidFill>
                  <a:srgbClr val="ff0066"/>
                </a:solidFill>
                <a:latin typeface="Times New Roman"/>
              </a:rPr>
              <a:t>РИСОВАНИЯ АКВАРЕЛЬЮ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292360" y="3716280"/>
            <a:ext cx="3708360" cy="161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563400"/>
                <a:tab algn="l" pos="1477800"/>
                <a:tab algn="l" pos="2392200"/>
                <a:tab algn="l" pos="3306600"/>
                <a:tab algn="l" pos="4221000"/>
                <a:tab algn="l" pos="5135400"/>
                <a:tab algn="l" pos="6049800"/>
                <a:tab algn="l" pos="6964200"/>
                <a:tab algn="l" pos="7878600"/>
                <a:tab algn="l" pos="8793000"/>
                <a:tab algn="l" pos="9707400"/>
                <a:tab algn="l" pos="9877320"/>
                <a:tab algn="l" pos="10326600"/>
                <a:tab algn="l" pos="10779120"/>
                <a:tab algn="l" pos="1078056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Автор: 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Френцель 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   Валентин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563400"/>
                <a:tab algn="l" pos="1477800"/>
                <a:tab algn="l" pos="2392200"/>
                <a:tab algn="l" pos="3306600"/>
                <a:tab algn="l" pos="4221000"/>
                <a:tab algn="l" pos="5135400"/>
                <a:tab algn="l" pos="6049800"/>
                <a:tab algn="l" pos="6964200"/>
                <a:tab algn="l" pos="7878600"/>
                <a:tab algn="l" pos="8793000"/>
                <a:tab algn="l" pos="9707400"/>
                <a:tab algn="l" pos="9877320"/>
                <a:tab algn="l" pos="10326600"/>
                <a:tab algn="l" pos="10779120"/>
                <a:tab algn="l" pos="1078056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У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ченик 4 «Б» класс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563400"/>
                <a:tab algn="l" pos="1477800"/>
                <a:tab algn="l" pos="2392200"/>
                <a:tab algn="l" pos="3306600"/>
                <a:tab algn="l" pos="4221000"/>
                <a:tab algn="l" pos="5135400"/>
                <a:tab algn="l" pos="6049800"/>
                <a:tab algn="l" pos="6964200"/>
                <a:tab algn="l" pos="7878600"/>
                <a:tab algn="l" pos="8793000"/>
                <a:tab algn="l" pos="9707400"/>
                <a:tab algn="l" pos="9877320"/>
                <a:tab algn="l" pos="10326600"/>
                <a:tab algn="l" pos="10779120"/>
                <a:tab algn="l" pos="1078056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МОУ «СОШ УИОП №8»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9" name="Picture 3" descr=""/>
          <p:cNvPicPr/>
          <p:nvPr/>
        </p:nvPicPr>
        <p:blipFill>
          <a:blip r:embed="rId1"/>
          <a:stretch/>
        </p:blipFill>
        <p:spPr>
          <a:xfrm>
            <a:off x="250920" y="1844640"/>
            <a:ext cx="4608360" cy="356544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4"/>
          <p:cNvSpPr/>
          <p:nvPr/>
        </p:nvSpPr>
        <p:spPr>
          <a:xfrm>
            <a:off x="4629240" y="1828800"/>
            <a:ext cx="3755880" cy="37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Скругленный прямоугольник 5">
            <a:hlinkClick r:id="rId2"/>
          </p:cNvPr>
          <p:cNvSpPr/>
          <p:nvPr/>
        </p:nvSpPr>
        <p:spPr>
          <a:xfrm>
            <a:off x="3898800" y="6477120"/>
            <a:ext cx="134640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25560" bIns="50760" anchor="t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339640" y="548640"/>
            <a:ext cx="9899640" cy="85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0066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ff0066"/>
                </a:solidFill>
                <a:latin typeface="Times New Roman"/>
              </a:rPr>
              <a:t>А-ля прима”-</a:t>
            </a:r>
            <a:r>
              <a:rPr b="0" lang="en-GB" sz="2400" spc="-1" strike="noStrike">
                <a:solidFill>
                  <a:srgbClr val="cc0099"/>
                </a:solidFill>
                <a:latin typeface="Times New Roman"/>
              </a:rPr>
              <a:t>самый простой </a:t>
            </a:r>
            <a:br>
              <a:rPr sz="2400"/>
            </a:br>
            <a:r>
              <a:rPr b="0" lang="en-GB" sz="2400" spc="-1" strike="noStrike">
                <a:solidFill>
                  <a:srgbClr val="cc0099"/>
                </a:solidFill>
                <a:latin typeface="Times New Roman"/>
              </a:rPr>
              <a:t>и самый любимый способ рисова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971640" y="2133360"/>
            <a:ext cx="6372000" cy="399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4800" indent="0" algn="just">
              <a:lnSpc>
                <a:spcPct val="117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4800" indent="0" algn="just">
              <a:lnSpc>
                <a:spcPct val="175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mic Sans MS"/>
              </a:rPr>
              <a:t>Самый первый из способов   художники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4800" indent="0" algn="just">
              <a:lnSpc>
                <a:spcPct val="175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н</a:t>
            </a:r>
            <a:r>
              <a:rPr b="1" lang="en-GB" sz="1600" spc="-1" strike="noStrike">
                <a:solidFill>
                  <a:srgbClr val="000000"/>
                </a:solidFill>
                <a:latin typeface="Comic Sans MS"/>
              </a:rPr>
              <a:t>азывают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Comic Sans MS"/>
              </a:rPr>
              <a:t>«а-ля прима». Цвет подбирается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4800" indent="0" algn="just">
              <a:lnSpc>
                <a:spcPct val="175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mic Sans MS"/>
              </a:rPr>
              <a:t>на палитре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Comic Sans MS"/>
              </a:rPr>
              <a:t>и после этого накладывается на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4800" indent="0" algn="just">
              <a:lnSpc>
                <a:spcPct val="175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mic Sans MS"/>
              </a:rPr>
              <a:t>рисунок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4800" indent="0" algn="just">
              <a:lnSpc>
                <a:spcPct val="175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GB" sz="1600" spc="-1" strike="noStrike">
                <a:solidFill>
                  <a:srgbClr val="000000"/>
                </a:solidFill>
                <a:latin typeface="Comic Sans MS"/>
              </a:rPr>
              <a:t>Этот способ самый простой, им я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4800" indent="0" algn="just">
              <a:lnSpc>
                <a:spcPct val="175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п</a:t>
            </a:r>
            <a:r>
              <a:rPr b="1" lang="en-GB" sz="1600" spc="-1" strike="noStrike">
                <a:solidFill>
                  <a:srgbClr val="000000"/>
                </a:solidFill>
                <a:latin typeface="Comic Sans MS"/>
              </a:rPr>
              <a:t>ользуюсь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mic Sans MS"/>
              </a:rPr>
              <a:t>чаще всего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4800" indent="0" algn="just">
              <a:lnSpc>
                <a:spcPct val="175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4" name="Picture 3" descr=""/>
          <p:cNvPicPr/>
          <p:nvPr/>
        </p:nvPicPr>
        <p:blipFill>
          <a:blip r:embed="rId1"/>
          <a:stretch/>
        </p:blipFill>
        <p:spPr>
          <a:xfrm>
            <a:off x="5759280" y="1844640"/>
            <a:ext cx="2700360" cy="4454640"/>
          </a:xfrm>
          <a:prstGeom prst="rect">
            <a:avLst/>
          </a:prstGeom>
          <a:ln w="0">
            <a:noFill/>
          </a:ln>
        </p:spPr>
      </p:pic>
      <p:pic>
        <p:nvPicPr>
          <p:cNvPr id="195" name="i-main-pic" descr="Картинка 105 из 138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50920" y="404640"/>
            <a:ext cx="1944720" cy="172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58920" y="391680"/>
            <a:ext cx="5724360" cy="150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                  </a:t>
            </a:r>
            <a:r>
              <a:rPr b="1" lang="en-GB" sz="2800" spc="-1" strike="noStrike">
                <a:solidFill>
                  <a:srgbClr val="cc0099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cc0099"/>
                </a:solidFill>
                <a:latin typeface="Times New Roman"/>
              </a:rPr>
              <a:t>Лессировка”-</a:t>
            </a:r>
            <a:br>
              <a:rPr sz="2800"/>
            </a:b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          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наложение цветов </a:t>
            </a:r>
            <a:br>
              <a:rPr sz="2800"/>
            </a:b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               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друг на друга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7691400" cy="41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4800" indent="0" algn="just">
              <a:lnSpc>
                <a:spcPct val="117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4800" indent="0" algn="just">
              <a:lnSpc>
                <a:spcPct val="175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Второй способ называется </a:t>
            </a:r>
            <a:r>
              <a:rPr b="1" lang="en-GB" sz="1400" spc="-1" strike="noStrike">
                <a:solidFill>
                  <a:srgbClr val="cc0099"/>
                </a:solidFill>
                <a:latin typeface="Comic Sans MS"/>
              </a:rPr>
              <a:t>«лессировка»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4800" indent="0" algn="just">
              <a:lnSpc>
                <a:spcPct val="175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Сначала наносится один цвет, после просыхания на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4800" indent="0" algn="just">
              <a:lnSpc>
                <a:spcPct val="175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него накладывают второй. Акварель имеет свойство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4800" indent="0" algn="just">
              <a:lnSpc>
                <a:spcPct val="175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прозрачности и поэтому при наложении одного цвета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4800" indent="0" algn="just">
              <a:lnSpc>
                <a:spcPct val="175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на другой получается третий оттенок. Таким способом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4800" indent="0" algn="just">
              <a:lnSpc>
                <a:spcPct val="175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можно нарисовать улитку. Накладывая постепенно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4800" indent="0" algn="just">
              <a:lnSpc>
                <a:spcPct val="175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один цвет на другой,  получается очень красивая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4800" indent="0" algn="just">
              <a:lnSpc>
                <a:spcPct val="175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                             </a:t>
            </a:r>
            <a:r>
              <a:rPr b="1" lang="en-GB" sz="1400" spc="-1" strike="noStrike">
                <a:solidFill>
                  <a:srgbClr val="cc0099"/>
                </a:solidFill>
                <a:latin typeface="Comic Sans MS"/>
              </a:rPr>
              <a:t>спиралька.</a:t>
            </a:r>
            <a:r>
              <a:rPr b="1" lang="en-GB" sz="1600" spc="-1" strike="noStrike">
                <a:solidFill>
                  <a:srgbClr val="000000"/>
                </a:solidFill>
                <a:latin typeface="Comic Sans MS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8" name="Picture 4" descr="P1000316"/>
          <p:cNvPicPr/>
          <p:nvPr/>
        </p:nvPicPr>
        <p:blipFill>
          <a:blip r:embed="rId1"/>
          <a:stretch/>
        </p:blipFill>
        <p:spPr>
          <a:xfrm>
            <a:off x="5796000" y="2565360"/>
            <a:ext cx="2879640" cy="3888000"/>
          </a:xfrm>
          <a:prstGeom prst="rect">
            <a:avLst/>
          </a:prstGeom>
          <a:ln w="0">
            <a:noFill/>
          </a:ln>
        </p:spPr>
      </p:pic>
      <p:pic>
        <p:nvPicPr>
          <p:cNvPr id="199" name="i-main-pic" descr="Картинка 115 из 138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95280" y="333360"/>
            <a:ext cx="2592360" cy="1582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780000" y="-29160"/>
            <a:ext cx="4464000" cy="228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4000"/>
            </a:br>
            <a:r>
              <a:rPr b="1" i="1" lang="ru-RU" sz="4000" spc="-1" strike="noStrike">
                <a:solidFill>
                  <a:srgbClr val="ff0066"/>
                </a:solidFill>
                <a:latin typeface="Times New Roman"/>
              </a:rPr>
              <a:t>     </a:t>
            </a:r>
            <a:r>
              <a:rPr b="0" lang="en-GB" sz="2400" spc="-1" strike="noStrike">
                <a:solidFill>
                  <a:srgbClr val="9900cc"/>
                </a:solidFill>
                <a:latin typeface="Arial Black"/>
              </a:rPr>
              <a:t>“</a:t>
            </a:r>
            <a:r>
              <a:rPr b="0" lang="en-GB" sz="2400" spc="-1" strike="noStrike">
                <a:solidFill>
                  <a:srgbClr val="9900cc"/>
                </a:solidFill>
                <a:latin typeface="Arial Black"/>
              </a:rPr>
              <a:t>Пуант”- точка</a:t>
            </a:r>
            <a:r>
              <a:rPr b="0" lang="ru-RU" sz="2400" spc="-1" strike="noStrike">
                <a:solidFill>
                  <a:srgbClr val="9900cc"/>
                </a:solidFill>
                <a:latin typeface="Arial Black"/>
              </a:rPr>
              <a:t>.</a:t>
            </a:r>
            <a:br>
              <a:rPr sz="2400"/>
            </a:br>
            <a:r>
              <a:rPr b="0" lang="en-GB" sz="2400" spc="-1" strike="noStrike">
                <a:solidFill>
                  <a:srgbClr val="9900cc"/>
                </a:solidFill>
                <a:latin typeface="Arial Black"/>
              </a:rPr>
              <a:t>Рисование разноцветными</a:t>
            </a:r>
            <a:br>
              <a:rPr sz="2400"/>
            </a:br>
            <a:r>
              <a:rPr b="0" lang="en-GB" sz="2400" spc="-1" strike="noStrike">
                <a:solidFill>
                  <a:srgbClr val="9900cc"/>
                </a:solidFill>
                <a:latin typeface="Arial Black"/>
              </a:rPr>
              <a:t> </a:t>
            </a:r>
            <a:r>
              <a:rPr b="0" lang="ru-RU" sz="2400" spc="-1" strike="noStrike">
                <a:solidFill>
                  <a:srgbClr val="9900cc"/>
                </a:solidFill>
                <a:latin typeface="Arial Black"/>
              </a:rPr>
              <a:t>       </a:t>
            </a:r>
            <a:r>
              <a:rPr b="0" lang="en-GB" sz="2400" spc="-1" strike="noStrike">
                <a:solidFill>
                  <a:srgbClr val="9900cc"/>
                </a:solidFill>
                <a:latin typeface="Arial Black"/>
              </a:rPr>
              <a:t>мазкам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692000" y="3428640"/>
            <a:ext cx="7848360" cy="309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1200" indent="0" algn="just">
              <a:lnSpc>
                <a:spcPct val="117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Третий способ - «пуантилизм»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1200" indent="0" algn="just">
              <a:lnSpc>
                <a:spcPct val="175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Это рисование разноцветными мазками.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1200" indent="0" algn="just">
              <a:lnSpc>
                <a:spcPct val="175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Художники заметили однажды, что если чередовать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1200" indent="0" algn="just">
              <a:lnSpc>
                <a:spcPct val="175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разноцветные мазки, например, жёлтого и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1200" indent="0" algn="just">
              <a:lnSpc>
                <a:spcPct val="175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красного цвета, то издали, если прищуриться,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1200" indent="0" algn="just">
              <a:lnSpc>
                <a:spcPct val="175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можно увидеть оранжевый цвет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1200" indent="0" algn="just">
              <a:lnSpc>
                <a:spcPct val="175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Так можно изображать солнце или спелое яблоко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2" name="Picture 3" descr=""/>
          <p:cNvPicPr/>
          <p:nvPr/>
        </p:nvPicPr>
        <p:blipFill>
          <a:blip r:embed="rId1"/>
          <a:stretch/>
        </p:blipFill>
        <p:spPr>
          <a:xfrm>
            <a:off x="6516720" y="2205000"/>
            <a:ext cx="2627280" cy="424836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5" descr="P1000351"/>
          <p:cNvPicPr/>
          <p:nvPr/>
        </p:nvPicPr>
        <p:blipFill>
          <a:blip r:embed="rId2"/>
          <a:stretch/>
        </p:blipFill>
        <p:spPr>
          <a:xfrm>
            <a:off x="179280" y="189000"/>
            <a:ext cx="3313080" cy="316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203640" y="403560"/>
            <a:ext cx="4968720" cy="85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imes New Roman"/>
              </a:rPr>
              <a:t>Рисование акварелью и восковыми мелкам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02920" y="2276640"/>
            <a:ext cx="6978600" cy="45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1200" indent="0" algn="just">
              <a:lnSpc>
                <a:spcPct val="117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ru-RU" sz="1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i="1" lang="en-GB" sz="1400" spc="-1" strike="noStrike">
                <a:solidFill>
                  <a:srgbClr val="000000"/>
                </a:solidFill>
                <a:latin typeface="Comic Sans MS"/>
              </a:rPr>
              <a:t>Очень интересно смешивать рисование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1200" indent="0" algn="just">
              <a:lnSpc>
                <a:spcPct val="175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1400" spc="-1" strike="noStrike">
                <a:solidFill>
                  <a:srgbClr val="000000"/>
                </a:solidFill>
                <a:latin typeface="Comic Sans MS"/>
              </a:rPr>
              <a:t>акварелью с другими материалами, например,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1200" indent="0" algn="just">
              <a:lnSpc>
                <a:spcPct val="175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1400" spc="-1" strike="noStrike">
                <a:solidFill>
                  <a:srgbClr val="000000"/>
                </a:solidFill>
                <a:latin typeface="Comic Sans MS"/>
              </a:rPr>
              <a:t>с восковыми мелками. Сначала я нарисовал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1200" indent="0" algn="just">
              <a:lnSpc>
                <a:spcPct val="175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1400" spc="-1" strike="noStrike">
                <a:solidFill>
                  <a:srgbClr val="000000"/>
                </a:solidFill>
                <a:latin typeface="Comic Sans MS"/>
              </a:rPr>
              <a:t>желтыми и белыми мелками цветы и лепестки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1200" indent="0" algn="just">
              <a:lnSpc>
                <a:spcPct val="175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1400" spc="-1" strike="noStrike">
                <a:solidFill>
                  <a:srgbClr val="000000"/>
                </a:solidFill>
                <a:latin typeface="Comic Sans MS"/>
              </a:rPr>
              <a:t>на листе,  а затем широкой кистью закрасил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1200" indent="0" algn="just">
              <a:lnSpc>
                <a:spcPct val="175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1400" spc="-1" strike="noStrike">
                <a:solidFill>
                  <a:srgbClr val="000000"/>
                </a:solidFill>
                <a:latin typeface="Comic Sans MS"/>
              </a:rPr>
              <a:t>фон фиолетовой акварелью прямо поверх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1200" indent="0" algn="just">
              <a:lnSpc>
                <a:spcPct val="175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1400" spc="-1" strike="noStrike">
                <a:solidFill>
                  <a:srgbClr val="000000"/>
                </a:solidFill>
                <a:latin typeface="Comic Sans MS"/>
              </a:rPr>
              <a:t>цветов. Цветы так и сияли и не пропали!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1200" indent="0" algn="just">
              <a:lnSpc>
                <a:spcPct val="175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1400" spc="-1" strike="noStrike">
                <a:solidFill>
                  <a:srgbClr val="000000"/>
                </a:solidFill>
                <a:latin typeface="Comic Sans MS"/>
              </a:rPr>
              <a:t>Только на фиолетовом фоне стали ещё ярче.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1200" indent="0" algn="just">
              <a:lnSpc>
                <a:spcPct val="175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1400" spc="-1" strike="noStrike">
                <a:solidFill>
                  <a:srgbClr val="000000"/>
                </a:solidFill>
                <a:latin typeface="Comic Sans MS"/>
              </a:rPr>
              <a:t>Все дело в том, что воск отталкивает воду,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1200" indent="0" algn="just">
              <a:lnSpc>
                <a:spcPct val="175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1" i="1" lang="en-GB" sz="1400" spc="-1" strike="noStrike">
                <a:solidFill>
                  <a:srgbClr val="000000"/>
                </a:solidFill>
                <a:latin typeface="Comic Sans MS"/>
              </a:rPr>
              <a:t>и акварель не в силах закрасить его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6" name="Picture 3" descr=""/>
          <p:cNvPicPr/>
          <p:nvPr/>
        </p:nvPicPr>
        <p:blipFill>
          <a:blip r:embed="rId1"/>
          <a:stretch/>
        </p:blipFill>
        <p:spPr>
          <a:xfrm>
            <a:off x="5796000" y="2133720"/>
            <a:ext cx="2879640" cy="4572000"/>
          </a:xfrm>
          <a:prstGeom prst="rect">
            <a:avLst/>
          </a:prstGeom>
          <a:ln w="0">
            <a:noFill/>
          </a:ln>
        </p:spPr>
      </p:pic>
      <p:pic>
        <p:nvPicPr>
          <p:cNvPr id="207" name="i-main-pic" descr="Картинка 339 из 633"/>
          <p:cNvPicPr/>
          <p:nvPr/>
        </p:nvPicPr>
        <p:blipFill>
          <a:blip r:embed="rId2"/>
          <a:stretch/>
        </p:blipFill>
        <p:spPr>
          <a:xfrm>
            <a:off x="250920" y="189000"/>
            <a:ext cx="2736720" cy="1901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Text Box 4"/>
          <p:cNvSpPr/>
          <p:nvPr/>
        </p:nvSpPr>
        <p:spPr>
          <a:xfrm>
            <a:off x="1743120" y="1641600"/>
            <a:ext cx="1839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Rectangle 5"/>
          <p:cNvSpPr/>
          <p:nvPr/>
        </p:nvSpPr>
        <p:spPr>
          <a:xfrm>
            <a:off x="2556000" y="1192680"/>
            <a:ext cx="5832360" cy="33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   </a:t>
            </a:r>
            <a:r>
              <a:rPr b="0" lang="ru-RU" sz="2000" spc="-1" strike="noStrike">
                <a:solidFill>
                  <a:srgbClr val="cc0099"/>
                </a:solidFill>
                <a:latin typeface="Century Gothic"/>
              </a:rPr>
              <a:t>«Страна изобразительного искусства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Century Gothic"/>
              </a:rPr>
              <a:t>велика и  загадочн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Century Gothic"/>
              </a:rPr>
              <a:t>Многие ее тайны мне еще предстои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Century Gothic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Century Gothic"/>
              </a:rPr>
              <a:t>раскрыть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Century Gothic"/>
              </a:rPr>
              <a:t>Главное не терять терпения и надежды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Century Gothic"/>
              </a:rPr>
              <a:t>пробовать, экспериментировать 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Century Gothic"/>
              </a:rPr>
              <a:t>помнить</a:t>
            </a: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2000" spc="-1" strike="noStrike">
                <a:solidFill>
                  <a:srgbClr val="cc0099"/>
                </a:solidFill>
                <a:latin typeface="Century Gothic"/>
              </a:rPr>
              <a:t>не ошибается тот, кто не работает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0" name="Picture 8" descr="j0217698"/>
          <p:cNvPicPr/>
          <p:nvPr/>
        </p:nvPicPr>
        <p:blipFill>
          <a:blip r:embed="rId1"/>
          <a:stretch/>
        </p:blipFill>
        <p:spPr>
          <a:xfrm>
            <a:off x="250920" y="836640"/>
            <a:ext cx="2233440" cy="237636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9" descr=""/>
          <p:cNvPicPr/>
          <p:nvPr/>
        </p:nvPicPr>
        <p:blipFill>
          <a:blip r:embed="rId2"/>
          <a:stretch/>
        </p:blipFill>
        <p:spPr>
          <a:xfrm>
            <a:off x="5508720" y="4869000"/>
            <a:ext cx="2616120" cy="151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1" descr=""/>
          <p:cNvPicPr/>
          <p:nvPr/>
        </p:nvPicPr>
        <p:blipFill>
          <a:blip r:embed="rId1"/>
          <a:stretch/>
        </p:blipFill>
        <p:spPr>
          <a:xfrm>
            <a:off x="0" y="39600"/>
            <a:ext cx="9144000" cy="6778800"/>
          </a:xfrm>
          <a:prstGeom prst="rect">
            <a:avLst/>
          </a:prstGeom>
          <a:ln w="0">
            <a:noFill/>
          </a:ln>
        </p:spPr>
      </p:pic>
      <p:sp>
        <p:nvSpPr>
          <p:cNvPr id="213" name="WordArt 2"/>
          <p:cNvSpPr txBox="1"/>
          <p:nvPr/>
        </p:nvSpPr>
        <p:spPr>
          <a:xfrm>
            <a:off x="539640" y="5373720"/>
            <a:ext cx="7991640" cy="73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50f91"/>
                    </a:gs>
                    <a:gs pos="100000">
                      <a:srgbClr val="5a0642"/>
                    </a:gs>
                  </a:gsLst>
                  <a:lin ang="5400000"/>
                </a:gradFill>
                <a:latin typeface="Arial"/>
              </a:rPr>
              <a:t>СПАСИБО  ЗА  ВНИМАНИЕ 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50f91"/>
                  </a:gs>
                  <a:gs pos="100000">
                    <a:srgbClr val="5a064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1"/>
          <p:cNvSpPr/>
          <p:nvPr/>
        </p:nvSpPr>
        <p:spPr>
          <a:xfrm>
            <a:off x="1593720" y="1641600"/>
            <a:ext cx="184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WordArt 2"/>
          <p:cNvSpPr txBox="1"/>
          <p:nvPr/>
        </p:nvSpPr>
        <p:spPr>
          <a:xfrm>
            <a:off x="1547640" y="1484280"/>
            <a:ext cx="5978520" cy="38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cc00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Arial"/>
              </a:rPr>
              <a:t>"Какое чудо </a:t>
            </a:r>
            <a:endParaRPr b="0" lang="en-US" sz="1800" spc="1" strike="noStrike">
              <a:ln w="0">
                <a:noFill/>
              </a:ln>
              <a:solidFill>
                <a:srgbClr val="ffcc00"/>
              </a:solidFill>
              <a:effectLst>
                <a:outerShdw dist="40186" dir="4303641" blurRad="0" rotWithShape="0">
                  <a:srgbClr val="4d4d4d"/>
                </a:outerShdw>
              </a:effectLst>
              <a:latin typeface="Arial"/>
              <a:ea typeface="Arial"/>
            </a:endParaRPr>
          </a:p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cc00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Arial"/>
              </a:rPr>
              <a:t>восхищаться в живописи тем, </a:t>
            </a:r>
            <a:endParaRPr b="0" lang="en-US" sz="1800" spc="1" strike="noStrike">
              <a:ln w="0">
                <a:noFill/>
              </a:ln>
              <a:solidFill>
                <a:srgbClr val="ffcc00"/>
              </a:solidFill>
              <a:effectLst>
                <a:outerShdw dist="40186" dir="4303641" blurRad="0" rotWithShape="0">
                  <a:srgbClr val="4d4d4d"/>
                </a:outerShdw>
              </a:effectLst>
              <a:latin typeface="Arial"/>
              <a:ea typeface="Arial"/>
            </a:endParaRPr>
          </a:p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cc00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Arial"/>
              </a:rPr>
              <a:t>чем в реальности</a:t>
            </a:r>
            <a:endParaRPr b="0" lang="en-US" sz="1800" spc="1" strike="noStrike">
              <a:ln w="0">
                <a:noFill/>
              </a:ln>
              <a:solidFill>
                <a:srgbClr val="ffcc00"/>
              </a:solidFill>
              <a:effectLst>
                <a:outerShdw dist="40186" dir="4303641" blurRad="0" rotWithShape="0">
                  <a:srgbClr val="4d4d4d"/>
                </a:outerShdw>
              </a:effectLst>
              <a:latin typeface="Arial"/>
              <a:ea typeface="Arial"/>
            </a:endParaRPr>
          </a:p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cc00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Arial"/>
              </a:rPr>
              <a:t> </a:t>
            </a:r>
            <a:r>
              <a:rPr b="0" lang="en-US" sz="1800" spc="1" strike="noStrike">
                <a:ln w="0">
                  <a:noFill/>
                </a:ln>
                <a:solidFill>
                  <a:srgbClr val="ffcc00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Arial"/>
              </a:rPr>
              <a:t>не восхищаещься !"</a:t>
            </a:r>
            <a:endParaRPr b="0" lang="en-US" sz="1800" spc="1" strike="noStrike">
              <a:ln w="0">
                <a:noFill/>
              </a:ln>
              <a:solidFill>
                <a:srgbClr val="ffcc00"/>
              </a:solidFill>
              <a:effectLst>
                <a:outerShdw dist="40186" dir="4303641" blurRad="0" rotWithShape="0">
                  <a:srgbClr val="4d4d4d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64" name="AutoShape 3"/>
          <p:cNvSpPr/>
          <p:nvPr/>
        </p:nvSpPr>
        <p:spPr>
          <a:xfrm>
            <a:off x="250920" y="620640"/>
            <a:ext cx="8378640" cy="5772240"/>
          </a:xfrm>
          <a:prstGeom prst="pie">
            <a:avLst/>
          </a:prstGeom>
          <a:gradFill rotWithShape="0">
            <a:gsLst>
              <a:gs pos="0">
                <a:srgbClr val="825600"/>
              </a:gs>
              <a:gs pos="50000">
                <a:srgbClr val="ffa800"/>
              </a:gs>
              <a:gs pos="100000">
                <a:srgbClr val="8256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5" name="Group 4"/>
          <p:cNvGrpSpPr/>
          <p:nvPr/>
        </p:nvGrpSpPr>
        <p:grpSpPr>
          <a:xfrm>
            <a:off x="1979640" y="692280"/>
            <a:ext cx="5180040" cy="5327280"/>
            <a:chOff x="1979640" y="692280"/>
            <a:chExt cx="5180040" cy="5327280"/>
          </a:xfrm>
        </p:grpSpPr>
        <p:pic>
          <p:nvPicPr>
            <p:cNvPr id="166" name="Picture 5" descr=""/>
            <p:cNvPicPr/>
            <p:nvPr/>
          </p:nvPicPr>
          <p:blipFill>
            <a:blip r:embed="rId1"/>
            <a:stretch/>
          </p:blipFill>
          <p:spPr>
            <a:xfrm>
              <a:off x="1979640" y="692280"/>
              <a:ext cx="5180040" cy="779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7" name="Picture 6" descr=""/>
            <p:cNvPicPr/>
            <p:nvPr/>
          </p:nvPicPr>
          <p:blipFill>
            <a:blip r:embed="rId2"/>
            <a:stretch/>
          </p:blipFill>
          <p:spPr>
            <a:xfrm>
              <a:off x="2055600" y="5240520"/>
              <a:ext cx="5027760" cy="779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8" name="Text Box 7"/>
          <p:cNvSpPr/>
          <p:nvPr/>
        </p:nvSpPr>
        <p:spPr>
          <a:xfrm>
            <a:off x="6732720" y="6165720"/>
            <a:ext cx="24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en-GB" sz="1800" spc="-1" strike="noStrike">
                <a:solidFill>
                  <a:srgbClr val="000000"/>
                </a:solidFill>
                <a:latin typeface="Comic Sans MS"/>
              </a:rPr>
              <a:t>Эжен Делакру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1000"/>
                                  </p:stCondLst>
                                  <p:endCondLst>
                                    <p:cond delay="0"/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"/>
          <p:cNvPicPr/>
          <p:nvPr/>
        </p:nvPicPr>
        <p:blipFill>
          <a:blip r:embed="rId1"/>
          <a:stretch/>
        </p:blipFill>
        <p:spPr>
          <a:xfrm>
            <a:off x="6227640" y="2781360"/>
            <a:ext cx="2519640" cy="374652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3"/>
          <p:cNvSpPr/>
          <p:nvPr/>
        </p:nvSpPr>
        <p:spPr>
          <a:xfrm>
            <a:off x="1908000" y="1700280"/>
            <a:ext cx="4035600" cy="54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4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entury Gothic"/>
              </a:rPr>
              <a:t>С самого раннего детства я люблю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4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entury Gothic"/>
              </a:rPr>
              <a:t>рисовать и, наверное, можно назват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4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Century Gothic"/>
              </a:rPr>
              <a:t>меня  художником, потому</a:t>
            </a:r>
            <a:r>
              <a:rPr b="1" lang="ru-RU" sz="1600" spc="-1" strike="noStrike">
                <a:solidFill>
                  <a:srgbClr val="000000"/>
                </a:solidFill>
                <a:latin typeface="Century Gothic"/>
              </a:rPr>
              <a:t>,</a:t>
            </a:r>
            <a:r>
              <a:rPr b="1" lang="en-GB" sz="16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4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entury Gothic"/>
              </a:rPr>
              <a:t>что всякий, кто умеет и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4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entury Gothic"/>
              </a:rPr>
              <a:t>любит придумывать, фантазироват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4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Century Gothic"/>
              </a:rPr>
              <a:t>и творить по праву может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4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entury Gothic"/>
              </a:rPr>
              <a:t>себя так называть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4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entury Gothic"/>
              </a:rPr>
              <a:t>Но одного желания мало. Нужно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4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entury Gothic"/>
              </a:rPr>
              <a:t>научиться пользоваться различным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4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Century Gothic"/>
              </a:rPr>
              <a:t>красками, карандашами, кистями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WordArt 6"/>
          <p:cNvSpPr txBox="1"/>
          <p:nvPr/>
        </p:nvSpPr>
        <p:spPr>
          <a:xfrm>
            <a:off x="2411280" y="549360"/>
            <a:ext cx="501336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99"/>
                </a:solidFill>
                <a:latin typeface="Impact"/>
              </a:rPr>
              <a:t>Художник-творец и фантазер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cc99"/>
              </a:solidFill>
              <a:latin typeface="Impact"/>
              <a:ea typeface="Impact"/>
            </a:endParaRPr>
          </a:p>
        </p:txBody>
      </p:sp>
      <p:pic>
        <p:nvPicPr>
          <p:cNvPr id="172" name="Picture 7" descr="Акварель. Техника наложения краски"/>
          <p:cNvPicPr/>
          <p:nvPr/>
        </p:nvPicPr>
        <p:blipFill>
          <a:blip r:embed="rId2"/>
          <a:stretch/>
        </p:blipFill>
        <p:spPr>
          <a:xfrm>
            <a:off x="395280" y="260280"/>
            <a:ext cx="1623960" cy="446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1763640" y="1844640"/>
            <a:ext cx="4464000" cy="433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1200" indent="0">
              <a:lnSpc>
                <a:spcPct val="117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Слово акварель произошло от латинского</a:t>
            </a: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«аква» - вода, а сами краски  делают измелкого цветного порошка,в который добавляют клей, много воды и иногда глицерин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1200" indent="0">
              <a:lnSpc>
                <a:spcPct val="117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У акварели разнообразная  цветовая гамма. </a:t>
            </a: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В смешении цветов для живописи, действует фундаментальное правило - есть три цвета, которые не могут быть получены смешением других цветов. Эти три цвета - красный, синий и желтый, известны как первичные цвета.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Если вы смешиваете два первичных цвета вместе, получится то, что называют вторичным</a:t>
            </a: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. </a:t>
            </a: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Если вы смешиваете три первичных цвета вместе, то получаете третичный цвет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4" name="Picture 5" descr="уроки графики"/>
          <p:cNvPicPr/>
          <p:nvPr/>
        </p:nvPicPr>
        <p:blipFill>
          <a:blip r:embed="rId1"/>
          <a:stretch/>
        </p:blipFill>
        <p:spPr>
          <a:xfrm>
            <a:off x="324000" y="476280"/>
            <a:ext cx="1152360" cy="23050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6" descr="ak006"/>
          <p:cNvPicPr/>
          <p:nvPr/>
        </p:nvPicPr>
        <p:blipFill>
          <a:blip r:embed="rId2"/>
          <a:stretch/>
        </p:blipFill>
        <p:spPr>
          <a:xfrm>
            <a:off x="6516720" y="2276640"/>
            <a:ext cx="2305080" cy="3851280"/>
          </a:xfrm>
          <a:prstGeom prst="rect">
            <a:avLst/>
          </a:prstGeom>
          <a:ln w="0">
            <a:noFill/>
          </a:ln>
        </p:spPr>
      </p:pic>
      <p:sp>
        <p:nvSpPr>
          <p:cNvPr id="176" name="WordArt 7"/>
          <p:cNvSpPr txBox="1"/>
          <p:nvPr/>
        </p:nvSpPr>
        <p:spPr>
          <a:xfrm>
            <a:off x="2411280" y="549360"/>
            <a:ext cx="501336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99"/>
                </a:solidFill>
                <a:latin typeface="Impact"/>
              </a:rPr>
              <a:t>Азбука акварели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cc99"/>
              </a:solidFill>
              <a:latin typeface="Impact"/>
              <a:ea typeface="Impact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4"/>
          <p:cNvSpPr/>
          <p:nvPr/>
        </p:nvSpPr>
        <p:spPr>
          <a:xfrm>
            <a:off x="4176720" y="2711520"/>
            <a:ext cx="4967280" cy="34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 еще, оказывается, белой акварели н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уществует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этого используют белила ил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мешивают краску с больши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личеством воды,  чтобы  цве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ал почти прозрачны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то интересно - одна и та же  краска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-разному разбавленная водой, дае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вершенно разный цвет.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Picture 5" descr="P1000339"/>
          <p:cNvPicPr/>
          <p:nvPr/>
        </p:nvPicPr>
        <p:blipFill>
          <a:blip r:embed="rId1"/>
          <a:stretch/>
        </p:blipFill>
        <p:spPr>
          <a:xfrm>
            <a:off x="179280" y="260280"/>
            <a:ext cx="403236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4"/>
          <p:cNvSpPr/>
          <p:nvPr/>
        </p:nvSpPr>
        <p:spPr>
          <a:xfrm>
            <a:off x="2084400" y="3285360"/>
            <a:ext cx="4975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2 Материалы для акварельной живопис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Text Box 6"/>
          <p:cNvSpPr/>
          <p:nvPr/>
        </p:nvSpPr>
        <p:spPr>
          <a:xfrm>
            <a:off x="1251000" y="1773360"/>
            <a:ext cx="4975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2 Материалы для акварельной живопис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WordArt 11"/>
          <p:cNvSpPr txBox="1"/>
          <p:nvPr/>
        </p:nvSpPr>
        <p:spPr>
          <a:xfrm>
            <a:off x="468360" y="404640"/>
            <a:ext cx="7756560" cy="187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2977"/>
                <a:gd name="adj2" fmla="val 0"/>
              </a:avLst>
            </a:prstTxWarp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Материалы для акварельной живописи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82" name="i-main-pic" descr="Картинка 66 из 654"/>
          <p:cNvPicPr/>
          <p:nvPr/>
        </p:nvPicPr>
        <p:blipFill>
          <a:blip r:embed="rId1"/>
          <a:stretch/>
        </p:blipFill>
        <p:spPr>
          <a:xfrm>
            <a:off x="2124000" y="2349360"/>
            <a:ext cx="554364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i-main-pic" descr="Картинка 194 из 654"/>
          <p:cNvPicPr/>
          <p:nvPr/>
        </p:nvPicPr>
        <p:blipFill>
          <a:blip r:embed="rId1"/>
          <a:stretch/>
        </p:blipFill>
        <p:spPr>
          <a:xfrm>
            <a:off x="468360" y="333360"/>
            <a:ext cx="3384360" cy="270972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7"/>
          <p:cNvSpPr/>
          <p:nvPr/>
        </p:nvSpPr>
        <p:spPr>
          <a:xfrm>
            <a:off x="1476360" y="3500280"/>
            <a:ext cx="6618240" cy="2625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1800" spc="-1" strike="noStrike">
                <a:solidFill>
                  <a:srgbClr val="006600"/>
                </a:solidFill>
                <a:latin typeface="Times New Roman"/>
              </a:rPr>
              <a:t>    </a:t>
            </a:r>
            <a:r>
              <a:rPr b="0" i="1" lang="ru-RU" sz="1800" spc="-1" strike="noStrike">
                <a:solidFill>
                  <a:srgbClr val="006600"/>
                </a:solidFill>
                <a:latin typeface="Times New Roman"/>
              </a:rPr>
              <a:t>Бумага </a:t>
            </a:r>
            <a:r>
              <a:rPr b="0" i="1" lang="ru-RU" sz="1800" spc="-1" strike="noStrike">
                <a:solidFill>
                  <a:srgbClr val="0000cc"/>
                </a:solidFill>
                <a:latin typeface="Times New Roman"/>
              </a:rPr>
              <a:t>– главный и почти единственны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18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0" i="1" lang="ru-RU" sz="1800" spc="-1" strike="noStrike">
                <a:solidFill>
                  <a:srgbClr val="0000cc"/>
                </a:solidFill>
                <a:latin typeface="Times New Roman"/>
              </a:rPr>
              <a:t>материал, на котором рисуют акварелью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1800" spc="-1" strike="noStrike">
                <a:solidFill>
                  <a:srgbClr val="0000cc"/>
                </a:solidFill>
                <a:latin typeface="Times New Roman"/>
              </a:rPr>
              <a:t>Она плотная и шершавая, сверху обработан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1800" spc="-1" strike="noStrike">
                <a:solidFill>
                  <a:srgbClr val="0000cc"/>
                </a:solidFill>
                <a:latin typeface="Times New Roman"/>
              </a:rPr>
              <a:t>специальным клеевым составом,которы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1800" spc="-1" strike="noStrike">
                <a:solidFill>
                  <a:srgbClr val="0000cc"/>
                </a:solidFill>
                <a:latin typeface="Times New Roman"/>
              </a:rPr>
              <a:t>не позволяет воде просачиваться в глубину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1800" spc="-1" strike="noStrike">
                <a:solidFill>
                  <a:srgbClr val="0000cc"/>
                </a:solidFill>
                <a:latin typeface="Times New Roman"/>
              </a:rPr>
              <a:t>а краска долго сохраняет яркость 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1800" spc="-1" strike="noStrike">
                <a:solidFill>
                  <a:srgbClr val="0000cc"/>
                </a:solidFill>
                <a:latin typeface="Times New Roman"/>
              </a:rPr>
              <a:t>насыщенность цвет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WordArt 14"/>
          <p:cNvSpPr txBox="1"/>
          <p:nvPr/>
        </p:nvSpPr>
        <p:spPr>
          <a:xfrm>
            <a:off x="3780000" y="1052640"/>
            <a:ext cx="4797360" cy="14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99"/>
                </a:solidFill>
                <a:latin typeface="Impact"/>
              </a:rPr>
              <a:t>         </a:t>
            </a: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99"/>
                </a:solidFill>
                <a:latin typeface="Impact"/>
              </a:rPr>
              <a:t>Бумага-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cc99"/>
              </a:solidFill>
              <a:latin typeface="Impact"/>
              <a:ea typeface="Impact"/>
            </a:endParaRPr>
          </a:p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99"/>
                </a:solidFill>
                <a:latin typeface="Impact"/>
              </a:rPr>
              <a:t>основа для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cc99"/>
              </a:solidFill>
              <a:latin typeface="Impact"/>
              <a:ea typeface="Impact"/>
            </a:endParaRPr>
          </a:p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99"/>
                </a:solidFill>
                <a:latin typeface="Impact"/>
              </a:rPr>
              <a:t>     </a:t>
            </a: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99"/>
                </a:solidFill>
                <a:latin typeface="Impact"/>
              </a:rPr>
              <a:t>акварели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cc99"/>
              </a:solidFill>
              <a:latin typeface="Impact"/>
              <a:ea typeface="Impact"/>
            </a:endParaRPr>
          </a:p>
        </p:txBody>
      </p:sp>
      <p:sp>
        <p:nvSpPr>
          <p:cNvPr id="186" name="Homepage"/>
          <p:cNvSpPr/>
          <p:nvPr/>
        </p:nvSpPr>
        <p:spPr>
          <a:xfrm>
            <a:off x="7020000" y="3429000"/>
            <a:ext cx="1511280" cy="251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94920" y="281520"/>
            <a:ext cx="5613480" cy="107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just">
              <a:lnSpc>
                <a:spcPct val="9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400" spc="-1" strike="noStrike" u="sng">
                <a:solidFill>
                  <a:srgbClr val="ff0066"/>
                </a:solidFill>
                <a:uFillTx/>
                <a:latin typeface="Bitstream Vera Serif"/>
              </a:rPr>
              <a:t>Кисти - настоящие волшебные палочки, творящиеи чудес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4000" y="1484280"/>
            <a:ext cx="534492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4800" indent="0" algn="just">
              <a:lnSpc>
                <a:spcPct val="117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4800" indent="0">
              <a:lnSpc>
                <a:spcPct val="117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Первые кисти появились больше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4800" indent="0">
              <a:lnSpc>
                <a:spcPct val="117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чем 2500 лет назад, это были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4800" indent="0">
              <a:lnSpc>
                <a:spcPct val="117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деревянные палочки с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4800" indent="0">
              <a:lnSpc>
                <a:spcPct val="117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р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асщепленным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кончиком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4800" indent="0">
              <a:lnSpc>
                <a:spcPct val="117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позднее в палочку вставляли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4800" indent="0">
              <a:lnSpc>
                <a:spcPct val="117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волосы, шерсть  животных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4800" indent="0">
              <a:lnSpc>
                <a:spcPct val="117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птичьи перья.Кисти для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4800" indent="0">
              <a:lnSpc>
                <a:spcPct val="117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акварели должны быть гибкими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4800" indent="0">
              <a:lnSpc>
                <a:spcPct val="117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мягкими и эластичными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4800" indent="0">
              <a:lnSpc>
                <a:spcPct val="117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б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еличьими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или колонковыми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9" name="Picture 3" descr=""/>
          <p:cNvPicPr/>
          <p:nvPr/>
        </p:nvPicPr>
        <p:blipFill>
          <a:blip r:embed="rId1"/>
          <a:stretch/>
        </p:blipFill>
        <p:spPr>
          <a:xfrm>
            <a:off x="5364000" y="2060640"/>
            <a:ext cx="3348360" cy="410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WordArt 4"/>
          <p:cNvSpPr txBox="1"/>
          <p:nvPr/>
        </p:nvSpPr>
        <p:spPr>
          <a:xfrm>
            <a:off x="539640" y="836640"/>
            <a:ext cx="682164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0066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пособы работы с акварелью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ff0066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91" name="i-main-pic" descr="Картинка 12 из 654"/>
          <p:cNvPicPr/>
          <p:nvPr/>
        </p:nvPicPr>
        <p:blipFill>
          <a:blip r:embed="rId1"/>
          <a:stretch/>
        </p:blipFill>
        <p:spPr>
          <a:xfrm>
            <a:off x="1979640" y="2276640"/>
            <a:ext cx="5942160" cy="38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Name</cp:lastModifiedBy>
  <dcterms:modified xsi:type="dcterms:W3CDTF">2011-02-03T12:42:45Z</dcterms:modified>
  <cp:revision>30</cp:revision>
  <dc:subject/>
  <dc:title>Рисование акварелью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4a0a0000000000010243000207f6000400038000</vt:lpwstr>
  </property>
</Properties>
</file>