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6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3.png" ContentType="image/png"/>
  <Override PartName="/ppt/media/image28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41C9-EBE2-4B09-86DD-542666B5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4857-38D3-4E32-BC4C-11A146F8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3DD3-FFB2-423D-BB0E-8CB78046C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1BB4-AFD9-4F04-A32C-ABD55CA9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49F3-9BA0-4C77-8714-B48ADED7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695F-FB0B-46A9-95BE-73808FC0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4B31-0267-4347-82B6-A64C9DC7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7A30-8255-4093-881F-61505F7A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F931-0C12-4F46-9CCA-2258B8BF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D849-9DA8-445F-95A4-698670E8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4799-7D75-4F0F-AE18-F55561B2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815E-0CEE-420A-BB6C-B405B093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AA9B-393D-416D-9BFB-D10EEB80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7BA6-0517-4536-90F3-231EE1F2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896B-7790-454F-B0F1-F722B8AF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EBE2-23E9-440E-86F6-BE07B25B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B180-4146-41FC-B80F-C91F77C1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7FC74-3AB1-4C27-8A1A-A60962BA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2892D-B496-4399-A86A-AB46A6BC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A1B9E-7662-4D59-BC16-8A4CD131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81809-A22E-4D15-AE41-CA047481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22916-0882-4B99-B2B8-AB3E336A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58E4-E31F-47D6-8CFA-C0937BB9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C36D0-1646-4BF8-92C8-17F12262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AA427-ABE6-479A-A2A5-DAC13EBA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93253-9722-4101-BD2D-4EC9D8BA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D77CC-E7F4-4975-8A39-B2141C36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5C0C3-4DC5-4042-BA3C-97EFABA3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DCD82-9EF8-41BD-AB49-71E41CA2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B1E36-9341-4D39-8C2C-104CA108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BD0F7-BA1E-4714-9781-7927D4E0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EEB05-8FC6-4475-810E-B95E4499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C1522-8440-4BB1-939B-A87E36EA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A192-40E4-4D26-B9D9-EC28C1AD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76D0E-340D-4616-AA72-53AF5562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2F579-8F5B-4D5F-929B-8FBA907B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001D0-798E-4A2D-A891-7385D768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785A1-6DD1-4077-90E2-FD62485A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C63EC-4F0A-480F-A3DC-2B9E8199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B9EC7-34CF-428A-8070-10DCC23C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F23BD-B846-4ED2-A818-1C16FD5C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92799-D5CA-4C25-BAF0-C06121DF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A9390-15DB-4AB7-AE6F-7488AE49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7FB5-27BD-4C2D-A535-148CD6C8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44F1-D864-482E-BE08-582687FF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07FF-6F4B-4246-9341-F4CA5C6D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8B8E-2D69-45F8-AE1C-5288312A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A052-AE1C-43B1-912A-8456E1D1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F416-624C-41F2-B331-481C1A10A9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2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0C66-3C87-49B7-9E91-CB5A9E36EE2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6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3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0FA1-2BB6-45F0-8E8D-C388468D2D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07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9EB3-B022-4283-9E80-EE40C6D7537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258560" y="326520"/>
            <a:ext cx="7885080" cy="26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бота выполнена в рамках проекта  повышения квалификации различных категорий работников образования и формирования у них базовой педагогической ИКТ – компетентности по програм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 Информационные технологии в деятельности учителя предметни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763640" y="4287960"/>
            <a:ext cx="7156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Ав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матическое план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Урок. Итоговое заня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ст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Ресур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6" descr="oblcit"/>
          <p:cNvPicPr/>
          <p:nvPr/>
        </p:nvPicPr>
        <p:blipFill>
          <a:blip r:embed="rId1"/>
          <a:stretch/>
        </p:blipFill>
        <p:spPr>
          <a:xfrm>
            <a:off x="250920" y="326880"/>
            <a:ext cx="1344600" cy="13446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1"/>
          <p:cNvSpPr/>
          <p:nvPr/>
        </p:nvSpPr>
        <p:spPr>
          <a:xfrm>
            <a:off x="537840" y="3297240"/>
            <a:ext cx="92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Изобразительное искусство. 7 кла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Скругленный прямоугольник 5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Object 7" descr=""/>
          <p:cNvPicPr/>
          <p:nvPr/>
        </p:nvPicPr>
        <p:blipFill>
          <a:blip r:embed="rId1"/>
          <a:stretch/>
        </p:blipFill>
        <p:spPr>
          <a:xfrm>
            <a:off x="2881440" y="603360"/>
            <a:ext cx="3381120" cy="485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bs-aaw-TomPerkinson-KatsinaWithButterfly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7"/>
          <p:cNvSpPr/>
          <p:nvPr/>
        </p:nvSpPr>
        <p:spPr>
          <a:xfrm>
            <a:off x="0" y="260280"/>
            <a:ext cx="5076720" cy="87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Все жанр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искусств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хороши, кроме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         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скучного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bat"/>
              </a:rPr>
              <a:t>но скука - не жан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20000"/>
                </a:solidFill>
                <a:latin typeface="Arbat"/>
              </a:rPr>
              <a:t>    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20000"/>
                </a:solidFill>
                <a:latin typeface="Arbat"/>
              </a:rPr>
              <a:t>               </a:t>
            </a:r>
            <a:r>
              <a:rPr b="0" lang="ru-RU" sz="3600" spc="-1" strike="noStrike">
                <a:solidFill>
                  <a:srgbClr val="ffcc00"/>
                </a:solidFill>
                <a:latin typeface="Arbat"/>
              </a:rPr>
              <a:t>Воль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Портре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франц.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portrait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), изображение человека или группы людей; в изобразительном искусстве один из жанров, в котором воссоздается человеческая индивидуальнос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Picture 7" descr="1"/>
          <p:cNvPicPr/>
          <p:nvPr/>
        </p:nvPicPr>
        <p:blipFill>
          <a:blip r:embed="rId1"/>
          <a:stretch/>
        </p:blipFill>
        <p:spPr>
          <a:xfrm>
            <a:off x="4788000" y="1628640"/>
            <a:ext cx="40719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533920" y="2599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Пейзаж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2004480"/>
            <a:ext cx="433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франц. pays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, вид, изображение какой-либо местности; в живописи и графике жанр, в котором основной предмет изображения — природа. Часто изображаются виды городов или архитектурных комплексов 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архитектурный пейзаж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едут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, морские виды 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марин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5" name="Picture 7" descr="1"/>
          <p:cNvPicPr/>
          <p:nvPr/>
        </p:nvPicPr>
        <p:blipFill>
          <a:blip r:embed="rId1"/>
          <a:stretch/>
        </p:blipFill>
        <p:spPr>
          <a:xfrm>
            <a:off x="5076720" y="1628640"/>
            <a:ext cx="3678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148000" y="27432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Comic Sans MS"/>
              </a:rPr>
              <a:t>Натюрморт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537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(франц.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Monotype Corsiva"/>
              </a:rPr>
              <a:t>nature morte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, букв. — мертвая природа), жанр изобразительного искусства (главным образом станковой живописи), посвященный изображению неодушевленных предметов (утварь, плоды, дичь, букеты цветов, атрибуты какой-либо деятельности и т. д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292720" y="1628640"/>
            <a:ext cx="3543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20000"/>
                </a:solidFill>
                <a:latin typeface="Monotype Corsiva"/>
              </a:rPr>
              <a:t>     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Скульпту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 от лат.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sculp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высекаю),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ид изобразительного искусства, произведения которого имеют объемную, трехмерную форму и выполняются из твердых или пластических материалов. Скульптура изображает главным образом человека, реже животны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       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Художественные  средства скульптур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строение объемной формы, пластическая моделировка (лепка), разработка силуэта, фактуры, в некоторых случаях также цвета. Различаются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круглая скульптура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статуя, группа, статуэтка, бюст), осматриваемая с разных сторон, и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ельеф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зображение располагается на плоскости фон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                       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Рельеф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900000" y="573408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ату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1" descr="1"/>
          <p:cNvPicPr/>
          <p:nvPr/>
        </p:nvPicPr>
        <p:blipFill>
          <a:blip r:embed="rId1"/>
          <a:stretch/>
        </p:blipFill>
        <p:spPr>
          <a:xfrm>
            <a:off x="539640" y="519120"/>
            <a:ext cx="3867120" cy="5214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1"/>
          <p:cNvPicPr/>
          <p:nvPr/>
        </p:nvPicPr>
        <p:blipFill>
          <a:blip r:embed="rId2"/>
          <a:stretch/>
        </p:blipFill>
        <p:spPr>
          <a:xfrm>
            <a:off x="5148360" y="1341360"/>
            <a:ext cx="34700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Архитекту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от греч.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architekthon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строитель),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скусство проектировать и строить здания и др. сооружения , создающие среду, необходимую людям для их жизни и деятельности, в соответствии с назначением общества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Выразительные средства архитектуры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— композиция, тектоника, масштаб, пропорции, ритм, пластика объемов, фактура и цвет материалов.  В архитектуре взаимосвязаны функциональные, технические, эстетические начала (польза, прочность, красота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Храм Василия Блаженного в Москв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5003640" y="4365720"/>
            <a:ext cx="41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Портик Нов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Эрмитажа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анкт–Петербург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12" descr="1"/>
          <p:cNvPicPr/>
          <p:nvPr/>
        </p:nvPicPr>
        <p:blipFill>
          <a:blip r:embed="rId1"/>
          <a:stretch/>
        </p:blipFill>
        <p:spPr>
          <a:xfrm>
            <a:off x="395280" y="1916280"/>
            <a:ext cx="4027320" cy="4484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1"/>
          <p:cNvPicPr/>
          <p:nvPr/>
        </p:nvPicPr>
        <p:blipFill>
          <a:blip r:embed="rId2"/>
          <a:srcRect l="0" t="0" r="0" b="-265"/>
          <a:stretch/>
        </p:blipFill>
        <p:spPr>
          <a:xfrm>
            <a:off x="5003640" y="549360"/>
            <a:ext cx="3834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40360" y="3212640"/>
            <a:ext cx="374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геев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тьян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кола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140360" y="4508280"/>
            <a:ext cx="4751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подаваемый предмет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образительное искусство (ИЗО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ж работы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5 л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лечения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шивание, вязани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ет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258920" y="333360"/>
            <a:ext cx="7885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бота выполнена в рамках проекта  повышения квалификации различных категорий работников образования и формирования у них базовой педагогической ИКТ – компетентности по програм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 Информационные технологии в деятельности учителя предметни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5" descr="oblcit"/>
          <p:cNvPicPr/>
          <p:nvPr/>
        </p:nvPicPr>
        <p:blipFill>
          <a:blip r:embed="rId1"/>
          <a:stretch/>
        </p:blipFill>
        <p:spPr>
          <a:xfrm>
            <a:off x="250920" y="33336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8163720" y="64911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SP_A0083"/>
          <p:cNvPicPr/>
          <p:nvPr/>
        </p:nvPicPr>
        <p:blipFill>
          <a:blip r:embed="rId2"/>
          <a:stretch/>
        </p:blipFill>
        <p:spPr>
          <a:xfrm>
            <a:off x="395280" y="2997360"/>
            <a:ext cx="35989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cc"/>
                </a:solidFill>
                <a:latin typeface="Monotype Corsiva"/>
              </a:rPr>
              <a:t>      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График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560" y="2636640"/>
            <a:ext cx="86612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т (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graph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пишу), вид изобразительного искусства, включающий рисунок и печатные художественные изображения (гравюра, литография и др.), основанные на искусстве рисунка и выполненные карандашом, пером или угл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628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Monotype Corsiva"/>
              </a:rPr>
              <a:t>Выразительные средства графики</a:t>
            </a:r>
            <a:r>
              <a:rPr b="0" lang="ru-RU" sz="36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— контурная линия, штрих, пятно (иногда цветовое), фон листа, с которым изображение образует контрастное или нюансное  соотношение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                  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Гравюра                                   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324000" y="5950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Литограф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12" descr="1"/>
          <p:cNvPicPr/>
          <p:nvPr/>
        </p:nvPicPr>
        <p:blipFill>
          <a:blip r:embed="rId1"/>
          <a:stretch/>
        </p:blipFill>
        <p:spPr>
          <a:xfrm>
            <a:off x="324000" y="260280"/>
            <a:ext cx="3976560" cy="5764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4" descr="1"/>
          <p:cNvPicPr/>
          <p:nvPr/>
        </p:nvPicPr>
        <p:blipFill>
          <a:blip r:embed="rId2"/>
          <a:stretch/>
        </p:blipFill>
        <p:spPr>
          <a:xfrm>
            <a:off x="4788000" y="692280"/>
            <a:ext cx="3976560" cy="57909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5"/>
          <p:cNvSpPr/>
          <p:nvPr/>
        </p:nvSpPr>
        <p:spPr>
          <a:xfrm>
            <a:off x="7827840" y="649116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03240" y="230040"/>
            <a:ext cx="7556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Тест по изобразительному искусству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ahoma"/>
              </a:rPr>
              <a:t>Соотнесите  представителей искусства и эпох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а. Средние века         а. Э. Неизвест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б. Новое время          б. Леонардо да  Винч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.Современность       в. Сальвадор Дали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3456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 Портр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. Натюрмор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Пейза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Соотнесите  жанр искусства и репродукцию.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5919840" y="1556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63880" y="4161600"/>
            <a:ext cx="4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6432480" y="31932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б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3830400" y="41662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3773880" y="249156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6433200" y="5012280"/>
            <a:ext cx="7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14" descr="1"/>
          <p:cNvPicPr/>
          <p:nvPr/>
        </p:nvPicPr>
        <p:blipFill>
          <a:blip r:embed="rId1"/>
          <a:stretch/>
        </p:blipFill>
        <p:spPr>
          <a:xfrm>
            <a:off x="7164360" y="1413000"/>
            <a:ext cx="1432080" cy="1474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5" descr="Рисунок1"/>
          <p:cNvPicPr/>
          <p:nvPr/>
        </p:nvPicPr>
        <p:blipFill>
          <a:blip r:embed="rId2"/>
          <a:stretch/>
        </p:blipFill>
        <p:spPr>
          <a:xfrm>
            <a:off x="7093080" y="3141720"/>
            <a:ext cx="1492200" cy="1485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6" descr="1"/>
          <p:cNvPicPr/>
          <p:nvPr/>
        </p:nvPicPr>
        <p:blipFill>
          <a:blip r:embed="rId3"/>
          <a:stretch/>
        </p:blipFill>
        <p:spPr>
          <a:xfrm>
            <a:off x="7093080" y="4941720"/>
            <a:ext cx="16048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Укажите название репродукции и соотнесите с автором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2651400" y="3994560"/>
            <a:ext cx="38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 flipH="1">
            <a:off x="468360" y="3428280"/>
            <a:ext cx="5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б.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2651400" y="3942360"/>
            <a:ext cx="38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541800" y="4941000"/>
            <a:ext cx="6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2619360" y="4025880"/>
            <a:ext cx="39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14"/>
          <p:cNvSpPr/>
          <p:nvPr/>
        </p:nvSpPr>
        <p:spPr>
          <a:xfrm>
            <a:off x="5929920" y="198828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16"/>
          <p:cNvSpPr/>
          <p:nvPr/>
        </p:nvSpPr>
        <p:spPr>
          <a:xfrm>
            <a:off x="4000320" y="256608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.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17"/>
          <p:cNvSpPr/>
          <p:nvPr/>
        </p:nvSpPr>
        <p:spPr>
          <a:xfrm>
            <a:off x="3998520" y="398520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8"/>
          <p:cNvSpPr/>
          <p:nvPr/>
        </p:nvSpPr>
        <p:spPr>
          <a:xfrm>
            <a:off x="5940360" y="3429000"/>
            <a:ext cx="6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6212520" y="594900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в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1"/>
          <p:cNvSpPr/>
          <p:nvPr/>
        </p:nvSpPr>
        <p:spPr>
          <a:xfrm>
            <a:off x="3939480" y="40129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2"/>
          <p:cNvSpPr/>
          <p:nvPr/>
        </p:nvSpPr>
        <p:spPr>
          <a:xfrm>
            <a:off x="4430880" y="622944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23" descr="1"/>
          <p:cNvPicPr/>
          <p:nvPr/>
        </p:nvPicPr>
        <p:blipFill>
          <a:blip r:embed="rId1"/>
          <a:stretch/>
        </p:blipFill>
        <p:spPr>
          <a:xfrm>
            <a:off x="1403280" y="1557360"/>
            <a:ext cx="1527120" cy="1452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4" descr="1"/>
          <p:cNvPicPr/>
          <p:nvPr/>
        </p:nvPicPr>
        <p:blipFill>
          <a:blip r:embed="rId2"/>
          <a:stretch/>
        </p:blipFill>
        <p:spPr>
          <a:xfrm>
            <a:off x="1403280" y="3213000"/>
            <a:ext cx="1441440" cy="14446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5" descr="1"/>
          <p:cNvPicPr/>
          <p:nvPr/>
        </p:nvPicPr>
        <p:blipFill>
          <a:blip r:embed="rId3"/>
          <a:stretch/>
        </p:blipFill>
        <p:spPr>
          <a:xfrm>
            <a:off x="1332000" y="4797360"/>
            <a:ext cx="1660320" cy="1590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6" descr="1"/>
          <p:cNvPicPr/>
          <p:nvPr/>
        </p:nvPicPr>
        <p:blipFill>
          <a:blip r:embed="rId4"/>
          <a:stretch/>
        </p:blipFill>
        <p:spPr>
          <a:xfrm>
            <a:off x="6877080" y="1341360"/>
            <a:ext cx="1809720" cy="1801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7" descr="1"/>
          <p:cNvPicPr/>
          <p:nvPr/>
        </p:nvPicPr>
        <p:blipFill>
          <a:blip r:embed="rId5"/>
          <a:srcRect l="0" t="0" r="0" b="-195"/>
          <a:stretch/>
        </p:blipFill>
        <p:spPr>
          <a:xfrm>
            <a:off x="6804000" y="3284640"/>
            <a:ext cx="1944720" cy="13935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8" descr="1"/>
          <p:cNvPicPr/>
          <p:nvPr/>
        </p:nvPicPr>
        <p:blipFill>
          <a:blip r:embed="rId6"/>
          <a:stretch/>
        </p:blipFill>
        <p:spPr>
          <a:xfrm>
            <a:off x="6877080" y="4941720"/>
            <a:ext cx="1881000" cy="17431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29"/>
          <p:cNvSpPr/>
          <p:nvPr/>
        </p:nvSpPr>
        <p:spPr>
          <a:xfrm>
            <a:off x="5940360" y="5084640"/>
            <a:ext cx="6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4720" y="290160"/>
            <a:ext cx="8136000" cy="865080"/>
          </a:xfrm>
          <a:prstGeom prst="rect">
            <a:avLst/>
          </a:prstGeom>
          <a:solidFill>
            <a:srgbClr val="3366ff">
              <a:alpha val="1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Monotype Corsiva"/>
              </a:rPr>
              <a:t>Список используемой литератур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91280" cy="4397400"/>
          </a:xfrm>
          <a:prstGeom prst="rect">
            <a:avLst/>
          </a:prstGeom>
          <a:solidFill>
            <a:srgbClr val="0033cc">
              <a:alpha val="37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.Н. Ростовцев, «Методика преподавания изобразительного искусства в школе»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9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Н.М. Сокольникова, « Основы рисунка», 1996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В.С. Кузин, «Изобразительное искусство в школе», 1995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М.Г. Дрезнина, «Каждый ребенок – художник», 2002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Т.Н. Вышинская, «Уроки рисования», 199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megabook.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bat"/>
              </a:rPr>
              <a:t>    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Искусство –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      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посредни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того, чего нельз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         </a:t>
            </a: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высказать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                          </a:t>
            </a:r>
            <a:r>
              <a:rPr b="0" i="1" lang="ru-RU" sz="4400" spc="-1" strike="noStrike">
                <a:solidFill>
                  <a:srgbClr val="ffffff"/>
                </a:solidFill>
                <a:latin typeface="Arbat"/>
              </a:rPr>
              <a:t>Ге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i="1" lang="ru-RU" sz="5400" spc="-1" strike="noStrike">
                <a:solidFill>
                  <a:srgbClr val="ffffff"/>
                </a:solidFill>
                <a:latin typeface="Monotype Corsiva"/>
              </a:rPr>
              <a:t>Содержание уро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63272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Виды изобразительного  искус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Живопи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вопись и ее жан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Скульп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Архитек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Граф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bat"/>
              </a:rPr>
              <a:t>   </a:t>
            </a: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Виды изобразительного искусства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18320" cy="5029200"/>
          </a:xfrm>
          <a:prstGeom prst="rect">
            <a:avLst/>
          </a:prstGeom>
          <a:solidFill>
            <a:srgbClr val="0000ff">
              <a:alpha val="1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ам,  конечно, доводилось видеть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рисун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карандашом или углем на бумаге,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картины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написанные красками на холсте,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памятни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– гранитные и мраморные, расписные глиняные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игруш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здания храмов и музеев – старинные и построенные давно. 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4360" y="4869000"/>
            <a:ext cx="8208720" cy="1503360"/>
          </a:xfrm>
          <a:prstGeom prst="rect">
            <a:avLst/>
          </a:prstGeom>
          <a:solidFill>
            <a:srgbClr val="3366ff">
              <a:alpha val="3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се это – произведения 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искусства различных его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ffff"/>
                </a:solidFill>
                <a:latin typeface="Arbat"/>
              </a:rPr>
              <a:t>видов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Object 48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305160" cy="1054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5" descr="1"/>
          <p:cNvPicPr/>
          <p:nvPr/>
        </p:nvPicPr>
        <p:blipFill>
          <a:blip r:embed="rId2"/>
          <a:stretch/>
        </p:blipFill>
        <p:spPr>
          <a:xfrm>
            <a:off x="900000" y="189000"/>
            <a:ext cx="3543480" cy="4422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7" descr="2"/>
          <p:cNvPicPr/>
          <p:nvPr/>
        </p:nvPicPr>
        <p:blipFill>
          <a:blip r:embed="rId3"/>
          <a:stretch/>
        </p:blipFill>
        <p:spPr>
          <a:xfrm>
            <a:off x="4859280" y="189000"/>
            <a:ext cx="3402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Живопись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ид изобразительного искусства, произведения которого создаются с помощью красок, наносимых на какую-либо поверхность.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Живопись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— важное средство художественного отражения и истолкования действительности, воздействия на мысли и чувства зр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    </a:t>
            </a:r>
            <a:r>
              <a:rPr b="0" lang="ru-RU" sz="4000" spc="-1" strike="noStrike">
                <a:solidFill>
                  <a:srgbClr val="ffcc00"/>
                </a:solidFill>
                <a:latin typeface="Monotype Corsiva"/>
              </a:rPr>
              <a:t>Основные технические разновидности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масляная живопись, живопись водяными красками по штукатурке — сырой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(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фреска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 сухой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(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а секко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),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емпера, клеевая живопись, восковая живопись, эмаль, живопись керамическая, силикатными, синтетическими красками, мозаика, витраж; акварель, гуашь, пасте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итраж собора в Шартр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5148360" y="5300640"/>
            <a:ext cx="366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Фрес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монастыр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ан – Мар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2" descr="3"/>
          <p:cNvPicPr/>
          <p:nvPr/>
        </p:nvPicPr>
        <p:blipFill>
          <a:blip r:embed="rId1"/>
          <a:stretch/>
        </p:blipFill>
        <p:spPr>
          <a:xfrm>
            <a:off x="468360" y="1557360"/>
            <a:ext cx="3819600" cy="4876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1"/>
          <p:cNvPicPr/>
          <p:nvPr/>
        </p:nvPicPr>
        <p:blipFill>
          <a:blip r:embed="rId2"/>
          <a:stretch/>
        </p:blipFill>
        <p:spPr>
          <a:xfrm>
            <a:off x="5076720" y="333360"/>
            <a:ext cx="34704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1:14:00Z</dcterms:created>
  <dc:creator>Наташа</dc:creator>
  <dc:description/>
  <dc:language>en-US</dc:language>
  <cp:lastModifiedBy>Name</cp:lastModifiedBy>
  <dcterms:modified xsi:type="dcterms:W3CDTF">2011-02-03T12:41:54Z</dcterms:modified>
  <cp:revision>26</cp:revision>
  <dc:subject/>
  <dc:title>Виды изобразительного искус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0d0000000000010243000207f6000400038000</vt:lpwstr>
  </property>
</Properties>
</file>