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6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E32-AA27-4013-8BBA-5BAFC9E2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DD4-CF1F-4A39-85B4-6A7F42A2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AFA-BE4A-4F89-8AE2-75F56467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061-3414-4F35-8753-DBCE9006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7096-4E47-4CA7-90D1-103C34CD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B40A-5439-474C-B9F8-3989EDF7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C358-E800-4118-9BF9-29F18FCE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739D-F55D-4C7B-91CF-8B0391C8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D8D1-0734-46FC-800D-08863C38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B871-CC2A-43D0-93A5-45DC877B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C34B-8858-4866-9A58-04BC3367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4ABB-A1B1-4B2A-B145-03F05EB7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4B02-1985-4949-B899-80550942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7E1C-F56D-481D-9105-AAD56061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EFE3-FE2E-4350-8BA4-388FDF9A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964E-ECE4-4512-A3AC-BB9C3F37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FF67-2275-4E59-A21D-3ABE7891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80F2-CBB0-43DE-96C7-A3BA8E8B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8B2BC-3C7E-42A3-8258-B2AC6E2B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0ECA7-1CDC-4F5E-9D7D-A784B973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3C63-620C-4569-9BAA-EA235366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ADD8E-14FC-4B80-813A-280A7FB6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7304-7596-4A9E-BBBB-9808A4BB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835B-4C1B-436F-91B0-3E312C84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47194-3CD3-465E-A1A3-8DBE2DD2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7DB5E-42E4-41A4-A1D5-8C99DF42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B4D17-7E80-4899-9951-295E0DBE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079BD-938A-4152-A1CF-393EC68E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E0430-5DCB-4F54-ADD3-05A5DEAC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EA2B7-4FD3-4AD0-8E6F-80FEDEEA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79338-2141-4439-BD5F-1A37822D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A091D-ED51-4B7F-9056-7E37EB50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59CB-40A8-4374-BB75-7ADAFD7C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846-AA43-4C31-BFFA-5B3D720A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827E3-91E0-4029-ADC3-44AFBA2B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6C589-618A-4674-B890-2F6AAF8D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27B37-E7F7-46B4-8EA0-DE16C06B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9DEDF-67D4-4389-9C61-809A18C5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DB78-3ACF-4EE5-8C03-14BD23AA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67135-9971-4334-96EC-79248A2F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53F1F-658D-4FA8-8CBC-448DCAE8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63E1C-3057-4480-B21B-CC6F35CD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9C2EC-B4E4-4072-AB7A-34AA6911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77A-8F22-4790-BAD5-F54135F9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6EC-CFB3-4932-91B8-2EA17194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2DE-834E-4BCB-BE3F-DB891706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523-77EA-41E6-9469-66FE310B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1D8-C3F4-4DEB-9004-DEC8F993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29A7-E5A6-4467-8F2C-9909934507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A402-35A8-4AFF-99C0-FE42CFF1ADD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E77C-9EB5-4E22-8B26-47260A0833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725A-68D7-45EF-80BB-1CBBBEEA7DE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58560" y="326520"/>
            <a:ext cx="788508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763640" y="4287960"/>
            <a:ext cx="715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в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рок. Итоговое заня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oblcit"/>
          <p:cNvPicPr/>
          <p:nvPr/>
        </p:nvPicPr>
        <p:blipFill>
          <a:blip r:embed="rId1"/>
          <a:stretch/>
        </p:blipFill>
        <p:spPr>
          <a:xfrm>
            <a:off x="250920" y="326880"/>
            <a:ext cx="1344600" cy="1344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537840" y="3297240"/>
            <a:ext cx="92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зобразительное искусство. 7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7" descr=""/>
          <p:cNvPicPr/>
          <p:nvPr/>
        </p:nvPicPr>
        <p:blipFill>
          <a:blip r:embed="rId1"/>
          <a:stretch/>
        </p:blipFill>
        <p:spPr>
          <a:xfrm>
            <a:off x="2881440" y="603360"/>
            <a:ext cx="3381120" cy="48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bs-aaw-TomPerkinson-KatsinaWithButterfly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7"/>
          <p:cNvSpPr/>
          <p:nvPr/>
        </p:nvSpPr>
        <p:spPr>
          <a:xfrm>
            <a:off x="0" y="260280"/>
            <a:ext cx="5076720" cy="87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Все жан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искусств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хороши, кром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       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скучног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bat"/>
              </a:rPr>
              <a:t>но скука - не жан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</a:t>
            </a:r>
            <a:r>
              <a:rPr b="0" lang="ru-RU" sz="3600" spc="-1" strike="noStrike">
                <a:solidFill>
                  <a:srgbClr val="ffcc00"/>
                </a:solidFill>
                <a:latin typeface="Arbat"/>
              </a:rPr>
              <a:t>Воль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portrait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), изображение человека или группы людей; в изобразительном искусстве один из жанров, в котором воссоздается человеческая индивидуальнос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7" descr="1"/>
          <p:cNvPicPr/>
          <p:nvPr/>
        </p:nvPicPr>
        <p:blipFill>
          <a:blip r:embed="rId1"/>
          <a:stretch/>
        </p:blipFill>
        <p:spPr>
          <a:xfrm>
            <a:off x="4788000" y="1628640"/>
            <a:ext cx="40719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33920" y="259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ейза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ранц. pays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вид, изображение какой-либо местности; в живописи и графике жанр, в котором основной предмет изображения — природа. Часто изображаются виды городов или архитектурных комплексов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рхитектурный пейзаж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едут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морские виды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арин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7" descr="1"/>
          <p:cNvPicPr/>
          <p:nvPr/>
        </p:nvPicPr>
        <p:blipFill>
          <a:blip r:embed="rId1"/>
          <a:stretch/>
        </p:blipFill>
        <p:spPr>
          <a:xfrm>
            <a:off x="5076720" y="1628640"/>
            <a:ext cx="3678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Comic Sans MS"/>
              </a:rPr>
              <a:t>Натюрмор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Monotype Corsiva"/>
              </a:rPr>
              <a:t>nature mort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букв. — мертвая природа), жанр изобразительного искусства (главным образом станковой живописи), посвященный изображению неодушевленных предметов (утварь, плоды, дичь, букеты цветов, атрибуты какой-либо деятельности и т. 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292720" y="1628640"/>
            <a:ext cx="354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20000"/>
                </a:solidFill>
                <a:latin typeface="Monotype Corsiva"/>
              </a:rPr>
              <a:t>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Скульп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 от лат.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sculp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высекаю),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ид изобразительного искусства, произведения которого имеют объемную, трехмерную форму и выполняются из твердых или пластических материалов. Скульптура изображает главным образом человека, реже живот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Художественные  средства скульпту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троение объемной формы, пластическая моделировка (лепка), разработка силуэта, фактуры, в некоторых случаях также цвета. Различаются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руглая скульптура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статуя, группа, статуэтка, бюст), осматриваемая с разных сторон, и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льеф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зображение располагается на плоскости фо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Релье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90000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у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1" descr="1"/>
          <p:cNvPicPr/>
          <p:nvPr/>
        </p:nvPicPr>
        <p:blipFill>
          <a:blip r:embed="rId1"/>
          <a:stretch/>
        </p:blipFill>
        <p:spPr>
          <a:xfrm>
            <a:off x="539640" y="519120"/>
            <a:ext cx="3867120" cy="5214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1"/>
          <p:cNvPicPr/>
          <p:nvPr/>
        </p:nvPicPr>
        <p:blipFill>
          <a:blip r:embed="rId2"/>
          <a:stretch/>
        </p:blipFill>
        <p:spPr>
          <a:xfrm>
            <a:off x="5148360" y="1341360"/>
            <a:ext cx="34700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Архитек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от греч.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architekthon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строитель),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кусство проектировать и строить здания и др. сооружения , создающие среду, необходимую людям для их жизни и деятельности, в соответствии с назначением общества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Выразительные средства архитектур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— композиция, тектоника, масштаб, пропорции, ритм, пластика объемов, фактура и цвет материалов.  В архитектуре взаимосвязаны функциональные, технические, эстетические начала (польза, прочность, красота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Храм Василия Блаженного в Москв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5003640" y="436572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ортик Но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Эрмитажа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кт–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12" descr="1"/>
          <p:cNvPicPr/>
          <p:nvPr/>
        </p:nvPicPr>
        <p:blipFill>
          <a:blip r:embed="rId1"/>
          <a:stretch/>
        </p:blipFill>
        <p:spPr>
          <a:xfrm>
            <a:off x="395280" y="1916280"/>
            <a:ext cx="4027320" cy="4484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1"/>
          <p:cNvPicPr/>
          <p:nvPr/>
        </p:nvPicPr>
        <p:blipFill>
          <a:blip r:embed="rId2"/>
          <a:srcRect l="0" t="0" r="0" b="-265"/>
          <a:stretch/>
        </p:blipFill>
        <p:spPr>
          <a:xfrm>
            <a:off x="5003640" y="549360"/>
            <a:ext cx="38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40360" y="3212640"/>
            <a:ext cx="374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ев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ья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40360" y="4508280"/>
            <a:ext cx="4751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подаваемый предмет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зительное искусство (ИЗО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ж работы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ечени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шивание, вяза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ет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58920" y="333360"/>
            <a:ext cx="78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oblcit"/>
          <p:cNvPicPr/>
          <p:nvPr/>
        </p:nvPicPr>
        <p:blipFill>
          <a:blip r:embed="rId1"/>
          <a:stretch/>
        </p:blipFill>
        <p:spPr>
          <a:xfrm>
            <a:off x="250920" y="333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8163720" y="64911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SP_A0083"/>
          <p:cNvPicPr/>
          <p:nvPr/>
        </p:nvPicPr>
        <p:blipFill>
          <a:blip r:embed="rId2"/>
          <a:stretch/>
        </p:blipFill>
        <p:spPr>
          <a:xfrm>
            <a:off x="395280" y="2997360"/>
            <a:ext cx="3598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Monotype Corsiva"/>
              </a:rPr>
              <a:t> 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Графи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6612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т (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graph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пишу), вид изобразительного искусства, включающий рисунок и печатные художественные изображения (гравюра, литография и др.), основанные на искусстве рисунка и выполненные карандашом, пером или уг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Выразительные средства графики</a:t>
            </a:r>
            <a:r>
              <a:rPr b="0" lang="ru-RU" sz="36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— контурная линия, штрих, пятно (иногда цветовое), фон листа, с которым изображение образует контрастное или нюансное  соотношение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Гравюра                               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32400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Лит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2" descr="1"/>
          <p:cNvPicPr/>
          <p:nvPr/>
        </p:nvPicPr>
        <p:blipFill>
          <a:blip r:embed="rId1"/>
          <a:stretch/>
        </p:blipFill>
        <p:spPr>
          <a:xfrm>
            <a:off x="324000" y="260280"/>
            <a:ext cx="3976560" cy="576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1"/>
          <p:cNvPicPr/>
          <p:nvPr/>
        </p:nvPicPr>
        <p:blipFill>
          <a:blip r:embed="rId2"/>
          <a:stretch/>
        </p:blipFill>
        <p:spPr>
          <a:xfrm>
            <a:off x="4788000" y="692280"/>
            <a:ext cx="3976560" cy="5790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5"/>
          <p:cNvSpPr/>
          <p:nvPr/>
        </p:nvSpPr>
        <p:spPr>
          <a:xfrm>
            <a:off x="7827840" y="64911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3240" y="230040"/>
            <a:ext cx="7556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Тест по изобразительному искусству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ahoma"/>
              </a:rPr>
              <a:t>Соотнесите  представителей искусства и эпох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. Средние века         а. Э. Неизве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. Новое время          б. Леонардо да  Вин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.Современность       в. Сальвадор Дали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3456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 Портр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. Натюрм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Пейз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Соотнесите  жанр искусства и репродукцию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919840" y="1556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63880" y="416160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432480" y="31932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830400" y="41662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3773880" y="2491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433200" y="5012280"/>
            <a:ext cx="7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4" descr="1"/>
          <p:cNvPicPr/>
          <p:nvPr/>
        </p:nvPicPr>
        <p:blipFill>
          <a:blip r:embed="rId1"/>
          <a:stretch/>
        </p:blipFill>
        <p:spPr>
          <a:xfrm>
            <a:off x="7164360" y="1413000"/>
            <a:ext cx="1432080" cy="147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Рисунок1"/>
          <p:cNvPicPr/>
          <p:nvPr/>
        </p:nvPicPr>
        <p:blipFill>
          <a:blip r:embed="rId2"/>
          <a:stretch/>
        </p:blipFill>
        <p:spPr>
          <a:xfrm>
            <a:off x="7093080" y="3141720"/>
            <a:ext cx="1492200" cy="1485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6" descr="1"/>
          <p:cNvPicPr/>
          <p:nvPr/>
        </p:nvPicPr>
        <p:blipFill>
          <a:blip r:embed="rId3"/>
          <a:stretch/>
        </p:blipFill>
        <p:spPr>
          <a:xfrm>
            <a:off x="7093080" y="4941720"/>
            <a:ext cx="1604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Укажите название репродукции и соотнесите с автором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651400" y="39945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 flipH="1">
            <a:off x="468360" y="342828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651400" y="39423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1800" y="4941000"/>
            <a:ext cx="6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2619360" y="402588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5929920" y="198828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4000320" y="2566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3998520" y="39852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5940360" y="342900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6212520" y="59490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3939480" y="4012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4430880" y="6229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3" descr="1"/>
          <p:cNvPicPr/>
          <p:nvPr/>
        </p:nvPicPr>
        <p:blipFill>
          <a:blip r:embed="rId1"/>
          <a:stretch/>
        </p:blipFill>
        <p:spPr>
          <a:xfrm>
            <a:off x="1403280" y="1557360"/>
            <a:ext cx="1527120" cy="1452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4" descr="1"/>
          <p:cNvPicPr/>
          <p:nvPr/>
        </p:nvPicPr>
        <p:blipFill>
          <a:blip r:embed="rId2"/>
          <a:stretch/>
        </p:blipFill>
        <p:spPr>
          <a:xfrm>
            <a:off x="1403280" y="3213000"/>
            <a:ext cx="1441440" cy="144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1"/>
          <p:cNvPicPr/>
          <p:nvPr/>
        </p:nvPicPr>
        <p:blipFill>
          <a:blip r:embed="rId3"/>
          <a:stretch/>
        </p:blipFill>
        <p:spPr>
          <a:xfrm>
            <a:off x="1332000" y="4797360"/>
            <a:ext cx="1660320" cy="1590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6" descr="1"/>
          <p:cNvPicPr/>
          <p:nvPr/>
        </p:nvPicPr>
        <p:blipFill>
          <a:blip r:embed="rId4"/>
          <a:stretch/>
        </p:blipFill>
        <p:spPr>
          <a:xfrm>
            <a:off x="6877080" y="1341360"/>
            <a:ext cx="1809720" cy="1801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7" descr="1"/>
          <p:cNvPicPr/>
          <p:nvPr/>
        </p:nvPicPr>
        <p:blipFill>
          <a:blip r:embed="rId5"/>
          <a:srcRect l="0" t="0" r="0" b="-195"/>
          <a:stretch/>
        </p:blipFill>
        <p:spPr>
          <a:xfrm>
            <a:off x="6804000" y="3284640"/>
            <a:ext cx="1944720" cy="13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8" descr="1"/>
          <p:cNvPicPr/>
          <p:nvPr/>
        </p:nvPicPr>
        <p:blipFill>
          <a:blip r:embed="rId6"/>
          <a:stretch/>
        </p:blipFill>
        <p:spPr>
          <a:xfrm>
            <a:off x="6877080" y="4941720"/>
            <a:ext cx="1881000" cy="17431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9"/>
          <p:cNvSpPr/>
          <p:nvPr/>
        </p:nvSpPr>
        <p:spPr>
          <a:xfrm>
            <a:off x="5940360" y="508464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290160"/>
            <a:ext cx="8136000" cy="865080"/>
          </a:xfrm>
          <a:prstGeom prst="rect">
            <a:avLst/>
          </a:prstGeom>
          <a:solidFill>
            <a:srgbClr val="3366ff">
              <a:alpha val="1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Monotype Corsiva"/>
              </a:rPr>
              <a:t>Список используемой литерату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4397400"/>
          </a:xfrm>
          <a:prstGeom prst="rect">
            <a:avLst/>
          </a:prstGeom>
          <a:solidFill>
            <a:srgbClr val="0033cc">
              <a:alpha val="37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Н. Ростовцев, «Методика преподавания изобразительного искусства в школе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.М. Сокольникова, « Основы рисунка», 199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.С. Кузин, «Изобразительное искусство в школе», 1995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.Г. Дрезнина, «Каждый ребенок – художник», 200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Т.Н. Вышинская, «Уроки рисования», 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megabook.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"/>
              </a:rPr>
              <a:t>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Искусство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посред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того, чего нельз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</a:t>
            </a: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высказат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                 </a:t>
            </a:r>
            <a:r>
              <a:rPr b="0" i="1" lang="ru-RU" sz="4400" spc="-1" strike="noStrike">
                <a:solidFill>
                  <a:srgbClr val="ffffff"/>
                </a:solidFill>
                <a:latin typeface="Arbat"/>
              </a:rPr>
              <a:t>Г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Содержание у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иды изобразительного 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ивоп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пись и ее жан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кульп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Архитек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Граф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bat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Виды изобразительного искусств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18320" cy="5029200"/>
          </a:xfrm>
          <a:prstGeom prst="rect">
            <a:avLst/>
          </a:prstGeom>
          <a:solidFill>
            <a:srgbClr val="0000ff">
              <a:alpha val="1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ам,  конечно, доводилось видеть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рисун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карандашом или углем на бумаг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картины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написанные красками на холст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памятни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– гранитные и мраморные, расписные глиняные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игруш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здания храмов и музеев – старинные и построенные давно.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8208720" cy="1503360"/>
          </a:xfrm>
          <a:prstGeom prst="rect">
            <a:avLst/>
          </a:prstGeom>
          <a:solidFill>
            <a:srgbClr val="3366ff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это – произведения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скусства различных его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ffff"/>
                </a:solidFill>
                <a:latin typeface="Arbat"/>
              </a:rPr>
              <a:t>вид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Object 48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305160" cy="1054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5" descr="1"/>
          <p:cNvPicPr/>
          <p:nvPr/>
        </p:nvPicPr>
        <p:blipFill>
          <a:blip r:embed="rId2"/>
          <a:stretch/>
        </p:blipFill>
        <p:spPr>
          <a:xfrm>
            <a:off x="900000" y="189000"/>
            <a:ext cx="3543480" cy="4422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7" descr="2"/>
          <p:cNvPicPr/>
          <p:nvPr/>
        </p:nvPicPr>
        <p:blipFill>
          <a:blip r:embed="rId3"/>
          <a:stretch/>
        </p:blipFill>
        <p:spPr>
          <a:xfrm>
            <a:off x="4859280" y="189000"/>
            <a:ext cx="3402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Живопи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ид изобразительного искусства, произведения которого создаются с помощью красок, наносимых на какую-либо поверхность.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вопись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— важное средство художественного отражения и истолкования действительности, воздействия на мысли и чувства зр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Основные технические разновидности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масляная живопись, живопись водяными красками по штукатурке — сыр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фреска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сух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а секко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,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емпера, клеевая живопись, восковая живопись, эмаль, живопись керамическая, силикатными, синтетическими красками, мозаика, витраж; акварель, гуашь, пас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итраж собора в Шартр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148360" y="5300640"/>
            <a:ext cx="366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Фрес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монасты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 – Мар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2" descr="3"/>
          <p:cNvPicPr/>
          <p:nvPr/>
        </p:nvPicPr>
        <p:blipFill>
          <a:blip r:embed="rId1"/>
          <a:stretch/>
        </p:blipFill>
        <p:spPr>
          <a:xfrm>
            <a:off x="468360" y="1557360"/>
            <a:ext cx="3819600" cy="487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1"/>
          <p:cNvPicPr/>
          <p:nvPr/>
        </p:nvPicPr>
        <p:blipFill>
          <a:blip r:embed="rId2"/>
          <a:stretch/>
        </p:blipFill>
        <p:spPr>
          <a:xfrm>
            <a:off x="5076720" y="333360"/>
            <a:ext cx="34704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1:14:00Z</dcterms:created>
  <dc:creator>Наташа</dc:creator>
  <dc:description/>
  <dc:language>en-US</dc:language>
  <cp:lastModifiedBy>Name</cp:lastModifiedBy>
  <dcterms:modified xsi:type="dcterms:W3CDTF">2011-02-03T12:41:54Z</dcterms:modified>
  <cp:revision>26</cp:revision>
  <dc:subject/>
  <dc:title>Виды изобразительного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43000207f6000400038000</vt:lpwstr>
  </property>
</Properties>
</file>