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0788-6666-4C51-8826-E2536566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2C38-F020-4FEC-8253-C676C16F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5C75-5919-4C55-A6E1-6F01A0F6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FBD4-8A8A-4256-B330-357EAFF68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22D0-F570-45AD-98A1-1790C72F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21F2-C28E-43EC-A155-E55E8830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DCE1-1D73-4990-BA6B-BF0D77E9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0B02-64F4-4361-B51F-AEE7F800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B766-6298-40D0-9F30-E7F8EA06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D84A-E1B5-458A-A75F-F2220B7E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9443-1DC7-43D1-BFBC-53BBAF0A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D8FE-8966-40B3-94EE-C7FC9BB5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B8E8-E822-443A-AAB7-7020AA49775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Иконопись в Древней Рус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8120" y="1447920"/>
            <a:ext cx="57909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...её сияющие краски, сильные и яркие, её ритмические силуэты, певучие и мягкие, её просветленные лики, ласковые и поэтичные, её эпическое настроение, спокойное и сосредоточенное, - все это вызывает ощущение какой-то внутренней легкости, когда все противоборствующие страсти приведены в согласие и когда возникает это особое чувство гармонии, которое рождается при звуках современной музы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В. Н. Лазар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Георгий_ Новгород нач15в"/>
          <p:cNvPicPr/>
          <p:nvPr/>
        </p:nvPicPr>
        <p:blipFill>
          <a:blip r:embed="rId1"/>
          <a:stretch/>
        </p:blipFill>
        <p:spPr>
          <a:xfrm>
            <a:off x="395280" y="1484280"/>
            <a:ext cx="2487600" cy="358776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4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Что такое икон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Икона (в переводе с греческого – «образ») – это изображения Иисуса Христа, Богоматери, святых, которые призваны напоминать о событиях Священного пис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4Virgin Eleusa"/>
          <p:cNvPicPr/>
          <p:nvPr/>
        </p:nvPicPr>
        <p:blipFill>
          <a:blip r:embed="rId1"/>
          <a:stretch/>
        </p:blipFill>
        <p:spPr>
          <a:xfrm>
            <a:off x="468360" y="1268280"/>
            <a:ext cx="42004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Особенности живопис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345440" cy="45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В отличие от византийских , русский иконописец предпочитает мягкую светотеневую манеру, так называемую плавь, то есть плавно накладывали крас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Тона красок накладывались в несколько слоёв с учётом просвечивания более ярких  нижних через прозрачные и светлые верхние. Наиболее выступающие места покрывались светлой краской несколько раз, так что эти участки многослойного письма производят впечатление излучающих свет, светонос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Цветовая гамма ико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Цветовая гамма русских икон поражает своим разнообразием. Цвет также необходим образам-символам, как и геометрические фигуры, в которые они вписываются. Цветом озаряется линия, чтобы зазвучать ещё краше, обрести ещё большую музыка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6" descr="Державная1"/>
          <p:cNvPicPr/>
          <p:nvPr/>
        </p:nvPicPr>
        <p:blipFill>
          <a:blip r:embed="rId1"/>
          <a:stretch/>
        </p:blipFill>
        <p:spPr>
          <a:xfrm>
            <a:off x="154080" y="1413000"/>
            <a:ext cx="42242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Спас Нерукотворны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1680" y="1676160"/>
            <a:ext cx="4191120" cy="21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вгород 12 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Спас Нерукотворный» - один из самых известных и почитаемых образов Христа. Существует несколько легенд о его происхождении. Считается, что этот образ является самым достовер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Спас Нерукотворный Новгород"/>
          <p:cNvPicPr/>
          <p:nvPr/>
        </p:nvPicPr>
        <p:blipFill>
          <a:blip r:embed="rId1"/>
          <a:stretch/>
        </p:blipFill>
        <p:spPr>
          <a:xfrm>
            <a:off x="87480" y="2060640"/>
            <a:ext cx="4286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Спас Вседержитель</a:t>
            </a:r>
            <a:br>
              <a:rPr sz="4000"/>
            </a:b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14 век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Образ Христа, благословляющего верующих. В правой руке он держит Евангел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11640" y="1628640"/>
            <a:ext cx="4194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Вседержитель 14в Византия"/>
          <p:cNvPicPr/>
          <p:nvPr/>
        </p:nvPicPr>
        <p:blipFill>
          <a:blip r:embed="rId1"/>
          <a:stretch/>
        </p:blipFill>
        <p:spPr>
          <a:xfrm>
            <a:off x="4627440" y="1484280"/>
            <a:ext cx="375300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Иконографический тип Елеуса (Умиление)</a:t>
            </a:r>
            <a:br>
              <a:rPr sz="4000"/>
            </a:b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Богоматерь Владимирска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Picture 3" descr="Владимирская"/>
          <p:cNvPicPr/>
          <p:nvPr/>
        </p:nvPicPr>
        <p:blipFill>
          <a:blip r:embed="rId1"/>
          <a:stretch/>
        </p:blipFill>
        <p:spPr>
          <a:xfrm>
            <a:off x="368280" y="1484280"/>
            <a:ext cx="3728880" cy="5373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Поясной образ, символизирующий материнскую любовь и единение с Христом. Голова Богоматери наклонена. Христос прижимается к её ще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Богоматерь Донска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Picture 3" descr="Донская икона Божией Матери"/>
          <p:cNvPicPr/>
          <p:nvPr/>
        </p:nvPicPr>
        <p:blipFill>
          <a:blip r:embed="rId1"/>
          <a:stretch/>
        </p:blipFill>
        <p:spPr>
          <a:xfrm>
            <a:off x="380880" y="1523880"/>
            <a:ext cx="3495960" cy="4496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Богоматерь Донская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Историческая реликвия, овеянная славой. Её чтили как защитницу       Отеч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7e7ff"/>
                </a:solidFill>
                <a:latin typeface="Monotype Corsiva"/>
              </a:rPr>
              <a:t>Богоматерь Панагия (Всесвятая).На груди Богоматери Оранты  изображён в круге славы Христос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8" name="Picture 5" descr="10- Знамение"/>
          <p:cNvPicPr/>
          <p:nvPr/>
        </p:nvPicPr>
        <p:blipFill>
          <a:blip r:embed="rId1"/>
          <a:stretch/>
        </p:blipFill>
        <p:spPr>
          <a:xfrm>
            <a:off x="4199040" y="1676520"/>
            <a:ext cx="415116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Беря начало от византийской живописи, русская иконопись сумела выработать самостоятельный язы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ля неё характерны и свой способ отражения жизни, и свои живописные приёмы, и свои секреты ремес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8:22:31Z</dcterms:created>
  <dc:creator>Сергей</dc:creator>
  <dc:description/>
  <dc:language>en-US</dc:language>
  <cp:lastModifiedBy>Owner</cp:lastModifiedBy>
  <dcterms:modified xsi:type="dcterms:W3CDTF">2011-07-11T09:47:41Z</dcterms:modified>
  <cp:revision>13</cp:revision>
  <dc:subject/>
  <dc:title>Искусство иконописи в Древней Руси</dc:title>
</cp:coreProperties>
</file>