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545B-8E96-4CD9-A9FD-70BD80987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57B2-C688-4053-8AB3-3CAAA7AF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5186-BF64-4F34-BE52-1FFF5E2D2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227A-AB26-4CA0-9F84-9EB7B1EC9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A1D7-24AF-4823-AB81-77A2FD3B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6B70-2A7A-4677-8B8C-A2C2DEED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D6F0-5045-4BC4-9413-C218D051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162D-B635-4360-9F45-F8C5C171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C644-4FB6-4DFC-83D2-CA8478F7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A4CA-993B-48BD-88AB-08547A90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0AD5-F2B5-4837-B687-183DCAD7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65CA-E70F-470B-8587-17A68894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C47F-E944-447C-9F5E-41AFC28D13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29280" y="1857240"/>
            <a:ext cx="4914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AdventureC"/>
              </a:rPr>
              <a:t>Иллюзии и интерпретации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AdventureC"/>
              </a:rPr>
              <a:t>Иеронима Босха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AdventureC"/>
              </a:rPr>
              <a:t>1450-1516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714240" y="785880"/>
            <a:ext cx="3857760" cy="505944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5572080" y="6143760"/>
            <a:ext cx="3571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0f0"/>
                </a:solidFill>
                <a:latin typeface="AdventureC"/>
              </a:rPr>
              <a:t>Фесенко Александр Оттович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0f0"/>
                </a:solidFill>
                <a:latin typeface="AdventureC"/>
              </a:rPr>
              <a:t>Учитель изобразительного искусст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0f0"/>
                </a:solidFill>
                <a:latin typeface="AdventureC"/>
              </a:rPr>
              <a:t>МБОУ «Высокоключевая СОШ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57800" y="5714640"/>
            <a:ext cx="49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Человек-дерево в пейзаже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5" descr="Человек-дерево в пейзаже"/>
          <p:cNvPicPr/>
          <p:nvPr/>
        </p:nvPicPr>
        <p:blipFill>
          <a:blip r:embed="rId2"/>
          <a:stretch/>
        </p:blipFill>
        <p:spPr>
          <a:xfrm>
            <a:off x="357120" y="306360"/>
            <a:ext cx="47149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5571720"/>
            <a:ext cx="28576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Искушение Святого Антони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Рисунок 3" descr="искушение Св Антония.jpg"/>
          <p:cNvPicPr/>
          <p:nvPr/>
        </p:nvPicPr>
        <p:blipFill>
          <a:blip r:embed="rId2"/>
          <a:stretch/>
        </p:blipFill>
        <p:spPr>
          <a:xfrm>
            <a:off x="2843280" y="0"/>
            <a:ext cx="63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Монстры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3" name="Picture 4" descr="монстры"/>
          <p:cNvPicPr/>
          <p:nvPr/>
        </p:nvPicPr>
        <p:blipFill>
          <a:blip r:embed="rId2"/>
          <a:stretch/>
        </p:blipFill>
        <p:spPr>
          <a:xfrm>
            <a:off x="357120" y="928800"/>
            <a:ext cx="862812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4"/>
          <p:cNvSpPr/>
          <p:nvPr/>
        </p:nvSpPr>
        <p:spPr>
          <a:xfrm>
            <a:off x="444600" y="571500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вятой  Антоний.150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Рисунок 3" descr="Св Антоний.jpg"/>
          <p:cNvPicPr/>
          <p:nvPr/>
        </p:nvPicPr>
        <p:blipFill>
          <a:blip r:embed="rId2"/>
          <a:stretch/>
        </p:blipFill>
        <p:spPr>
          <a:xfrm>
            <a:off x="3571920" y="0"/>
            <a:ext cx="4856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4811040" y="635796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знесение. 150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Рисунок 3" descr="Вознесение.jpg"/>
          <p:cNvPicPr/>
          <p:nvPr/>
        </p:nvPicPr>
        <p:blipFill>
          <a:blip r:embed="rId2"/>
          <a:stretch/>
        </p:blipFill>
        <p:spPr>
          <a:xfrm>
            <a:off x="714240" y="0"/>
            <a:ext cx="294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1099800" y="628668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сение креста. 1515-1516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Рисунок 3" descr="Несение креста 1.jpg"/>
          <p:cNvPicPr/>
          <p:nvPr/>
        </p:nvPicPr>
        <p:blipFill>
          <a:blip r:embed="rId2"/>
          <a:stretch/>
        </p:blipFill>
        <p:spPr>
          <a:xfrm>
            <a:off x="4429080" y="0"/>
            <a:ext cx="367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1214280" y="1643040"/>
            <a:ext cx="18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u.wikipedia.org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1171440" y="228600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mallbay.ru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1214280" y="2714760"/>
            <a:ext cx="17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ibliotekar.ru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2617560" y="642960"/>
            <a:ext cx="31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Использованные ресурс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285840" y="1357200"/>
            <a:ext cx="8858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dventureC"/>
              </a:rPr>
              <a:t>Босх Хиеронимус ван Акен, (около 1450/60–1516), великий нидерландский живописец. Работал главным образом в Хертогенбосе в Северной Фландрии. Один из наиболее ярких мастеров раннего Северного Возрождения, Иероним Босх в своих многофигурных композициях сочетал изощренную средневековую фантастику с необычными для искусства его эпохи реалистическими новшествами. Стиль Босха уникален и не имеет аналогий в нидерландской живописной традиции. 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571680" y="2000160"/>
            <a:ext cx="857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ллю́з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лат. 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illusio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— заблуждение, обман) — искаженное восприятие реально существующего объекта или явле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571680" y="3357720"/>
            <a:ext cx="10180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нтерпретац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 индивидуальная трактовка исполнителем исполняем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изведения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214200" y="1720800"/>
            <a:ext cx="8501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Есть повод говорить, даже по прошествии  пяти сотен лет, об особом взгляде Босха на  жизнь и действитель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Он стоит особняком не только  среди современников и сограждан , но и в целом, значит мы имеем дело с гени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Слово иллюзорное вряд ли подходит в этом случае, но найти более подходящее  не удается. Босх интерпретирует  жизненные картины на своих полотнах  жестоко и точн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И мы видим что это вер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40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Несение креста. 1516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4" descr="D:\MyDoc\Документы - Папа\Комплексная программа\Репродукции\Брейгель\несение креста.jpg"/>
          <p:cNvPicPr/>
          <p:nvPr/>
        </p:nvPicPr>
        <p:blipFill>
          <a:blip r:embed="rId2"/>
          <a:stretch/>
        </p:blipFill>
        <p:spPr>
          <a:xfrm>
            <a:off x="2214720" y="571680"/>
            <a:ext cx="6124320" cy="55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6160" y="5928840"/>
            <a:ext cx="485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Увенчание терновым венком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1490е – 1500е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4" descr="D:\MyDoc\Документы - Папа\Комплексная программа\Репродукции\Брейгель\увенчание терновым венком.jpg"/>
          <p:cNvPicPr/>
          <p:nvPr/>
        </p:nvPicPr>
        <p:blipFill>
          <a:blip r:embed="rId2"/>
          <a:stretch/>
        </p:blipFill>
        <p:spPr>
          <a:xfrm>
            <a:off x="1428840" y="428760"/>
            <a:ext cx="46670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500040" y="5214960"/>
            <a:ext cx="48578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Корабль дураков. 1490е-1500е 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Picture 4" descr="D:\MyDoc\Документы - Папа\Комплексная программа\Репродукции\Брейгель\корабль дураков.jpg"/>
          <p:cNvPicPr/>
          <p:nvPr/>
        </p:nvPicPr>
        <p:blipFill>
          <a:blip r:embed="rId2"/>
          <a:stretch/>
        </p:blipFill>
        <p:spPr>
          <a:xfrm>
            <a:off x="4000680" y="47520"/>
            <a:ext cx="344772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29200" y="5857920"/>
            <a:ext cx="3214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Блудный сын. 1503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214200" y="428760"/>
            <a:ext cx="60724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414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оз сена. 1500-1502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Рисунок 3" descr="Воз сена.jpg"/>
          <p:cNvPicPr/>
          <p:nvPr/>
        </p:nvPicPr>
        <p:blipFill>
          <a:blip r:embed="rId2"/>
          <a:stretch/>
        </p:blipFill>
        <p:spPr>
          <a:xfrm>
            <a:off x="3571920" y="0"/>
            <a:ext cx="487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6:56:12Z</dcterms:created>
  <dc:creator>Фесенко</dc:creator>
  <dc:description/>
  <dc:language>en-US</dc:language>
  <cp:lastModifiedBy>КарМаН</cp:lastModifiedBy>
  <dcterms:modified xsi:type="dcterms:W3CDTF">2012-04-24T10:39:42Z</dcterms:modified>
  <cp:revision>24</cp:revision>
  <dc:subject/>
  <dc:title>Иллюзии и ассоциации  Иеронима Босха 1450-1516</dc:title>
</cp:coreProperties>
</file>