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3888-EB37-480F-AF6B-A4FE1BF564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DC98-86C6-46EA-B597-0E26FDB1A890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7486-646A-45A4-8D77-26B7A42693A1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C7DD-C4FD-4C09-BAE8-78FCC28E9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FE59-EFBC-4AF0-9F5F-FA89607A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CA3C-4D94-4EEB-BCDD-5DB3DD7BA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01E1-FC94-48FF-93FF-155D461C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3ABD-A9F2-43BE-8527-49D4E3DE4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EDB6-5B84-48E1-916B-23931C6F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DE19-3EF2-4601-AF0F-7F6533B8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122B-CC48-42BC-8D9D-9D0B93B9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7813-0E95-4B7B-A712-0E9E68B8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1E1E-EF82-4A5D-8A3D-9EAE684E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3055-96EA-45D0-9D9C-5A014A4F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E526-93AB-43FF-946E-E4057257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EEFE-8C74-45D0-B0FE-DF48D566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F6B0-8D79-4A0F-A07F-700F2A90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A92C-F267-4D18-9C92-108BFA39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A2B4-7FF4-44BD-B171-F65E2E5E1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E91A-1EFA-46EF-9442-51A1743EB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9F82-4B30-4343-925C-D17C1DA0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22A2-2BDF-4651-B2F2-9668345B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D78B-D9AC-4A9F-B0FE-FB0E1638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8E22-A5A6-4F30-BFC4-EFF91DE4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2E7A-870A-48D0-B439-B114E354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2E6C-A59D-49F3-AF47-D3609F04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6DAA-FA0F-445C-A3F6-824C2EA6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77E0-AB22-47A7-9146-2C3A8B053CD2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prstGeom prst="pie">
            <a:avLst/>
          </a:pr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A011-DDCD-4DC9-95D7-9D786CD6C09A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Кисти, краски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4c2b"/>
                </a:solidFill>
                <a:latin typeface="Times New Roman"/>
              </a:rPr>
              <a:t>Натюрморт</a:t>
            </a:r>
            <a:endParaRPr b="0" lang="en-US" sz="9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2" name="Picture 5" descr="Художник"/>
          <p:cNvPicPr/>
          <p:nvPr/>
        </p:nvPicPr>
        <p:blipFill>
          <a:blip r:embed="rId2"/>
          <a:stretch/>
        </p:blipFill>
        <p:spPr>
          <a:xfrm>
            <a:off x="2362320" y="1828800"/>
            <a:ext cx="4174920" cy="4286160"/>
          </a:xfrm>
          <a:prstGeom prst="rect">
            <a:avLst/>
          </a:prstGeom>
          <a:ln w="0">
            <a:noFill/>
          </a:ln>
        </p:spPr>
      </p:pic>
      <p:sp>
        <p:nvSpPr>
          <p:cNvPr id="93" name="Скругленный прямоугольник 6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5" descr="Кисти, краски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9"/>
          <p:cNvSpPr/>
          <p:nvPr/>
        </p:nvSpPr>
        <p:spPr>
          <a:xfrm>
            <a:off x="6804000" y="2708280"/>
            <a:ext cx="1752480" cy="1523880"/>
          </a:xfrm>
          <a:prstGeom prst="rect">
            <a:avLst/>
          </a:prstGeom>
          <a:gradFill rotWithShape="0">
            <a:gsLst>
              <a:gs pos="0">
                <a:srgbClr val="48674b"/>
              </a:gs>
              <a:gs pos="50000">
                <a:srgbClr val="9cdea1"/>
              </a:gs>
              <a:gs pos="100000">
                <a:srgbClr val="48674b"/>
              </a:gs>
            </a:gsLst>
            <a:lin ang="5400000"/>
          </a:gradFill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4c2b"/>
                </a:solidFill>
                <a:latin typeface="Times New Roman"/>
              </a:rPr>
              <a:t>Что такое натюрморт?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4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4800" spc="-1" strike="noStrike">
                <a:solidFill>
                  <a:srgbClr val="333333"/>
                </a:solidFill>
                <a:latin typeface="Times New Roman"/>
              </a:rPr>
              <a:t>Натюрморт - это изображение неодушевлённых предметов в живописи или графике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8" name="Picture 12" descr="Арбуз 2"/>
          <p:cNvPicPr/>
          <p:nvPr/>
        </p:nvPicPr>
        <p:blipFill>
          <a:blip r:embed="rId2"/>
          <a:stretch/>
        </p:blipFill>
        <p:spPr>
          <a:xfrm>
            <a:off x="6781680" y="2666880"/>
            <a:ext cx="1428840" cy="1381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Яблоко"/>
          <p:cNvPicPr/>
          <p:nvPr/>
        </p:nvPicPr>
        <p:blipFill>
          <a:blip r:embed="rId3"/>
          <a:stretch/>
        </p:blipFill>
        <p:spPr>
          <a:xfrm>
            <a:off x="7467480" y="31240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Сыр"/>
          <p:cNvPicPr/>
          <p:nvPr/>
        </p:nvPicPr>
        <p:blipFill>
          <a:blip r:embed="rId4"/>
          <a:stretch/>
        </p:blipFill>
        <p:spPr>
          <a:xfrm>
            <a:off x="6781680" y="2971800"/>
            <a:ext cx="762120" cy="952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Гамбургер 2"/>
          <p:cNvPicPr/>
          <p:nvPr/>
        </p:nvPicPr>
        <p:blipFill>
          <a:blip r:embed="rId5"/>
          <a:stretch/>
        </p:blipFill>
        <p:spPr>
          <a:xfrm>
            <a:off x="7620120" y="2971800"/>
            <a:ext cx="514080" cy="952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Яйцо"/>
          <p:cNvPicPr/>
          <p:nvPr/>
        </p:nvPicPr>
        <p:blipFill>
          <a:blip r:embed="rId6"/>
          <a:stretch/>
        </p:blipFill>
        <p:spPr>
          <a:xfrm>
            <a:off x="7162920" y="350532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p:transition advTm="3000">
    <p:checker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75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Мальбертик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4c2b"/>
                </a:solidFill>
                <a:latin typeface="Times New Roman"/>
              </a:rPr>
              <a:t>Из истории натюрморта.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Натюрморт возник ещё в эпоху античности , но как самостоятельный  жанр он начал развиваться только в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XVII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веке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Его расцвет начался в Голландии, где Реформация, запретив художникам писать картины на религиозные темы, вынудила их искать новые направления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3995640" y="5229360"/>
            <a:ext cx="45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Франс Снейдерс. Фламандская школа. Рыбная лавк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7" name="Picture 16" descr="фл франс снейдерс рыбная лавка"/>
          <p:cNvPicPr/>
          <p:nvPr/>
        </p:nvPicPr>
        <p:blipFill>
          <a:blip r:embed="rId2"/>
          <a:stretch/>
        </p:blipFill>
        <p:spPr>
          <a:xfrm>
            <a:off x="3780000" y="1628640"/>
            <a:ext cx="4968720" cy="3008520"/>
          </a:xfrm>
          <a:prstGeom prst="rect">
            <a:avLst/>
          </a:prstGeom>
          <a:ln w="0">
            <a:noFill/>
          </a:ln>
        </p:spPr>
      </p:pic>
    </p:spTree>
  </p:cSld>
  <p:transition advTm="3000">
    <p:checke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75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475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75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Мальбертик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c2b"/>
                </a:solidFill>
                <a:latin typeface="Times New Roman"/>
              </a:rPr>
              <a:t>Голландский натюрмор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44211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В натюрмортах, относящихся к началу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XVII столетия, предметы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расставлены в строгом порядке, словно экспонаты в музейной витрине. В подобных картинах дета ли наделены символическим значением. Яблоки напоминают о грехопадении Адама, а вино град — об искупительной жертве Христа. Раковина — оболочка, оставленная, когда то жившим в ней существом, увядшие цветы — символ смерти. Бабочка, родившаяся из кокона, означает воскресение.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 Таковы, например, полотна Балтазара ван дер Аста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1" name="Picture 6" descr="Балтазар ван дер Аст"/>
          <p:cNvPicPr/>
          <p:nvPr/>
        </p:nvPicPr>
        <p:blipFill>
          <a:blip r:embed="rId2"/>
          <a:stretch/>
        </p:blipFill>
        <p:spPr>
          <a:xfrm>
            <a:off x="4572000" y="2060640"/>
            <a:ext cx="4249800" cy="27842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4716360" y="4869000"/>
            <a:ext cx="388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Балтазар ван дер Аст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Натюрморт с цветами яблони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75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44956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Голландский натюрморт XVII в. поражает богатством тем. В каждом художественном центре страны живописцы предпочитали свои композиции: в Утрехте — из цветов и плодов, в Гааге — из рыбы. В Харлеме писали скромные завтраки, в Амстердаме — роскошные десерты, а в университетском Лейдене — книги и другие предметы для занятий науками или традиционные символы мирской суеты — череп, свечу, песочные часы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4" name="Picture 4" descr="Питер Клас завтрак с ветчиной"/>
          <p:cNvPicPr/>
          <p:nvPr/>
        </p:nvPicPr>
        <p:blipFill>
          <a:blip r:embed="rId1"/>
          <a:stretch/>
        </p:blipFill>
        <p:spPr>
          <a:xfrm>
            <a:off x="4500720" y="1557360"/>
            <a:ext cx="4321080" cy="27385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4859280" y="4581360"/>
            <a:ext cx="360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Питер Клас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Завтрак с ветчиной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4788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У художников следующего поколения веши уже не напоминают об отвлечённых истинах, а служат для создания самостоятельных художественных образов. В их картинах привычные предметы обретают особую, не замеченную прежде красоту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Питер Клас  тонко и умело подчёркивает своеобразие каждого блюда, бокала, горшка, найдя для любого из них идеальное соседство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В натюрмортах его земляка Виллема Класа Хеды  царит живописный беспорядок. Чаше всего он писал «прерванные завтраки». Смятая скатерть, перепутанные предметы сервировки, еда, к которой едва притронулись, — всё здесь напоминает о недавнем присутствии человека. Картины ожив лены многообразными световыми пятнами и разноцветными тенями на стекле, металле, полотне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7" name="Picture 4" descr="Виллем Клас Хеда"/>
          <p:cNvPicPr/>
          <p:nvPr/>
        </p:nvPicPr>
        <p:blipFill>
          <a:blip r:embed="rId1"/>
          <a:stretch/>
        </p:blipFill>
        <p:spPr>
          <a:xfrm>
            <a:off x="4805280" y="1197000"/>
            <a:ext cx="4230720" cy="43196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4932360" y="5877000"/>
            <a:ext cx="388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Виллем Клас Хед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Завтрак с крабом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381024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Во второй половине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XVII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в. голландский натюрморт, подобно пейзажу, стал более зрелищным, сложным и многокрасочным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На картинах Абрахама ван Бейерна и Виллема Калфа изображены грандиозные пирамиды из дорогой посуды и экзотических фруктов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0" name="Picture 4" descr="Мальбертик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ВиллемКалф десерт о1659"/>
          <p:cNvPicPr/>
          <p:nvPr/>
        </p:nvPicPr>
        <p:blipFill>
          <a:blip r:embed="rId2"/>
          <a:stretch/>
        </p:blipFill>
        <p:spPr>
          <a:xfrm>
            <a:off x="4211640" y="1125360"/>
            <a:ext cx="3857760" cy="4680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"/>
          <p:cNvSpPr/>
          <p:nvPr/>
        </p:nvSpPr>
        <p:spPr>
          <a:xfrm>
            <a:off x="4140360" y="609300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Виллем Калф. Десерт. Ок.1659г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75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500"/>
                            </p:stCondLst>
                            <p:childTnLst>
                              <p:par>
                                <p:cTn id="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75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c2b"/>
                </a:solidFill>
                <a:latin typeface="Times New Roman"/>
              </a:rPr>
              <a:t>Фламандская школа живопис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1773000"/>
            <a:ext cx="3809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333333"/>
                </a:solidFill>
                <a:latin typeface="Times New Roman"/>
              </a:rPr>
              <a:t>Манера фламандского художника Яна Фейта более изысканна, чем у его учителя Снейдерса. Подчёркнуто скромные по композиции и размерам произведения Фейта интересны гармонией сдержанного света, тонких оттенков коричневых, зеленоватых и светло-серых тонов. Это несравненная чуткость живописца сближает его с голландскими мастерами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5" name="Picture 4" descr="Мальбертик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фл ян фейт нат с соб"/>
          <p:cNvPicPr/>
          <p:nvPr/>
        </p:nvPicPr>
        <p:blipFill>
          <a:blip r:embed="rId2"/>
          <a:stretch/>
        </p:blipFill>
        <p:spPr>
          <a:xfrm>
            <a:off x="4284720" y="1989000"/>
            <a:ext cx="4535280" cy="3527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4427640" y="587700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Ян Фейт. Натюрморт с собакой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75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3T12:29:47Z</dcterms:created>
  <dc:creator>Аня</dc:creator>
  <dc:description/>
  <dc:language>en-US</dc:language>
  <cp:lastModifiedBy>Name</cp:lastModifiedBy>
  <dcterms:modified xsi:type="dcterms:W3CDTF">2011-02-03T12:42:36Z</dcterms:modified>
  <cp:revision>28</cp:revision>
  <dc:subject>Натюрморт</dc:subject>
  <dc:title>Голландский натюрмор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c050000000000010243000207f6000400038000</vt:lpwstr>
  </property>
</Properties>
</file>