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0B6D-A9D4-444C-839B-E261F978BA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64B3-0CDC-44CA-9377-4F26DCEF5B56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CB4B-6E79-4EED-9CEA-CAD652B23F34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B4A-0400-478E-96AA-5649C7C7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8D3-9D7E-4583-B835-34A264F4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A7ED-C7CB-4292-8F87-B63DE0AA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63F-247D-46E3-98E5-41EF1FD6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5024-FF84-4C27-83E8-44FB1917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6310-FBAB-4741-A64C-BF5B52B9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756E-454C-4AC4-AB9E-C23B47A0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D26C-9FB0-4208-B788-3A9718EA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7F40-3A04-4382-AAB4-39D96744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02F9-F17D-4A1A-9596-A871A380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48D9-6A74-47B1-BE66-42F0E8E6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FFC-D835-48B8-9754-5D651227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55EC-DD8F-427D-AB97-CF3F58E2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F1E7-9A88-4F29-BEFB-2B8DD84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BB68-AC68-4830-BD95-AD3D84EC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B2C3-91DF-4301-B5B6-B1F264E4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731B-73F3-47A8-8810-718AD152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0F2-3D6B-45DF-8C0B-FA2C27C7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336-3A58-4ADD-B5BC-B3257C84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C07A-F2B7-4010-B33F-78DB8A76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801-8FB4-446E-938D-3105A478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79A-F6A4-4B79-89BD-D766446B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AFD-7124-4EB0-968F-1C4FB8E3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932-204E-43C3-AA11-962A412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2E40-AE49-4A72-BF70-617890AF43D3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C24C-5AFA-4635-A59B-2CB41B5BF97C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4c2b"/>
                </a:solidFill>
                <a:latin typeface="Times New Roman"/>
              </a:rPr>
              <a:t>Натюрморт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Picture 5" descr="Художник"/>
          <p:cNvPicPr/>
          <p:nvPr/>
        </p:nvPicPr>
        <p:blipFill>
          <a:blip r:embed="rId2"/>
          <a:stretch/>
        </p:blipFill>
        <p:spPr>
          <a:xfrm>
            <a:off x="2362320" y="1828800"/>
            <a:ext cx="4174920" cy="4286160"/>
          </a:xfrm>
          <a:prstGeom prst="rect">
            <a:avLst/>
          </a:prstGeom>
          <a:ln w="0">
            <a:noFill/>
          </a:ln>
        </p:spPr>
      </p:pic>
      <p:sp>
        <p:nvSpPr>
          <p:cNvPr id="93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5" descr="Кисти, краски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6804000" y="2708280"/>
            <a:ext cx="1752480" cy="1523880"/>
          </a:xfrm>
          <a:prstGeom prst="rect">
            <a:avLst/>
          </a:prstGeom>
          <a:gradFill rotWithShape="0">
            <a:gsLst>
              <a:gs pos="0">
                <a:srgbClr val="48674b"/>
              </a:gs>
              <a:gs pos="50000">
                <a:srgbClr val="9cdea1"/>
              </a:gs>
              <a:gs pos="100000">
                <a:srgbClr val="48674b"/>
              </a:gs>
            </a:gsLst>
            <a:lin ang="5400000"/>
          </a:gradFill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Что такое натюрморт?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333333"/>
                </a:solidFill>
                <a:latin typeface="Times New Roman"/>
              </a:rPr>
              <a:t>Натюрморт - это изображение неодушевлённых предметов в живописи или графике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8" name="Picture 12" descr="Арбуз 2"/>
          <p:cNvPicPr/>
          <p:nvPr/>
        </p:nvPicPr>
        <p:blipFill>
          <a:blip r:embed="rId2"/>
          <a:stretch/>
        </p:blipFill>
        <p:spPr>
          <a:xfrm>
            <a:off x="6781680" y="2666880"/>
            <a:ext cx="1428840" cy="1381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Яблоко"/>
          <p:cNvPicPr/>
          <p:nvPr/>
        </p:nvPicPr>
        <p:blipFill>
          <a:blip r:embed="rId3"/>
          <a:stretch/>
        </p:blipFill>
        <p:spPr>
          <a:xfrm>
            <a:off x="7467480" y="3124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Сыр"/>
          <p:cNvPicPr/>
          <p:nvPr/>
        </p:nvPicPr>
        <p:blipFill>
          <a:blip r:embed="rId4"/>
          <a:stretch/>
        </p:blipFill>
        <p:spPr>
          <a:xfrm>
            <a:off x="6781680" y="297180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Гамбургер 2"/>
          <p:cNvPicPr/>
          <p:nvPr/>
        </p:nvPicPr>
        <p:blipFill>
          <a:blip r:embed="rId5"/>
          <a:stretch/>
        </p:blipFill>
        <p:spPr>
          <a:xfrm>
            <a:off x="7620120" y="2971800"/>
            <a:ext cx="514080" cy="952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Яйцо"/>
          <p:cNvPicPr/>
          <p:nvPr/>
        </p:nvPicPr>
        <p:blipFill>
          <a:blip r:embed="rId6"/>
          <a:stretch/>
        </p:blipFill>
        <p:spPr>
          <a:xfrm>
            <a:off x="7162920" y="35053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4c2b"/>
                </a:solidFill>
                <a:latin typeface="Times New Roman"/>
              </a:rPr>
              <a:t>Из истории натюрморта.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тюрморт возник ещё в эпоху античности , но как самостоятельный  жанр он начал развиваться только в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еке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Его расцвет начался в Голландии, где Реформация, запретив художникам писать картины на религиозные темы, вынудила их искать новые направления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3995640" y="522936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Франс Снейдерс. Фламандская школа. Рыбная лавк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7" name="Picture 16" descr="фл франс снейдерс рыбная лавка"/>
          <p:cNvPicPr/>
          <p:nvPr/>
        </p:nvPicPr>
        <p:blipFill>
          <a:blip r:embed="rId2"/>
          <a:stretch/>
        </p:blipFill>
        <p:spPr>
          <a:xfrm>
            <a:off x="3780000" y="1628640"/>
            <a:ext cx="4968720" cy="300852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475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75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Голландский натюрмор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44211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, относящихся к началу </a:t>
            </a:r>
            <a:r>
              <a:rPr b="1" i="1" lang="en-US" sz="2000" spc="-1" strike="noStrike">
                <a:solidFill>
                  <a:srgbClr val="333333"/>
                </a:solidFill>
                <a:latin typeface="Times New Roman"/>
              </a:rPr>
              <a:t>XVII столетия, предметы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расставлены в строгом порядке, словно экспонаты в музейной витрине. В подобных картинах дета ли наделены символическим значением. Яблоки напоминают о грехопадении Адама, а вино град — об искупительной жертве Христа. Раковина — оболочка, оставленная, когда то жившим в ней существом, увядшие цветы — символ смерти. Бабочка, родившаяся из кокона, означает воскресение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 Таковы, например, полотна Балтазара ван дер Аста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1" name="Picture 6" descr="Балтазар ван дер Аст"/>
          <p:cNvPicPr/>
          <p:nvPr/>
        </p:nvPicPr>
        <p:blipFill>
          <a:blip r:embed="rId2"/>
          <a:stretch/>
        </p:blipFill>
        <p:spPr>
          <a:xfrm>
            <a:off x="4572000" y="2060640"/>
            <a:ext cx="4249800" cy="2784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4716360" y="4869000"/>
            <a:ext cx="38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Балтазар ван дер Аст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Натюрморт с цветами яблон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4956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Голландский натюрморт XVII в. поражает богатством тем. В каждом художественном центре страны живописцы предпочитали свои композиции: в Утрехте — из цветов и плодов, в Гааге — из рыбы. В Харлеме писали скромные завтраки, в Амстердаме — роскошные десерты, а в университетском Лейдене — книги и другие предметы для занятий науками или традиционные символы мирской суеты — череп, свечу, песочные часы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4" name="Picture 4" descr="Питер Клас завтрак с ветчиной"/>
          <p:cNvPicPr/>
          <p:nvPr/>
        </p:nvPicPr>
        <p:blipFill>
          <a:blip r:embed="rId1"/>
          <a:stretch/>
        </p:blipFill>
        <p:spPr>
          <a:xfrm>
            <a:off x="4500720" y="1557360"/>
            <a:ext cx="4321080" cy="273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4859280" y="458136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Питер Кла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Завтрак с ветчиной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У художников следующего поколения веши уже не напоминают об отвлечённых истинах, а служат для создания самостоятельных художественных образов. В их картинах привычные предметы обретают особую, не замеченную прежде красоту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Питер Клас  тонко и умело подчёркивает своеобразие каждого блюда, бокала, горшка, найдя для любого из них идеальное соседство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 натюрмортах его земляка Виллема Класа Хеды  царит живописный беспорядок. Чаше всего он писал «прерванные завтраки». Смятая скатерть, перепутанные предметы сервировки, еда, к которой едва притронулись, — всё здесь напоминает о недавнем присутствии человека. Картины ожив лены многообразными световыми пятнами и разноцветными тенями на стекле, металле, полотне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7" name="Picture 4" descr="Виллем Клас Хеда"/>
          <p:cNvPicPr/>
          <p:nvPr/>
        </p:nvPicPr>
        <p:blipFill>
          <a:blip r:embed="rId1"/>
          <a:stretch/>
        </p:blipFill>
        <p:spPr>
          <a:xfrm>
            <a:off x="4805280" y="1197000"/>
            <a:ext cx="4230720" cy="4319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932360" y="587700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лас Хеда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Завтрак с крабом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381024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о второй половине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XVII 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в. голландский натюрморт, подобно пейзажу, стал более зрелищным, сложным и многокрасочным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333333"/>
                </a:solidFill>
                <a:latin typeface="Times New Roman"/>
              </a:rPr>
              <a:t>На картинах Абрахама ван Бейерна и Виллема Калфа изображены грандиозные пирамиды из дорогой посуды и экзотических фруктов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ВиллемКалф десерт о1659"/>
          <p:cNvPicPr/>
          <p:nvPr/>
        </p:nvPicPr>
        <p:blipFill>
          <a:blip r:embed="rId2"/>
          <a:stretch/>
        </p:blipFill>
        <p:spPr>
          <a:xfrm>
            <a:off x="4211640" y="1125360"/>
            <a:ext cx="3857760" cy="4680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4140360" y="6093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Виллем Калф. Десерт. Ок.1659г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4c2b"/>
                </a:solidFill>
                <a:latin typeface="Times New Roman"/>
              </a:rPr>
              <a:t>Фламандская школа живопис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333333"/>
                </a:solidFill>
                <a:latin typeface="Times New Roman"/>
              </a:rPr>
              <a:t>Манера фламандского художника Яна Фейта более изысканна, чем у его учителя Снейдерса. Подчёркнуто скромные по композиции и размерам произведения Фейта интересны гармонией сдержанного света, тонких оттенков коричневых, зеленоватых и светло-серых тонов. Это несравненная чуткость живописца сближает его с голландскими мастерами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5" name="Picture 4" descr="Мальбертик"/>
          <p:cNvPicPr/>
          <p:nvPr/>
        </p:nvPicPr>
        <p:blipFill>
          <a:blip r:embed="rId1"/>
          <a:stretch/>
        </p:blipFill>
        <p:spPr>
          <a:xfrm>
            <a:off x="7715160" y="0"/>
            <a:ext cx="142884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фл ян фейт нат с соб"/>
          <p:cNvPicPr/>
          <p:nvPr/>
        </p:nvPicPr>
        <p:blipFill>
          <a:blip r:embed="rId2"/>
          <a:stretch/>
        </p:blipFill>
        <p:spPr>
          <a:xfrm>
            <a:off x="4284720" y="1989000"/>
            <a:ext cx="4535280" cy="3527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4427640" y="587700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Times New Roman"/>
              </a:rPr>
              <a:t>Ян Фейт. Натюрморт с собакой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advTm="3000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12:29:47Z</dcterms:created>
  <dc:creator>Аня</dc:creator>
  <dc:description/>
  <dc:language>en-US</dc:language>
  <cp:lastModifiedBy>Name</cp:lastModifiedBy>
  <dcterms:modified xsi:type="dcterms:W3CDTF">2011-02-03T12:42:36Z</dcterms:modified>
  <cp:revision>28</cp:revision>
  <dc:subject>Натюрморт</dc:subject>
  <dc:title>Голландский натюрмор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50000000000010243000207f6000400038000</vt:lpwstr>
  </property>
</Properties>
</file>