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366A4-FD38-444D-A7EB-733B85362C4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70977-1653-461D-8935-6DFEF6E6279E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21126-D5CB-4DBF-AEF7-3F5135763377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8B8A-D433-4C2A-AEF3-EBCCF56AC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F3B0-6A38-4F42-A356-AC414F749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6D10-AA9A-49D5-B819-710A11FF7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043F-2C4E-47EB-B8E9-678F6ADF4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554B7-3709-48D7-86CC-762AB48E5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0F95A-6123-465E-849A-859C58758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876C2-EB94-43AC-AF01-4F7B53EFB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2CCFE-0353-42FD-8F36-96BA58D7E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1E123-E69F-4778-8074-0C1FF9F63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EC8F9-A1B4-4DD1-99C9-B4C80C4F9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FD562-F8D5-48DE-BFB8-9F4CFB1F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DA17-D2F3-4A51-9F76-F78C79FD0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F744D-276A-4B05-9E50-71A959B2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77132-FE82-4E07-9F5B-CCD2A023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6474F-4BBA-49F2-93C3-443C4BEDE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720C2-4B01-4AE8-85BA-3DC4B6DD7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EED60-4095-4DAE-88B1-93419F6EC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3A82-4D80-4164-A202-84737994B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7573-BED8-4B45-BC45-52155C05D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8636-0552-4A5F-A4E9-D141DBDA0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8F75-BE27-4C69-996E-22535D5CD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940B-3F6D-42F8-89E4-DD17D37B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8D95-6EC7-4EFA-9A65-02353075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45C3-D94B-4B13-9186-2BA0E2FD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30476-1BFA-4E62-B30A-01E73C3CAFAF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90480" y="3340080"/>
            <a:ext cx="7653600" cy="485640"/>
          </a:xfrm>
          <a:prstGeom prst="pie">
            <a:avLst/>
          </a:pr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DFFAC-7B21-470F-AD08-53C7E481B9C3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://900igr.net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" descr="Кисти, краски"/>
          <p:cNvPicPr/>
          <p:nvPr/>
        </p:nvPicPr>
        <p:blipFill>
          <a:blip r:embed="rId1"/>
          <a:stretch/>
        </p:blipFill>
        <p:spPr>
          <a:xfrm>
            <a:off x="7715160" y="0"/>
            <a:ext cx="1428840" cy="11905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4c2b"/>
                </a:solidFill>
                <a:latin typeface="Times New Roman"/>
              </a:rPr>
              <a:t>Натюрморт</a:t>
            </a:r>
            <a:endParaRPr b="0" lang="en-US" sz="96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92" name="Picture 5" descr="Художник"/>
          <p:cNvPicPr/>
          <p:nvPr/>
        </p:nvPicPr>
        <p:blipFill>
          <a:blip r:embed="rId2"/>
          <a:stretch/>
        </p:blipFill>
        <p:spPr>
          <a:xfrm>
            <a:off x="2362320" y="1828800"/>
            <a:ext cx="4174920" cy="4286160"/>
          </a:xfrm>
          <a:prstGeom prst="rect">
            <a:avLst/>
          </a:prstGeom>
          <a:ln w="0">
            <a:noFill/>
          </a:ln>
        </p:spPr>
      </p:pic>
      <p:sp>
        <p:nvSpPr>
          <p:cNvPr id="93" name="Скругленный прямоугольник 6">
            <a:hlinkClick r:id="rId3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advTm="3000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5" descr="Кисти, краски"/>
          <p:cNvPicPr/>
          <p:nvPr/>
        </p:nvPicPr>
        <p:blipFill>
          <a:blip r:embed="rId1"/>
          <a:stretch/>
        </p:blipFill>
        <p:spPr>
          <a:xfrm>
            <a:off x="7715160" y="0"/>
            <a:ext cx="1428840" cy="119052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9"/>
          <p:cNvSpPr/>
          <p:nvPr/>
        </p:nvSpPr>
        <p:spPr>
          <a:xfrm>
            <a:off x="6804000" y="2708280"/>
            <a:ext cx="1752480" cy="1523880"/>
          </a:xfrm>
          <a:prstGeom prst="rect">
            <a:avLst/>
          </a:prstGeom>
          <a:gradFill rotWithShape="0">
            <a:gsLst>
              <a:gs pos="0">
                <a:srgbClr val="48674b"/>
              </a:gs>
              <a:gs pos="50000">
                <a:srgbClr val="9cdea1"/>
              </a:gs>
              <a:gs pos="100000">
                <a:srgbClr val="48674b"/>
              </a:gs>
            </a:gsLst>
            <a:lin ang="5400000"/>
          </a:gradFill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4c2b"/>
                </a:solidFill>
                <a:latin typeface="Times New Roman"/>
              </a:rPr>
              <a:t>Что такое натюрморт?</a:t>
            </a:r>
            <a:endParaRPr b="0" lang="en-US" sz="4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4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4800" spc="-1" strike="noStrike">
                <a:solidFill>
                  <a:srgbClr val="333333"/>
                </a:solidFill>
                <a:latin typeface="Times New Roman"/>
              </a:rPr>
              <a:t>Натюрморт - это изображение неодушевлённых предметов в живописи или графике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8" name="Picture 12" descr="Арбуз 2"/>
          <p:cNvPicPr/>
          <p:nvPr/>
        </p:nvPicPr>
        <p:blipFill>
          <a:blip r:embed="rId2"/>
          <a:stretch/>
        </p:blipFill>
        <p:spPr>
          <a:xfrm>
            <a:off x="6781680" y="2666880"/>
            <a:ext cx="1428840" cy="1381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Яблоко"/>
          <p:cNvPicPr/>
          <p:nvPr/>
        </p:nvPicPr>
        <p:blipFill>
          <a:blip r:embed="rId3"/>
          <a:stretch/>
        </p:blipFill>
        <p:spPr>
          <a:xfrm>
            <a:off x="7467480" y="31240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" descr="Сыр"/>
          <p:cNvPicPr/>
          <p:nvPr/>
        </p:nvPicPr>
        <p:blipFill>
          <a:blip r:embed="rId4"/>
          <a:stretch/>
        </p:blipFill>
        <p:spPr>
          <a:xfrm>
            <a:off x="6781680" y="2971800"/>
            <a:ext cx="762120" cy="952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Гамбургер 2"/>
          <p:cNvPicPr/>
          <p:nvPr/>
        </p:nvPicPr>
        <p:blipFill>
          <a:blip r:embed="rId5"/>
          <a:stretch/>
        </p:blipFill>
        <p:spPr>
          <a:xfrm>
            <a:off x="7620120" y="2971800"/>
            <a:ext cx="514080" cy="952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Яйцо"/>
          <p:cNvPicPr/>
          <p:nvPr/>
        </p:nvPicPr>
        <p:blipFill>
          <a:blip r:embed="rId6"/>
          <a:stretch/>
        </p:blipFill>
        <p:spPr>
          <a:xfrm>
            <a:off x="7162920" y="3505320"/>
            <a:ext cx="542880" cy="542880"/>
          </a:xfrm>
          <a:prstGeom prst="rect">
            <a:avLst/>
          </a:prstGeom>
          <a:ln w="0">
            <a:noFill/>
          </a:ln>
        </p:spPr>
      </p:pic>
    </p:spTree>
  </p:cSld>
  <p:transition advTm="3000">
    <p:checker dir="ver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" dur="75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7" descr="Мальбертик"/>
          <p:cNvPicPr/>
          <p:nvPr/>
        </p:nvPicPr>
        <p:blipFill>
          <a:blip r:embed="rId1"/>
          <a:stretch/>
        </p:blipFill>
        <p:spPr>
          <a:xfrm>
            <a:off x="7715160" y="0"/>
            <a:ext cx="1428840" cy="11905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4c2b"/>
                </a:solidFill>
                <a:latin typeface="Times New Roman"/>
              </a:rPr>
              <a:t>Из истории натюрморта.</a:t>
            </a:r>
            <a:endParaRPr b="0" lang="en-US" sz="4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Натюрморт возник ещё в эпоху античности , но как самостоятельный  жанр он начал развиваться только в </a:t>
            </a: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XVII 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веке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Его расцвет начался в Голландии, где Реформация, запретив художникам писать картины на религиозные темы, вынудила их искать новые направления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3995640" y="5229360"/>
            <a:ext cx="453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Франс Снейдерс. Фламандская школа. Рыбная лавка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7" name="Picture 16" descr="фл франс снейдерс рыбная лавка"/>
          <p:cNvPicPr/>
          <p:nvPr/>
        </p:nvPicPr>
        <p:blipFill>
          <a:blip r:embed="rId2"/>
          <a:stretch/>
        </p:blipFill>
        <p:spPr>
          <a:xfrm>
            <a:off x="3780000" y="1628640"/>
            <a:ext cx="4968720" cy="3008520"/>
          </a:xfrm>
          <a:prstGeom prst="rect">
            <a:avLst/>
          </a:prstGeom>
          <a:ln w="0">
            <a:noFill/>
          </a:ln>
        </p:spPr>
      </p:pic>
    </p:spTree>
  </p:cSld>
  <p:transition advTm="3000">
    <p:checker dir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" dur="75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7475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75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Мальбертик"/>
          <p:cNvPicPr/>
          <p:nvPr/>
        </p:nvPicPr>
        <p:blipFill>
          <a:blip r:embed="rId1"/>
          <a:stretch/>
        </p:blipFill>
        <p:spPr>
          <a:xfrm>
            <a:off x="7715160" y="0"/>
            <a:ext cx="1428840" cy="11905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4c2b"/>
                </a:solidFill>
                <a:latin typeface="Times New Roman"/>
              </a:rPr>
              <a:t>Голландский натюрморт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1628640"/>
            <a:ext cx="44211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В натюрмортах, относящихся к началу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XVII столетия, предметы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 расставлены в строгом порядке, словно экспонаты в музейной витрине. В подобных картинах дета ли наделены символическим значением. Яблоки напоминают о грехопадении Адама, а вино град — об искупительной жертве Христа. Раковина — оболочка, оставленная, когда то жившим в ней существом, увядшие цветы — символ смерти. Бабочка, родившаяся из кокона, означает воскресение.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  Таковы, например, полотна Балтазара ван дер Аста.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1" name="Picture 6" descr="Балтазар ван дер Аст"/>
          <p:cNvPicPr/>
          <p:nvPr/>
        </p:nvPicPr>
        <p:blipFill>
          <a:blip r:embed="rId2"/>
          <a:stretch/>
        </p:blipFill>
        <p:spPr>
          <a:xfrm>
            <a:off x="4572000" y="2060640"/>
            <a:ext cx="4249800" cy="27842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7"/>
          <p:cNvSpPr/>
          <p:nvPr/>
        </p:nvSpPr>
        <p:spPr>
          <a:xfrm>
            <a:off x="4716360" y="4869000"/>
            <a:ext cx="3888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Балтазар ван дер Аст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Натюрморт с цветами яблони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advTm="3000">
    <p:checker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75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449568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Голландский натюрморт XVII в. поражает богатством тем. В каждом художественном центре страны живописцы предпочитали свои композиции: в Утрехте — из цветов и плодов, в Гааге — из рыбы. В Харлеме писали скромные завтраки, в Амстердаме — роскошные десерты, а в университетском Лейдене — книги и другие предметы для занятий науками или традиционные символы мирской суеты — череп, свечу, песочные часы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4" name="Picture 4" descr="Питер Клас завтрак с ветчиной"/>
          <p:cNvPicPr/>
          <p:nvPr/>
        </p:nvPicPr>
        <p:blipFill>
          <a:blip r:embed="rId1"/>
          <a:stretch/>
        </p:blipFill>
        <p:spPr>
          <a:xfrm>
            <a:off x="4500720" y="1557360"/>
            <a:ext cx="4321080" cy="27385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7"/>
          <p:cNvSpPr/>
          <p:nvPr/>
        </p:nvSpPr>
        <p:spPr>
          <a:xfrm>
            <a:off x="4859280" y="4581360"/>
            <a:ext cx="360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Питер Клас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Завтрак с ветчиной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advTm="3000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4788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У художников следующего поколения веши уже не напоминают об отвлечённых истинах, а служат для создания самостоятельных художественных образов. В их картинах привычные предметы обретают особую, не замеченную прежде красоту.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Питер Клас  тонко и умело подчёркивает своеобразие каждого блюда, бокала, горшка, найдя для любого из них идеальное соседство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В натюрмортах его земляка Виллема Класа Хеды  царит живописный беспорядок. Чаше всего он писал «прерванные завтраки». Смятая скатерть, перепутанные предметы сервировки, еда, к которой едва притронулись, — всё здесь напоминает о недавнем присутствии человека. Картины ожив лены многообразными световыми пятнами и разноцветными тенями на стекле, металле, полотне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7" name="Picture 4" descr="Виллем Клас Хеда"/>
          <p:cNvPicPr/>
          <p:nvPr/>
        </p:nvPicPr>
        <p:blipFill>
          <a:blip r:embed="rId1"/>
          <a:stretch/>
        </p:blipFill>
        <p:spPr>
          <a:xfrm>
            <a:off x="4805280" y="1197000"/>
            <a:ext cx="4230720" cy="43196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7"/>
          <p:cNvSpPr/>
          <p:nvPr/>
        </p:nvSpPr>
        <p:spPr>
          <a:xfrm>
            <a:off x="4932360" y="5877000"/>
            <a:ext cx="3887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Виллем Клас Хеда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Завтрак с крабом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advTm="3000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79280" y="1125000"/>
            <a:ext cx="3810240" cy="49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Во второй половине </a:t>
            </a: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XVII 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в. голландский натюрморт, подобно пейзажу, стал более зрелищным, сложным и многокрасочным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На картинах Абрахама ван Бейерна и Виллема Калфа изображены грандиозные пирамиды из дорогой посуды и экзотических фруктов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0" name="Picture 4" descr="Мальбертик"/>
          <p:cNvPicPr/>
          <p:nvPr/>
        </p:nvPicPr>
        <p:blipFill>
          <a:blip r:embed="rId1"/>
          <a:stretch/>
        </p:blipFill>
        <p:spPr>
          <a:xfrm>
            <a:off x="7715160" y="0"/>
            <a:ext cx="1428840" cy="11905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ВиллемКалф десерт о1659"/>
          <p:cNvPicPr/>
          <p:nvPr/>
        </p:nvPicPr>
        <p:blipFill>
          <a:blip r:embed="rId2"/>
          <a:stretch/>
        </p:blipFill>
        <p:spPr>
          <a:xfrm>
            <a:off x="4211640" y="1125360"/>
            <a:ext cx="3857760" cy="4680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0"/>
          <p:cNvSpPr/>
          <p:nvPr/>
        </p:nvSpPr>
        <p:spPr>
          <a:xfrm>
            <a:off x="4140360" y="6093000"/>
            <a:ext cx="39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Виллем Калф. Десерт. Ок.1659г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advTm="3000">
    <p:checker dir="ver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" dur="75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7500"/>
                            </p:stCondLst>
                            <p:childTnLst>
                              <p:par>
                                <p:cTn id="61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" dur="75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4c2b"/>
                </a:solidFill>
                <a:latin typeface="Times New Roman"/>
              </a:rPr>
              <a:t>Фламандская школа живописи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-360" y="1773000"/>
            <a:ext cx="38098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333333"/>
                </a:solidFill>
                <a:latin typeface="Times New Roman"/>
              </a:rPr>
              <a:t>Манера фламандского художника Яна Фейта более изысканна, чем у его учителя Снейдерса. Подчёркнуто скромные по композиции и размерам произведения Фейта интересны гармонией сдержанного света, тонких оттенков коричневых, зеленоватых и светло-серых тонов. Это несравненная чуткость живописца сближает его с голландскими мастерами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5" name="Picture 4" descr="Мальбертик"/>
          <p:cNvPicPr/>
          <p:nvPr/>
        </p:nvPicPr>
        <p:blipFill>
          <a:blip r:embed="rId1"/>
          <a:stretch/>
        </p:blipFill>
        <p:spPr>
          <a:xfrm>
            <a:off x="7715160" y="0"/>
            <a:ext cx="1428840" cy="119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фл ян фейт нат с соб"/>
          <p:cNvPicPr/>
          <p:nvPr/>
        </p:nvPicPr>
        <p:blipFill>
          <a:blip r:embed="rId2"/>
          <a:stretch/>
        </p:blipFill>
        <p:spPr>
          <a:xfrm>
            <a:off x="4284720" y="1989000"/>
            <a:ext cx="4535280" cy="35276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7"/>
          <p:cNvSpPr/>
          <p:nvPr/>
        </p:nvSpPr>
        <p:spPr>
          <a:xfrm>
            <a:off x="4427640" y="587700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Ян Фейт. Натюрморт с собакой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advTm="3000">
    <p:checker dir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" dur="75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3T12:29:47Z</dcterms:created>
  <dc:creator>Аня</dc:creator>
  <dc:description/>
  <dc:language>en-US</dc:language>
  <cp:lastModifiedBy>Name</cp:lastModifiedBy>
  <dcterms:modified xsi:type="dcterms:W3CDTF">2011-02-03T12:42:36Z</dcterms:modified>
  <cp:revision>28</cp:revision>
  <dc:subject>Натюрморт</dc:subject>
  <dc:title>Голландский натюрмор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c050000000000010243000207f6000400038000</vt:lpwstr>
  </property>
</Properties>
</file>