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E145-E27C-4EAA-BB03-B06E899132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1060-9AE4-418B-AE46-09386482F91F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6073-DE16-4821-959A-D852ACC37B59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BA94-6F92-4D21-97D8-084EC321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56EE-C005-4443-A304-CA9033B6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C8D9-400E-412C-98DE-16A8B2B6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1820-4B04-493F-81C6-5914B32BB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F38F-C94E-4B98-9D07-BAD310F7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FE6D-5BE0-41F4-8C29-A3C8D1BF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2B31-0F00-4E79-A15F-8EFBFF5C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5ADD-B326-4062-848F-C707F1BC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FE30-6D1F-444A-8ED4-8175A571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AE42-0442-49CB-87C1-DB96123D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6808-3FB3-43CC-B274-1BB662CE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EB46-A90C-4231-ACAF-8C0F8D26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2914-6FAA-4BFA-B2ED-4FD39DDE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76F8-D123-46BE-BB00-65A2D226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3654-F195-4DCF-81B3-6DC2AAE4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E27A-473E-44C7-BCF4-C3D33A65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A3F4-ADD8-4723-BED1-5FADBE56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525C-A39A-45B0-BE6A-27F55D26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3939-4296-407C-863E-388968A0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8A4E-5155-4FAD-B7F3-666B1D0A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044B-6388-42FC-B836-582B92BC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132E-A615-4F6C-BD4C-A5F143F5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1C96-914B-4FBA-A92A-5B4C314B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FD37-F065-4EC6-863F-5B005064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5982-E553-4224-B969-6908ABD4C9B9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prstGeom prst="pie">
            <a:avLst/>
          </a:pr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5536-0AED-46D8-AF73-7E4CE1E4AA5E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Кисти, краски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4c2b"/>
                </a:solidFill>
                <a:latin typeface="Times New Roman"/>
              </a:rPr>
              <a:t>Натюрморт</a:t>
            </a:r>
            <a:endParaRPr b="0" lang="en-US" sz="9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2" name="Picture 5" descr="Художник"/>
          <p:cNvPicPr/>
          <p:nvPr/>
        </p:nvPicPr>
        <p:blipFill>
          <a:blip r:embed="rId2"/>
          <a:stretch/>
        </p:blipFill>
        <p:spPr>
          <a:xfrm>
            <a:off x="2362320" y="1828800"/>
            <a:ext cx="4174920" cy="4286160"/>
          </a:xfrm>
          <a:prstGeom prst="rect">
            <a:avLst/>
          </a:prstGeom>
          <a:ln w="0">
            <a:noFill/>
          </a:ln>
        </p:spPr>
      </p:pic>
      <p:sp>
        <p:nvSpPr>
          <p:cNvPr id="93" name="Скругленный прямоугольник 6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5" descr="Кисти, краски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9"/>
          <p:cNvSpPr/>
          <p:nvPr/>
        </p:nvSpPr>
        <p:spPr>
          <a:xfrm>
            <a:off x="6804000" y="2708280"/>
            <a:ext cx="1752480" cy="1523880"/>
          </a:xfrm>
          <a:prstGeom prst="rect">
            <a:avLst/>
          </a:prstGeom>
          <a:gradFill rotWithShape="0">
            <a:gsLst>
              <a:gs pos="0">
                <a:srgbClr val="48674b"/>
              </a:gs>
              <a:gs pos="50000">
                <a:srgbClr val="9cdea1"/>
              </a:gs>
              <a:gs pos="100000">
                <a:srgbClr val="48674b"/>
              </a:gs>
            </a:gsLst>
            <a:lin ang="5400000"/>
          </a:gradFill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4c2b"/>
                </a:solidFill>
                <a:latin typeface="Times New Roman"/>
              </a:rPr>
              <a:t>Что такое натюрморт?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4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4800" spc="-1" strike="noStrike">
                <a:solidFill>
                  <a:srgbClr val="333333"/>
                </a:solidFill>
                <a:latin typeface="Times New Roman"/>
              </a:rPr>
              <a:t>Натюрморт - это изображение неодушевлённых предметов в живописи или графике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8" name="Picture 12" descr="Арбуз 2"/>
          <p:cNvPicPr/>
          <p:nvPr/>
        </p:nvPicPr>
        <p:blipFill>
          <a:blip r:embed="rId2"/>
          <a:stretch/>
        </p:blipFill>
        <p:spPr>
          <a:xfrm>
            <a:off x="6781680" y="2666880"/>
            <a:ext cx="1428840" cy="1381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Яблоко"/>
          <p:cNvPicPr/>
          <p:nvPr/>
        </p:nvPicPr>
        <p:blipFill>
          <a:blip r:embed="rId3"/>
          <a:stretch/>
        </p:blipFill>
        <p:spPr>
          <a:xfrm>
            <a:off x="7467480" y="31240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Сыр"/>
          <p:cNvPicPr/>
          <p:nvPr/>
        </p:nvPicPr>
        <p:blipFill>
          <a:blip r:embed="rId4"/>
          <a:stretch/>
        </p:blipFill>
        <p:spPr>
          <a:xfrm>
            <a:off x="6781680" y="2971800"/>
            <a:ext cx="762120" cy="952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Гамбургер 2"/>
          <p:cNvPicPr/>
          <p:nvPr/>
        </p:nvPicPr>
        <p:blipFill>
          <a:blip r:embed="rId5"/>
          <a:stretch/>
        </p:blipFill>
        <p:spPr>
          <a:xfrm>
            <a:off x="7620120" y="2971800"/>
            <a:ext cx="514080" cy="952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Яйцо"/>
          <p:cNvPicPr/>
          <p:nvPr/>
        </p:nvPicPr>
        <p:blipFill>
          <a:blip r:embed="rId6"/>
          <a:stretch/>
        </p:blipFill>
        <p:spPr>
          <a:xfrm>
            <a:off x="7162920" y="350532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p:transition advTm="3000">
    <p:checker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75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Мальбертик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4c2b"/>
                </a:solidFill>
                <a:latin typeface="Times New Roman"/>
              </a:rPr>
              <a:t>Из истории натюрморта.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Натюрморт возник ещё в эпоху античности , но как самостоятельный  жанр он начал развиваться только в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XVII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веке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Его расцвет начался в Голландии, где Реформация, запретив художникам писать картины на религиозные темы, вынудила их искать новые направления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3995640" y="5229360"/>
            <a:ext cx="45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Франс Снейдерс. Фламандская школа. Рыбная лавк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7" name="Picture 16" descr="фл франс снейдерс рыбная лавка"/>
          <p:cNvPicPr/>
          <p:nvPr/>
        </p:nvPicPr>
        <p:blipFill>
          <a:blip r:embed="rId2"/>
          <a:stretch/>
        </p:blipFill>
        <p:spPr>
          <a:xfrm>
            <a:off x="3780000" y="1628640"/>
            <a:ext cx="4968720" cy="3008520"/>
          </a:xfrm>
          <a:prstGeom prst="rect">
            <a:avLst/>
          </a:prstGeom>
          <a:ln w="0">
            <a:noFill/>
          </a:ln>
        </p:spPr>
      </p:pic>
    </p:spTree>
  </p:cSld>
  <p:transition advTm="3000">
    <p:checke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75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475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75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Мальбертик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c2b"/>
                </a:solidFill>
                <a:latin typeface="Times New Roman"/>
              </a:rPr>
              <a:t>Голландский натюрмор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44211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В натюрмортах, относящихся к началу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XVII столетия, предметы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расставлены в строгом порядке, словно экспонаты в музейной витрине. В подобных картинах дета ли наделены символическим значением. Яблоки напоминают о грехопадении Адама, а вино град — об искупительной жертве Христа. Раковина — оболочка, оставленная, когда то жившим в ней существом, увядшие цветы — символ смерти. Бабочка, родившаяся из кокона, означает воскресение.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 Таковы, например, полотна Балтазара ван дер Аста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1" name="Picture 6" descr="Балтазар ван дер Аст"/>
          <p:cNvPicPr/>
          <p:nvPr/>
        </p:nvPicPr>
        <p:blipFill>
          <a:blip r:embed="rId2"/>
          <a:stretch/>
        </p:blipFill>
        <p:spPr>
          <a:xfrm>
            <a:off x="4572000" y="2060640"/>
            <a:ext cx="4249800" cy="27842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4716360" y="4869000"/>
            <a:ext cx="388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Балтазар ван дер Аст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Натюрморт с цветами яблони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75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44956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Голландский натюрморт XVII в. поражает богатством тем. В каждом художественном центре страны живописцы предпочитали свои композиции: в Утрехте — из цветов и плодов, в Гааге — из рыбы. В Харлеме писали скромные завтраки, в Амстердаме — роскошные десерты, а в университетском Лейдене — книги и другие предметы для занятий науками или традиционные символы мирской суеты — череп, свечу, песочные часы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4" name="Picture 4" descr="Питер Клас завтрак с ветчиной"/>
          <p:cNvPicPr/>
          <p:nvPr/>
        </p:nvPicPr>
        <p:blipFill>
          <a:blip r:embed="rId1"/>
          <a:stretch/>
        </p:blipFill>
        <p:spPr>
          <a:xfrm>
            <a:off x="4500720" y="1557360"/>
            <a:ext cx="4321080" cy="27385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4859280" y="4581360"/>
            <a:ext cx="360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Питер Клас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Завтрак с ветчиной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4788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У художников следующего поколения веши уже не напоминают об отвлечённых истинах, а служат для создания самостоятельных художественных образов. В их картинах привычные предметы обретают особую, не замеченную прежде красоту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Питер Клас  тонко и умело подчёркивает своеобразие каждого блюда, бокала, горшка, найдя для любого из них идеальное соседство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В натюрмортах его земляка Виллема Класа Хеды  царит живописный беспорядок. Чаше всего он писал «прерванные завтраки». Смятая скатерть, перепутанные предметы сервировки, еда, к которой едва притронулись, — всё здесь напоминает о недавнем присутствии человека. Картины ожив лены многообразными световыми пятнами и разноцветными тенями на стекле, металле, полотне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7" name="Picture 4" descr="Виллем Клас Хеда"/>
          <p:cNvPicPr/>
          <p:nvPr/>
        </p:nvPicPr>
        <p:blipFill>
          <a:blip r:embed="rId1"/>
          <a:stretch/>
        </p:blipFill>
        <p:spPr>
          <a:xfrm>
            <a:off x="4805280" y="1197000"/>
            <a:ext cx="4230720" cy="43196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4932360" y="5877000"/>
            <a:ext cx="388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Виллем Клас Хед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Завтрак с крабом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381024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Во второй половине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XVII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в. голландский натюрморт, подобно пейзажу, стал более зрелищным, сложным и многокрасочным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На картинах Абрахама ван Бейерна и Виллема Калфа изображены грандиозные пирамиды из дорогой посуды и экзотических фруктов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0" name="Picture 4" descr="Мальбертик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ВиллемКалф десерт о1659"/>
          <p:cNvPicPr/>
          <p:nvPr/>
        </p:nvPicPr>
        <p:blipFill>
          <a:blip r:embed="rId2"/>
          <a:stretch/>
        </p:blipFill>
        <p:spPr>
          <a:xfrm>
            <a:off x="4211640" y="1125360"/>
            <a:ext cx="3857760" cy="4680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"/>
          <p:cNvSpPr/>
          <p:nvPr/>
        </p:nvSpPr>
        <p:spPr>
          <a:xfrm>
            <a:off x="4140360" y="609300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Виллем Калф. Десерт. Ок.1659г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75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500"/>
                            </p:stCondLst>
                            <p:childTnLst>
                              <p:par>
                                <p:cTn id="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75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c2b"/>
                </a:solidFill>
                <a:latin typeface="Times New Roman"/>
              </a:rPr>
              <a:t>Фламандская школа живопис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1773000"/>
            <a:ext cx="3809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333333"/>
                </a:solidFill>
                <a:latin typeface="Times New Roman"/>
              </a:rPr>
              <a:t>Манера фламандского художника Яна Фейта более изысканна, чем у его учителя Снейдерса. Подчёркнуто скромные по композиции и размерам произведения Фейта интересны гармонией сдержанного света, тонких оттенков коричневых, зеленоватых и светло-серых тонов. Это несравненная чуткость живописца сближает его с голландскими мастерами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5" name="Picture 4" descr="Мальбертик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фл ян фейт нат с соб"/>
          <p:cNvPicPr/>
          <p:nvPr/>
        </p:nvPicPr>
        <p:blipFill>
          <a:blip r:embed="rId2"/>
          <a:stretch/>
        </p:blipFill>
        <p:spPr>
          <a:xfrm>
            <a:off x="4284720" y="1989000"/>
            <a:ext cx="4535280" cy="3527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4427640" y="587700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Ян Фейт. Натюрморт с собакой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75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3T12:29:47Z</dcterms:created>
  <dc:creator>Аня</dc:creator>
  <dc:description/>
  <dc:language>en-US</dc:language>
  <cp:lastModifiedBy>Name</cp:lastModifiedBy>
  <dcterms:modified xsi:type="dcterms:W3CDTF">2011-02-03T12:42:36Z</dcterms:modified>
  <cp:revision>28</cp:revision>
  <dc:subject>Натюрморт</dc:subject>
  <dc:title>Голландский натюрмор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c050000000000010243000207f6000400038000</vt:lpwstr>
  </property>
</Properties>
</file>