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DB6-1B3E-4F87-866F-F027C850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C32-19CA-42DD-B26F-B17D77D7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5A6A-6665-452D-94F8-81FDB4E9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0DC-C402-4547-B9B6-1A0A8BE3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775E-FD35-4A00-8A43-9F20C652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D9FC-21F2-4AE2-9715-4E6C32DD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689-3DD1-45AC-A054-7F45FFA8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D04-A502-4B1E-950A-DBC837F5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2A59-BEE4-4A12-964C-D28F39F7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CE5-7CCE-4EB6-BD29-1CFA1849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905-EB94-4981-928F-DB4EEC4A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61C-B48D-4059-96FB-E8D7FBCB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17DF-D899-4B4A-B90E-AE179C1A79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path path="rect">
              <a:fillToRect l="100000" t="0" r="0" b="10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411280" y="2147760"/>
            <a:ext cx="604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Уроки рисования пастель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3" name="Picture 5" descr="header"/>
          <p:cNvPicPr/>
          <p:nvPr/>
        </p:nvPicPr>
        <p:blipFill>
          <a:blip r:embed="rId1"/>
          <a:stretch/>
        </p:blipFill>
        <p:spPr>
          <a:xfrm>
            <a:off x="0" y="0"/>
            <a:ext cx="744696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gallery_2_371_189"/>
          <p:cNvPicPr/>
          <p:nvPr/>
        </p:nvPicPr>
        <p:blipFill>
          <a:blip r:embed="rId2"/>
          <a:stretch/>
        </p:blipFill>
        <p:spPr>
          <a:xfrm>
            <a:off x="0" y="3203640"/>
            <a:ext cx="205272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587840" y="4836960"/>
            <a:ext cx="18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500720" y="431640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щева Татья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9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талось потрудиться над фоном.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 старательно протираем пальцем, после чего наносим поверх номер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нова его растираем. Получается красивый и глубоки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332000" y="1700280"/>
            <a:ext cx="59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сле создания фона, возвращаемся к рисунку и создаём как можно более плавный переход от основного изображения к ф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5" name="Picture 7" descr="Рисуем кота пастелью"/>
          <p:cNvPicPr/>
          <p:nvPr/>
        </p:nvPicPr>
        <p:blipFill>
          <a:blip r:embed="rId1"/>
          <a:stretch/>
        </p:blipFill>
        <p:spPr>
          <a:xfrm>
            <a:off x="2581200" y="1628640"/>
            <a:ext cx="323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у и осталось нарисовать коту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олько «документы» - ус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елаем это при помощи острых крае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01 и 176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Рисуем кота пастелью"/>
          <p:cNvPicPr/>
          <p:nvPr/>
        </p:nvPicPr>
        <p:blipFill>
          <a:blip r:embed="rId1"/>
          <a:stretch/>
        </p:blipFill>
        <p:spPr>
          <a:xfrm>
            <a:off x="1116000" y="0"/>
            <a:ext cx="36734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Вот такой красавец у нас получил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628640"/>
            <a:ext cx="4464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468360" y="2781360"/>
            <a:ext cx="81122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Желаю творческих успехов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4" name="Picture 5" descr="gallery_2_118_12924"/>
          <p:cNvPicPr/>
          <p:nvPr/>
        </p:nvPicPr>
        <p:blipFill>
          <a:blip r:embed="rId1"/>
          <a:stretch/>
        </p:blipFill>
        <p:spPr>
          <a:xfrm>
            <a:off x="1116000" y="260280"/>
            <a:ext cx="274464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егодня  мы будем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рисовать животных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.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щё точнее,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рисовать кота пастелями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исование пастелью — это очень увлекательно и интересно, итоговые работы получаются просто прекрасны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так, какие цвета нам понадобя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 - Whit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6 - Van Dyke Brown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4 - Dark Naples Ochr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6 - Terracotta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 - Pompeian Red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 - Black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allery_2_118_19902"/>
          <p:cNvPicPr/>
          <p:nvPr/>
        </p:nvPicPr>
        <p:blipFill>
          <a:blip r:embed="rId2"/>
          <a:stretch/>
        </p:blipFill>
        <p:spPr>
          <a:xfrm>
            <a:off x="755640" y="3429000"/>
            <a:ext cx="2036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Начинаем рисовать животное с шерсти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Берём 101 пастель и прорисовываем шерсть с уха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оверх 101 пастели ложится 184: так мы затемняем внутреннюю область, оставляя белыми кра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002440" cy="406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2133720"/>
            <a:ext cx="568836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 верхним краям уха проходим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 пастелью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оверх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при помощи бумаги или даже обычного пальца, смешиваем цвета. Постепенно переходя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начинаем рисовать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1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в конце-концов,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: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так цветовая гамма получится очень глубокой. Осталось нарисовать коту светлые волоски, что отлично получится острыми краям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 К глубоким же местам можно слегка примен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 пастель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195640" y="2421000"/>
            <a:ext cx="4968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ле чего начинаем рисовать голову: верхушку — тёмной пастелью под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а мех посветлее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белым). Обратите внимание, как мы закрашиваем по направлению меха, чтобы добиться пущей реалистичности. Сверху 186 пастели использу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 и 199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светлые же зоны применя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 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легк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692360" y="2200320"/>
            <a:ext cx="6119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им же наводим немного лёгких и аккуратных мазков вокруг зрачка. Верхняя же половина рисуется 184,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844640"/>
            <a:ext cx="518508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м же наводим немного лёгких и аккуратных мазков вокруг зрачка. Верхняя же половина рису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050920" y="1700280"/>
            <a:ext cx="583272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Берём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астель и наносим её сверх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в районе всего глаза. После чего накладываем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в районе зрачка и вокруг глаза). Под конец же рисования глаза можно аккуратно пройтис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ю в верхней половинке глаза, а поверх неё — самую малос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зра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1773360"/>
            <a:ext cx="547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еперь рисуем меховому красавцу носик. Кончик — номеро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верхушку —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9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. Добавля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а после этого снова бер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чтобы очертить основные лёгкие участки. Тёмные же рисуем номерам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, 176 и 199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накладывая их друг на дру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5:59:50Z</dcterms:created>
  <dc:creator>Lena</dc:creator>
  <dc:description/>
  <dc:language>en-US</dc:language>
  <cp:lastModifiedBy>Name</cp:lastModifiedBy>
  <dcterms:modified xsi:type="dcterms:W3CDTF">2011-02-03T12:42:46Z</dcterms:modified>
  <cp:revision>3</cp:revision>
  <dc:subject/>
  <dc:title>Рисование паст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50000000000010243000207f6000400038000</vt:lpwstr>
  </property>
</Properties>
</file>