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gif" ContentType="image/gif"/>
  <Override PartName="/ppt/media/image7.jpeg" ContentType="image/jpeg"/>
  <Override PartName="/ppt/media/image12.jpeg" ContentType="image/jpeg"/>
  <Override PartName="/ppt/media/image3.png" ContentType="image/png"/>
  <Override PartName="/ppt/media/image1.jpeg" ContentType="image/jpe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5.jpeg" ContentType="image/jpeg"/>
  <Override PartName="/ppt/media/image2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A26C-70E0-4CE2-B546-CE64CE226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38A6-BBD8-42F5-9939-342FDE6F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9188-D6D2-4078-BF75-33B0329D9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EC52-89D8-4E4B-B3B4-D3BBE6C99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1DA0-A4BD-41BA-BF30-11CF6D42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61EF-D857-47B3-A057-45A662A0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0D33-85ED-42D9-9E15-93CF4877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E1A6-6665-4BD4-A104-187A9D61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F580-52C3-4710-A947-D06A4187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22A2-9F9E-4D27-8B4A-710ED867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86F4-AD36-4E3D-8E24-E3D6AA7C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E9C6-5BA8-411A-8AA9-6256F67B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0822-6C9F-45D0-82FF-0DC4B61428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path path="rect">
              <a:fillToRect l="100000" t="0" r="0" b="10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2411280" y="2147760"/>
            <a:ext cx="604836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Уроки рисования пастель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43" name="Picture 5" descr="header"/>
          <p:cNvPicPr/>
          <p:nvPr/>
        </p:nvPicPr>
        <p:blipFill>
          <a:blip r:embed="rId1"/>
          <a:stretch/>
        </p:blipFill>
        <p:spPr>
          <a:xfrm>
            <a:off x="0" y="0"/>
            <a:ext cx="7446960" cy="1782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gallery_2_371_189"/>
          <p:cNvPicPr/>
          <p:nvPr/>
        </p:nvPicPr>
        <p:blipFill>
          <a:blip r:embed="rId2"/>
          <a:stretch/>
        </p:blipFill>
        <p:spPr>
          <a:xfrm>
            <a:off x="0" y="3203640"/>
            <a:ext cx="2052720" cy="1197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4587840" y="4836960"/>
            <a:ext cx="18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500720" y="4316400"/>
            <a:ext cx="46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ейщева Татьяна С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9">
            <a:hlinkClick r:id="rId3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Осталось потрудиться над фоном. Берём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и старательно протираем пальцем, после чего наносим поверх номер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и снова его растираем. Получается красивый и глубокий цв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1332000" y="1700280"/>
            <a:ext cx="5976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осле создания фона, возвращаемся к рисунку и создаём как можно более плавный переход от основного изображения к фо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75" name="Picture 7" descr="Рисуем кота пастелью"/>
          <p:cNvPicPr/>
          <p:nvPr/>
        </p:nvPicPr>
        <p:blipFill>
          <a:blip r:embed="rId1"/>
          <a:stretch/>
        </p:blipFill>
        <p:spPr>
          <a:xfrm>
            <a:off x="2581200" y="1628640"/>
            <a:ext cx="32338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69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Ну и осталось нарисовать коту 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только «документы» - усы. 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Делаем это при помощи острых краев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01 и 176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Рисуем кота пастелью"/>
          <p:cNvPicPr/>
          <p:nvPr/>
        </p:nvPicPr>
        <p:blipFill>
          <a:blip r:embed="rId1"/>
          <a:stretch/>
        </p:blipFill>
        <p:spPr>
          <a:xfrm>
            <a:off x="1116000" y="0"/>
            <a:ext cx="367344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Вот такой красавец у нас получилс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2268360" y="1628640"/>
            <a:ext cx="446436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99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468360" y="2781360"/>
            <a:ext cx="81122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Желаю творческих успехов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84" name="Picture 5" descr="gallery_2_118_12924"/>
          <p:cNvPicPr/>
          <p:nvPr/>
        </p:nvPicPr>
        <p:blipFill>
          <a:blip r:embed="rId1"/>
          <a:stretch/>
        </p:blipFill>
        <p:spPr>
          <a:xfrm>
            <a:off x="1116000" y="260280"/>
            <a:ext cx="274464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Сегодня  мы будем</a:t>
            </a: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рисовать животных</a:t>
            </a: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. 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ещё точнее, 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рисовать кота пастелями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исование пастелью — это очень увлекательно и интересно, итоговые работы получаются просто прекрасным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так, какие цвета нам понадобятся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1 - White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76 - Van Dyke Brown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4 - Dark Naples Ochre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6 - Terracotta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1 - Pompeian Red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9 - Black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gallery_2_118_19902"/>
          <p:cNvPicPr/>
          <p:nvPr/>
        </p:nvPicPr>
        <p:blipFill>
          <a:blip r:embed="rId2"/>
          <a:stretch/>
        </p:blipFill>
        <p:spPr>
          <a:xfrm>
            <a:off x="755640" y="3429000"/>
            <a:ext cx="20368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Начинаем рисовать животное с шерсти. </a:t>
            </a:r>
            <a:br>
              <a:rPr sz="2000"/>
            </a:b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Берём 101 пастель и прорисовываем шерсть с уха. </a:t>
            </a:r>
            <a:br>
              <a:rPr sz="2000"/>
            </a:b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Поверх 101 пастели ложится 184: так мы затемняем внутреннюю область, оставляя белыми края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2060280"/>
            <a:ext cx="8002440" cy="406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99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1547640" y="2133720"/>
            <a:ext cx="5688360" cy="39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о верхним краям уха проходимся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 пастелью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поверх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и, при помощи бумаги или даже обычного пальца, смешиваем цвета. Постепенно переходя н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начинаем рисовать</a:t>
            </a:r>
            <a:r>
              <a:rPr b="1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91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и, в конце-концов, берём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: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так цветовая гамма получится очень глубокой. Осталось нарисовать коту светлые волоски, что отлично получится острыми краям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01 пастели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. К глубоким же местам можно слегка применит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99 пастель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89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2195640" y="2421000"/>
            <a:ext cx="496872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осле чего начинаем рисовать голову: верхушку — тёмной пастелью под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омером 186,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а мех посветлее —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омером 101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(белым). Обратите внимание, как мы закрашиваем по направлению меха, чтобы добиться пущей реалистичности. Сверху 186 пастели используем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 и 199 пастели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, в светлые же зоны применяем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, 18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и слегк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1692360" y="2200320"/>
            <a:ext cx="611964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 этом этапе мы рисуем нашему коту глаз. Основной карандаш —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01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: нижняя часть глаза особенно ярка. Зрачок рисуем с помощью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, им же наводим немного лёгких и аккуратных мазков вокруг зрачка. Верхняя же половина рисуется 184, перемешанная с главным белым цве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2268360" y="1844640"/>
            <a:ext cx="518508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 этом этапе мы рисуем нашему коту глаз. Основной карандаш —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01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: нижняя часть глаза особенно ярка. Зрачок рисуем с помощью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,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им же наводим немного лёгких и аккуратных мазков вокруг зрачка. Верхняя же половина рисуется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,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перемешанная с главным белым цве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2050920" y="1700280"/>
            <a:ext cx="583272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Берём</a:t>
            </a:r>
            <a:r>
              <a:rPr b="1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астель и наносим её сверху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в районе всего глаза. После чего накладываем н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пастел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(в районе зрачка и вокруг глаза). Под конец же рисования глаза можно аккуратно пройтис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пастелью в верхней половинке глаза, а поверх неё — самую малост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99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, в зрач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1547640" y="1773360"/>
            <a:ext cx="54723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Теперь рисуем меховому красавцу носик. Кончик — номером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01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, верхушку —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91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. Добавляем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4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, а после этого снова берем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01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, чтобы очертить основные лёгкие участки. Тёмные же рисуем номерам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6, 176 и 199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, накладывая их друг на дру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5:59:50Z</dcterms:created>
  <dc:creator>Lena</dc:creator>
  <dc:description/>
  <dc:language>en-US</dc:language>
  <cp:lastModifiedBy>Name</cp:lastModifiedBy>
  <dcterms:modified xsi:type="dcterms:W3CDTF">2011-02-03T12:42:46Z</dcterms:modified>
  <cp:revision>3</cp:revision>
  <dc:subject/>
  <dc:title>Рисование пастелью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050000000000010243000207f6000400038000</vt:lpwstr>
  </property>
</Properties>
</file>